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5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353E-1BBD-4A60-9624-7B2BBE88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FA4-7AA2-4B2F-AE8C-57D129FC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EE3086-C12B-46F3-BFEA-67CC1EBE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A49B19-A072-4862-975C-9A5887C3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154920-21FD-44B3-A54E-8575C9AB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ECD92B-A6DC-4B8A-AB17-9ED9B229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512AB0-CFB5-4620-8661-BA314649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EA2464-94DF-4F3F-9482-67B139C3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6FD16A-DF39-46C8-8144-23EE2EA7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B3C8E69-458F-465F-8B3A-2AE0265A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18728A-7059-4DE5-9719-CCA767C7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3444-D3FE-4131-9797-916D0FDC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C1D-E821-4D43-A2EC-C4570E202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B2FD-8EBA-4567-9A5B-8B99864E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6F6D-5971-463A-BA14-4EBFFF4A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1B5C-7CCF-4BEA-99A4-F1ECAF8D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3AEE-A669-4855-A7DC-9D6DC095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D8BF-432E-473B-82EA-6801CDB5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4BB7-394D-4D8C-8609-8355D48D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8D63-31DB-4B32-94D0-7B9D0591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19F5-1B4F-4A9F-8FBD-FE05EE3D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9452-62A2-4747-A40B-0BB16569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5167-DB18-4301-B1FF-B4D9F48D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B479-72B5-48AE-9D29-DEB4E91F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6E55-2903-44D3-A8AE-2BDC729BA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9FFC-BFE1-4E9E-849B-FEF3A9A6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4C95F-5621-4FC8-9536-4E43CC284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C7AC0-59F5-46C0-8AFF-E22F3AA1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6960B-19EC-4542-A180-C5268FC1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ED264-B016-40AC-9FA5-B698E2F6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05582-5B4E-4272-8D5F-C956A7C1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2F6-F65E-4D64-9FE4-83E8097F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279CF-CA1E-4470-84F7-771F5B49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D31B2-241B-413E-8DF9-C9C6A2D5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972A8-5D27-4589-B06E-46877656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1D385-D993-41B9-B108-58460C50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C9613-A948-4DFE-BC6C-EFC5E986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3FAD0-8D4D-4971-84A9-3DB2A7A2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9F78A-A293-4E88-9BC9-ECBFF677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114B8-19C5-4974-8F8B-A24F427B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7955F-A1A6-492F-8085-F2E2727A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276C0-5B4A-4A02-86B6-DB5FA2A3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40E5-F873-45FA-AD73-CF1D7747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8D0AA-DF91-48C4-B7DF-F3AF3C93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A41F7-CB29-439D-AF74-12C1446F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70337-8E1F-472F-8C8E-4ADDE073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34608-76A6-4E20-91FD-5EB7A03D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1AFB5-6A1E-49BE-851A-7D689A04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2CFE8-9013-4D82-85FE-5C86513D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3D389-6287-4850-8178-0F79B142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DDB76-435A-41FF-835D-1CFC0C9D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6931D-46D7-4A39-9F93-CB8144004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28158-D67C-40F4-8963-146ADA295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5464-5DB4-4F61-9C89-6A87049D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57377-059B-4096-A785-F1A2E5B5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60D3C-50F8-4040-A5CC-C0C92D88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4FBCF-38A6-46B3-9601-68BF92A4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3A76D-11D7-4693-8A38-9336E10F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99E53-AD38-4714-B654-D6B125A4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C086A-E754-4A9C-B800-AF534DD7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D10BD-ACC3-492C-8333-8B7881CD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F926F-E478-4A62-88C9-78C6BC7B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B6B44-D164-440D-A4AE-18613402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29541-4769-49ED-8F43-32A93F73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84C6-09E1-4C89-9C86-9BD1D82D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225D4-CC7D-48D4-9A90-FDE33DAA9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E7488-921D-4359-9C96-B268DDB6A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CB82C-3445-40D2-8900-8C139262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A875C-447C-4FBB-B888-8C31AE11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E2DFC-ADF2-48A5-9ABC-B1B8730D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02545-A46B-4D92-89DF-468A0AFA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6E8CD-3198-4329-8878-3E21303A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2A1DD-3C3C-4CEB-AF76-9BEF68C1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474C3-4D14-4951-976C-3A54C1D6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5F59D-0F8D-438B-8EA2-4B3A2ACD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D914-3DF8-433C-9DA7-B7464442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FB97F-E032-489C-B86C-37ED58D7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470EF-684F-4E03-A79C-F866E989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A2BCE-6EBF-4CAA-AEE0-568B96FA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9A128-10DC-4FCE-A4A0-94958CBB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2EA53-6F73-4B5D-9FB6-07FA4026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3555C-CB02-4499-9281-8AC02E4D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111A3-B185-413B-8C63-A4046F8F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F8DAB-156E-41E3-AC7A-697E2BF6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4A512-6878-4935-A64D-7C8F68F3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8605B-85FE-43B3-9F59-110ED0A3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A566-D51F-4C44-A1CA-75AC8726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9D324-DBFF-47EB-A8FD-33BC8D1C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94A2B-EFC7-4F34-A6CF-9F69306C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03DFE-20BF-4714-BE29-67B8FC54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CCB82-C9EF-4232-95B7-E46AD657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7B7CB-D56A-4DD7-AE4E-BC60E031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99B46-2CCD-4372-946A-3388C987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0BB85-568E-4580-8439-1FF8F7C8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11245-E77F-415C-91DC-AFD1361D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4098E-CA7D-4427-A5A5-23F68165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7D4C6-F0D7-4286-BA4D-EF9B47E8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046C-C8FD-4DC6-AB10-4AFCCE92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A4D2E-A67E-4925-BDD0-9DC0A16A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440A0-3DBD-4F19-87E8-A043E033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91E92-4766-424A-9498-A356BEC6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ECB1A-464B-4680-BF3F-F2E38EC4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E23A5-0C78-4FE1-8C92-F051817B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0CE5E-97BB-43A3-861A-31DA5A9A5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F2DED-6323-4774-BD0B-9020F606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6393B7-A31F-4960-AE37-F44F5A83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B2F176-CA80-4FA1-8AE1-EDCF971F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2A4E5E-DDD5-4A27-853A-2D8ED5A7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206F-A73D-48BA-8582-0ED425B6CAF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AE59-B01F-4EE8-85A3-A042A6F486F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CE3C-E031-4762-9FE3-0D060623F378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FB4B-7088-4801-97EE-DB5072AA0FA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7CC0-B619-4C1C-A3D3-64A0F14CCDA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1093-59F3-4320-910E-77EFE89921F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24DB-8F1B-4F60-BFAB-25DBCFDC665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ACBD-B846-427F-BB3A-1CD4B0CB941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0776-FD70-4C8C-BB76-39B3E43F07D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４章　情報セキュリティ（前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8" name="Picture 4" descr="16"/>
          <p:cNvPicPr/>
          <p:nvPr/>
        </p:nvPicPr>
        <p:blipFill>
          <a:blip r:embed="rId1"/>
          <a:srcRect l="0" t="0" r="0" b="11831"/>
          <a:stretch/>
        </p:blipFill>
        <p:spPr>
          <a:xfrm>
            <a:off x="6429240" y="1714680"/>
            <a:ext cx="1673280" cy="157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　バックアップとファイルの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2214720" y="2143080"/>
            <a:ext cx="23763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破壊、消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システム障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Text Box 6"/>
          <p:cNvGrpSpPr/>
          <p:nvPr/>
        </p:nvGrpSpPr>
        <p:grpSpPr>
          <a:xfrm>
            <a:off x="371520" y="2998800"/>
            <a:ext cx="3687840" cy="566640"/>
            <a:chOff x="371520" y="2998800"/>
            <a:chExt cx="3687840" cy="566640"/>
          </a:xfrm>
        </p:grpSpPr>
        <p:pic>
          <p:nvPicPr>
            <p:cNvPr id="504" name="Text Box 6" descr=""/>
            <p:cNvPicPr/>
            <p:nvPr/>
          </p:nvPicPr>
          <p:blipFill>
            <a:blip r:embed="rId1"/>
            <a:stretch/>
          </p:blipFill>
          <p:spPr>
            <a:xfrm>
              <a:off x="371520" y="2998800"/>
              <a:ext cx="36878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500040" y="3071880"/>
              <a:ext cx="350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大容量メディアへバックアッ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Text Box 7"/>
          <p:cNvGrpSpPr/>
          <p:nvPr/>
        </p:nvGrpSpPr>
        <p:grpSpPr>
          <a:xfrm>
            <a:off x="298440" y="1573200"/>
            <a:ext cx="4548240" cy="560520"/>
            <a:chOff x="298440" y="1573200"/>
            <a:chExt cx="4548240" cy="560520"/>
          </a:xfrm>
        </p:grpSpPr>
        <p:pic>
          <p:nvPicPr>
            <p:cNvPr id="507" name="Text Box 7" descr=""/>
            <p:cNvPicPr/>
            <p:nvPr/>
          </p:nvPicPr>
          <p:blipFill>
            <a:blip r:embed="rId2"/>
            <a:stretch/>
          </p:blipFill>
          <p:spPr>
            <a:xfrm>
              <a:off x="298440" y="1573200"/>
              <a:ext cx="45482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428760" y="1643040"/>
              <a:ext cx="43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ハードディスクのデータ・システム全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9" name="Picture 10" descr="j0233212[1]"/>
          <p:cNvPicPr/>
          <p:nvPr/>
        </p:nvPicPr>
        <p:blipFill>
          <a:blip r:embed="rId3"/>
          <a:stretch/>
        </p:blipFill>
        <p:spPr>
          <a:xfrm>
            <a:off x="5715000" y="1357200"/>
            <a:ext cx="797040" cy="1656000"/>
          </a:xfrm>
          <a:prstGeom prst="rect">
            <a:avLst/>
          </a:prstGeom>
          <a:ln w="0">
            <a:noFill/>
          </a:ln>
        </p:spPr>
      </p:pic>
      <p:grpSp>
        <p:nvGrpSpPr>
          <p:cNvPr id="510" name="AutoShape 11"/>
          <p:cNvGrpSpPr/>
          <p:nvPr/>
        </p:nvGrpSpPr>
        <p:grpSpPr>
          <a:xfrm>
            <a:off x="6864480" y="1670040"/>
            <a:ext cx="1352520" cy="2109960"/>
            <a:chOff x="6864480" y="1670040"/>
            <a:chExt cx="1352520" cy="2109960"/>
          </a:xfrm>
        </p:grpSpPr>
        <p:pic>
          <p:nvPicPr>
            <p:cNvPr id="511" name="AutoShape 11" descr=""/>
            <p:cNvPicPr/>
            <p:nvPr/>
          </p:nvPicPr>
          <p:blipFill>
            <a:blip r:embed="rId4"/>
            <a:stretch/>
          </p:blipFill>
          <p:spPr>
            <a:xfrm>
              <a:off x="6864480" y="1670040"/>
              <a:ext cx="135252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6929280" y="1714680"/>
              <a:ext cx="122580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AutoShape 12"/>
          <p:cNvGrpSpPr/>
          <p:nvPr/>
        </p:nvGrpSpPr>
        <p:grpSpPr>
          <a:xfrm>
            <a:off x="927000" y="2205000"/>
            <a:ext cx="1146240" cy="647640"/>
            <a:chOff x="927000" y="2205000"/>
            <a:chExt cx="1146240" cy="647640"/>
          </a:xfrm>
        </p:grpSpPr>
        <p:pic>
          <p:nvPicPr>
            <p:cNvPr id="514" name="AutoShape 12" descr=""/>
            <p:cNvPicPr/>
            <p:nvPr/>
          </p:nvPicPr>
          <p:blipFill>
            <a:blip r:embed="rId5"/>
            <a:stretch/>
          </p:blipFill>
          <p:spPr>
            <a:xfrm>
              <a:off x="927000" y="2205000"/>
              <a:ext cx="11462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1252440" y="2224800"/>
              <a:ext cx="5032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13"/>
          <p:cNvSpPr/>
          <p:nvPr/>
        </p:nvSpPr>
        <p:spPr>
          <a:xfrm>
            <a:off x="785880" y="3571920"/>
            <a:ext cx="37861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ダメージを最小限にとどめ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復旧を早くする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785880" y="5072040"/>
            <a:ext cx="70563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ファイルやフォルダをエクスプローラなどでコピ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indow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バックアップユーティリティの活用　（初心者向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Text Box 16"/>
          <p:cNvGrpSpPr/>
          <p:nvPr/>
        </p:nvGrpSpPr>
        <p:grpSpPr>
          <a:xfrm>
            <a:off x="371520" y="4498920"/>
            <a:ext cx="2616120" cy="566640"/>
            <a:chOff x="371520" y="4498920"/>
            <a:chExt cx="2616120" cy="566640"/>
          </a:xfrm>
        </p:grpSpPr>
        <p:pic>
          <p:nvPicPr>
            <p:cNvPr id="519" name="Text Box 16" descr=""/>
            <p:cNvPicPr/>
            <p:nvPr/>
          </p:nvPicPr>
          <p:blipFill>
            <a:blip r:embed="rId6"/>
            <a:stretch/>
          </p:blipFill>
          <p:spPr>
            <a:xfrm>
              <a:off x="371520" y="4498920"/>
              <a:ext cx="2616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500040" y="4572000"/>
              <a:ext cx="24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バックアップの方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CA5C-8C91-428C-9399-1226311A885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テキスト ボックス 16"/>
          <p:cNvSpPr/>
          <p:nvPr/>
        </p:nvSpPr>
        <p:spPr>
          <a:xfrm>
            <a:off x="571680" y="121428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.4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パーソナル機のバックアッ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1" descr="C:\Users\t-ymzm\AppData\Local\Microsoft\Windows\Temporary Internet Files\Content.IE5\IM1SPE99\MCj04260700000[1].wmf"/>
          <p:cNvPicPr/>
          <p:nvPr/>
        </p:nvPicPr>
        <p:blipFill>
          <a:blip r:embed="rId7"/>
          <a:stretch/>
        </p:blipFill>
        <p:spPr>
          <a:xfrm>
            <a:off x="5572080" y="3286080"/>
            <a:ext cx="1319400" cy="1536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4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サーバ機のバックアップ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26" name="Text Box 4"/>
          <p:cNvGrpSpPr/>
          <p:nvPr/>
        </p:nvGrpSpPr>
        <p:grpSpPr>
          <a:xfrm>
            <a:off x="341280" y="1268280"/>
            <a:ext cx="3749760" cy="639720"/>
            <a:chOff x="341280" y="1268280"/>
            <a:chExt cx="3749760" cy="639720"/>
          </a:xfrm>
        </p:grpSpPr>
        <p:pic>
          <p:nvPicPr>
            <p:cNvPr id="527" name="Text Box 4" descr=""/>
            <p:cNvPicPr/>
            <p:nvPr/>
          </p:nvPicPr>
          <p:blipFill>
            <a:blip r:embed="rId1"/>
            <a:stretch/>
          </p:blipFill>
          <p:spPr>
            <a:xfrm>
              <a:off x="341280" y="1268280"/>
              <a:ext cx="3749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500040" y="1357200"/>
              <a:ext cx="35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大容量機のバックアッ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5"/>
          <p:cNvSpPr/>
          <p:nvPr/>
        </p:nvSpPr>
        <p:spPr>
          <a:xfrm>
            <a:off x="2143080" y="1928880"/>
            <a:ext cx="187164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サーバ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データベー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Text Box 6"/>
          <p:cNvGrpSpPr/>
          <p:nvPr/>
        </p:nvGrpSpPr>
        <p:grpSpPr>
          <a:xfrm>
            <a:off x="341280" y="2981160"/>
            <a:ext cx="4159080" cy="646200"/>
            <a:chOff x="341280" y="2981160"/>
            <a:chExt cx="4159080" cy="646200"/>
          </a:xfrm>
        </p:grpSpPr>
        <p:pic>
          <p:nvPicPr>
            <p:cNvPr id="531" name="Text Box 6" descr=""/>
            <p:cNvPicPr/>
            <p:nvPr/>
          </p:nvPicPr>
          <p:blipFill>
            <a:blip r:embed="rId2"/>
            <a:stretch/>
          </p:blipFill>
          <p:spPr>
            <a:xfrm>
              <a:off x="341280" y="2981160"/>
              <a:ext cx="41590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07600" y="3071880"/>
              <a:ext cx="39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DAT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DVD-R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、磁気テー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AutoShape 7"/>
          <p:cNvSpPr/>
          <p:nvPr/>
        </p:nvSpPr>
        <p:spPr>
          <a:xfrm>
            <a:off x="857160" y="192888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Text Box 8"/>
          <p:cNvGrpSpPr/>
          <p:nvPr/>
        </p:nvGrpSpPr>
        <p:grpSpPr>
          <a:xfrm>
            <a:off x="5267160" y="1268280"/>
            <a:ext cx="3065760" cy="646200"/>
            <a:chOff x="5267160" y="1268280"/>
            <a:chExt cx="3065760" cy="646200"/>
          </a:xfrm>
        </p:grpSpPr>
        <p:pic>
          <p:nvPicPr>
            <p:cNvPr id="535" name="Text Box 8" descr=""/>
            <p:cNvPicPr/>
            <p:nvPr/>
          </p:nvPicPr>
          <p:blipFill>
            <a:blip r:embed="rId3"/>
            <a:stretch/>
          </p:blipFill>
          <p:spPr>
            <a:xfrm>
              <a:off x="5267160" y="1268280"/>
              <a:ext cx="3065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5429160" y="1357200"/>
              <a:ext cx="28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RAID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（ミラーリング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AutoShape 10"/>
          <p:cNvSpPr/>
          <p:nvPr/>
        </p:nvSpPr>
        <p:spPr>
          <a:xfrm>
            <a:off x="4214880" y="1214280"/>
            <a:ext cx="1008000" cy="792360"/>
          </a:xfrm>
          <a:prstGeom prst="rightArrow">
            <a:avLst>
              <a:gd name="adj1" fmla="val 50000"/>
              <a:gd name="adj2" fmla="val 31804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5214960" y="1928880"/>
            <a:ext cx="378144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ハードディスクを二重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書き込みが同時に行われ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一方が故障しても他方を使用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3"/>
          <p:cNvSpPr/>
          <p:nvPr/>
        </p:nvSpPr>
        <p:spPr>
          <a:xfrm>
            <a:off x="5423040" y="4510080"/>
            <a:ext cx="1081080" cy="93492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5"/>
          <p:cNvSpPr/>
          <p:nvPr/>
        </p:nvSpPr>
        <p:spPr>
          <a:xfrm>
            <a:off x="7294680" y="4510080"/>
            <a:ext cx="1081080" cy="93492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6"/>
          <p:cNvSpPr/>
          <p:nvPr/>
        </p:nvSpPr>
        <p:spPr>
          <a:xfrm>
            <a:off x="6215040" y="3429000"/>
            <a:ext cx="1295280" cy="576360"/>
          </a:xfrm>
          <a:prstGeom prst="foldedCorner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7"/>
          <p:cNvSpPr/>
          <p:nvPr/>
        </p:nvSpPr>
        <p:spPr>
          <a:xfrm>
            <a:off x="6862680" y="400536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8"/>
          <p:cNvSpPr/>
          <p:nvPr/>
        </p:nvSpPr>
        <p:spPr>
          <a:xfrm>
            <a:off x="5999040" y="422100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9"/>
          <p:cNvSpPr/>
          <p:nvPr/>
        </p:nvSpPr>
        <p:spPr>
          <a:xfrm>
            <a:off x="5999040" y="4221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>
            <a:off x="7870680" y="4221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5135400" y="5518080"/>
            <a:ext cx="172908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データ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2"/>
          <p:cNvSpPr/>
          <p:nvPr/>
        </p:nvSpPr>
        <p:spPr>
          <a:xfrm>
            <a:off x="6935760" y="5518080"/>
            <a:ext cx="197964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チェック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4" descr="j0252147[1]"/>
          <p:cNvPicPr/>
          <p:nvPr/>
        </p:nvPicPr>
        <p:blipFill>
          <a:blip r:embed="rId4"/>
          <a:stretch/>
        </p:blipFill>
        <p:spPr>
          <a:xfrm>
            <a:off x="2928960" y="3714840"/>
            <a:ext cx="1224000" cy="823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8" descr="MCj02910140000[1]"/>
          <p:cNvPicPr/>
          <p:nvPr/>
        </p:nvPicPr>
        <p:blipFill>
          <a:blip r:embed="rId5"/>
          <a:stretch/>
        </p:blipFill>
        <p:spPr>
          <a:xfrm rot="891000">
            <a:off x="3017520" y="4625640"/>
            <a:ext cx="1085760" cy="83196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30"/>
          <p:cNvSpPr/>
          <p:nvPr/>
        </p:nvSpPr>
        <p:spPr>
          <a:xfrm>
            <a:off x="1785960" y="3929040"/>
            <a:ext cx="936720" cy="1440000"/>
          </a:xfrm>
          <a:custGeom>
            <a:avLst/>
            <a:gdLst>
              <a:gd name="textAreaLeft" fmla="*/ 117000 w 936720"/>
              <a:gd name="textAreaRight" fmla="*/ 819720 w 936720"/>
              <a:gd name="textAreaTop" fmla="*/ 360000 h 1440000"/>
              <a:gd name="textAreaBottom" fmla="*/ 108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スライド番号プレースホルダ 2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4893-23E5-4370-8D40-7E6B24D170F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フッター プレースホルダ 2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1" descr="C:\Users\t-ymzm\AppData\Local\Microsoft\Windows\Temporary Internet Files\Low\Content.IE5\9CPLSZS2\j0434845[2].png"/>
          <p:cNvPicPr/>
          <p:nvPr/>
        </p:nvPicPr>
        <p:blipFill>
          <a:blip r:embed="rId6"/>
          <a:stretch/>
        </p:blipFill>
        <p:spPr>
          <a:xfrm>
            <a:off x="357120" y="39290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32"/>
          <p:cNvSpPr/>
          <p:nvPr/>
        </p:nvSpPr>
        <p:spPr>
          <a:xfrm>
            <a:off x="5286240" y="2857680"/>
            <a:ext cx="3529080" cy="27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31"/>
          <p:cNvSpPr/>
          <p:nvPr/>
        </p:nvSpPr>
        <p:spPr>
          <a:xfrm>
            <a:off x="642960" y="2928960"/>
            <a:ext cx="3529080" cy="26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4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通常のファイル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500040" y="1285920"/>
            <a:ext cx="421488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１．ファイルのコピー、移動、消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２．フォルダの作成、ファイルをまと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３．外部メディアとデータをやり取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４．フォルダのカテゴリ別分類、階層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ile"/>
          <p:cNvSpPr/>
          <p:nvPr/>
        </p:nvSpPr>
        <p:spPr>
          <a:xfrm>
            <a:off x="6005520" y="300204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ile"/>
          <p:cNvSpPr/>
          <p:nvPr/>
        </p:nvSpPr>
        <p:spPr>
          <a:xfrm>
            <a:off x="6005520" y="364968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ile"/>
          <p:cNvSpPr/>
          <p:nvPr/>
        </p:nvSpPr>
        <p:spPr>
          <a:xfrm>
            <a:off x="1476360" y="458460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ile"/>
          <p:cNvSpPr/>
          <p:nvPr/>
        </p:nvSpPr>
        <p:spPr>
          <a:xfrm>
            <a:off x="900000" y="465624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ile"/>
          <p:cNvSpPr/>
          <p:nvPr/>
        </p:nvSpPr>
        <p:spPr>
          <a:xfrm>
            <a:off x="2629080" y="3792600"/>
            <a:ext cx="863280" cy="574560"/>
          </a:xfrm>
          <a:custGeom>
            <a:avLst/>
            <a:gdLst>
              <a:gd name="textAreaLeft" fmla="*/ 43200 w 863280"/>
              <a:gd name="textAreaRight" fmla="*/ 824760 w 86328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ile"/>
          <p:cNvSpPr/>
          <p:nvPr/>
        </p:nvSpPr>
        <p:spPr>
          <a:xfrm>
            <a:off x="1476360" y="328788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ile"/>
          <p:cNvSpPr/>
          <p:nvPr/>
        </p:nvSpPr>
        <p:spPr>
          <a:xfrm>
            <a:off x="2484360" y="487188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ile"/>
          <p:cNvSpPr/>
          <p:nvPr/>
        </p:nvSpPr>
        <p:spPr>
          <a:xfrm>
            <a:off x="971640" y="357660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ile"/>
          <p:cNvSpPr/>
          <p:nvPr/>
        </p:nvSpPr>
        <p:spPr>
          <a:xfrm>
            <a:off x="7661160" y="3146400"/>
            <a:ext cx="505080" cy="28584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840"/>
              <a:gd name="textAreaBottom" fmla="*/ 268560 h 2858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ile"/>
          <p:cNvSpPr/>
          <p:nvPr/>
        </p:nvSpPr>
        <p:spPr>
          <a:xfrm>
            <a:off x="7661160" y="3506760"/>
            <a:ext cx="505080" cy="28584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840"/>
              <a:gd name="textAreaBottom" fmla="*/ 268560 h 2858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ile"/>
          <p:cNvSpPr/>
          <p:nvPr/>
        </p:nvSpPr>
        <p:spPr>
          <a:xfrm>
            <a:off x="7661160" y="422604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ile"/>
          <p:cNvSpPr/>
          <p:nvPr/>
        </p:nvSpPr>
        <p:spPr>
          <a:xfrm>
            <a:off x="7661160" y="386568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ile"/>
          <p:cNvSpPr/>
          <p:nvPr/>
        </p:nvSpPr>
        <p:spPr>
          <a:xfrm>
            <a:off x="7661160" y="494676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ile"/>
          <p:cNvSpPr/>
          <p:nvPr/>
        </p:nvSpPr>
        <p:spPr>
          <a:xfrm>
            <a:off x="7661160" y="458640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ile"/>
          <p:cNvSpPr/>
          <p:nvPr/>
        </p:nvSpPr>
        <p:spPr>
          <a:xfrm>
            <a:off x="1908000" y="451332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ile"/>
          <p:cNvSpPr/>
          <p:nvPr/>
        </p:nvSpPr>
        <p:spPr>
          <a:xfrm>
            <a:off x="2700360" y="336060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ile"/>
          <p:cNvSpPr/>
          <p:nvPr/>
        </p:nvSpPr>
        <p:spPr>
          <a:xfrm>
            <a:off x="2987640" y="372096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ile"/>
          <p:cNvSpPr/>
          <p:nvPr/>
        </p:nvSpPr>
        <p:spPr>
          <a:xfrm>
            <a:off x="2268360" y="422424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ile"/>
          <p:cNvSpPr/>
          <p:nvPr/>
        </p:nvSpPr>
        <p:spPr>
          <a:xfrm>
            <a:off x="1332000" y="436896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AutoShape 33"/>
          <p:cNvGrpSpPr/>
          <p:nvPr/>
        </p:nvGrpSpPr>
        <p:grpSpPr>
          <a:xfrm>
            <a:off x="4290840" y="3743280"/>
            <a:ext cx="993960" cy="1133640"/>
            <a:chOff x="4290840" y="3743280"/>
            <a:chExt cx="993960" cy="1133640"/>
          </a:xfrm>
        </p:grpSpPr>
        <p:pic>
          <p:nvPicPr>
            <p:cNvPr id="578" name="AutoShape 33" descr=""/>
            <p:cNvPicPr/>
            <p:nvPr/>
          </p:nvPicPr>
          <p:blipFill>
            <a:blip r:embed="rId1"/>
            <a:stretch/>
          </p:blipFill>
          <p:spPr>
            <a:xfrm>
              <a:off x="4290840" y="3743280"/>
              <a:ext cx="9939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357800" y="4038480"/>
              <a:ext cx="755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File"/>
          <p:cNvSpPr/>
          <p:nvPr/>
        </p:nvSpPr>
        <p:spPr>
          <a:xfrm>
            <a:off x="6005520" y="473076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ile"/>
          <p:cNvSpPr/>
          <p:nvPr/>
        </p:nvSpPr>
        <p:spPr>
          <a:xfrm>
            <a:off x="7661160" y="530712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9"/>
          <p:cNvSpPr/>
          <p:nvPr/>
        </p:nvSpPr>
        <p:spPr>
          <a:xfrm>
            <a:off x="6942240" y="329076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0"/>
          <p:cNvSpPr/>
          <p:nvPr/>
        </p:nvSpPr>
        <p:spPr>
          <a:xfrm>
            <a:off x="6942240" y="401004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41"/>
          <p:cNvSpPr/>
          <p:nvPr/>
        </p:nvSpPr>
        <p:spPr>
          <a:xfrm>
            <a:off x="6942240" y="509112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2"/>
          <p:cNvSpPr/>
          <p:nvPr/>
        </p:nvSpPr>
        <p:spPr>
          <a:xfrm flipV="1">
            <a:off x="7302600" y="32904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3"/>
          <p:cNvSpPr/>
          <p:nvPr/>
        </p:nvSpPr>
        <p:spPr>
          <a:xfrm flipH="1">
            <a:off x="7302600" y="364968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4"/>
          <p:cNvSpPr/>
          <p:nvPr/>
        </p:nvSpPr>
        <p:spPr>
          <a:xfrm flipH="1">
            <a:off x="7302600" y="437040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5"/>
          <p:cNvSpPr/>
          <p:nvPr/>
        </p:nvSpPr>
        <p:spPr>
          <a:xfrm flipH="1">
            <a:off x="7302600" y="473076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6"/>
          <p:cNvSpPr/>
          <p:nvPr/>
        </p:nvSpPr>
        <p:spPr>
          <a:xfrm flipH="1">
            <a:off x="7302600" y="545004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7"/>
          <p:cNvSpPr/>
          <p:nvPr/>
        </p:nvSpPr>
        <p:spPr>
          <a:xfrm flipV="1">
            <a:off x="7302600" y="40100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8"/>
          <p:cNvSpPr/>
          <p:nvPr/>
        </p:nvSpPr>
        <p:spPr>
          <a:xfrm flipV="1">
            <a:off x="7302600" y="50907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cddrive"/>
          <p:cNvSpPr/>
          <p:nvPr/>
        </p:nvSpPr>
        <p:spPr>
          <a:xfrm>
            <a:off x="6786720" y="1285920"/>
            <a:ext cx="1809720" cy="904680"/>
          </a:xfrm>
          <a:custGeom>
            <a:avLst/>
            <a:gdLst>
              <a:gd name="textAreaLeft" fmla="*/ 57240 w 1809720"/>
              <a:gd name="textAreaRight" fmla="*/ 1760040 w 1809720"/>
              <a:gd name="textAreaTop" fmla="*/ 965880 h 904680"/>
              <a:gd name="textAreaBottom" fmla="*/ 1278000 h 904680"/>
            </a:gdLst>
            <a:ahLst/>
            <a:rect l="textAreaLeft" t="textAreaTop" r="textAreaRight" b="textAreaBottom"/>
            <a:pathLst>
              <a:path w="21600" h="21600">
                <a:moveTo>
                  <a:pt x="2563" y="12259"/>
                </a:moveTo>
                <a:lnTo>
                  <a:pt x="2563" y="12843"/>
                </a:lnTo>
                <a:lnTo>
                  <a:pt x="2746" y="13427"/>
                </a:lnTo>
                <a:lnTo>
                  <a:pt x="2929" y="14303"/>
                </a:lnTo>
                <a:lnTo>
                  <a:pt x="3112" y="14886"/>
                </a:lnTo>
                <a:lnTo>
                  <a:pt x="3478" y="15470"/>
                </a:lnTo>
                <a:lnTo>
                  <a:pt x="3844" y="16054"/>
                </a:lnTo>
                <a:lnTo>
                  <a:pt x="4393" y="16638"/>
                </a:lnTo>
                <a:lnTo>
                  <a:pt x="4942" y="17222"/>
                </a:lnTo>
                <a:lnTo>
                  <a:pt x="5492" y="17514"/>
                </a:lnTo>
                <a:lnTo>
                  <a:pt x="6224" y="18097"/>
                </a:lnTo>
                <a:lnTo>
                  <a:pt x="6773" y="18389"/>
                </a:lnTo>
                <a:lnTo>
                  <a:pt x="7505" y="18681"/>
                </a:lnTo>
                <a:lnTo>
                  <a:pt x="8237" y="18973"/>
                </a:lnTo>
                <a:lnTo>
                  <a:pt x="9153" y="18973"/>
                </a:lnTo>
                <a:lnTo>
                  <a:pt x="9885" y="19265"/>
                </a:lnTo>
                <a:lnTo>
                  <a:pt x="10800" y="19265"/>
                </a:lnTo>
                <a:lnTo>
                  <a:pt x="11532" y="19265"/>
                </a:lnTo>
                <a:lnTo>
                  <a:pt x="12447" y="18973"/>
                </a:lnTo>
                <a:lnTo>
                  <a:pt x="13180" y="18973"/>
                </a:lnTo>
                <a:lnTo>
                  <a:pt x="13912" y="18681"/>
                </a:lnTo>
                <a:lnTo>
                  <a:pt x="14644" y="18389"/>
                </a:lnTo>
                <a:lnTo>
                  <a:pt x="15376" y="18097"/>
                </a:lnTo>
                <a:lnTo>
                  <a:pt x="16108" y="17514"/>
                </a:lnTo>
                <a:lnTo>
                  <a:pt x="16658" y="17222"/>
                </a:lnTo>
                <a:lnTo>
                  <a:pt x="17207" y="16638"/>
                </a:lnTo>
                <a:lnTo>
                  <a:pt x="17573" y="16054"/>
                </a:lnTo>
                <a:lnTo>
                  <a:pt x="18122" y="15470"/>
                </a:lnTo>
                <a:lnTo>
                  <a:pt x="18305" y="14886"/>
                </a:lnTo>
                <a:lnTo>
                  <a:pt x="18671" y="14303"/>
                </a:lnTo>
                <a:lnTo>
                  <a:pt x="18854" y="13427"/>
                </a:lnTo>
                <a:lnTo>
                  <a:pt x="19037" y="12843"/>
                </a:lnTo>
                <a:lnTo>
                  <a:pt x="19037" y="12259"/>
                </a:lnTo>
                <a:lnTo>
                  <a:pt x="2563" y="12259"/>
                </a:lnTo>
                <a:close/>
              </a:path>
              <a:path w="21600" h="21600">
                <a:moveTo>
                  <a:pt x="2563" y="12259"/>
                </a:moveTo>
                <a:lnTo>
                  <a:pt x="9153" y="12259"/>
                </a:lnTo>
                <a:lnTo>
                  <a:pt x="9153" y="12551"/>
                </a:lnTo>
                <a:lnTo>
                  <a:pt x="9336" y="12843"/>
                </a:lnTo>
                <a:lnTo>
                  <a:pt x="9519" y="13135"/>
                </a:lnTo>
                <a:lnTo>
                  <a:pt x="9702" y="13135"/>
                </a:lnTo>
                <a:lnTo>
                  <a:pt x="9885" y="13427"/>
                </a:lnTo>
                <a:lnTo>
                  <a:pt x="10068" y="13719"/>
                </a:lnTo>
                <a:lnTo>
                  <a:pt x="10434" y="13719"/>
                </a:lnTo>
                <a:lnTo>
                  <a:pt x="10800" y="13719"/>
                </a:lnTo>
                <a:lnTo>
                  <a:pt x="10983" y="13719"/>
                </a:lnTo>
                <a:lnTo>
                  <a:pt x="11349" y="13719"/>
                </a:lnTo>
                <a:lnTo>
                  <a:pt x="11715" y="13427"/>
                </a:lnTo>
                <a:lnTo>
                  <a:pt x="11898" y="13135"/>
                </a:lnTo>
                <a:lnTo>
                  <a:pt x="12081" y="13135"/>
                </a:lnTo>
                <a:lnTo>
                  <a:pt x="12264" y="12843"/>
                </a:lnTo>
                <a:lnTo>
                  <a:pt x="12264" y="12551"/>
                </a:lnTo>
                <a:lnTo>
                  <a:pt x="12264" y="12259"/>
                </a:lnTo>
                <a:lnTo>
                  <a:pt x="9153" y="12259"/>
                </a:lnTo>
                <a:close/>
              </a:path>
              <a:path w="21600" h="21600">
                <a:moveTo>
                  <a:pt x="21600" y="7589"/>
                </a:moveTo>
                <a:lnTo>
                  <a:pt x="17756" y="0"/>
                </a:lnTo>
                <a:lnTo>
                  <a:pt x="10800" y="0"/>
                </a:lnTo>
                <a:lnTo>
                  <a:pt x="3844" y="0"/>
                </a:lnTo>
                <a:lnTo>
                  <a:pt x="0" y="7589"/>
                </a:lnTo>
                <a:lnTo>
                  <a:pt x="0" y="10800"/>
                </a:lnTo>
                <a:lnTo>
                  <a:pt x="0" y="18097"/>
                </a:lnTo>
                <a:lnTo>
                  <a:pt x="1464" y="18097"/>
                </a:lnTo>
                <a:lnTo>
                  <a:pt x="1464" y="21600"/>
                </a:lnTo>
                <a:lnTo>
                  <a:pt x="10800" y="21600"/>
                </a:lnTo>
                <a:lnTo>
                  <a:pt x="19953" y="21600"/>
                </a:lnTo>
                <a:lnTo>
                  <a:pt x="19953" y="18097"/>
                </a:lnTo>
                <a:lnTo>
                  <a:pt x="21600" y="18097"/>
                </a:lnTo>
                <a:lnTo>
                  <a:pt x="21600" y="11092"/>
                </a:lnTo>
                <a:lnTo>
                  <a:pt x="21600" y="7589"/>
                </a:lnTo>
              </a:path>
              <a:path w="21600" h="21600">
                <a:moveTo>
                  <a:pt x="1647" y="18097"/>
                </a:moveTo>
                <a:lnTo>
                  <a:pt x="6407" y="18097"/>
                </a:lnTo>
                <a:moveTo>
                  <a:pt x="19953" y="18097"/>
                </a:moveTo>
                <a:lnTo>
                  <a:pt x="15010" y="18097"/>
                </a:lnTo>
                <a:moveTo>
                  <a:pt x="0" y="7589"/>
                </a:moveTo>
                <a:lnTo>
                  <a:pt x="21417" y="7589"/>
                </a:lnTo>
                <a:lnTo>
                  <a:pt x="21600" y="7589"/>
                </a:lnTo>
              </a:path>
            </a:pathLst>
          </a:custGeom>
          <a:solidFill>
            <a:srgbClr val="fada7a"/>
          </a:solidFill>
          <a:ln w="19080">
            <a:solidFill>
              <a:srgbClr val="b8a0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50"/>
          <p:cNvSpPr/>
          <p:nvPr/>
        </p:nvSpPr>
        <p:spPr>
          <a:xfrm>
            <a:off x="6000840" y="18572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51"/>
          <p:cNvSpPr/>
          <p:nvPr/>
        </p:nvSpPr>
        <p:spPr>
          <a:xfrm flipV="1">
            <a:off x="3571920" y="2714400"/>
            <a:ext cx="0" cy="50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3"/>
          <p:cNvSpPr/>
          <p:nvPr/>
        </p:nvSpPr>
        <p:spPr>
          <a:xfrm flipH="1">
            <a:off x="3571920" y="271476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4"/>
          <p:cNvSpPr/>
          <p:nvPr/>
        </p:nvSpPr>
        <p:spPr>
          <a:xfrm flipV="1">
            <a:off x="6000840" y="1857240"/>
            <a:ext cx="0" cy="857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Text Box 55"/>
          <p:cNvGrpSpPr/>
          <p:nvPr/>
        </p:nvGrpSpPr>
        <p:grpSpPr>
          <a:xfrm>
            <a:off x="298440" y="5645160"/>
            <a:ext cx="4260960" cy="560520"/>
            <a:chOff x="298440" y="5645160"/>
            <a:chExt cx="4260960" cy="560520"/>
          </a:xfrm>
        </p:grpSpPr>
        <p:pic>
          <p:nvPicPr>
            <p:cNvPr id="598" name="Text Box 55" descr=""/>
            <p:cNvPicPr/>
            <p:nvPr/>
          </p:nvPicPr>
          <p:blipFill>
            <a:blip r:embed="rId2"/>
            <a:stretch/>
          </p:blipFill>
          <p:spPr>
            <a:xfrm>
              <a:off x="298440" y="5645160"/>
              <a:ext cx="42609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428760" y="5715000"/>
              <a:ext cx="40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フォルダの整理ができていない状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Text Box 56"/>
          <p:cNvGrpSpPr/>
          <p:nvPr/>
        </p:nvGrpSpPr>
        <p:grpSpPr>
          <a:xfrm>
            <a:off x="5492880" y="5645160"/>
            <a:ext cx="2955960" cy="554040"/>
            <a:chOff x="5492880" y="5645160"/>
            <a:chExt cx="2955960" cy="554040"/>
          </a:xfrm>
        </p:grpSpPr>
        <p:pic>
          <p:nvPicPr>
            <p:cNvPr id="601" name="Text Box 56" descr=""/>
            <p:cNvPicPr/>
            <p:nvPr/>
          </p:nvPicPr>
          <p:blipFill>
            <a:blip r:embed="rId3"/>
            <a:stretch/>
          </p:blipFill>
          <p:spPr>
            <a:xfrm>
              <a:off x="5492880" y="5645160"/>
              <a:ext cx="29559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5624640" y="5713560"/>
              <a:ext cx="27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カテゴリ別分類・階層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Text Box 57"/>
          <p:cNvSpPr/>
          <p:nvPr/>
        </p:nvSpPr>
        <p:spPr>
          <a:xfrm>
            <a:off x="6929280" y="22860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外部メディ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スライド番号プレースホルダ 47"/>
          <p:cNvSpPr/>
          <p:nvPr/>
        </p:nvSpPr>
        <p:spPr>
          <a:xfrm>
            <a:off x="64296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EBBD-1506-487E-B9FA-4444B21B7C5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フッター プレースホルダ 4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１　情報セキュリティとは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71320" y="2071800"/>
            <a:ext cx="71434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メールの盗聴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Sniffering)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改ざん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Falsific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1" name="Text Box 5"/>
          <p:cNvGrpSpPr/>
          <p:nvPr/>
        </p:nvGrpSpPr>
        <p:grpSpPr>
          <a:xfrm>
            <a:off x="341280" y="5126040"/>
            <a:ext cx="8321760" cy="646200"/>
            <a:chOff x="341280" y="5126040"/>
            <a:chExt cx="8321760" cy="646200"/>
          </a:xfrm>
        </p:grpSpPr>
        <p:pic>
          <p:nvPicPr>
            <p:cNvPr id="402" name="Text Box 5" descr=""/>
            <p:cNvPicPr/>
            <p:nvPr/>
          </p:nvPicPr>
          <p:blipFill>
            <a:blip r:embed="rId1"/>
            <a:stretch/>
          </p:blipFill>
          <p:spPr>
            <a:xfrm>
              <a:off x="341280" y="5126040"/>
              <a:ext cx="8321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00040" y="5214960"/>
              <a:ext cx="810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ＭＳ Ｐゴシック"/>
                </a:rPr>
                <a:t>コンピュータやネットワークにおける安全性や信頼性の確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AutoShape 7"/>
          <p:cNvGrpSpPr/>
          <p:nvPr/>
        </p:nvGrpSpPr>
        <p:grpSpPr>
          <a:xfrm>
            <a:off x="933480" y="3316320"/>
            <a:ext cx="3436920" cy="1859040"/>
            <a:chOff x="933480" y="3316320"/>
            <a:chExt cx="3436920" cy="1859040"/>
          </a:xfrm>
        </p:grpSpPr>
        <p:pic>
          <p:nvPicPr>
            <p:cNvPr id="405" name="AutoShape 7" descr=""/>
            <p:cNvPicPr/>
            <p:nvPr/>
          </p:nvPicPr>
          <p:blipFill>
            <a:blip r:embed="rId2"/>
            <a:stretch/>
          </p:blipFill>
          <p:spPr>
            <a:xfrm>
              <a:off x="933480" y="3316320"/>
              <a:ext cx="343692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827360" y="3357720"/>
              <a:ext cx="1655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8"/>
          <p:cNvSpPr/>
          <p:nvPr/>
        </p:nvSpPr>
        <p:spPr>
          <a:xfrm>
            <a:off x="4857840" y="4000680"/>
            <a:ext cx="288108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１．被害の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２．事態の収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Text Box 9"/>
          <p:cNvGrpSpPr/>
          <p:nvPr/>
        </p:nvGrpSpPr>
        <p:grpSpPr>
          <a:xfrm>
            <a:off x="4840200" y="3340080"/>
            <a:ext cx="2651040" cy="641520"/>
            <a:chOff x="4840200" y="3340080"/>
            <a:chExt cx="2651040" cy="641520"/>
          </a:xfrm>
        </p:grpSpPr>
        <p:pic>
          <p:nvPicPr>
            <p:cNvPr id="409" name="Text Box 9" descr=""/>
            <p:cNvPicPr/>
            <p:nvPr/>
          </p:nvPicPr>
          <p:blipFill>
            <a:blip r:embed="rId3"/>
            <a:stretch/>
          </p:blipFill>
          <p:spPr>
            <a:xfrm>
              <a:off x="4840200" y="3340080"/>
              <a:ext cx="26510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000760" y="3429000"/>
              <a:ext cx="24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情報セキュリテ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7FF4-A410-4084-AD18-E4CEEA87ACF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Text Box 5"/>
          <p:cNvGrpSpPr/>
          <p:nvPr/>
        </p:nvGrpSpPr>
        <p:grpSpPr>
          <a:xfrm>
            <a:off x="250920" y="1341360"/>
            <a:ext cx="5616000" cy="639720"/>
            <a:chOff x="250920" y="1341360"/>
            <a:chExt cx="5616000" cy="639720"/>
          </a:xfrm>
        </p:grpSpPr>
        <p:pic>
          <p:nvPicPr>
            <p:cNvPr id="414" name="Text Box 5" descr=""/>
            <p:cNvPicPr/>
            <p:nvPr/>
          </p:nvPicPr>
          <p:blipFill>
            <a:blip r:embed="rId4"/>
            <a:stretch/>
          </p:blipFill>
          <p:spPr>
            <a:xfrm>
              <a:off x="250920" y="1341360"/>
              <a:ext cx="5616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57560" y="1432080"/>
              <a:ext cx="53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ネットワーク上の脅威（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Threat</a:t>
              </a: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1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情報セキュリティに求められるもの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17" name="Text Box 4"/>
          <p:cNvGrpSpPr/>
          <p:nvPr/>
        </p:nvGrpSpPr>
        <p:grpSpPr>
          <a:xfrm>
            <a:off x="347760" y="1450800"/>
            <a:ext cx="3163680" cy="792360"/>
            <a:chOff x="347760" y="1450800"/>
            <a:chExt cx="3163680" cy="792360"/>
          </a:xfrm>
        </p:grpSpPr>
        <p:pic>
          <p:nvPicPr>
            <p:cNvPr id="418" name="Text Box 4" descr=""/>
            <p:cNvPicPr/>
            <p:nvPr/>
          </p:nvPicPr>
          <p:blipFill>
            <a:blip r:embed="rId1"/>
            <a:stretch/>
          </p:blipFill>
          <p:spPr>
            <a:xfrm>
              <a:off x="347760" y="1450800"/>
              <a:ext cx="31636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71680" y="1571760"/>
              <a:ext cx="28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ffff"/>
                  </a:solidFill>
                  <a:latin typeface="Gill Sans MT"/>
                </a:rPr>
                <a:t>情報の機密性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Text Box 5"/>
          <p:cNvGrpSpPr/>
          <p:nvPr/>
        </p:nvGrpSpPr>
        <p:grpSpPr>
          <a:xfrm>
            <a:off x="347760" y="3664080"/>
            <a:ext cx="6261120" cy="792000"/>
            <a:chOff x="347760" y="3664080"/>
            <a:chExt cx="6261120" cy="792000"/>
          </a:xfrm>
        </p:grpSpPr>
        <p:pic>
          <p:nvPicPr>
            <p:cNvPr id="421" name="Text Box 5" descr=""/>
            <p:cNvPicPr/>
            <p:nvPr/>
          </p:nvPicPr>
          <p:blipFill>
            <a:blip r:embed="rId2"/>
            <a:stretch/>
          </p:blipFill>
          <p:spPr>
            <a:xfrm>
              <a:off x="347760" y="3664080"/>
              <a:ext cx="62611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571680" y="3786120"/>
              <a:ext cx="59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ffff"/>
                  </a:solidFill>
                  <a:latin typeface="Gill Sans MT"/>
                </a:rPr>
                <a:t>情報の保存および伝達の安全性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8"/>
          <p:cNvSpPr/>
          <p:nvPr/>
        </p:nvSpPr>
        <p:spPr>
          <a:xfrm>
            <a:off x="1143000" y="2357280"/>
            <a:ext cx="720108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「ユーザ認証」で不正アクセスを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「アクセス権」を設定し、一般ユーザと管理者を区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143000" y="4572000"/>
            <a:ext cx="763272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不正アクセスされても、データを破壊や消去からブロ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通信の過程において、データの改ざんや盗聴から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スライド番号プレースホルダ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2A42-7063-40E6-BBE3-BF2E46C79CB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フッター プレースホルダ 9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1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セキュリティの運用について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28" name="Text Box 5"/>
          <p:cNvGrpSpPr/>
          <p:nvPr/>
        </p:nvGrpSpPr>
        <p:grpSpPr>
          <a:xfrm>
            <a:off x="92160" y="1901880"/>
            <a:ext cx="2468520" cy="639720"/>
            <a:chOff x="92160" y="1901880"/>
            <a:chExt cx="2468520" cy="639720"/>
          </a:xfrm>
        </p:grpSpPr>
        <p:pic>
          <p:nvPicPr>
            <p:cNvPr id="429" name="Text Box 5" descr=""/>
            <p:cNvPicPr/>
            <p:nvPr/>
          </p:nvPicPr>
          <p:blipFill>
            <a:blip r:embed="rId1"/>
            <a:stretch/>
          </p:blipFill>
          <p:spPr>
            <a:xfrm>
              <a:off x="92160" y="1901880"/>
              <a:ext cx="24685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50920" y="198900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技術的な対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Text Box 6"/>
          <p:cNvGrpSpPr/>
          <p:nvPr/>
        </p:nvGrpSpPr>
        <p:grpSpPr>
          <a:xfrm>
            <a:off x="55440" y="3981600"/>
            <a:ext cx="2522520" cy="645840"/>
            <a:chOff x="55440" y="3981600"/>
            <a:chExt cx="2522520" cy="645840"/>
          </a:xfrm>
        </p:grpSpPr>
        <p:pic>
          <p:nvPicPr>
            <p:cNvPr id="432" name="Text Box 6" descr=""/>
            <p:cNvPicPr/>
            <p:nvPr/>
          </p:nvPicPr>
          <p:blipFill>
            <a:blip r:embed="rId2"/>
            <a:stretch/>
          </p:blipFill>
          <p:spPr>
            <a:xfrm>
              <a:off x="55440" y="3981600"/>
              <a:ext cx="252252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214200" y="40719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運用の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7"/>
          <p:cNvSpPr/>
          <p:nvPr/>
        </p:nvSpPr>
        <p:spPr>
          <a:xfrm>
            <a:off x="1643040" y="2643120"/>
            <a:ext cx="5689800" cy="86256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ウィルスチェック（ネットワーク全体、個々の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C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ファイアウォールの設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1643040" y="4786200"/>
            <a:ext cx="5689800" cy="86256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セキュリティポリシーの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使用者の立場にあった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2571840" y="2000160"/>
            <a:ext cx="59767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外部からの有害プログラムや不正侵入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2643120" y="4143240"/>
            <a:ext cx="55450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運用規則をユーザ全員が理解し遵守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E7BB-C14B-4141-9585-33DCD88D6B1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　ユーザ認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28760" y="3857760"/>
          <a:ext cx="8229600" cy="2176200"/>
        </p:xfrm>
        <a:graphic>
          <a:graphicData uri="http://schemas.openxmlformats.org/drawingml/2006/table">
            <a:tbl>
              <a:tblPr/>
              <a:tblGrid>
                <a:gridCol w="2695320"/>
                <a:gridCol w="2838600"/>
                <a:gridCol w="269568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認証方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利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欠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ID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・パスワー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発行や認証の仕組み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簡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パスワードの漏え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カード等の所持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操作がやさし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紛失、盗難、偽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生体認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偽造されにく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システムが高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2" name="Text Box 4"/>
          <p:cNvSpPr/>
          <p:nvPr/>
        </p:nvSpPr>
        <p:spPr>
          <a:xfrm>
            <a:off x="571680" y="1857240"/>
            <a:ext cx="532908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正規ユーザ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の識別（不正アクセスでないか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一般ユーザ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と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管理者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の区別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Text Box 105"/>
          <p:cNvGrpSpPr/>
          <p:nvPr/>
        </p:nvGrpSpPr>
        <p:grpSpPr>
          <a:xfrm>
            <a:off x="195120" y="1195560"/>
            <a:ext cx="3651480" cy="645840"/>
            <a:chOff x="195120" y="1195560"/>
            <a:chExt cx="3651480" cy="645840"/>
          </a:xfrm>
        </p:grpSpPr>
        <p:pic>
          <p:nvPicPr>
            <p:cNvPr id="444" name="Text Box 105" descr=""/>
            <p:cNvPicPr/>
            <p:nvPr/>
          </p:nvPicPr>
          <p:blipFill>
            <a:blip r:embed="rId1"/>
            <a:stretch/>
          </p:blipFill>
          <p:spPr>
            <a:xfrm>
              <a:off x="195120" y="1195560"/>
              <a:ext cx="36514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357120" y="12859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認証＝本人確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AutoShape 106"/>
          <p:cNvGrpSpPr/>
          <p:nvPr/>
        </p:nvGrpSpPr>
        <p:grpSpPr>
          <a:xfrm>
            <a:off x="1073160" y="2882880"/>
            <a:ext cx="1498680" cy="641520"/>
            <a:chOff x="1073160" y="2882880"/>
            <a:chExt cx="1498680" cy="641520"/>
          </a:xfrm>
        </p:grpSpPr>
        <p:pic>
          <p:nvPicPr>
            <p:cNvPr id="447" name="AutoShape 106" descr=""/>
            <p:cNvPicPr/>
            <p:nvPr/>
          </p:nvPicPr>
          <p:blipFill>
            <a:blip r:embed="rId2"/>
            <a:stretch/>
          </p:blipFill>
          <p:spPr>
            <a:xfrm>
              <a:off x="1073160" y="2882880"/>
              <a:ext cx="149868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484280" y="2928960"/>
              <a:ext cx="6843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 Box 107"/>
          <p:cNvSpPr/>
          <p:nvPr/>
        </p:nvSpPr>
        <p:spPr>
          <a:xfrm>
            <a:off x="3500280" y="33577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認証方式と特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スライド番号プレースホルダ 31"/>
          <p:cNvSpPr/>
          <p:nvPr/>
        </p:nvSpPr>
        <p:spPr>
          <a:xfrm>
            <a:off x="64296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AE54-3A64-449B-98A2-CDD63A09671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フッター プレースホルダ 32"/>
          <p:cNvSpPr/>
          <p:nvPr/>
        </p:nvSpPr>
        <p:spPr>
          <a:xfrm>
            <a:off x="3143160" y="6400800"/>
            <a:ext cx="323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パスワード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3" name="Text Box 5"/>
          <p:cNvGrpSpPr/>
          <p:nvPr/>
        </p:nvGrpSpPr>
        <p:grpSpPr>
          <a:xfrm>
            <a:off x="128520" y="3267000"/>
            <a:ext cx="4272120" cy="639720"/>
            <a:chOff x="128520" y="3267000"/>
            <a:chExt cx="4272120" cy="639720"/>
          </a:xfrm>
        </p:grpSpPr>
        <p:pic>
          <p:nvPicPr>
            <p:cNvPr id="454" name="Text Box 5" descr=""/>
            <p:cNvPicPr/>
            <p:nvPr/>
          </p:nvPicPr>
          <p:blipFill>
            <a:blip r:embed="rId1"/>
            <a:stretch/>
          </p:blipFill>
          <p:spPr>
            <a:xfrm>
              <a:off x="128520" y="3267000"/>
              <a:ext cx="4272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85840" y="3357720"/>
              <a:ext cx="40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パスワードに対する推定攻撃</a:t>
              </a: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 Box 6"/>
          <p:cNvSpPr/>
          <p:nvPr/>
        </p:nvSpPr>
        <p:spPr>
          <a:xfrm>
            <a:off x="357120" y="3929040"/>
            <a:ext cx="388944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１）総当たり攻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　単純で短いパスワードは危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２）辞書攻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　辞書単語をそのまま使わ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4857840" y="3929040"/>
            <a:ext cx="381636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１）のぞき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２）ログイン後の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３）トラッシング（ゴミあさ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４）なりすま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Text Box 7"/>
          <p:cNvGrpSpPr/>
          <p:nvPr/>
        </p:nvGrpSpPr>
        <p:grpSpPr>
          <a:xfrm>
            <a:off x="4627440" y="3267000"/>
            <a:ext cx="4181760" cy="639720"/>
            <a:chOff x="4627440" y="3267000"/>
            <a:chExt cx="4181760" cy="639720"/>
          </a:xfrm>
        </p:grpSpPr>
        <p:pic>
          <p:nvPicPr>
            <p:cNvPr id="459" name="Text Box 7" descr=""/>
            <p:cNvPicPr/>
            <p:nvPr/>
          </p:nvPicPr>
          <p:blipFill>
            <a:blip r:embed="rId2"/>
            <a:stretch/>
          </p:blipFill>
          <p:spPr>
            <a:xfrm>
              <a:off x="4627440" y="3267000"/>
              <a:ext cx="4181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4786200" y="3357720"/>
              <a:ext cx="39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ソーシャル・エンジニアリング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Text Box 11"/>
          <p:cNvSpPr/>
          <p:nvPr/>
        </p:nvSpPr>
        <p:spPr>
          <a:xfrm>
            <a:off x="642960" y="1285920"/>
            <a:ext cx="514332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D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とパスワードによる認証は仕組みが単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→ 推定されにくいパスワードを持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→ 盗み見やなりすましに要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Text Box 12"/>
          <p:cNvGrpSpPr/>
          <p:nvPr/>
        </p:nvGrpSpPr>
        <p:grpSpPr>
          <a:xfrm>
            <a:off x="2981160" y="2627280"/>
            <a:ext cx="3316320" cy="646200"/>
            <a:chOff x="2981160" y="2627280"/>
            <a:chExt cx="3316320" cy="646200"/>
          </a:xfrm>
        </p:grpSpPr>
        <p:pic>
          <p:nvPicPr>
            <p:cNvPr id="463" name="Text Box 12" descr=""/>
            <p:cNvPicPr/>
            <p:nvPr/>
          </p:nvPicPr>
          <p:blipFill>
            <a:blip r:embed="rId3"/>
            <a:stretch/>
          </p:blipFill>
          <p:spPr>
            <a:xfrm>
              <a:off x="2981160" y="2627280"/>
              <a:ext cx="33163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3143160" y="271476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パスワードを破る手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818F-417A-4AFC-8F9D-2562335F664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カードによる認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68" name="Text Box 4"/>
          <p:cNvGrpSpPr/>
          <p:nvPr/>
        </p:nvGrpSpPr>
        <p:grpSpPr>
          <a:xfrm>
            <a:off x="907920" y="1268280"/>
            <a:ext cx="4651560" cy="639720"/>
            <a:chOff x="907920" y="1268280"/>
            <a:chExt cx="4651560" cy="639720"/>
          </a:xfrm>
        </p:grpSpPr>
        <p:pic>
          <p:nvPicPr>
            <p:cNvPr id="469" name="Text Box 4" descr=""/>
            <p:cNvPicPr/>
            <p:nvPr/>
          </p:nvPicPr>
          <p:blipFill>
            <a:blip r:embed="rId1"/>
            <a:stretch/>
          </p:blipFill>
          <p:spPr>
            <a:xfrm>
              <a:off x="907920" y="1268280"/>
              <a:ext cx="4651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1071720" y="1357200"/>
              <a:ext cx="44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の所持品による認証方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5"/>
          <p:cNvSpPr/>
          <p:nvPr/>
        </p:nvSpPr>
        <p:spPr>
          <a:xfrm>
            <a:off x="2428920" y="2714760"/>
            <a:ext cx="64087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スキミング（磁気カードの不正な読み取り）しカードを偽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テレフォンカードやハイウェイカード等でも多数の被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1071720" y="3857760"/>
            <a:ext cx="200016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C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カードの開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2428920" y="4357800"/>
            <a:ext cx="554508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磁気カードよりも偽造が困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暗証番号との組み合わせで認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総当たり攻撃に対してはカードを無効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Text Box 9"/>
          <p:cNvGrpSpPr/>
          <p:nvPr/>
        </p:nvGrpSpPr>
        <p:grpSpPr>
          <a:xfrm>
            <a:off x="1011240" y="1859040"/>
            <a:ext cx="2475000" cy="560160"/>
            <a:chOff x="1011240" y="1859040"/>
            <a:chExt cx="2475000" cy="560160"/>
          </a:xfrm>
        </p:grpSpPr>
        <p:pic>
          <p:nvPicPr>
            <p:cNvPr id="475" name="Text Box 9" descr=""/>
            <p:cNvPicPr/>
            <p:nvPr/>
          </p:nvPicPr>
          <p:blipFill>
            <a:blip r:embed="rId2"/>
            <a:stretch/>
          </p:blipFill>
          <p:spPr>
            <a:xfrm>
              <a:off x="1011240" y="1859040"/>
              <a:ext cx="24750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1143000" y="192888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磁気カードの被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AutoShape 10"/>
          <p:cNvGrpSpPr/>
          <p:nvPr/>
        </p:nvGrpSpPr>
        <p:grpSpPr>
          <a:xfrm>
            <a:off x="1219320" y="2530440"/>
            <a:ext cx="1139760" cy="1285920"/>
            <a:chOff x="1219320" y="2530440"/>
            <a:chExt cx="1139760" cy="1285920"/>
          </a:xfrm>
        </p:grpSpPr>
        <p:pic>
          <p:nvPicPr>
            <p:cNvPr id="478" name="AutoShape 10" descr=""/>
            <p:cNvPicPr/>
            <p:nvPr/>
          </p:nvPicPr>
          <p:blipFill>
            <a:blip r:embed="rId3"/>
            <a:stretch/>
          </p:blipFill>
          <p:spPr>
            <a:xfrm>
              <a:off x="1219320" y="2530440"/>
              <a:ext cx="113976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1538280" y="2571840"/>
              <a:ext cx="50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A5F4-27F3-4BE1-A55B-2FB4A8E6BD8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生体認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071360" y="3214440"/>
            <a:ext cx="1439640" cy="259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指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虹彩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顔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筆跡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声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静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14240" y="1285920"/>
            <a:ext cx="51120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ユーザ本人の身体の一部（生体情報）を使った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（＝バイオメトリックス認証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Text Box 6"/>
          <p:cNvGrpSpPr/>
          <p:nvPr/>
        </p:nvGrpSpPr>
        <p:grpSpPr>
          <a:xfrm>
            <a:off x="554040" y="2554200"/>
            <a:ext cx="2633760" cy="646200"/>
            <a:chOff x="554040" y="2554200"/>
            <a:chExt cx="2633760" cy="646200"/>
          </a:xfrm>
        </p:grpSpPr>
        <p:pic>
          <p:nvPicPr>
            <p:cNvPr id="486" name="Text Box 6" descr=""/>
            <p:cNvPicPr/>
            <p:nvPr/>
          </p:nvPicPr>
          <p:blipFill>
            <a:blip r:embed="rId1"/>
            <a:stretch/>
          </p:blipFill>
          <p:spPr>
            <a:xfrm>
              <a:off x="554040" y="2554200"/>
              <a:ext cx="2633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714240" y="2643120"/>
              <a:ext cx="23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生体認証の種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7"/>
          <p:cNvSpPr/>
          <p:nvPr/>
        </p:nvSpPr>
        <p:spPr>
          <a:xfrm>
            <a:off x="3714840" y="4429080"/>
            <a:ext cx="504036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不正コピーが困難で、より確実な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コンピュータ以外に特殊な装置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認証方式によっては高額（虹彩、静脈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Text Box 8"/>
          <p:cNvGrpSpPr/>
          <p:nvPr/>
        </p:nvGrpSpPr>
        <p:grpSpPr>
          <a:xfrm>
            <a:off x="3554280" y="3767040"/>
            <a:ext cx="2633760" cy="639720"/>
            <a:chOff x="3554280" y="3767040"/>
            <a:chExt cx="2633760" cy="639720"/>
          </a:xfrm>
        </p:grpSpPr>
        <p:pic>
          <p:nvPicPr>
            <p:cNvPr id="490" name="Text Box 8" descr=""/>
            <p:cNvPicPr/>
            <p:nvPr/>
          </p:nvPicPr>
          <p:blipFill>
            <a:blip r:embed="rId2"/>
            <a:stretch/>
          </p:blipFill>
          <p:spPr>
            <a:xfrm>
              <a:off x="3554280" y="3767040"/>
              <a:ext cx="2633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3714840" y="38577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生体認証の特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6E54-DB84-4E4B-8B82-D7002311C54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2" descr="C:\Users\t-ymzm\AppData\Local\Microsoft\Windows\Temporary Internet Files\Content.IE5\7PTL4EXT\MPj04317020000[1].jpg"/>
          <p:cNvPicPr/>
          <p:nvPr/>
        </p:nvPicPr>
        <p:blipFill>
          <a:blip r:embed="rId3"/>
          <a:stretch/>
        </p:blipFill>
        <p:spPr>
          <a:xfrm>
            <a:off x="6000840" y="1643040"/>
            <a:ext cx="2787480" cy="185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３　ファイアウォール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500040" y="2857680"/>
          <a:ext cx="8229600" cy="3381120"/>
        </p:xfrm>
        <a:graphic>
          <a:graphicData uri="http://schemas.openxmlformats.org/drawingml/2006/table">
            <a:tbl>
              <a:tblPr/>
              <a:tblGrid>
                <a:gridCol w="2278080"/>
                <a:gridCol w="595152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主な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概　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3eb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クセス制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インターネットからの接続を制限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ドレス変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プライベートアドレスをグローバルアドレスに変換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ユーザ認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接続できるユーザであるか認証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ログ収集／解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ァイアウォールを通過したパケットをすべて記録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ィルタリ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通過できないデータを判別し遮断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ルーティ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組織内の通信経路を決める役割を果た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 Box 91"/>
          <p:cNvSpPr/>
          <p:nvPr/>
        </p:nvSpPr>
        <p:spPr>
          <a:xfrm>
            <a:off x="2928960" y="242892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アウォールの主な機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92"/>
          <p:cNvSpPr/>
          <p:nvPr/>
        </p:nvSpPr>
        <p:spPr>
          <a:xfrm>
            <a:off x="1143000" y="1285920"/>
            <a:ext cx="7128000" cy="98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ファイアウォール（防火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→インターネット接続したコンピュータを外敵から守る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スライド番号プレースホルダ 32"/>
          <p:cNvSpPr/>
          <p:nvPr/>
        </p:nvSpPr>
        <p:spPr>
          <a:xfrm>
            <a:off x="57168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EB65-11CD-4BC5-8720-2872D2B4E5E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フッター プレースホルダ 33"/>
          <p:cNvSpPr/>
          <p:nvPr/>
        </p:nvSpPr>
        <p:spPr>
          <a:xfrm>
            <a:off x="3071880" y="6400800"/>
            <a:ext cx="33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10:53Z</dcterms:created>
  <dc:creator>図書情報センター</dc:creator>
  <dc:description/>
  <dc:language>en-US</dc:language>
  <cp:lastModifiedBy>T.Yamazumi</cp:lastModifiedBy>
  <dcterms:modified xsi:type="dcterms:W3CDTF">2009-11-02T05:13:46Z</dcterms:modified>
  <cp:revision>60</cp:revision>
  <dc:subject/>
  <dc:title>ネットワーク社会の 情報倫理</dc:title>
</cp:coreProperties>
</file>