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253B4-117B-4FCB-8783-D8549020B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DB775-8352-49B6-A04F-4DD66FD24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363E2-9F27-4D48-866C-47456B9CB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D56C1-BC30-4094-AD35-6E0D11EC7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1471B-DF27-4910-B27B-3B2C3363E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3F318-B804-42BB-BFE4-3AA964316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B661D-817D-4FDD-9191-9E697A730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DFD53-841A-4746-A363-B7B65F1F1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0C74A-0908-472F-9A6E-414B03E01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96F29-D936-45C3-A10C-961FB68B8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DED12-9BBC-4BB1-AB56-BBC699853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C7D14-5498-4012-8A99-6592E977E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439A1-7EFB-46D4-B18F-40791FCC4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8A1A1-DEBC-4E25-9C51-1A5336DA7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400B2-FD97-47F8-A129-6292F3EE4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4E885-A80F-4262-B5FA-CE5AB31A5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A52FE-CBB6-4830-B09A-30B028A0E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F4E63B-57FF-4F99-8DDA-D01F24FA67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61C120-84C2-48EC-BFE6-A29947E74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94AE67-25CC-49C9-A76D-0E58A920C7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971F7E-82C8-40CE-AE0B-04A7B6CC0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CAE8C-C840-4021-B8CF-C615663D0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B324A-BE1F-4459-9DD4-E82B95B45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4B8E3-3A86-4B4C-AFA0-FF8F2D414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544CF2-EF24-457D-B0CB-6CA29CE7B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F8B63-5A28-4FE1-AD2C-49AA74EFF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61399-40C5-4F50-9519-CB0DE95EA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FDC03-DCA6-4D1B-9A95-66019C9193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36FC28-40AC-4CB5-A780-A2A47A31D7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F4C3BD-95FA-4A03-9B0C-4F2EF02F0B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9B2573-B6D4-46DC-8D18-F2F859AFCD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9E339E-C85F-44E5-BF97-491F27785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E299BB-5B37-47D9-B132-EB2FB5079D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3729C-CDC3-4B42-8B7A-7D08154EB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35988-947C-43FC-83DE-F973A6DD7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66564-F22D-4BAF-82DD-EF2F3FC61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9E8FDF-5869-4130-92C7-14E04A65F7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11DD3-AAB1-4372-92BB-23D4F4A46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4624E-B939-4A6E-BC06-27AB4B770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6A4B6-652A-49AE-A94D-8F50BEAF9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EC7534-1447-4CBB-B9A8-DC2B239E8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AB1850-A418-4EE6-8DE8-15B4D44F2F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8A043E-F8EC-4B0E-A6C3-AE2A6CE6FE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1171F1-008F-478B-82E8-5D44569B28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8788E-F58A-4B7A-B9C4-3647A2F49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87258-14B9-4966-9943-8005D28EC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38DA73-AB82-4082-9C5B-BDE56D3FD3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451EE6-25E6-42DE-990A-CF676CAFE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5FA5C0-6609-454D-9783-1FD3A3D8D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90846-F456-44F2-BFA4-B09052349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A9C53D-8388-4B33-9936-EAB17F137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A0231-E920-4608-869D-DF88420F5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CECD95-5443-4101-88AC-1F0084B7D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73F8E8-E210-4A51-AF2C-F80B02E15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87A552-E306-4719-A919-0EDA9D668B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C16A1-BE47-4623-A1F3-9D2014BF3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1352AD-F0E0-495C-9D88-7E7E9EB7A5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09E5C4-3B62-4231-B446-6B09C3FE23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4AF576-C00F-43D1-9262-EDABAED9DA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B349A-383D-444F-A23E-F3162BDDE0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C8D996-9937-4850-84C8-E37C93DF69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EB44F0-B747-4772-841A-39A2690C0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1CE49C-CCAF-4650-BCFF-2347EBDDAF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5C8CD-0C49-41D5-93AD-7B6BCF138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ADEEB-6628-4CC9-A9A0-ED6987D8C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A413D5-A9CC-4EDA-B762-BD94930F78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22F68-DA57-4043-9DBE-9AEA6D3BD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D3ECA1-736B-4EA7-845D-1C835B0B7E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F3B709-B805-434D-AA2B-368DFC7559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35D607-1DBF-4ACD-95B2-86BDA36F28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EFC22E-52FB-45E0-9D8D-601C2264CA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D8C24F-D074-47B3-9CD4-C9EEE93B2C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2377A1-F986-42D2-8687-520CD943B4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7F1627-8088-42C9-9C81-792243F1EA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4014FE-2DA9-4CC6-B00C-426704D6A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96E1E7-6190-402D-89A8-EF57060E9D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228A59-AB1B-4AE5-9CC9-CFE30C56C1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FF002-CDE5-468A-A13B-4CBC7F3BF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AB439-4D18-45ED-8F7B-34C2CB6F6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209C8D-CC73-4C14-90F8-20F58891B2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0A772B-075A-48D8-98EE-9FBCEEDA90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2F43C4-6596-4C06-A357-0752AEE151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B1F4DB-F27C-4732-9C07-4824AEAE2B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AF0CE5-6805-40FC-ABF7-903E0B2D99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9345CB-3520-4108-8304-3F34906B67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30F1FE-DC54-42FF-9FF5-F53A4999AF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21D5A5-697F-411F-A920-176255E9FE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8BD90E-DFC5-4089-A2C1-14D28FD070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A09FC-C5D8-431B-B442-C17AFB7E8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9BF9DE-0E7C-405B-A5E1-63F811221C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1CA0B-7CCF-4368-9620-0CF62825A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A70EB-68C7-4AF7-B735-FF384911F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881BAA-1885-425F-A351-04B1755F0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C9B1D7-C064-44F6-8973-09F4CC7D06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6B9342-6A4C-4EC1-88CC-9F7CCAB5B3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53D783-C6B2-4B47-A428-303BF7DFFB7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7543-278D-42D0-B6B9-51944315A2B7}"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839E-7390-4440-BFAD-DA1A0714FD9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6626-0CEC-41C7-89FC-852DED97F692}"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7EE1-7CFB-4088-801C-05BB8307C5A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E3E5-CB23-4CDB-BBEE-F2D50EC11FB8}"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AABA-585B-4197-927B-69A044DD11E1}"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407D-912E-4174-A94F-A497910BFB15}"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C85C-7FD2-4CEC-842A-A95EEB77DCD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3402-80B3-4D82-A543-270AB73C3BD3}"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6C0A-CF44-485A-983B-A56939AA76F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6920-89D8-4944-A030-8F0C6DA220E4}"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F88A-D4CA-4B92-AB76-69C2FDD8E934}"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43A3-80A0-40EF-861B-A93A649312A7}" type="datetime">
              <a:rPr b="0" lang="ja-JP" sz="1400" spc="-1" strike="noStrike">
                <a:solidFill>
                  <a:srgbClr val="dde9ec"/>
                </a:solidFill>
                <a:latin typeface="Times New Roman"/>
              </a:rPr>
              <a:t>26/07/30</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54F8-2E35-4A40-B7B3-359EBD6B5452}"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FC9D-E33F-4548-8CE9-22EF98A6ADCE}" type="datetime">
              <a:rPr b="0" lang="ja-JP" sz="1400" spc="-1" strike="noStrike">
                <a:solidFill>
                  <a:srgbClr val="464653"/>
                </a:solidFill>
                <a:latin typeface="Times New Roman"/>
              </a:rPr>
              <a:t>26/07/30</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7309-E09F-426A-9BBE-B54041F652E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02D9-BD72-47DD-A00F-18E8DED5BD5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1D42-9DED-4A89-8600-E81D1D2DF55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3F37-1380-41E2-A8EE-1BC2A5406FC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C421-C1B1-496C-96BC-74139A4F3AD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BB3D-A324-467F-9DB2-F455D7F4C8C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6DD7-9678-4499-B0E6-460F211060C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CA6A-BA7E-4B9C-BC68-7B2F919F606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D3A7-D7A8-4F95-9005-489A1E90DC8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3F75-DC58-47A9-94BA-8D4C57038EE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694E-E3DA-4CA7-A7DC-8AE8B160AF6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1E4E-F3A5-4412-94A7-A624D306B9C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6798-7A03-48EB-A9DA-5442B7DE4AE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ECDC-9F88-4B87-87AD-70EB022A621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57EC-8F6D-4C9E-867B-749F90C4EF0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D06E-D201-419A-896B-663D1AC8AE5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3094-CC31-4804-83A6-40DA69EECDD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9BCE-3D45-4521-A970-3C04E1D4E7C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271E-1BE2-4C67-8DCC-AE584A0038A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33BB-21AF-4B79-8967-BF045DBC98B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