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28.png" ContentType="image/png"/>
  <Override PartName="/ppt/media/image9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4.wmf" ContentType="image/x-wmf"/>
  <Override PartName="/ppt/media/image4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20.png" ContentType="image/png"/>
  <Override PartName="/ppt/media/image19.png" ContentType="image/png"/>
  <Override PartName="/ppt/media/image18.wmf" ContentType="image/x-wmf"/>
  <Override PartName="/ppt/media/image15.png" ContentType="image/png"/>
  <Override PartName="/ppt/media/image25.jpeg" ContentType="image/jpeg"/>
  <Override PartName="/ppt/media/image2.png" ContentType="image/png"/>
  <Override PartName="/ppt/media/image3.png" ContentType="image/png"/>
  <Override PartName="/ppt/media/image26.png" ContentType="image/png"/>
  <Override PartName="/ppt/media/image1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AC87-707B-4A64-9D56-36D50FBCE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9711-C3A3-4F07-8E65-181B7D7F2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508C-B94E-41DA-ABA7-5B5AEB599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DCC8-0F91-4449-B10E-D3284AC4D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04E4F-4259-49AF-ACAB-4EFEBC261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15BB4-409C-4E49-A189-C91ACA445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31013-CF03-43DA-9493-4AE25E40B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1A064-32C0-4AF6-A8E2-308F699BD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A9EB5-E660-44CA-B20F-723A8F63B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4EF38-B13A-4DCF-B896-DA4167D0F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48793-B9BA-42D8-993C-6430126B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7ED1-646E-44A4-AF09-8CE4F9D3D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9EE93-1ED2-4157-B37D-FA473D91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62A4F-83EE-4E8F-942B-0D908337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06D74-32DA-4F4B-9E92-DF2BC9401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B7371-7006-49EF-8195-0C4150570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011F0-70C5-4508-A2DE-4242C9157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3F795-3B4C-462E-B1EA-02DA44508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ACD29-5B9A-4DDA-B7AC-666565435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E9C1A-976E-403C-B766-5AFB0E9C9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1FF5B-BB41-440C-89DA-791AB6080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7B612-663F-46F0-867B-3C501065C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25A7-9CBF-463E-A7CA-6260C8DF0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266A8-3BA0-405A-941A-4C01D202B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975AA-8904-47B7-A356-9CCD962E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8E6BE-E0AF-48B7-BDDC-66642F25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E359A-755C-4DCE-AECD-04CB94FB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DABE4-215A-4DD4-982A-AE9DDD1CA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267D3-CFDD-487F-85FF-9A66B2BB9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8F524-7E4C-4596-8D9C-250665EBC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DD787-A601-4306-850A-FBE525297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689F7-9A1B-4C7D-AD2A-247477BF5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2DBB6-6071-462D-802E-C964F03AB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CEC1-2C05-41E8-BE33-D10ABB492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0DA61-A5B8-4818-AEE7-F53059E4E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15C4F-5429-4BBF-8016-76D2CECBC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F5BDF-2309-488B-B3E0-2BD4DF143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04902-EABC-46AF-A26E-74630985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CF846-D3A6-4ED8-B7FF-E034C999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0BA5C-A9E4-455B-B358-B863A984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DE393-9880-4EBB-85CA-C8F8FC0D6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87682-6D3D-426D-84B7-4F1A15741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9BA0D-5994-4BD2-9241-8C0B4C1C2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67284-4CC1-407B-95DF-A79DED51F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B235-614B-42C6-A233-16359F15D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C05CC-7BEA-45CE-A2B1-BBB6E1BC3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EED8F-6FA5-487A-901B-C038B60E0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A5493-45DD-4F59-A035-A20FE5062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25B46-94C2-487B-8FC2-46699D5FF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54055-4535-47D8-99D1-E363A02A0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B0479-58B9-40F2-8F3A-B5BF98C5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F7D23-14CB-4E97-AEC6-7851A4FF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A65EC-020E-4673-A685-AA0996F1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3DB3A-D999-4320-80E2-6372737EA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0DE72-7406-4931-B3DC-804D2AEEF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5AE0-9829-4ED2-8261-7DED2301F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3AADC-544C-4B10-A3B2-B4173C8A1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78269-1587-4063-9885-979E0DD8B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702699-AE70-44CA-B6B4-7C023A4F7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A637B-2F1D-469B-A319-A43BDB2F3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B2B3C-419D-4C06-9C66-370DB0CBD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42F2A-6700-4DAF-83F8-277B3E70D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71C1A-5676-4BDF-988B-352B5ED1D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0FBDA-0B78-431D-90A4-F5FCB178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6E66E-87C0-448C-A6E0-F5AE5A91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2DF4F-8D5A-40DC-9BD5-7CFF3FDC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43FA-938E-46C6-8B3D-DB5364CF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FB5E3-B3A5-436B-B6B8-7BD1D49ED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0ED80-4BE2-49A9-889C-8B04F6314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E478E-1C57-4C84-8743-699536E3F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1FC07-BF37-4554-BD3B-D35B67658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2CBD97-D97B-4FB9-9EED-46BE8BC48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C8CF5-7E26-490E-BE57-F0DFCD1EE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86731-ECF7-4520-AC37-D24D3361D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DFA551-933C-4717-902A-4B1D3F1FD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E32F6-8A90-477E-9EDE-5815A96A4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FEC77-B2F2-499B-951D-60366566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3D87-8FB5-4A96-B7E4-14716BA7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ACC26F-C112-4B2B-846E-6F361D68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37948B-0128-46CE-B359-31F3F845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EC7E3-32EF-4D1C-A6AF-8AF6D57D3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113D3A-C312-4CD0-AE4E-9B9F920BA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09A656-E87F-4F34-97A4-E04A14BFA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05633A-5CBE-49FE-A8AB-2E667ECFA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365250-C5D1-424D-815C-6551C2262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73A2D0-F552-49DE-94F9-620F8E0EE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839044-383C-4AAD-8C5C-16DAA1A30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F3217-C26C-4DAC-AC90-D03E61DBD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CA7F-469A-4AF8-86C9-5C999DC2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F4CEAB-505D-43EB-BFCA-03EAE0BE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2063F1-41E4-4BD5-B5E5-80815162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83C799-C540-46AA-9DBC-E3136376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DD137F-1C98-4793-AF44-A1FDFCE2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BD7CCE-C5F2-41D9-AB7D-70C53923E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214192-0401-46C8-A666-E326CD1D9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70B91-18B7-4D05-B9EC-4F5E197BE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921DF-4916-4074-BD11-82C21C9272A0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正方形/長方形 2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正方形/長方形 32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正方形/長方形 21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正方形/長方形 31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763C4-95D4-43F9-AE76-3C9BE9E6EF88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正方形/長方形 6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正方形/長方形 7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9C40-6EC7-4EA0-83BC-E507CAFC5B70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二等辺三角形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ED20-F893-4C1A-AAA3-4C3645D6B1FE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直線コネクタ 4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二等辺三角形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B3C71-2397-458F-8C9E-967C65359467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直線コネクタ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線コネクタ 9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二等辺三角形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D63DD-D06A-4F9C-BDED-FC556C74AFB8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直線コネクタ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二等辺三角形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正方形/長方形 9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2E59B-2D0F-4670-AE0B-456283B621FF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直線コネクタ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二等辺三角形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線コネクタ 8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5402E-499C-4A5C-BB1C-6D82A3274562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image" Target="../media/image16.wmf"/><Relationship Id="rId5" Type="http://schemas.openxmlformats.org/officeDocument/2006/relationships/image" Target="../media/image17.jpeg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6.wmf"/><Relationship Id="rId3" Type="http://schemas.openxmlformats.org/officeDocument/2006/relationships/image" Target="../media/image13.wmf"/><Relationship Id="rId4" Type="http://schemas.openxmlformats.org/officeDocument/2006/relationships/image" Target="../media/image19.png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900" spc="-1" strike="noStrike">
                <a:solidFill>
                  <a:srgbClr val="000000"/>
                </a:solidFill>
                <a:latin typeface="Bookman Old Style"/>
              </a:rPr>
              <a:t>モバイルネットワーク時代の情報倫理</a:t>
            </a:r>
            <a:br>
              <a:rPr sz="2900"/>
            </a:b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＜近代科学社刊＞</a:t>
            </a:r>
            <a:endParaRPr b="0" lang="en-US" sz="2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85920" y="514332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464653"/>
                </a:solidFill>
                <a:latin typeface="Bookman Old Style"/>
                <a:ea typeface="HG明朝E"/>
              </a:rPr>
              <a:t>第</a:t>
            </a:r>
            <a:r>
              <a:rPr b="0" lang="en-US" sz="2000" spc="-1" strike="noStrike">
                <a:solidFill>
                  <a:srgbClr val="464653"/>
                </a:solidFill>
                <a:latin typeface="Bookman Old Style"/>
                <a:ea typeface="HG明朝E"/>
              </a:rPr>
              <a:t>2</a:t>
            </a:r>
            <a:r>
              <a:rPr b="0" lang="ja-JP" sz="2000" spc="-1" strike="noStrike">
                <a:solidFill>
                  <a:srgbClr val="464653"/>
                </a:solidFill>
                <a:latin typeface="Bookman Old Style"/>
                <a:ea typeface="HG明朝E"/>
              </a:rPr>
              <a:t>章　ネットワーク犯罪（前半）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4" name="Picture 2" descr="5"/>
          <p:cNvPicPr/>
          <p:nvPr/>
        </p:nvPicPr>
        <p:blipFill>
          <a:blip r:embed="rId1"/>
          <a:srcRect l="4642" t="6698" r="4642" b="6698"/>
          <a:stretch/>
        </p:blipFill>
        <p:spPr>
          <a:xfrm>
            <a:off x="6210360" y="1857240"/>
            <a:ext cx="2174760" cy="1440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3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今後の対策と新しい傾向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9" name="フッター プレースホルダ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テキスト ボックス 3"/>
          <p:cNvSpPr/>
          <p:nvPr/>
        </p:nvSpPr>
        <p:spPr>
          <a:xfrm>
            <a:off x="571680" y="1285920"/>
            <a:ext cx="4143240" cy="459720"/>
          </a:xfrm>
          <a:prstGeom prst="rect">
            <a:avLst/>
          </a:prstGeom>
          <a:solidFill>
            <a:srgbClr val="727ca3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Gill Sans MT"/>
              </a:rPr>
              <a:t>出会い系サイト規制法の改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テキスト ボックス 4"/>
          <p:cNvSpPr/>
          <p:nvPr/>
        </p:nvSpPr>
        <p:spPr>
          <a:xfrm>
            <a:off x="928800" y="1857240"/>
            <a:ext cx="5286240" cy="161856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インターネット異性紹介事業者は届け出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利用者が児童でないことを確認する義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不適切な書き込みを削除する義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パトロール活動や自主的な規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各プロバイダのフィルタリング機能強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テキスト ボックス 5"/>
          <p:cNvGrpSpPr/>
          <p:nvPr/>
        </p:nvGrpSpPr>
        <p:grpSpPr>
          <a:xfrm>
            <a:off x="1085760" y="4516560"/>
            <a:ext cx="6126120" cy="873000"/>
            <a:chOff x="1085760" y="4516560"/>
            <a:chExt cx="6126120" cy="873000"/>
          </a:xfrm>
        </p:grpSpPr>
        <p:pic>
          <p:nvPicPr>
            <p:cNvPr id="483" name="テキスト ボックス 5" descr=""/>
            <p:cNvPicPr/>
            <p:nvPr/>
          </p:nvPicPr>
          <p:blipFill>
            <a:blip r:embed="rId1"/>
            <a:stretch/>
          </p:blipFill>
          <p:spPr>
            <a:xfrm>
              <a:off x="1085760" y="4516560"/>
              <a:ext cx="6126120" cy="87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1214280" y="4572000"/>
              <a:ext cx="5929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Gill Sans MT"/>
                </a:rPr>
                <a:t>SNS</a:t>
              </a: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など他のサービスを使った不正誘引が増加傾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家出掲示板などの新たな問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テキスト ボックス 6"/>
          <p:cNvSpPr/>
          <p:nvPr/>
        </p:nvSpPr>
        <p:spPr>
          <a:xfrm>
            <a:off x="3714840" y="3857760"/>
            <a:ext cx="4214880" cy="398880"/>
          </a:xfrm>
          <a:prstGeom prst="rect">
            <a:avLst/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携帯電話のフィルタリングが強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下矢印 7"/>
          <p:cNvSpPr/>
          <p:nvPr/>
        </p:nvSpPr>
        <p:spPr>
          <a:xfrm>
            <a:off x="1928880" y="3643200"/>
            <a:ext cx="1500120" cy="78588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2" descr="7"/>
          <p:cNvPicPr/>
          <p:nvPr/>
        </p:nvPicPr>
        <p:blipFill>
          <a:blip r:embed="rId2"/>
          <a:srcRect l="0" t="0" r="0" b="3269"/>
          <a:stretch/>
        </p:blipFill>
        <p:spPr>
          <a:xfrm>
            <a:off x="6858000" y="1500120"/>
            <a:ext cx="1735200" cy="2301840"/>
          </a:xfrm>
          <a:prstGeom prst="rect">
            <a:avLst/>
          </a:prstGeom>
          <a:ln w="0">
            <a:noFill/>
          </a:ln>
        </p:spPr>
      </p:pic>
      <p:sp>
        <p:nvSpPr>
          <p:cNvPr id="488" name="テキスト ボックス 9"/>
          <p:cNvSpPr/>
          <p:nvPr/>
        </p:nvSpPr>
        <p:spPr>
          <a:xfrm>
            <a:off x="1357200" y="5572080"/>
            <a:ext cx="5857920" cy="368280"/>
          </a:xfrm>
          <a:prstGeom prst="rect">
            <a:avLst/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サイバーパトロールやプロバイダによる監視体制が重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スライド番号プレースホルダ 10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F0602-01D1-4137-BDDC-28067F6602D3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４　架空請求・不正請求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1" name="フッター プレースホルダ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スライド番号プレースホルダ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3F835-0451-4566-89FE-E0FEDBF2AE57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テキスト ボックス 4"/>
          <p:cNvSpPr/>
          <p:nvPr/>
        </p:nvSpPr>
        <p:spPr>
          <a:xfrm>
            <a:off x="428760" y="1285920"/>
            <a:ext cx="8072280" cy="125244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架空請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一度も利用したことのないサイトの利用料金を求めるこ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不正請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無料サイトの利用料金や、契約と異なる有料サイトの利用料金を求めるこ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テキスト ボックス 5"/>
          <p:cNvSpPr/>
          <p:nvPr/>
        </p:nvSpPr>
        <p:spPr>
          <a:xfrm>
            <a:off x="428760" y="3071880"/>
            <a:ext cx="8072280" cy="125244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ワンクリック詐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突然「会員登録されました。」というメッセージが表示され、会費を請求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迷惑メールに記載された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有料サイトに接続（誘導）されて会費を請求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テキスト ボックス 6"/>
          <p:cNvSpPr/>
          <p:nvPr/>
        </p:nvSpPr>
        <p:spPr>
          <a:xfrm>
            <a:off x="428760" y="2643120"/>
            <a:ext cx="2357280" cy="398880"/>
          </a:xfrm>
          <a:prstGeom prst="rect">
            <a:avLst/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不正請求の典型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角丸四角形 7"/>
          <p:cNvGrpSpPr/>
          <p:nvPr/>
        </p:nvGrpSpPr>
        <p:grpSpPr>
          <a:xfrm>
            <a:off x="933480" y="4286160"/>
            <a:ext cx="7199280" cy="803520"/>
            <a:chOff x="933480" y="4286160"/>
            <a:chExt cx="7199280" cy="803520"/>
          </a:xfrm>
        </p:grpSpPr>
        <p:pic>
          <p:nvPicPr>
            <p:cNvPr id="497" name="角丸四角形 7" descr=""/>
            <p:cNvPicPr/>
            <p:nvPr/>
          </p:nvPicPr>
          <p:blipFill>
            <a:blip r:embed="rId1"/>
            <a:stretch/>
          </p:blipFill>
          <p:spPr>
            <a:xfrm>
              <a:off x="933480" y="4286160"/>
              <a:ext cx="7199280" cy="80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1031760" y="4389480"/>
              <a:ext cx="70088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契約や会員登録が完了したような表示し、会費をだまし取る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心理的な圧迫で代金をだまし取ろうとする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テキスト ボックス 9"/>
          <p:cNvSpPr/>
          <p:nvPr/>
        </p:nvSpPr>
        <p:spPr>
          <a:xfrm>
            <a:off x="2500200" y="5214960"/>
            <a:ext cx="5143680" cy="91692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怪しいサイト、メールは無視す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本人の了承なしに会員登録することは違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不正請求には一切応じな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右矢印 10"/>
          <p:cNvSpPr/>
          <p:nvPr/>
        </p:nvSpPr>
        <p:spPr>
          <a:xfrm>
            <a:off x="1428840" y="5357880"/>
            <a:ext cx="928440" cy="714240"/>
          </a:xfrm>
          <a:prstGeom prst="rightArrow">
            <a:avLst>
              <a:gd name="adj1" fmla="val 50000"/>
              <a:gd name="adj2" fmla="val 49998"/>
            </a:avLst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4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ワン切り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2" name="フッター プレースホルダ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スライド番号プレースホルダ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610DC-CCAE-4DA6-B685-9322F0E084E0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テキスト ボックス 5"/>
          <p:cNvSpPr/>
          <p:nvPr/>
        </p:nvSpPr>
        <p:spPr>
          <a:xfrm>
            <a:off x="1285920" y="1714680"/>
            <a:ext cx="478620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一度だけコールし、すぐに電話を切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相手は番号を通知で電話をしてく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テキスト ボックス 6"/>
          <p:cNvSpPr/>
          <p:nvPr/>
        </p:nvSpPr>
        <p:spPr>
          <a:xfrm>
            <a:off x="3071880" y="2571840"/>
            <a:ext cx="314316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ワン切り」に掛け直しをする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テキスト ボックス 7"/>
          <p:cNvSpPr/>
          <p:nvPr/>
        </p:nvSpPr>
        <p:spPr>
          <a:xfrm>
            <a:off x="1285920" y="3143160"/>
            <a:ext cx="4929120" cy="642600"/>
          </a:xfrm>
          <a:prstGeom prst="rect">
            <a:avLst/>
          </a:prstGeom>
          <a:gradFill rotWithShape="0">
            <a:gsLst>
              <a:gs pos="0">
                <a:srgbClr val="dacdca"/>
              </a:gs>
              <a:gs pos="100000">
                <a:srgbClr val="dacdca"/>
              </a:gs>
            </a:gsLst>
            <a:lin ang="900000"/>
          </a:gradFill>
          <a:ln w="9360">
            <a:solidFill>
              <a:srgbClr val="8e736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自分の携帯番号が知ら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架空の有料サイト使用料を請求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テキスト ボックス 8"/>
          <p:cNvGrpSpPr/>
          <p:nvPr/>
        </p:nvGrpSpPr>
        <p:grpSpPr>
          <a:xfrm>
            <a:off x="1957320" y="3998880"/>
            <a:ext cx="6948720" cy="1487520"/>
            <a:chOff x="1957320" y="3998880"/>
            <a:chExt cx="6948720" cy="1487520"/>
          </a:xfrm>
        </p:grpSpPr>
        <p:pic>
          <p:nvPicPr>
            <p:cNvPr id="508" name="テキスト ボックス 8" descr=""/>
            <p:cNvPicPr/>
            <p:nvPr/>
          </p:nvPicPr>
          <p:blipFill>
            <a:blip r:embed="rId1"/>
            <a:stretch/>
          </p:blipFill>
          <p:spPr>
            <a:xfrm>
              <a:off x="1957320" y="3998880"/>
              <a:ext cx="69487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2071800" y="4071960"/>
              <a:ext cx="67150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ワン切りに対しては一切応答しない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不正請求はすべて無視す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応じると住所等を聞き出されたりして、さらに被害が広が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相談窓口：国民生活センター（消費生活センター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テキスト ボックス 9"/>
          <p:cNvSpPr/>
          <p:nvPr/>
        </p:nvSpPr>
        <p:spPr>
          <a:xfrm>
            <a:off x="857160" y="1285920"/>
            <a:ext cx="1571760" cy="398880"/>
          </a:xfrm>
          <a:prstGeom prst="rect">
            <a:avLst/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ワン切りと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下矢印 10"/>
          <p:cNvSpPr/>
          <p:nvPr/>
        </p:nvSpPr>
        <p:spPr>
          <a:xfrm>
            <a:off x="1785960" y="2428920"/>
            <a:ext cx="1143000" cy="64296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右矢印 11"/>
          <p:cNvGrpSpPr/>
          <p:nvPr/>
        </p:nvGrpSpPr>
        <p:grpSpPr>
          <a:xfrm>
            <a:off x="639720" y="4114800"/>
            <a:ext cx="1354320" cy="1139760"/>
            <a:chOff x="639720" y="4114800"/>
            <a:chExt cx="1354320" cy="1139760"/>
          </a:xfrm>
        </p:grpSpPr>
        <p:pic>
          <p:nvPicPr>
            <p:cNvPr id="513" name="右矢印 11" descr=""/>
            <p:cNvPicPr/>
            <p:nvPr/>
          </p:nvPicPr>
          <p:blipFill>
            <a:blip r:embed="rId2"/>
            <a:stretch/>
          </p:blipFill>
          <p:spPr>
            <a:xfrm>
              <a:off x="639720" y="4114800"/>
              <a:ext cx="1354320" cy="11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>
              <a:off x="714240" y="4394160"/>
              <a:ext cx="9637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5" name="Picture 2" descr="8"/>
          <p:cNvPicPr/>
          <p:nvPr/>
        </p:nvPicPr>
        <p:blipFill>
          <a:blip r:embed="rId3"/>
          <a:srcRect l="0" t="10299" r="0" b="10299"/>
          <a:stretch/>
        </p:blipFill>
        <p:spPr>
          <a:xfrm>
            <a:off x="6572160" y="1714680"/>
            <a:ext cx="2158920" cy="1979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５　ネット詐欺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7" name="Text Box 8"/>
          <p:cNvSpPr/>
          <p:nvPr/>
        </p:nvSpPr>
        <p:spPr>
          <a:xfrm>
            <a:off x="2714760" y="2857680"/>
            <a:ext cx="321444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代金の支払い（振り込み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0"/>
          <p:cNvSpPr/>
          <p:nvPr/>
        </p:nvSpPr>
        <p:spPr>
          <a:xfrm>
            <a:off x="2500200" y="364320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ff0000"/>
                </a:solidFill>
                <a:uFillTx/>
                <a:latin typeface="Arial"/>
              </a:rPr>
              <a:t>品物が送られてこない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13"/>
          <p:cNvSpPr/>
          <p:nvPr/>
        </p:nvSpPr>
        <p:spPr>
          <a:xfrm>
            <a:off x="1785960" y="4714920"/>
            <a:ext cx="6072120" cy="157176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店舗の実績を確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掲載期間（十分に長期間か）、連絡先の明示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できるだけ先払いは避け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取り引きの証拠を残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画面やメールを印刷・保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フッター プレースホルダ 10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スライド番号プレースホルダ 1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A100-69E4-43F5-87A8-7725041E95B2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テキスト ボックス 12"/>
          <p:cNvSpPr/>
          <p:nvPr/>
        </p:nvSpPr>
        <p:spPr>
          <a:xfrm>
            <a:off x="1285920" y="1571760"/>
            <a:ext cx="678636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商品の取り引きをネットワーク上で行う無店舗型の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販売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4"/>
          <p:cNvSpPr/>
          <p:nvPr/>
        </p:nvSpPr>
        <p:spPr>
          <a:xfrm>
            <a:off x="1785960" y="2000160"/>
            <a:ext cx="7107120" cy="42876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ユーザ個人が実際に商品を手に取り、確認することができ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5"/>
          <p:cNvSpPr/>
          <p:nvPr/>
        </p:nvSpPr>
        <p:spPr>
          <a:xfrm>
            <a:off x="3643200" y="2500200"/>
            <a:ext cx="1000080" cy="2858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5"/>
          <p:cNvSpPr/>
          <p:nvPr/>
        </p:nvSpPr>
        <p:spPr>
          <a:xfrm>
            <a:off x="3571920" y="3286080"/>
            <a:ext cx="1143000" cy="3571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テキスト ボックス 16"/>
          <p:cNvGrpSpPr/>
          <p:nvPr/>
        </p:nvGrpSpPr>
        <p:grpSpPr>
          <a:xfrm>
            <a:off x="585720" y="4164120"/>
            <a:ext cx="3052800" cy="560160"/>
            <a:chOff x="585720" y="4164120"/>
            <a:chExt cx="3052800" cy="560160"/>
          </a:xfrm>
        </p:grpSpPr>
        <p:pic>
          <p:nvPicPr>
            <p:cNvPr id="527" name="テキスト ボックス 16" descr=""/>
            <p:cNvPicPr/>
            <p:nvPr/>
          </p:nvPicPr>
          <p:blipFill>
            <a:blip r:embed="rId1"/>
            <a:stretch/>
          </p:blipFill>
          <p:spPr>
            <a:xfrm>
              <a:off x="585720" y="4164120"/>
              <a:ext cx="305280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"/>
            <p:cNvSpPr/>
            <p:nvPr/>
          </p:nvSpPr>
          <p:spPr>
            <a:xfrm>
              <a:off x="714240" y="4214880"/>
              <a:ext cx="285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取引に当たっての注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テキスト ボックス 17"/>
          <p:cNvSpPr/>
          <p:nvPr/>
        </p:nvSpPr>
        <p:spPr>
          <a:xfrm>
            <a:off x="428760" y="1143000"/>
            <a:ext cx="30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3.4.1</a:t>
            </a: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　ネットショッピン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5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ネットオークション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1" name="Rectangle 4"/>
          <p:cNvSpPr/>
          <p:nvPr/>
        </p:nvSpPr>
        <p:spPr>
          <a:xfrm>
            <a:off x="500040" y="1360800"/>
            <a:ext cx="4357800" cy="459720"/>
          </a:xfrm>
          <a:prstGeom prst="rect">
            <a:avLst/>
          </a:prstGeom>
          <a:solidFill>
            <a:srgbClr val="d2da7a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Gill Sans MT"/>
              </a:rPr>
              <a:t>中古品を出品　→　落札</a:t>
            </a: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5"/>
          <p:cNvSpPr/>
          <p:nvPr/>
        </p:nvSpPr>
        <p:spPr>
          <a:xfrm>
            <a:off x="2214720" y="2571840"/>
            <a:ext cx="6551280" cy="39888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高額なもの（宝石・貴金属や自動車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6"/>
          <p:cNvSpPr/>
          <p:nvPr/>
        </p:nvSpPr>
        <p:spPr>
          <a:xfrm>
            <a:off x="2214720" y="3071880"/>
            <a:ext cx="6551280" cy="39888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個人の趣味で収集した入手困難なも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7"/>
          <p:cNvSpPr/>
          <p:nvPr/>
        </p:nvSpPr>
        <p:spPr>
          <a:xfrm>
            <a:off x="1279440" y="1932120"/>
            <a:ext cx="2800440" cy="459720"/>
          </a:xfrm>
          <a:prstGeom prst="rect">
            <a:avLst/>
          </a:prstGeom>
          <a:solidFill>
            <a:srgbClr val="d2da7a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Gill Sans MT"/>
              </a:rPr>
              <a:t>最終的にユーザ同士の取り引き</a:t>
            </a: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8"/>
          <p:cNvSpPr/>
          <p:nvPr/>
        </p:nvSpPr>
        <p:spPr>
          <a:xfrm>
            <a:off x="2214720" y="4071960"/>
            <a:ext cx="6551280" cy="39888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Gill Sans MT"/>
              </a:rPr>
              <a:t>盗品、毒薬、銃刀類　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（犯罪に巻き込まれる。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9"/>
          <p:cNvSpPr/>
          <p:nvPr/>
        </p:nvSpPr>
        <p:spPr>
          <a:xfrm>
            <a:off x="2071800" y="2643120"/>
            <a:ext cx="71280" cy="1714680"/>
          </a:xfrm>
          <a:custGeom>
            <a:avLst/>
            <a:gdLst>
              <a:gd name="textAreaLeft" fmla="*/ 20880 w 71280"/>
              <a:gd name="textAreaRight" fmla="*/ 71640 w 71280"/>
              <a:gd name="textAreaTop" fmla="*/ 82080 h 1714680"/>
              <a:gd name="textAreaBottom" fmla="*/ 1632600 h 1714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036"/>
                  <a:pt x="0" y="2071"/>
                </a:cubicBezTo>
                <a:lnTo>
                  <a:pt x="0" y="19529"/>
                </a:lnTo>
                <a:cubicBezTo>
                  <a:pt x="0" y="20565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Rectangle 10"/>
          <p:cNvGrpSpPr/>
          <p:nvPr/>
        </p:nvGrpSpPr>
        <p:grpSpPr>
          <a:xfrm>
            <a:off x="1957320" y="4668840"/>
            <a:ext cx="6821640" cy="1639800"/>
            <a:chOff x="1957320" y="4668840"/>
            <a:chExt cx="6821640" cy="1639800"/>
          </a:xfrm>
        </p:grpSpPr>
        <p:pic>
          <p:nvPicPr>
            <p:cNvPr id="538" name="Rectangle 10" descr=""/>
            <p:cNvPicPr/>
            <p:nvPr/>
          </p:nvPicPr>
          <p:blipFill>
            <a:blip r:embed="rId1"/>
            <a:stretch/>
          </p:blipFill>
          <p:spPr>
            <a:xfrm>
              <a:off x="1957320" y="4668840"/>
              <a:ext cx="6821640" cy="163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2071800" y="4714920"/>
              <a:ext cx="6643440" cy="15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ＭＳ Ｐゴシック"/>
                </a:rPr>
                <a:t>取り引きすると犯罪になるものに注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ＭＳ Ｐゴシック"/>
                </a:rPr>
                <a:t>詐欺に備え、取り引きの証拠を残す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ＭＳ Ｐゴシック"/>
                </a:rPr>
                <a:t>取り引きと関係ないメールには注意す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ＭＳ Ｐゴシック"/>
                </a:rPr>
                <a:t>犯罪者にメールアドレスやパスワードのヒントを与えない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Text Box 12"/>
          <p:cNvSpPr/>
          <p:nvPr/>
        </p:nvSpPr>
        <p:spPr>
          <a:xfrm>
            <a:off x="5500800" y="1428840"/>
            <a:ext cx="316692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中古品＝古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古物営業法（第５章）も参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4"/>
          <p:cNvSpPr/>
          <p:nvPr/>
        </p:nvSpPr>
        <p:spPr>
          <a:xfrm>
            <a:off x="785880" y="3286080"/>
            <a:ext cx="1224000" cy="45972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中古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6"/>
          <p:cNvSpPr/>
          <p:nvPr/>
        </p:nvSpPr>
        <p:spPr>
          <a:xfrm>
            <a:off x="2214720" y="3571920"/>
            <a:ext cx="6551280" cy="39888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家電、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VD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、本、ゲーム、衣類、食品、チケット・・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フッター プレースホルダ 1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スライド番号プレースホルダ 1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C738-FB71-44FD-9C68-6766966FBFF7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" name="右矢印 15"/>
          <p:cNvGrpSpPr/>
          <p:nvPr/>
        </p:nvGrpSpPr>
        <p:grpSpPr>
          <a:xfrm>
            <a:off x="853920" y="4968720"/>
            <a:ext cx="1140120" cy="1140120"/>
            <a:chOff x="853920" y="4968720"/>
            <a:chExt cx="1140120" cy="1140120"/>
          </a:xfrm>
        </p:grpSpPr>
        <p:pic>
          <p:nvPicPr>
            <p:cNvPr id="546" name="右矢印 15" descr=""/>
            <p:cNvPicPr/>
            <p:nvPr/>
          </p:nvPicPr>
          <p:blipFill>
            <a:blip r:embed="rId2"/>
            <a:stretch/>
          </p:blipFill>
          <p:spPr>
            <a:xfrm>
              <a:off x="853920" y="4968720"/>
              <a:ext cx="1140120" cy="114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"/>
            <p:cNvSpPr/>
            <p:nvPr/>
          </p:nvSpPr>
          <p:spPr>
            <a:xfrm>
              <a:off x="928800" y="5251320"/>
              <a:ext cx="7491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１　不正アクセス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071720" y="3142800"/>
            <a:ext cx="7643520" cy="178596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本人に送信されたメールを盗み見る。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盗用したユーザ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D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を利用して、サーバを破壊する。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そのプロバイダが提供するさまざまなサービスを不正に利用する。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本人になりすまして、詐欺をはたらく。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サーバを踏み台にして、別のサーバを攻撃する。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Rectangle 4"/>
          <p:cNvSpPr/>
          <p:nvPr/>
        </p:nvSpPr>
        <p:spPr>
          <a:xfrm>
            <a:off x="714240" y="1214280"/>
            <a:ext cx="2928960" cy="35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.1.1</a:t>
            </a: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　不正アクセスと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5"/>
          <p:cNvSpPr/>
          <p:nvPr/>
        </p:nvSpPr>
        <p:spPr>
          <a:xfrm>
            <a:off x="571680" y="2714760"/>
            <a:ext cx="3457440" cy="428400"/>
          </a:xfrm>
          <a:prstGeom prst="roundRect">
            <a:avLst>
              <a:gd name="adj" fmla="val 16667"/>
            </a:avLst>
          </a:prstGeom>
          <a:solidFill>
            <a:srgbClr val="b88472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Gill Sans MT"/>
              </a:rPr>
              <a:t>不正アクセスによる被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Text Box 6"/>
          <p:cNvGrpSpPr/>
          <p:nvPr/>
        </p:nvGrpSpPr>
        <p:grpSpPr>
          <a:xfrm>
            <a:off x="480960" y="4913280"/>
            <a:ext cx="3249720" cy="646200"/>
            <a:chOff x="480960" y="4913280"/>
            <a:chExt cx="3249720" cy="646200"/>
          </a:xfrm>
        </p:grpSpPr>
        <p:pic>
          <p:nvPicPr>
            <p:cNvPr id="360" name="Text Box 6" descr=""/>
            <p:cNvPicPr/>
            <p:nvPr/>
          </p:nvPicPr>
          <p:blipFill>
            <a:blip r:embed="rId1"/>
            <a:stretch/>
          </p:blipFill>
          <p:spPr>
            <a:xfrm>
              <a:off x="480960" y="4913280"/>
              <a:ext cx="324972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642960" y="5000760"/>
              <a:ext cx="30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ffff"/>
                  </a:solidFill>
                  <a:latin typeface="Gill Sans MT"/>
                </a:rPr>
                <a:t>不正アクセス禁止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Text Box 7"/>
          <p:cNvGrpSpPr/>
          <p:nvPr/>
        </p:nvGrpSpPr>
        <p:grpSpPr>
          <a:xfrm>
            <a:off x="1225440" y="5430960"/>
            <a:ext cx="6315120" cy="561960"/>
            <a:chOff x="1225440" y="5430960"/>
            <a:chExt cx="6315120" cy="561960"/>
          </a:xfrm>
        </p:grpSpPr>
        <p:pic>
          <p:nvPicPr>
            <p:cNvPr id="363" name="Text Box 7" descr=""/>
            <p:cNvPicPr/>
            <p:nvPr/>
          </p:nvPicPr>
          <p:blipFill>
            <a:blip r:embed="rId2"/>
            <a:stretch/>
          </p:blipFill>
          <p:spPr>
            <a:xfrm>
              <a:off x="1225440" y="5430960"/>
              <a:ext cx="631512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1357200" y="5500800"/>
              <a:ext cx="612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他人のアカウントによるアクセスはすべて犯罪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Text Box 8"/>
          <p:cNvGrpSpPr/>
          <p:nvPr/>
        </p:nvGrpSpPr>
        <p:grpSpPr>
          <a:xfrm>
            <a:off x="1225440" y="5877000"/>
            <a:ext cx="6321600" cy="560160"/>
            <a:chOff x="1225440" y="5877000"/>
            <a:chExt cx="6321600" cy="560160"/>
          </a:xfrm>
        </p:grpSpPr>
        <p:pic>
          <p:nvPicPr>
            <p:cNvPr id="366" name="Text Box 8" descr=""/>
            <p:cNvPicPr/>
            <p:nvPr/>
          </p:nvPicPr>
          <p:blipFill>
            <a:blip r:embed="rId3"/>
            <a:stretch/>
          </p:blipFill>
          <p:spPr>
            <a:xfrm>
              <a:off x="1225440" y="5877000"/>
              <a:ext cx="632160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1357200" y="5929200"/>
              <a:ext cx="612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いたずら目的でも処罰対象にな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AutoShape 10"/>
          <p:cNvSpPr/>
          <p:nvPr/>
        </p:nvSpPr>
        <p:spPr>
          <a:xfrm>
            <a:off x="1214280" y="5500800"/>
            <a:ext cx="71640" cy="863640"/>
          </a:xfrm>
          <a:custGeom>
            <a:avLst/>
            <a:gdLst>
              <a:gd name="textAreaLeft" fmla="*/ 20880 w 71640"/>
              <a:gd name="textAreaRight" fmla="*/ 72000 w 71640"/>
              <a:gd name="textAreaTop" fmla="*/ 38880 h 863640"/>
              <a:gd name="textAreaBottom" fmla="*/ 82476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75"/>
                  <a:pt x="0" y="1949"/>
                </a:cubicBezTo>
                <a:lnTo>
                  <a:pt x="0" y="19651"/>
                </a:lnTo>
                <a:cubicBezTo>
                  <a:pt x="0" y="20626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テキスト ボックス 9"/>
          <p:cNvSpPr/>
          <p:nvPr/>
        </p:nvSpPr>
        <p:spPr>
          <a:xfrm>
            <a:off x="1285920" y="2000160"/>
            <a:ext cx="685800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なりすまし：盗用などで知った他人のアカウントでアクセスする。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助長行為：正規のユーザに無断で、アカウントを提供す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フッター プレースホルダ 10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スライド番号プレースホルダ 1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B3A67-A92A-4DEE-B209-C2905BD1CC8E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テキスト ボックス 12"/>
          <p:cNvSpPr/>
          <p:nvPr/>
        </p:nvSpPr>
        <p:spPr>
          <a:xfrm>
            <a:off x="1285920" y="157176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本来アクセス権のないコンピュータへのアクセ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llegal Acc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1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アカウント盗用の防止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28440" y="1356840"/>
            <a:ext cx="7000920" cy="785880"/>
          </a:xfrm>
          <a:prstGeom prst="rect">
            <a:avLst/>
          </a:prstGeom>
          <a:solidFill>
            <a:srgbClr val="d2da7a"/>
          </a:solidFill>
          <a:ln w="19080">
            <a:solidFill>
              <a:srgbClr val="9aa05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Gill Sans MT"/>
              </a:rPr>
              <a:t>アカウントはユーザー自身が厳重に管理を！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Gill Sans MT"/>
              </a:rPr>
              <a:t>１人の不注意から他人（システム全体）も危険に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Text Box 4"/>
          <p:cNvSpPr/>
          <p:nvPr/>
        </p:nvSpPr>
        <p:spPr>
          <a:xfrm>
            <a:off x="5715000" y="2357280"/>
            <a:ext cx="309708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各運用団体での禁止行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Text Box 5"/>
          <p:cNvGrpSpPr/>
          <p:nvPr/>
        </p:nvGrpSpPr>
        <p:grpSpPr>
          <a:xfrm>
            <a:off x="55440" y="2359080"/>
            <a:ext cx="4980240" cy="633240"/>
            <a:chOff x="55440" y="2359080"/>
            <a:chExt cx="4980240" cy="633240"/>
          </a:xfrm>
        </p:grpSpPr>
        <p:pic>
          <p:nvPicPr>
            <p:cNvPr id="377" name="Text Box 5" descr=""/>
            <p:cNvPicPr/>
            <p:nvPr/>
          </p:nvPicPr>
          <p:blipFill>
            <a:blip r:embed="rId1"/>
            <a:stretch/>
          </p:blipFill>
          <p:spPr>
            <a:xfrm>
              <a:off x="55440" y="2359080"/>
              <a:ext cx="498024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214200" y="2428920"/>
              <a:ext cx="475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ＭＳ Ｐゴシック"/>
                </a:rPr>
                <a:t>ID</a:t>
              </a:r>
              <a:r>
                <a:rPr b="0" lang="ja-JP" sz="2000" spc="-1" strike="noStrike">
                  <a:solidFill>
                    <a:srgbClr val="ffffff"/>
                  </a:solidFill>
                  <a:latin typeface="ＭＳ Ｐゴシック"/>
                </a:rPr>
                <a:t>・</a:t>
              </a: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パスワードなどを故意に漏らす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Text Box 6"/>
          <p:cNvGrpSpPr/>
          <p:nvPr/>
        </p:nvGrpSpPr>
        <p:grpSpPr>
          <a:xfrm>
            <a:off x="55440" y="2925720"/>
            <a:ext cx="4980240" cy="646200"/>
            <a:chOff x="55440" y="2925720"/>
            <a:chExt cx="4980240" cy="646200"/>
          </a:xfrm>
        </p:grpSpPr>
        <p:pic>
          <p:nvPicPr>
            <p:cNvPr id="380" name="Text Box 6" descr=""/>
            <p:cNvPicPr/>
            <p:nvPr/>
          </p:nvPicPr>
          <p:blipFill>
            <a:blip r:embed="rId2"/>
            <a:stretch/>
          </p:blipFill>
          <p:spPr>
            <a:xfrm>
              <a:off x="55440" y="2925720"/>
              <a:ext cx="49802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214200" y="3000240"/>
              <a:ext cx="475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アカウントを本人に無断で貸し出す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AutoShape 7"/>
          <p:cNvSpPr/>
          <p:nvPr/>
        </p:nvSpPr>
        <p:spPr>
          <a:xfrm>
            <a:off x="5000760" y="2714760"/>
            <a:ext cx="574560" cy="431640"/>
          </a:xfrm>
          <a:custGeom>
            <a:avLst/>
            <a:gdLst>
              <a:gd name="textAreaLeft" fmla="*/ 0 w 574560"/>
              <a:gd name="textAreaRight" fmla="*/ 574920 w 57456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Text Box 8"/>
          <p:cNvGrpSpPr/>
          <p:nvPr/>
        </p:nvGrpSpPr>
        <p:grpSpPr>
          <a:xfrm>
            <a:off x="55440" y="3481560"/>
            <a:ext cx="5052960" cy="1004760"/>
            <a:chOff x="55440" y="3481560"/>
            <a:chExt cx="5052960" cy="1004760"/>
          </a:xfrm>
        </p:grpSpPr>
        <p:pic>
          <p:nvPicPr>
            <p:cNvPr id="384" name="Text Box 8" descr=""/>
            <p:cNvPicPr/>
            <p:nvPr/>
          </p:nvPicPr>
          <p:blipFill>
            <a:blip r:embed="rId3"/>
            <a:stretch/>
          </p:blipFill>
          <p:spPr>
            <a:xfrm>
              <a:off x="55440" y="3481560"/>
              <a:ext cx="505296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214200" y="3571920"/>
              <a:ext cx="475308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管理者を装いパスワードを聞き出す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（ソーシャルエンジニアリング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AutoShape 9"/>
          <p:cNvSpPr/>
          <p:nvPr/>
        </p:nvSpPr>
        <p:spPr>
          <a:xfrm>
            <a:off x="5000760" y="3714840"/>
            <a:ext cx="574560" cy="431640"/>
          </a:xfrm>
          <a:custGeom>
            <a:avLst/>
            <a:gdLst>
              <a:gd name="textAreaLeft" fmla="*/ 0 w 574560"/>
              <a:gd name="textAreaRight" fmla="*/ 574920 w 57456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5715000" y="3571920"/>
            <a:ext cx="309708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一切応じず、プロバイダに届け出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Rectangle 13"/>
          <p:cNvGrpSpPr/>
          <p:nvPr/>
        </p:nvGrpSpPr>
        <p:grpSpPr>
          <a:xfrm>
            <a:off x="2560680" y="4784760"/>
            <a:ext cx="6364080" cy="1414440"/>
            <a:chOff x="2560680" y="4784760"/>
            <a:chExt cx="6364080" cy="1414440"/>
          </a:xfrm>
        </p:grpSpPr>
        <p:pic>
          <p:nvPicPr>
            <p:cNvPr id="389" name="Rectangle 13" descr=""/>
            <p:cNvPicPr/>
            <p:nvPr/>
          </p:nvPicPr>
          <p:blipFill>
            <a:blip r:embed="rId4"/>
            <a:stretch/>
          </p:blipFill>
          <p:spPr>
            <a:xfrm>
              <a:off x="2560680" y="4784760"/>
              <a:ext cx="636408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2643120" y="4857840"/>
              <a:ext cx="6193080" cy="12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dde9ec"/>
                </a:buClr>
                <a:buSzPct val="75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大文字と小文字に数字や記号を混ぜた長い文字列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dde9ec"/>
                </a:buClr>
                <a:buSzPct val="75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単語、地名、人名などをそのまま単独で使わない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dde9ec"/>
                </a:buClr>
                <a:buSzPct val="75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個人情報（誕生日など）と無関係なものにす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AutoShape 14"/>
          <p:cNvSpPr/>
          <p:nvPr/>
        </p:nvSpPr>
        <p:spPr>
          <a:xfrm>
            <a:off x="428760" y="4857840"/>
            <a:ext cx="2160360" cy="1224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推測されにく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パスワードを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フッター プレースホルダ 1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スライド番号プレースホルダ 1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D30E8-ACEB-4295-AAAE-06127217E1FE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　個人情報の漏洩（ろうえい）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395" name="Rectangle 3"/>
          <p:cNvGrpSpPr/>
          <p:nvPr/>
        </p:nvGrpSpPr>
        <p:grpSpPr>
          <a:xfrm>
            <a:off x="2670120" y="4552920"/>
            <a:ext cx="3633840" cy="1182600"/>
            <a:chOff x="2670120" y="4552920"/>
            <a:chExt cx="3633840" cy="1182600"/>
          </a:xfrm>
        </p:grpSpPr>
        <p:pic>
          <p:nvPicPr>
            <p:cNvPr id="396" name="Rectangle 3" descr=""/>
            <p:cNvPicPr/>
            <p:nvPr/>
          </p:nvPicPr>
          <p:blipFill>
            <a:blip r:embed="rId1"/>
            <a:stretch/>
          </p:blipFill>
          <p:spPr>
            <a:xfrm>
              <a:off x="2670120" y="4552920"/>
              <a:ext cx="363384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2786040" y="4643280"/>
              <a:ext cx="3457440" cy="100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Wingdings 3" charset="2"/>
                <a:buChar char="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600" spc="-1" strike="noStrike">
                  <a:solidFill>
                    <a:srgbClr val="ffffff"/>
                  </a:solidFill>
                  <a:latin typeface="Gill Sans MT"/>
                </a:rPr>
                <a:t>不正な情報流出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Wingdings 3" charset="2"/>
                <a:buChar char="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600" spc="-1" strike="noStrike">
                  <a:solidFill>
                    <a:srgbClr val="ffffff"/>
                  </a:solidFill>
                  <a:latin typeface="Gill Sans MT"/>
                </a:rPr>
                <a:t>不正な情報収集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Rectangle 4"/>
          <p:cNvGrpSpPr/>
          <p:nvPr/>
        </p:nvGrpSpPr>
        <p:grpSpPr>
          <a:xfrm>
            <a:off x="1133640" y="1530360"/>
            <a:ext cx="6887880" cy="1859040"/>
            <a:chOff x="1133640" y="1530360"/>
            <a:chExt cx="6887880" cy="1859040"/>
          </a:xfrm>
        </p:grpSpPr>
        <p:pic>
          <p:nvPicPr>
            <p:cNvPr id="399" name="Rectangle 4" descr=""/>
            <p:cNvPicPr/>
            <p:nvPr/>
          </p:nvPicPr>
          <p:blipFill>
            <a:blip r:embed="rId2"/>
            <a:stretch/>
          </p:blipFill>
          <p:spPr>
            <a:xfrm>
              <a:off x="1133640" y="1530360"/>
              <a:ext cx="688788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1357200" y="1571760"/>
              <a:ext cx="6337440" cy="172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ffffff"/>
                  </a:solidFill>
                  <a:latin typeface="Gill Sans MT"/>
                </a:rPr>
                <a:t>ネット上で個人情報を入力する機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　・カード番号やパスワード    ： 電子商取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　・メールや住所等の連絡先  ： 懸賞、アンケー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AutoShape 5"/>
          <p:cNvSpPr/>
          <p:nvPr/>
        </p:nvSpPr>
        <p:spPr>
          <a:xfrm>
            <a:off x="3571920" y="3643200"/>
            <a:ext cx="1800360" cy="6476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フッター プレースホルダ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スライド番号プレースホルダ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3BF08-DAA6-4608-A5E1-40AA39FD0D70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2.1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不正な情報流出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000760" y="1714680"/>
            <a:ext cx="3528720" cy="107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プライバシーが侵害される。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流出した情報を悪用される。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社会的信用が失墜する。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AutoShape 4"/>
          <p:cNvSpPr/>
          <p:nvPr/>
        </p:nvSpPr>
        <p:spPr>
          <a:xfrm>
            <a:off x="357120" y="1571760"/>
            <a:ext cx="439272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個人情報を収集した側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管理責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6"/>
          <p:cNvSpPr/>
          <p:nvPr/>
        </p:nvSpPr>
        <p:spPr>
          <a:xfrm>
            <a:off x="7143840" y="714240"/>
            <a:ext cx="1730160" cy="928800"/>
          </a:xfrm>
          <a:prstGeom prst="irregularSeal1">
            <a:avLst/>
          </a:prstGeom>
          <a:solidFill>
            <a:srgbClr val="8e736a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Gill Sans MT"/>
              </a:rPr>
              <a:t>流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7"/>
          <p:cNvSpPr/>
          <p:nvPr/>
        </p:nvSpPr>
        <p:spPr>
          <a:xfrm>
            <a:off x="428760" y="3214800"/>
            <a:ext cx="4103640" cy="1368360"/>
          </a:xfrm>
          <a:prstGeom prst="rect">
            <a:avLst/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（１）内部の人間が機密情報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不正に持ち出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8"/>
          <p:cNvSpPr/>
          <p:nvPr/>
        </p:nvSpPr>
        <p:spPr>
          <a:xfrm>
            <a:off x="4786200" y="3214800"/>
            <a:ext cx="4032360" cy="1368360"/>
          </a:xfrm>
          <a:prstGeom prst="rect">
            <a:avLst/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（２）部外者に情報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盗難さ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Rectangle 9"/>
          <p:cNvGrpSpPr/>
          <p:nvPr/>
        </p:nvGrpSpPr>
        <p:grpSpPr>
          <a:xfrm>
            <a:off x="360360" y="5218200"/>
            <a:ext cx="4303800" cy="1170000"/>
            <a:chOff x="360360" y="5218200"/>
            <a:chExt cx="4303800" cy="1170000"/>
          </a:xfrm>
        </p:grpSpPr>
        <p:pic>
          <p:nvPicPr>
            <p:cNvPr id="411" name="Rectangle 9" descr=""/>
            <p:cNvPicPr/>
            <p:nvPr/>
          </p:nvPicPr>
          <p:blipFill>
            <a:blip r:embed="rId1"/>
            <a:stretch/>
          </p:blipFill>
          <p:spPr>
            <a:xfrm>
              <a:off x="360360" y="5218200"/>
              <a:ext cx="43038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428760" y="5286240"/>
              <a:ext cx="4176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ffffff"/>
                  </a:solidFill>
                  <a:latin typeface="Gill Sans MT"/>
                </a:rPr>
                <a:t>機密情報に関し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ffffff"/>
                  </a:solidFill>
                  <a:latin typeface="Gill Sans MT"/>
                </a:rPr>
                <a:t>組織内のルール策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Rectangle 11"/>
          <p:cNvGrpSpPr/>
          <p:nvPr/>
        </p:nvGrpSpPr>
        <p:grpSpPr>
          <a:xfrm>
            <a:off x="4718160" y="5218200"/>
            <a:ext cx="4236840" cy="1170000"/>
            <a:chOff x="4718160" y="5218200"/>
            <a:chExt cx="4236840" cy="1170000"/>
          </a:xfrm>
        </p:grpSpPr>
        <p:pic>
          <p:nvPicPr>
            <p:cNvPr id="414" name="Rectangle 11" descr=""/>
            <p:cNvPicPr/>
            <p:nvPr/>
          </p:nvPicPr>
          <p:blipFill>
            <a:blip r:embed="rId2"/>
            <a:stretch/>
          </p:blipFill>
          <p:spPr>
            <a:xfrm>
              <a:off x="4718160" y="5218200"/>
              <a:ext cx="423684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4786200" y="5286240"/>
              <a:ext cx="4105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ffffff"/>
                  </a:solidFill>
                  <a:latin typeface="Gill Sans MT"/>
                </a:rPr>
                <a:t>パスワードやＰＣ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ffffff"/>
                  </a:solidFill>
                  <a:latin typeface="Gill Sans MT"/>
                </a:rPr>
                <a:t>盗難に注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AutoShape 12"/>
          <p:cNvSpPr/>
          <p:nvPr/>
        </p:nvSpPr>
        <p:spPr>
          <a:xfrm>
            <a:off x="1714680" y="4714920"/>
            <a:ext cx="1800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ada7a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13"/>
          <p:cNvSpPr/>
          <p:nvPr/>
        </p:nvSpPr>
        <p:spPr>
          <a:xfrm>
            <a:off x="5929200" y="4714920"/>
            <a:ext cx="180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ada7a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フッター プレースホルダ 1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スライド番号プレースホルダ 1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A2753-FFDA-4120-A4E4-716D8087832F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2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不正な情報収集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AutoShape 4"/>
          <p:cNvSpPr/>
          <p:nvPr/>
        </p:nvSpPr>
        <p:spPr>
          <a:xfrm>
            <a:off x="428760" y="1285920"/>
            <a:ext cx="2420640" cy="571320"/>
          </a:xfrm>
          <a:prstGeom prst="parallelogram">
            <a:avLst>
              <a:gd name="adj" fmla="val 14672"/>
            </a:avLst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Gill Sans MT"/>
              </a:rPr>
              <a:t>フィッシン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9" descr="MCj02872830000[1]"/>
          <p:cNvPicPr/>
          <p:nvPr/>
        </p:nvPicPr>
        <p:blipFill>
          <a:blip r:embed="rId1"/>
          <a:stretch/>
        </p:blipFill>
        <p:spPr>
          <a:xfrm>
            <a:off x="7236000" y="1484280"/>
            <a:ext cx="1296720" cy="1068480"/>
          </a:xfrm>
          <a:prstGeom prst="rect">
            <a:avLst/>
          </a:prstGeom>
          <a:ln w="0">
            <a:noFill/>
          </a:ln>
        </p:spPr>
      </p:pic>
      <p:sp>
        <p:nvSpPr>
          <p:cNvPr id="423" name="Line 11"/>
          <p:cNvSpPr/>
          <p:nvPr/>
        </p:nvSpPr>
        <p:spPr>
          <a:xfrm flipV="1">
            <a:off x="3500280" y="3286080"/>
            <a:ext cx="928800" cy="1000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2"/>
          <p:cNvSpPr/>
          <p:nvPr/>
        </p:nvSpPr>
        <p:spPr>
          <a:xfrm>
            <a:off x="1428840" y="36432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偽装メール（餌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5"/>
          <p:cNvSpPr/>
          <p:nvPr/>
        </p:nvSpPr>
        <p:spPr>
          <a:xfrm flipV="1">
            <a:off x="5867280" y="2276640"/>
            <a:ext cx="1297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6"/>
          <p:cNvSpPr/>
          <p:nvPr/>
        </p:nvSpPr>
        <p:spPr>
          <a:xfrm>
            <a:off x="5867280" y="2997360"/>
            <a:ext cx="1081080" cy="79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7"/>
          <p:cNvSpPr/>
          <p:nvPr/>
        </p:nvSpPr>
        <p:spPr>
          <a:xfrm>
            <a:off x="7488360" y="263700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本サイ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9"/>
          <p:cNvSpPr/>
          <p:nvPr/>
        </p:nvSpPr>
        <p:spPr>
          <a:xfrm>
            <a:off x="6948360" y="3500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偽装サイ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0" descr="MCj02320470000[1]"/>
          <p:cNvPicPr/>
          <p:nvPr/>
        </p:nvPicPr>
        <p:blipFill>
          <a:blip r:embed="rId2"/>
          <a:stretch/>
        </p:blipFill>
        <p:spPr>
          <a:xfrm>
            <a:off x="4433760" y="2071800"/>
            <a:ext cx="1656000" cy="1282680"/>
          </a:xfrm>
          <a:prstGeom prst="rect">
            <a:avLst/>
          </a:prstGeom>
          <a:ln w="0">
            <a:noFill/>
          </a:ln>
        </p:spPr>
      </p:pic>
      <p:sp>
        <p:nvSpPr>
          <p:cNvPr id="430" name="Line 21"/>
          <p:cNvSpPr/>
          <p:nvPr/>
        </p:nvSpPr>
        <p:spPr>
          <a:xfrm flipH="1">
            <a:off x="6300360" y="2492280"/>
            <a:ext cx="360360" cy="432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22"/>
          <p:cNvSpPr/>
          <p:nvPr/>
        </p:nvSpPr>
        <p:spPr>
          <a:xfrm>
            <a:off x="6300720" y="2492280"/>
            <a:ext cx="358920" cy="360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23"/>
          <p:cNvSpPr/>
          <p:nvPr/>
        </p:nvSpPr>
        <p:spPr>
          <a:xfrm>
            <a:off x="4932360" y="335772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クリッ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Text Box 24"/>
          <p:cNvGrpSpPr/>
          <p:nvPr/>
        </p:nvGrpSpPr>
        <p:grpSpPr>
          <a:xfrm>
            <a:off x="3584520" y="4286160"/>
            <a:ext cx="3144960" cy="876240"/>
            <a:chOff x="3584520" y="4286160"/>
            <a:chExt cx="3144960" cy="876240"/>
          </a:xfrm>
        </p:grpSpPr>
        <p:pic>
          <p:nvPicPr>
            <p:cNvPr id="434" name="Text Box 24" descr=""/>
            <p:cNvPicPr/>
            <p:nvPr/>
          </p:nvPicPr>
          <p:blipFill>
            <a:blip r:embed="rId3"/>
            <a:stretch/>
          </p:blipFill>
          <p:spPr>
            <a:xfrm>
              <a:off x="3584520" y="4286160"/>
              <a:ext cx="3144960" cy="87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>
              <a:off x="3714840" y="4357800"/>
              <a:ext cx="295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ffffff"/>
                  </a:solidFill>
                  <a:latin typeface="Gill Sans MT"/>
                </a:rPr>
                <a:t>アンケートフォームなどで個人情報を釣り上げ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6" name="Picture 14" descr="MCBD06551_0000[1]"/>
          <p:cNvPicPr/>
          <p:nvPr/>
        </p:nvPicPr>
        <p:blipFill>
          <a:blip r:embed="rId4"/>
          <a:stretch/>
        </p:blipFill>
        <p:spPr>
          <a:xfrm>
            <a:off x="6732720" y="3933720"/>
            <a:ext cx="2089080" cy="1708200"/>
          </a:xfrm>
          <a:prstGeom prst="rect">
            <a:avLst/>
          </a:prstGeom>
          <a:ln w="0">
            <a:noFill/>
          </a:ln>
        </p:spPr>
      </p:pic>
      <p:sp>
        <p:nvSpPr>
          <p:cNvPr id="437" name="Text Box 25"/>
          <p:cNvSpPr/>
          <p:nvPr/>
        </p:nvSpPr>
        <p:spPr>
          <a:xfrm>
            <a:off x="1643040" y="5715000"/>
            <a:ext cx="612000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本サイトと偽装サイトの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URL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をチェックする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フッター プレースホルダ 18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スライド番号プレースホルダ 19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41782-FC01-4A96-A5E4-C23C37769606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6-2"/>
          <p:cNvPicPr/>
          <p:nvPr/>
        </p:nvPicPr>
        <p:blipFill>
          <a:blip r:embed="rId5"/>
          <a:stretch/>
        </p:blipFill>
        <p:spPr>
          <a:xfrm>
            <a:off x="428760" y="1949400"/>
            <a:ext cx="2286000" cy="147492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8" descr="MCj03429990000[1]"/>
          <p:cNvPicPr/>
          <p:nvPr/>
        </p:nvPicPr>
        <p:blipFill>
          <a:blip r:embed="rId6"/>
          <a:stretch/>
        </p:blipFill>
        <p:spPr>
          <a:xfrm>
            <a:off x="1785960" y="4143240"/>
            <a:ext cx="1800360" cy="1252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53"/>
                </a:solidFill>
                <a:latin typeface="Bookman Old Style"/>
              </a:rPr>
              <a:t>2.2.3</a:t>
            </a:r>
            <a:r>
              <a:rPr b="0" lang="ja-JP" sz="3600" spc="-1" strike="noStrike">
                <a:solidFill>
                  <a:srgbClr val="464653"/>
                </a:solidFill>
                <a:latin typeface="Bookman Old Style"/>
              </a:rPr>
              <a:t>　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クロスサイト・スクリプティング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43" name="Picture 5" descr="MCj02320470000[1]"/>
          <p:cNvPicPr/>
          <p:nvPr/>
        </p:nvPicPr>
        <p:blipFill>
          <a:blip r:embed="rId1"/>
          <a:stretch/>
        </p:blipFill>
        <p:spPr>
          <a:xfrm>
            <a:off x="1071720" y="1714680"/>
            <a:ext cx="1949400" cy="150948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6" descr="MCBD06551_0000[1]"/>
          <p:cNvPicPr/>
          <p:nvPr/>
        </p:nvPicPr>
        <p:blipFill>
          <a:blip r:embed="rId2"/>
          <a:stretch/>
        </p:blipFill>
        <p:spPr>
          <a:xfrm>
            <a:off x="5940360" y="2205000"/>
            <a:ext cx="2089080" cy="170820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7" descr="MCj02872830000[1]"/>
          <p:cNvPicPr/>
          <p:nvPr/>
        </p:nvPicPr>
        <p:blipFill>
          <a:blip r:embed="rId3"/>
          <a:stretch/>
        </p:blipFill>
        <p:spPr>
          <a:xfrm>
            <a:off x="3995640" y="3141720"/>
            <a:ext cx="1297080" cy="1068480"/>
          </a:xfrm>
          <a:prstGeom prst="rect">
            <a:avLst/>
          </a:prstGeom>
          <a:ln w="0">
            <a:noFill/>
          </a:ln>
        </p:spPr>
      </p:pic>
      <p:sp>
        <p:nvSpPr>
          <p:cNvPr id="446" name="Line 8"/>
          <p:cNvSpPr/>
          <p:nvPr/>
        </p:nvSpPr>
        <p:spPr>
          <a:xfrm>
            <a:off x="2987640" y="2997360"/>
            <a:ext cx="1008000" cy="431640"/>
          </a:xfrm>
          <a:prstGeom prst="line">
            <a:avLst/>
          </a:prstGeom>
          <a:ln w="57240">
            <a:solidFill>
              <a:srgbClr val="4646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0"/>
          <p:cNvSpPr/>
          <p:nvPr/>
        </p:nvSpPr>
        <p:spPr>
          <a:xfrm flipV="1">
            <a:off x="4859280" y="3141720"/>
            <a:ext cx="100800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1"/>
          <p:cNvSpPr/>
          <p:nvPr/>
        </p:nvSpPr>
        <p:spPr>
          <a:xfrm flipV="1">
            <a:off x="2843280" y="3860280"/>
            <a:ext cx="115236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2"/>
          <p:cNvSpPr/>
          <p:nvPr/>
        </p:nvSpPr>
        <p:spPr>
          <a:xfrm>
            <a:off x="2928960" y="4572000"/>
            <a:ext cx="2665440" cy="39888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Gill Sans MT"/>
              </a:rPr>
              <a:t>ページ内容の書き換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Text Box 13"/>
          <p:cNvGrpSpPr/>
          <p:nvPr/>
        </p:nvGrpSpPr>
        <p:grpSpPr>
          <a:xfrm>
            <a:off x="4986360" y="3790800"/>
            <a:ext cx="2603520" cy="648000"/>
            <a:chOff x="4986360" y="3790800"/>
            <a:chExt cx="2603520" cy="648000"/>
          </a:xfrm>
        </p:grpSpPr>
        <p:pic>
          <p:nvPicPr>
            <p:cNvPr id="451" name="Text Box 13" descr=""/>
            <p:cNvPicPr/>
            <p:nvPr/>
          </p:nvPicPr>
          <p:blipFill>
            <a:blip r:embed="rId4"/>
            <a:stretch/>
          </p:blipFill>
          <p:spPr>
            <a:xfrm>
              <a:off x="4986360" y="3790800"/>
              <a:ext cx="2603520" cy="6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"/>
            <p:cNvSpPr/>
            <p:nvPr/>
          </p:nvSpPr>
          <p:spPr>
            <a:xfrm>
              <a:off x="5148360" y="3860640"/>
              <a:ext cx="237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別サイトへ誘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Text Box 14"/>
          <p:cNvSpPr/>
          <p:nvPr/>
        </p:nvSpPr>
        <p:spPr>
          <a:xfrm>
            <a:off x="3132000" y="2421000"/>
            <a:ext cx="1366920" cy="459720"/>
          </a:xfrm>
          <a:prstGeom prst="rect">
            <a:avLst/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アクセ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5"/>
          <p:cNvSpPr/>
          <p:nvPr/>
        </p:nvSpPr>
        <p:spPr>
          <a:xfrm>
            <a:off x="1500120" y="5214960"/>
            <a:ext cx="612000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ブラウザでスクリプトの実行を許可すると危険がともな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okie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の情報を持ち出されないように削除してお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フッター プレースホルダ 1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4" descr="MCj03429990000[1]"/>
          <p:cNvPicPr/>
          <p:nvPr/>
        </p:nvPicPr>
        <p:blipFill>
          <a:blip r:embed="rId5"/>
          <a:stretch/>
        </p:blipFill>
        <p:spPr>
          <a:xfrm>
            <a:off x="1071720" y="3643200"/>
            <a:ext cx="1800000" cy="1252800"/>
          </a:xfrm>
          <a:prstGeom prst="rect">
            <a:avLst/>
          </a:prstGeom>
          <a:ln w="0">
            <a:noFill/>
          </a:ln>
        </p:spPr>
      </p:pic>
      <p:sp>
        <p:nvSpPr>
          <p:cNvPr id="457" name="スライド番号プレースホルダ 1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11F08-1671-4528-B47C-CD782B95B3CC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AutoShape 15"/>
          <p:cNvSpPr/>
          <p:nvPr/>
        </p:nvSpPr>
        <p:spPr>
          <a:xfrm>
            <a:off x="1785960" y="3571920"/>
            <a:ext cx="5904000" cy="1295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e7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３　出会い系サイト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0" name="Text Box 4"/>
          <p:cNvSpPr/>
          <p:nvPr/>
        </p:nvSpPr>
        <p:spPr>
          <a:xfrm>
            <a:off x="928800" y="1428840"/>
            <a:ext cx="2714400" cy="82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新しい友人を作るためのサイ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"/>
          <p:cNvSpPr/>
          <p:nvPr/>
        </p:nvSpPr>
        <p:spPr>
          <a:xfrm>
            <a:off x="928800" y="2571840"/>
            <a:ext cx="2665440" cy="825480"/>
          </a:xfrm>
          <a:prstGeom prst="rect">
            <a:avLst/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金銭目的の少女と大人が児童買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7"/>
          <p:cNvSpPr/>
          <p:nvPr/>
        </p:nvSpPr>
        <p:spPr>
          <a:xfrm>
            <a:off x="4857840" y="1428840"/>
            <a:ext cx="3384360" cy="82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アクセスのほぼ１００％が携帯電話か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8"/>
          <p:cNvSpPr/>
          <p:nvPr/>
        </p:nvSpPr>
        <p:spPr>
          <a:xfrm>
            <a:off x="4857840" y="2571840"/>
            <a:ext cx="3384360" cy="459720"/>
          </a:xfrm>
          <a:prstGeom prst="rect">
            <a:avLst/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携帯電話の番号通知で本人を認証させ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9"/>
          <p:cNvSpPr/>
          <p:nvPr/>
        </p:nvSpPr>
        <p:spPr>
          <a:xfrm>
            <a:off x="2214720" y="371484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男性の被害：金品を強奪さ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0"/>
          <p:cNvSpPr/>
          <p:nvPr/>
        </p:nvSpPr>
        <p:spPr>
          <a:xfrm>
            <a:off x="1928880" y="428616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女性の被害：</a:t>
            </a: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18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歳未満の少女が児童買春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11"/>
          <p:cNvSpPr/>
          <p:nvPr/>
        </p:nvSpPr>
        <p:spPr>
          <a:xfrm>
            <a:off x="2214720" y="2286000"/>
            <a:ext cx="0" cy="287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12"/>
          <p:cNvSpPr/>
          <p:nvPr/>
        </p:nvSpPr>
        <p:spPr>
          <a:xfrm>
            <a:off x="6429240" y="2286000"/>
            <a:ext cx="0" cy="287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3"/>
          <p:cNvSpPr/>
          <p:nvPr/>
        </p:nvSpPr>
        <p:spPr>
          <a:xfrm>
            <a:off x="357120" y="5072040"/>
            <a:ext cx="3960720" cy="1008000"/>
          </a:xfrm>
          <a:prstGeom prst="rect">
            <a:avLst/>
          </a:prstGeom>
          <a:solidFill>
            <a:srgbClr val="fada7a"/>
          </a:solidFill>
          <a:ln w="19080">
            <a:solidFill>
              <a:srgbClr val="b8a0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知り合って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軽い気持ちで会わない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4"/>
          <p:cNvSpPr/>
          <p:nvPr/>
        </p:nvSpPr>
        <p:spPr>
          <a:xfrm>
            <a:off x="4714920" y="5072040"/>
            <a:ext cx="3887640" cy="1008000"/>
          </a:xfrm>
          <a:prstGeom prst="rect">
            <a:avLst/>
          </a:prstGeom>
          <a:solidFill>
            <a:srgbClr val="fada7a"/>
          </a:solidFill>
          <a:ln w="19080">
            <a:solidFill>
              <a:srgbClr val="b8a0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犯罪の温床とならないよ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慎重かつ分別ある行動を！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フッター プレースホルダ 1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スライド番号プレースホルダ 1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E62E2-FCCF-4F45-854D-748628B251E4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3.1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出会い系サイトに関係した事件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3" name="フッター プレースホルダ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357120" y="1285920"/>
          <a:ext cx="8429760" cy="2293920"/>
        </p:xfrm>
        <a:graphic>
          <a:graphicData uri="http://schemas.openxmlformats.org/drawingml/2006/table">
            <a:tbl>
              <a:tblPr/>
              <a:tblGrid>
                <a:gridCol w="3470400"/>
                <a:gridCol w="995400"/>
                <a:gridCol w="992160"/>
                <a:gridCol w="992160"/>
                <a:gridCol w="992160"/>
                <a:gridCol w="987480"/>
              </a:tblGrid>
              <a:tr h="285480"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検挙内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2004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2005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2006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2007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2008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児童買春・児童ポルノ規制法違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7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7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8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7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6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青少年保護育成条例違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3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4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5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4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3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児童福祉法違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出会い系サイト規制法違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3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848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重要犯罪（殺人・強盗・放火・他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48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粗暴犯（暴行・傷害・脅迫・他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08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その他（窃盗・詐欺・その他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2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2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合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,5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,5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,9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,7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,7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5" name="テキスト ボックス 4"/>
          <p:cNvSpPr/>
          <p:nvPr/>
        </p:nvSpPr>
        <p:spPr>
          <a:xfrm>
            <a:off x="500040" y="4071960"/>
            <a:ext cx="8143920" cy="180108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児童買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出会い系サイトを連絡掲示板として使った違法行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児童の側が金銭目当てに買春を誘う不正誘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児童ポル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児童を携帯電話で撮影し、わいせつ画像をインターネット上に掲載、販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写真をばらまくと脅迫され、お金を恐喝されるケース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爆発 2 5"/>
          <p:cNvSpPr/>
          <p:nvPr/>
        </p:nvSpPr>
        <p:spPr>
          <a:xfrm>
            <a:off x="6357960" y="3643200"/>
            <a:ext cx="2500200" cy="1428840"/>
          </a:xfrm>
          <a:prstGeom prst="irregularSeal2">
            <a:avLst/>
          </a:prstGeom>
          <a:solidFill>
            <a:srgbClr val="b88472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最も顕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スライド番号プレースホルダ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89E79-E16F-4EE5-8246-D49D43FD035C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30T04:13:02Z</dcterms:created>
  <dc:creator>T.Yamazumi</dc:creator>
  <dc:description/>
  <dc:language>en-US</dc:language>
  <cp:lastModifiedBy>T.Yamazumi</cp:lastModifiedBy>
  <dcterms:modified xsi:type="dcterms:W3CDTF">2009-11-02T05:03:30Z</dcterms:modified>
  <cp:revision>111</cp:revision>
  <dc:subject/>
  <dc:title>ネットワーク社会の情報倫理</dc:title>
</cp:coreProperties>
</file>