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4F58-94A9-4186-987C-9797108E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6F8-0EAD-41AC-B486-52957A19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B79-E7AE-4CB6-A596-59E18DE4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9D3-0C4A-4606-B3F1-757182A9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14E-45F1-4F78-B284-0C9E315D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47A9-FDFD-44B7-90B0-045F1EBE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C2E7-8973-4902-A9DC-EF48459F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B8EB-EB43-46EA-BFFC-FEFB3D5D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2C18-4AFF-468B-AB7A-FE5D5493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3741-D53D-4144-9255-60D2DEEC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B526-18D1-49C7-B825-1F713497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0810-E00F-4684-BE03-DCE5AFEE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A32-CDFE-4A84-8AAB-3C319506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4582-EF45-4CC2-9663-84FC510F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9028-9CC0-4A66-947C-17385C2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E09D-449A-4C78-AC17-8E4E2D88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9273-C56C-4F0E-A751-A9FB62C5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42E4-D4CF-4162-8501-DD713C96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BB8B-7CE0-462A-BA6D-8ECD95C3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1AE1-D5A2-4C79-B015-FDA22D7C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017C-5B02-4837-9BFF-408A845C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5E3A-9386-45B1-A2BF-E782DB0D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57AE-780F-4243-9B97-8821D583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598-8651-4EA7-85CE-0E76FA31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5E6E-76F4-4C22-A854-AD776F30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58E41-F53B-40AD-A7E0-97308BCC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0F84-7A8F-486F-B537-36CB7845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B783-765D-4DAD-AD68-0F66C2A9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CE33-798A-4306-936D-AC65ACD7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27FD-5232-49BE-B32C-2A70ACE1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66423-6FA7-4218-A73E-031D465C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EF82-8D4A-4B60-A5F6-04C720AB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3FC43-FB82-4B9C-94AE-23AA2B0B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28D7E-4813-444E-B57D-68C154A6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4C6-69BF-4683-B1F5-297FF540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405BE-24C9-4757-A2C3-AEC34452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58ABC-8D4E-4B39-A15D-1580103D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414A8-D481-4D53-9BBE-65788A01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EE94-9418-4614-A0BF-12A258A2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2099-D046-44A3-8870-BD6AE6F0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31E6-7249-40A0-9726-DB596C62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0A4E7-AE3A-456F-8D37-36E8FCA1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3261-0729-4482-A8D7-C6C5B897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3DD5-7622-4F55-8576-0CC9A8B2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74C91-5E04-4E97-89D4-1BABA26B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1DE-BE69-42CF-8DFF-13797731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1CB8-D469-4644-9428-F024AB76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D3938-F985-4F6B-89EB-1B0E801E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34885-7989-484C-B727-95E067B1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3DF8F-5371-4B19-B240-6B13FE99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8A80-90CD-420B-9BFE-C176E5DE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1AC45-6B2D-49FD-B631-2F63826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10B9E-6DFC-4F90-A30C-77798997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C106-5CDE-4C99-8363-755C151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18A7F-8CF5-4111-B4A2-F93A8E93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EF202-8BB0-4834-94DD-C4AB3003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6FD-BABB-4989-A889-4675733C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11AD7-AD4B-4C5F-B492-9350026B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4130E-7550-4013-8117-67F9C361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E085E-8C8D-4BA8-983A-279C26FA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B48F6-3525-40C7-A014-043BF621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149AF-0CA3-4745-AD9A-FB7456AC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914DF-122D-4620-A5B0-57F09FA6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F0040-881E-4247-8784-2B1A31BC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65D9-C5CF-4C3F-BC6E-47BFECCB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7E412-A705-474B-AF08-2DD38397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AD09B-C70B-4AF2-A6C0-EAA00D9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625-8FDD-4689-8C67-0DCF0A19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122DA-CBC1-4AC8-806F-62BA9842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8A2E-7A60-4603-8721-4A37F2FA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CD3C6-6D45-41E2-88BA-D2CC34B8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96879-E4B8-49AC-B87F-6E7ABE53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74BB4-9080-4BA6-A063-0ECCB1F6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9226D-DD32-4C0D-B9E9-210F7C1D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CB698-E8ED-49B9-92D7-525B7E79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B1A29-F63B-46BF-A78E-F2F59DAA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375BE-4A05-4A34-8792-B5C753A5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24F84-3BC1-4EDC-BD7D-2351FCC4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31A-6896-4ED0-ADFD-488B06A7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B7576-AF04-4635-B0BA-601B4351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91433-68C4-4385-92EE-EBFC9E6A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A97BD-6A12-4BF9-8C60-2C4F1ADF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99129-FE54-44C9-9FDD-9C2BDF9E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3A0DA-FFCE-4E8C-99F9-1786C680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C6224-E7A9-483F-95B3-799C80B9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F0C4F-76B0-4427-A3B2-BB40E408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EFDD-2E0F-4BAE-8423-4F66AD92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7AABB-A85A-4EAB-94FC-58DEC279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AF04A-4999-478D-B9C7-AE0BE051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D51-3B3F-45D9-90D4-C6684A5A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E0149-EF0E-47D9-9532-44B14EE1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ED7A1-6635-40D3-B460-383B0D8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D2392-9D5E-4E1B-854D-9F240131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4306E-8857-4AFD-AAFC-90B55CC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02FFB-5B24-4AC4-A88B-B46FB0F3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B8137-F5D7-4772-BDA4-5615327B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16A21-4BB3-4077-8244-09B29B72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48C4-6F94-4AAB-8098-C6C62EE0C04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42E6-0B7C-47E1-885B-04E6BF93990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2798-10E4-4530-81A5-4331150A682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E6EC-660B-414D-BBFE-E12D76DFEAB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1741-509B-4384-AFB9-69FFC6E8164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8268-C5F0-47DF-AA0B-11BC5758855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358C-2324-45E3-B4B1-F3D65959701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198-04BF-4477-88D4-1AFA470A4A0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9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有害情報の掲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2" name="AutoShape 5"/>
          <p:cNvGrpSpPr/>
          <p:nvPr/>
        </p:nvGrpSpPr>
        <p:grpSpPr>
          <a:xfrm>
            <a:off x="4863960" y="2170080"/>
            <a:ext cx="920880" cy="639720"/>
            <a:chOff x="4863960" y="2170080"/>
            <a:chExt cx="920880" cy="639720"/>
          </a:xfrm>
        </p:grpSpPr>
        <p:pic>
          <p:nvPicPr>
            <p:cNvPr id="503" name="AutoShape 5" descr=""/>
            <p:cNvPicPr/>
            <p:nvPr/>
          </p:nvPicPr>
          <p:blipFill>
            <a:blip r:embed="rId1"/>
            <a:stretch/>
          </p:blipFill>
          <p:spPr>
            <a:xfrm>
              <a:off x="4863960" y="2170080"/>
              <a:ext cx="9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27480" y="2214720"/>
              <a:ext cx="395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6ECD-22A7-4D5D-A292-680D2927373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4"/>
          <p:cNvSpPr/>
          <p:nvPr/>
        </p:nvSpPr>
        <p:spPr>
          <a:xfrm>
            <a:off x="571680" y="1357200"/>
            <a:ext cx="4071600" cy="20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自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方法の情報交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仲間を募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練炭、硫化水素自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犯罪を誘引する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犯罪の共謀や請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泥棒や殺人の方法など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5"/>
          <p:cNvSpPr/>
          <p:nvPr/>
        </p:nvSpPr>
        <p:spPr>
          <a:xfrm>
            <a:off x="5929200" y="1500120"/>
            <a:ext cx="1928880" cy="36828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言論・表現の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6"/>
          <p:cNvSpPr/>
          <p:nvPr/>
        </p:nvSpPr>
        <p:spPr>
          <a:xfrm>
            <a:off x="5929200" y="3000240"/>
            <a:ext cx="1928880" cy="3682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情報・悪影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上下矢印 17"/>
          <p:cNvSpPr/>
          <p:nvPr/>
        </p:nvSpPr>
        <p:spPr>
          <a:xfrm>
            <a:off x="6572160" y="2000160"/>
            <a:ext cx="642960" cy="857520"/>
          </a:xfrm>
          <a:prstGeom prst="up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テキスト ボックス 18"/>
          <p:cNvGrpSpPr/>
          <p:nvPr/>
        </p:nvGrpSpPr>
        <p:grpSpPr>
          <a:xfrm>
            <a:off x="384120" y="4359240"/>
            <a:ext cx="4889520" cy="530280"/>
            <a:chOff x="384120" y="4359240"/>
            <a:chExt cx="4889520" cy="530280"/>
          </a:xfrm>
        </p:grpSpPr>
        <p:pic>
          <p:nvPicPr>
            <p:cNvPr id="512" name="テキスト ボックス 18" descr=""/>
            <p:cNvPicPr/>
            <p:nvPr/>
          </p:nvPicPr>
          <p:blipFill>
            <a:blip r:embed="rId2"/>
            <a:stretch/>
          </p:blipFill>
          <p:spPr>
            <a:xfrm>
              <a:off x="384120" y="4359240"/>
              <a:ext cx="4889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00040" y="4429080"/>
              <a:ext cx="47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青少年ネット規制法（有害サイト規制法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テキスト ボックス 19"/>
          <p:cNvSpPr/>
          <p:nvPr/>
        </p:nvSpPr>
        <p:spPr>
          <a:xfrm>
            <a:off x="785880" y="4857840"/>
            <a:ext cx="72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携帯電話の事業者やパソコンメーカーに対しフィルタリングを義務づけ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か否かの基準を民間の第三者機関が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下矢印 22"/>
          <p:cNvGrpSpPr/>
          <p:nvPr/>
        </p:nvGrpSpPr>
        <p:grpSpPr>
          <a:xfrm>
            <a:off x="1979640" y="3573360"/>
            <a:ext cx="1341360" cy="765360"/>
            <a:chOff x="1979640" y="3573360"/>
            <a:chExt cx="1341360" cy="765360"/>
          </a:xfrm>
        </p:grpSpPr>
        <p:pic>
          <p:nvPicPr>
            <p:cNvPr id="516" name="下矢印 22" descr=""/>
            <p:cNvPicPr/>
            <p:nvPr/>
          </p:nvPicPr>
          <p:blipFill>
            <a:blip r:embed="rId3"/>
            <a:stretch/>
          </p:blipFill>
          <p:spPr>
            <a:xfrm>
              <a:off x="1979640" y="3573360"/>
              <a:ext cx="134136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349360" y="3607560"/>
              <a:ext cx="607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知的財産権の侵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85520" y="3500280"/>
            <a:ext cx="7643880" cy="15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他の人が作ったデータには、全て著作権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Copyright)</a:t>
            </a: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がある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売り物であるなしにかかわらず、他人の作成したものを勝手にコピーして公開したり配布してはいけない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例外：著作権フリーのデータ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著作権はあるが、利用者に複製や配布を認めている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42960" y="1643040"/>
            <a:ext cx="5800680" cy="41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ジタルデータはすべてファイル単位で扱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6"/>
          <p:cNvGrpSpPr/>
          <p:nvPr/>
        </p:nvGrpSpPr>
        <p:grpSpPr>
          <a:xfrm>
            <a:off x="884160" y="2103480"/>
            <a:ext cx="4894200" cy="914400"/>
            <a:chOff x="884160" y="2103480"/>
            <a:chExt cx="4894200" cy="914400"/>
          </a:xfrm>
        </p:grpSpPr>
        <p:pic>
          <p:nvPicPr>
            <p:cNvPr id="366" name="Rectangle 6" descr=""/>
            <p:cNvPicPr/>
            <p:nvPr/>
          </p:nvPicPr>
          <p:blipFill>
            <a:blip r:embed="rId1"/>
            <a:stretch/>
          </p:blipFill>
          <p:spPr>
            <a:xfrm>
              <a:off x="884160" y="2103480"/>
              <a:ext cx="4894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00080" y="2143080"/>
              <a:ext cx="4714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メディアからメディアへのコピーが容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Web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で公開可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8"/>
          <p:cNvGrpSpPr/>
          <p:nvPr/>
        </p:nvGrpSpPr>
        <p:grpSpPr>
          <a:xfrm>
            <a:off x="2571840" y="2968560"/>
            <a:ext cx="1280880" cy="573120"/>
            <a:chOff x="2571840" y="2968560"/>
            <a:chExt cx="1280880" cy="573120"/>
          </a:xfrm>
        </p:grpSpPr>
        <p:pic>
          <p:nvPicPr>
            <p:cNvPr id="369" name="AutoShape 8" descr=""/>
            <p:cNvPicPr/>
            <p:nvPr/>
          </p:nvPicPr>
          <p:blipFill>
            <a:blip r:embed="rId2"/>
            <a:stretch/>
          </p:blipFill>
          <p:spPr>
            <a:xfrm>
              <a:off x="2571840" y="2968560"/>
              <a:ext cx="128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928960" y="3000240"/>
              <a:ext cx="5713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フッター プレースホルダ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BFBE-8E6E-4130-AD92-16D30B5505A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9"/>
          <p:cNvSpPr/>
          <p:nvPr/>
        </p:nvSpPr>
        <p:spPr>
          <a:xfrm>
            <a:off x="428760" y="12142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6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明朝E"/>
                <a:ea typeface="HG明朝E"/>
              </a:rPr>
              <a:t>デジタルデータと著作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テキスト ボックス 10"/>
          <p:cNvGrpSpPr/>
          <p:nvPr/>
        </p:nvGrpSpPr>
        <p:grpSpPr>
          <a:xfrm>
            <a:off x="2444760" y="5284800"/>
            <a:ext cx="5834160" cy="561960"/>
            <a:chOff x="2444760" y="5284800"/>
            <a:chExt cx="5834160" cy="561960"/>
          </a:xfrm>
        </p:grpSpPr>
        <p:pic>
          <p:nvPicPr>
            <p:cNvPr id="375" name="テキスト ボックス 10" descr=""/>
            <p:cNvPicPr/>
            <p:nvPr/>
          </p:nvPicPr>
          <p:blipFill>
            <a:blip r:embed="rId3"/>
            <a:stretch/>
          </p:blipFill>
          <p:spPr>
            <a:xfrm>
              <a:off x="2444760" y="5284800"/>
              <a:ext cx="5834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71840" y="5357880"/>
              <a:ext cx="56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ジタルデータのコピーは著作権を確かめてか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右矢印 11"/>
          <p:cNvGrpSpPr/>
          <p:nvPr/>
        </p:nvGrpSpPr>
        <p:grpSpPr>
          <a:xfrm>
            <a:off x="1359000" y="5241960"/>
            <a:ext cx="1060200" cy="780840"/>
            <a:chOff x="1359000" y="5241960"/>
            <a:chExt cx="1060200" cy="780840"/>
          </a:xfrm>
        </p:grpSpPr>
        <p:pic>
          <p:nvPicPr>
            <p:cNvPr id="378" name="右矢印 11" descr=""/>
            <p:cNvPicPr/>
            <p:nvPr/>
          </p:nvPicPr>
          <p:blipFill>
            <a:blip r:embed="rId4"/>
            <a:stretch/>
          </p:blipFill>
          <p:spPr>
            <a:xfrm>
              <a:off x="1359000" y="5241960"/>
              <a:ext cx="106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8840" y="5446800"/>
              <a:ext cx="768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6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ファイル共有ソフ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テキスト ボックス 2"/>
          <p:cNvSpPr/>
          <p:nvPr/>
        </p:nvSpPr>
        <p:spPr>
          <a:xfrm>
            <a:off x="571680" y="1285920"/>
            <a:ext cx="492912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ファイル共有ソフ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File Sharing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214280" y="1714680"/>
            <a:ext cx="746136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複数のユーザ同士が、ファイルを共有するためのソフトウェ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ユーザが自分の欲しいファイルを入手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テキスト ボックス 4"/>
          <p:cNvGrpSpPr/>
          <p:nvPr/>
        </p:nvGrpSpPr>
        <p:grpSpPr>
          <a:xfrm>
            <a:off x="725400" y="3664080"/>
            <a:ext cx="4773600" cy="560160"/>
            <a:chOff x="725400" y="3664080"/>
            <a:chExt cx="4773600" cy="560160"/>
          </a:xfrm>
        </p:grpSpPr>
        <p:pic>
          <p:nvPicPr>
            <p:cNvPr id="384" name="テキスト ボックス 4" descr=""/>
            <p:cNvPicPr/>
            <p:nvPr/>
          </p:nvPicPr>
          <p:blipFill>
            <a:blip r:embed="rId1"/>
            <a:stretch/>
          </p:blipFill>
          <p:spPr>
            <a:xfrm>
              <a:off x="725400" y="3664080"/>
              <a:ext cx="4773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857160" y="37148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複製禁止のデータの共有は違法行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爆発 2 5"/>
          <p:cNvGrpSpPr/>
          <p:nvPr/>
        </p:nvGrpSpPr>
        <p:grpSpPr>
          <a:xfrm>
            <a:off x="5651640" y="2603520"/>
            <a:ext cx="2554200" cy="1846080"/>
            <a:chOff x="5651640" y="2603520"/>
            <a:chExt cx="2554200" cy="1846080"/>
          </a:xfrm>
        </p:grpSpPr>
        <p:pic>
          <p:nvPicPr>
            <p:cNvPr id="387" name="爆発 2 5" descr=""/>
            <p:cNvPicPr/>
            <p:nvPr/>
          </p:nvPicPr>
          <p:blipFill>
            <a:blip r:embed="rId2"/>
            <a:stretch/>
          </p:blipFill>
          <p:spPr>
            <a:xfrm>
              <a:off x="5651640" y="2603520"/>
              <a:ext cx="2554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19800" y="3149640"/>
              <a:ext cx="10414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著作権侵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テキスト ボックス 6"/>
          <p:cNvGrpSpPr/>
          <p:nvPr/>
        </p:nvGrpSpPr>
        <p:grpSpPr>
          <a:xfrm>
            <a:off x="738360" y="4230720"/>
            <a:ext cx="5473440" cy="811080"/>
            <a:chOff x="738360" y="4230720"/>
            <a:chExt cx="5473440" cy="811080"/>
          </a:xfrm>
        </p:grpSpPr>
        <p:pic>
          <p:nvPicPr>
            <p:cNvPr id="390" name="テキスト ボックス 6" descr=""/>
            <p:cNvPicPr/>
            <p:nvPr/>
          </p:nvPicPr>
          <p:blipFill>
            <a:blip r:embed="rId3"/>
            <a:stretch/>
          </p:blipFill>
          <p:spPr>
            <a:xfrm>
              <a:off x="738360" y="4230720"/>
              <a:ext cx="5473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57160" y="4286160"/>
              <a:ext cx="52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共有させることを目的に、サーバやパソコン上にファイルを置くことは著作権（公衆送信権）に抵触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下矢印 7"/>
          <p:cNvGrpSpPr/>
          <p:nvPr/>
        </p:nvGrpSpPr>
        <p:grpSpPr>
          <a:xfrm>
            <a:off x="1979640" y="2708280"/>
            <a:ext cx="1987560" cy="898560"/>
            <a:chOff x="1979640" y="2708280"/>
            <a:chExt cx="1987560" cy="898560"/>
          </a:xfrm>
        </p:grpSpPr>
        <p:pic>
          <p:nvPicPr>
            <p:cNvPr id="393" name="下矢印 7" descr=""/>
            <p:cNvPicPr/>
            <p:nvPr/>
          </p:nvPicPr>
          <p:blipFill>
            <a:blip r:embed="rId4"/>
            <a:stretch/>
          </p:blipFill>
          <p:spPr>
            <a:xfrm>
              <a:off x="1979640" y="2708280"/>
              <a:ext cx="198756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9920" y="2741760"/>
              <a:ext cx="928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右矢印 8"/>
          <p:cNvGrpSpPr/>
          <p:nvPr/>
        </p:nvGrpSpPr>
        <p:grpSpPr>
          <a:xfrm>
            <a:off x="712800" y="5400720"/>
            <a:ext cx="1139760" cy="853920"/>
            <a:chOff x="712800" y="5400720"/>
            <a:chExt cx="1139760" cy="853920"/>
          </a:xfrm>
        </p:grpSpPr>
        <p:pic>
          <p:nvPicPr>
            <p:cNvPr id="396" name="右矢印 8" descr=""/>
            <p:cNvPicPr/>
            <p:nvPr/>
          </p:nvPicPr>
          <p:blipFill>
            <a:blip r:embed="rId5"/>
            <a:stretch/>
          </p:blipFill>
          <p:spPr>
            <a:xfrm>
              <a:off x="712800" y="5400720"/>
              <a:ext cx="1139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85880" y="5608800"/>
              <a:ext cx="820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テキスト ボックス 9"/>
          <p:cNvGrpSpPr/>
          <p:nvPr/>
        </p:nvGrpSpPr>
        <p:grpSpPr>
          <a:xfrm>
            <a:off x="1944720" y="5499000"/>
            <a:ext cx="5688000" cy="567000"/>
            <a:chOff x="1944720" y="5499000"/>
            <a:chExt cx="5688000" cy="567000"/>
          </a:xfrm>
        </p:grpSpPr>
        <p:pic>
          <p:nvPicPr>
            <p:cNvPr id="399" name="テキスト ボックス 9" descr=""/>
            <p:cNvPicPr/>
            <p:nvPr/>
          </p:nvPicPr>
          <p:blipFill>
            <a:blip r:embed="rId6"/>
            <a:stretch/>
          </p:blipFill>
          <p:spPr>
            <a:xfrm>
              <a:off x="1944720" y="5499000"/>
              <a:ext cx="5688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71800" y="5572080"/>
              <a:ext cx="55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ァイルの共有はファイルの著作権侵害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9E8A-7811-4B21-9708-7A585E807AA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電子メールやブログの悪用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テキスト ボックス 5"/>
          <p:cNvSpPr/>
          <p:nvPr/>
        </p:nvSpPr>
        <p:spPr>
          <a:xfrm>
            <a:off x="571680" y="1285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7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スパムメ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785880" y="3071880"/>
            <a:ext cx="2428920" cy="92880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特定電子メール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改正特定商取引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214280" y="4143240"/>
            <a:ext cx="7358400" cy="71460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受信者の承諾なく宣伝メールを配信することはすべて違法行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AutoShape 12"/>
          <p:cNvGrpSpPr/>
          <p:nvPr/>
        </p:nvGrpSpPr>
        <p:grpSpPr>
          <a:xfrm>
            <a:off x="1219320" y="4896000"/>
            <a:ext cx="6205320" cy="1425600"/>
            <a:chOff x="1219320" y="4896000"/>
            <a:chExt cx="6205320" cy="1425600"/>
          </a:xfrm>
        </p:grpSpPr>
        <p:pic>
          <p:nvPicPr>
            <p:cNvPr id="408" name="AutoShape 12" descr=""/>
            <p:cNvPicPr/>
            <p:nvPr/>
          </p:nvPicPr>
          <p:blipFill>
            <a:blip r:embed="rId1"/>
            <a:stretch/>
          </p:blipFill>
          <p:spPr>
            <a:xfrm>
              <a:off x="1219320" y="4896000"/>
              <a:ext cx="6205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346040" y="5060880"/>
              <a:ext cx="59547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スパムメール対策（自己防衛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スパムメールを受信しても開かずに削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フィルタリング機能の活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長めのアドレス設定（記号も含める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テキスト ボックス 12"/>
          <p:cNvSpPr/>
          <p:nvPr/>
        </p:nvSpPr>
        <p:spPr>
          <a:xfrm>
            <a:off x="1143000" y="1714680"/>
            <a:ext cx="585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ユーザに対して勝手に送りつけてくる広告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受信者の承諾を得ず無差別に送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動的にメールアドレスを生成し送信するツールを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宛て先が不明のメールも増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下矢印 13"/>
          <p:cNvGrpSpPr/>
          <p:nvPr/>
        </p:nvGrpSpPr>
        <p:grpSpPr>
          <a:xfrm>
            <a:off x="4290840" y="3103560"/>
            <a:ext cx="1487520" cy="919080"/>
            <a:chOff x="4290840" y="3103560"/>
            <a:chExt cx="1487520" cy="919080"/>
          </a:xfrm>
        </p:grpSpPr>
        <p:pic>
          <p:nvPicPr>
            <p:cNvPr id="412" name="下矢印 13" descr=""/>
            <p:cNvPicPr/>
            <p:nvPr/>
          </p:nvPicPr>
          <p:blipFill>
            <a:blip r:embed="rId2"/>
            <a:stretch/>
          </p:blipFill>
          <p:spPr>
            <a:xfrm>
              <a:off x="4290840" y="3103560"/>
              <a:ext cx="1487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97280" y="3143160"/>
              <a:ext cx="67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87C6-C3DD-494C-8C46-5D7CBE5AE89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7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マメ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7120" y="2500200"/>
            <a:ext cx="4103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虚偽の情報が広がる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714920" y="2500200"/>
            <a:ext cx="3816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＊＊を誘拐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AutoShape 12"/>
          <p:cNvGrpSpPr/>
          <p:nvPr/>
        </p:nvGrpSpPr>
        <p:grpSpPr>
          <a:xfrm>
            <a:off x="1504800" y="3743280"/>
            <a:ext cx="1927440" cy="847800"/>
            <a:chOff x="1504800" y="3743280"/>
            <a:chExt cx="1927440" cy="847800"/>
          </a:xfrm>
        </p:grpSpPr>
        <p:pic>
          <p:nvPicPr>
            <p:cNvPr id="420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3743280"/>
              <a:ext cx="192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21040" y="3786120"/>
              <a:ext cx="90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テキスト ボックス 11"/>
          <p:cNvSpPr/>
          <p:nvPr/>
        </p:nvSpPr>
        <p:spPr>
          <a:xfrm>
            <a:off x="2571840" y="1428840"/>
            <a:ext cx="3857400" cy="76716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事実無根の内容を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いたずら・嫌がら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AutoShape 12"/>
          <p:cNvGrpSpPr/>
          <p:nvPr/>
        </p:nvGrpSpPr>
        <p:grpSpPr>
          <a:xfrm>
            <a:off x="5651640" y="3743280"/>
            <a:ext cx="1925640" cy="847800"/>
            <a:chOff x="5651640" y="3743280"/>
            <a:chExt cx="1925640" cy="847800"/>
          </a:xfrm>
        </p:grpSpPr>
        <p:pic>
          <p:nvPicPr>
            <p:cNvPr id="424" name="AutoShape 12" descr=""/>
            <p:cNvPicPr/>
            <p:nvPr/>
          </p:nvPicPr>
          <p:blipFill>
            <a:blip r:embed="rId2"/>
            <a:stretch/>
          </p:blipFill>
          <p:spPr>
            <a:xfrm>
              <a:off x="5651640" y="374328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165720" y="3786120"/>
              <a:ext cx="90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角丸四角形 13"/>
          <p:cNvGrpSpPr/>
          <p:nvPr/>
        </p:nvGrpSpPr>
        <p:grpSpPr>
          <a:xfrm>
            <a:off x="4711680" y="4614840"/>
            <a:ext cx="3925800" cy="1352520"/>
            <a:chOff x="4711680" y="4614840"/>
            <a:chExt cx="3925800" cy="1352520"/>
          </a:xfrm>
        </p:grpSpPr>
        <p:pic>
          <p:nvPicPr>
            <p:cNvPr id="427" name="角丸四角形 13" descr=""/>
            <p:cNvPicPr/>
            <p:nvPr/>
          </p:nvPicPr>
          <p:blipFill>
            <a:blip r:embed="rId3"/>
            <a:stretch/>
          </p:blipFill>
          <p:spPr>
            <a:xfrm>
              <a:off x="4711680" y="4614840"/>
              <a:ext cx="3925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844880" y="4702320"/>
              <a:ext cx="36687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マか実際の犯行予告か判断が難しい場合は、放置せずに警察等に連絡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角丸四角形 14"/>
          <p:cNvGrpSpPr/>
          <p:nvPr/>
        </p:nvGrpSpPr>
        <p:grpSpPr>
          <a:xfrm>
            <a:off x="360360" y="4602240"/>
            <a:ext cx="4199040" cy="1347840"/>
            <a:chOff x="360360" y="4602240"/>
            <a:chExt cx="4199040" cy="1347840"/>
          </a:xfrm>
        </p:grpSpPr>
        <p:pic>
          <p:nvPicPr>
            <p:cNvPr id="430" name="角丸四角形 14" descr=""/>
            <p:cNvPicPr/>
            <p:nvPr/>
          </p:nvPicPr>
          <p:blipFill>
            <a:blip r:embed="rId4"/>
            <a:stretch/>
          </p:blipFill>
          <p:spPr>
            <a:xfrm>
              <a:off x="360360" y="4602240"/>
              <a:ext cx="419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87440" y="4702320"/>
              <a:ext cx="3954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振り回されず、怪しいメールに対しては一切応じないで削除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526E-5633-4115-AB0B-8F9683DEAA9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2.7.3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　メールやブログでのいじめ・ストーカー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85600" y="2642760"/>
            <a:ext cx="5915160" cy="10033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クラスメートの悪口・中傷を書き込み送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カメラ付の携帯で撮影した写真を添付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メールによるストーカー行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714240" y="1571760"/>
            <a:ext cx="3457800" cy="79200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高生が携帯を所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929120" y="1500120"/>
            <a:ext cx="2954520" cy="857160"/>
          </a:xfrm>
          <a:prstGeom prst="rect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Gill Sans MT"/>
              </a:rPr>
              <a:t>いじめに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214880" y="2000160"/>
            <a:ext cx="718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AutoShape 7"/>
          <p:cNvGrpSpPr/>
          <p:nvPr/>
        </p:nvGrpSpPr>
        <p:grpSpPr>
          <a:xfrm>
            <a:off x="1504800" y="5102280"/>
            <a:ext cx="6102360" cy="774720"/>
            <a:chOff x="1504800" y="5102280"/>
            <a:chExt cx="6102360" cy="774720"/>
          </a:xfrm>
        </p:grpSpPr>
        <p:pic>
          <p:nvPicPr>
            <p:cNvPr id="440" name="AutoShape 7" descr=""/>
            <p:cNvPicPr/>
            <p:nvPr/>
          </p:nvPicPr>
          <p:blipFill>
            <a:blip r:embed="rId1"/>
            <a:stretch/>
          </p:blipFill>
          <p:spPr>
            <a:xfrm>
              <a:off x="1504800" y="5102280"/>
              <a:ext cx="6102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603440" y="5175360"/>
              <a:ext cx="5913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被害が広まる前に、早急に届け出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AutoShape 8"/>
          <p:cNvGrpSpPr/>
          <p:nvPr/>
        </p:nvGrpSpPr>
        <p:grpSpPr>
          <a:xfrm>
            <a:off x="2146320" y="3743280"/>
            <a:ext cx="1932120" cy="1346400"/>
            <a:chOff x="2146320" y="3743280"/>
            <a:chExt cx="1932120" cy="1346400"/>
          </a:xfrm>
        </p:grpSpPr>
        <p:pic>
          <p:nvPicPr>
            <p:cNvPr id="443" name="AutoShape 8" descr=""/>
            <p:cNvPicPr/>
            <p:nvPr/>
          </p:nvPicPr>
          <p:blipFill>
            <a:blip r:embed="rId2"/>
            <a:stretch/>
          </p:blipFill>
          <p:spPr>
            <a:xfrm>
              <a:off x="2146320" y="3743280"/>
              <a:ext cx="1932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64000" y="3786120"/>
              <a:ext cx="900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ectangle 9"/>
          <p:cNvGrpSpPr/>
          <p:nvPr/>
        </p:nvGrpSpPr>
        <p:grpSpPr>
          <a:xfrm>
            <a:off x="4133880" y="3681360"/>
            <a:ext cx="3668760" cy="1347840"/>
            <a:chOff x="4133880" y="3681360"/>
            <a:chExt cx="3668760" cy="1347840"/>
          </a:xfrm>
        </p:grpSpPr>
        <p:pic>
          <p:nvPicPr>
            <p:cNvPr id="446" name="Rectangle 9" descr=""/>
            <p:cNvPicPr/>
            <p:nvPr/>
          </p:nvPicPr>
          <p:blipFill>
            <a:blip r:embed="rId3"/>
            <a:stretch/>
          </p:blipFill>
          <p:spPr>
            <a:xfrm>
              <a:off x="4133880" y="3681360"/>
              <a:ext cx="36687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214880" y="3786120"/>
              <a:ext cx="352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情報はすぐに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本人に大きなダメー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不登校や自殺の原因に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スライド番号プレースホルダ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7112-8DFE-476A-BF1F-A8BC42D9E78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８　掲示板・コミュニティ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1" name="Rectangle 3"/>
          <p:cNvGrpSpPr/>
          <p:nvPr/>
        </p:nvGrpSpPr>
        <p:grpSpPr>
          <a:xfrm>
            <a:off x="268200" y="2571840"/>
            <a:ext cx="5980320" cy="2165400"/>
            <a:chOff x="268200" y="2571840"/>
            <a:chExt cx="5980320" cy="2165400"/>
          </a:xfrm>
        </p:grpSpPr>
        <p:pic>
          <p:nvPicPr>
            <p:cNvPr id="452" name="Rectangle 3" descr=""/>
            <p:cNvPicPr/>
            <p:nvPr/>
          </p:nvPicPr>
          <p:blipFill>
            <a:blip r:embed="rId1"/>
            <a:stretch/>
          </p:blipFill>
          <p:spPr>
            <a:xfrm>
              <a:off x="268200" y="2571840"/>
              <a:ext cx="59803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7120" y="2643120"/>
              <a:ext cx="583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チャット・掲示板で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顔が見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ゲーム感覚で無責任に書き込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被害は一瞬で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情報が暴走し、２次的、３次的被害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4"/>
          <p:cNvSpPr/>
          <p:nvPr/>
        </p:nvSpPr>
        <p:spPr>
          <a:xfrm>
            <a:off x="1000080" y="1643040"/>
            <a:ext cx="5643720" cy="79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誹謗：他人の悪口をいうこと、そし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傷：無根拠のことをいって、名誉を傷つけ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7"/>
          <p:cNvGrpSpPr/>
          <p:nvPr/>
        </p:nvGrpSpPr>
        <p:grpSpPr>
          <a:xfrm>
            <a:off x="291960" y="5389560"/>
            <a:ext cx="5956560" cy="779400"/>
            <a:chOff x="291960" y="5389560"/>
            <a:chExt cx="5956560" cy="779400"/>
          </a:xfrm>
        </p:grpSpPr>
        <p:pic>
          <p:nvPicPr>
            <p:cNvPr id="456" name="Rectangle 7" descr=""/>
            <p:cNvPicPr/>
            <p:nvPr/>
          </p:nvPicPr>
          <p:blipFill>
            <a:blip r:embed="rId2"/>
            <a:stretch/>
          </p:blipFill>
          <p:spPr>
            <a:xfrm>
              <a:off x="291960" y="5389560"/>
              <a:ext cx="5956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7120" y="5429160"/>
              <a:ext cx="5832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まず、相手の気持ちになって、思いやりを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8"/>
          <p:cNvGrpSpPr/>
          <p:nvPr/>
        </p:nvGrpSpPr>
        <p:grpSpPr>
          <a:xfrm>
            <a:off x="2292480" y="4743360"/>
            <a:ext cx="1925640" cy="627120"/>
            <a:chOff x="2292480" y="4743360"/>
            <a:chExt cx="1925640" cy="627120"/>
          </a:xfrm>
        </p:grpSpPr>
        <p:pic>
          <p:nvPicPr>
            <p:cNvPr id="459" name="AutoShape 8" descr=""/>
            <p:cNvPicPr/>
            <p:nvPr/>
          </p:nvPicPr>
          <p:blipFill>
            <a:blip r:embed="rId3"/>
            <a:stretch/>
          </p:blipFill>
          <p:spPr>
            <a:xfrm>
              <a:off x="2292480" y="4743360"/>
              <a:ext cx="1925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806560" y="4786200"/>
              <a:ext cx="9003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5C5E-0B45-4A2D-B3AE-3DF5E9B6C9C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9"/>
          <p:cNvSpPr/>
          <p:nvPr/>
        </p:nvSpPr>
        <p:spPr>
          <a:xfrm>
            <a:off x="500040" y="12142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8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誹謗中傷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9"/>
          <p:cNvPicPr/>
          <p:nvPr/>
        </p:nvPicPr>
        <p:blipFill>
          <a:blip r:embed="rId4"/>
          <a:srcRect l="0" t="844" r="0" b="0"/>
          <a:stretch/>
        </p:blipFill>
        <p:spPr>
          <a:xfrm>
            <a:off x="6370560" y="3071880"/>
            <a:ext cx="2773440" cy="207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8.2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誹謗中傷に発展するケース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28760" y="228600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互いの意見が衝突し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28760" y="335772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個人情報を書き込まれ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714920" y="3000240"/>
            <a:ext cx="4214880" cy="100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掲載内容やメールを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管理者に削除を依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fb8c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プロバイダ責任制限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28760" y="44290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企業や団体に対する中傷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714920" y="4143240"/>
            <a:ext cx="421488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企業の名誉毀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業務妨害が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証拠を保存し警察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AutoShape 9"/>
          <p:cNvGrpSpPr/>
          <p:nvPr/>
        </p:nvGrpSpPr>
        <p:grpSpPr>
          <a:xfrm>
            <a:off x="3859200" y="2328840"/>
            <a:ext cx="785880" cy="573120"/>
            <a:chOff x="3859200" y="2328840"/>
            <a:chExt cx="785880" cy="573120"/>
          </a:xfrm>
        </p:grpSpPr>
        <p:pic>
          <p:nvPicPr>
            <p:cNvPr id="472" name="AutoShape 9" descr=""/>
            <p:cNvPicPr/>
            <p:nvPr/>
          </p:nvPicPr>
          <p:blipFill>
            <a:blip r:embed="rId1"/>
            <a:stretch/>
          </p:blipFill>
          <p:spPr>
            <a:xfrm>
              <a:off x="3859200" y="23288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091040" y="23572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AutoShape 10"/>
          <p:cNvGrpSpPr/>
          <p:nvPr/>
        </p:nvGrpSpPr>
        <p:grpSpPr>
          <a:xfrm>
            <a:off x="3859200" y="3402000"/>
            <a:ext cx="785880" cy="566640"/>
            <a:chOff x="3859200" y="3402000"/>
            <a:chExt cx="785880" cy="566640"/>
          </a:xfrm>
        </p:grpSpPr>
        <p:pic>
          <p:nvPicPr>
            <p:cNvPr id="475" name="AutoShape 10" descr=""/>
            <p:cNvPicPr/>
            <p:nvPr/>
          </p:nvPicPr>
          <p:blipFill>
            <a:blip r:embed="rId2"/>
            <a:stretch/>
          </p:blipFill>
          <p:spPr>
            <a:xfrm>
              <a:off x="3859200" y="3402000"/>
              <a:ext cx="785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091040" y="342900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1"/>
          <p:cNvGrpSpPr/>
          <p:nvPr/>
        </p:nvGrpSpPr>
        <p:grpSpPr>
          <a:xfrm>
            <a:off x="3859200" y="4400640"/>
            <a:ext cx="785880" cy="568080"/>
            <a:chOff x="3859200" y="4400640"/>
            <a:chExt cx="785880" cy="568080"/>
          </a:xfrm>
        </p:grpSpPr>
        <p:pic>
          <p:nvPicPr>
            <p:cNvPr id="478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400640"/>
              <a:ext cx="7858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091040" y="44290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12"/>
          <p:cNvSpPr/>
          <p:nvPr/>
        </p:nvSpPr>
        <p:spPr>
          <a:xfrm>
            <a:off x="785880" y="1357200"/>
            <a:ext cx="2879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357880" y="1357200"/>
            <a:ext cx="273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B6A1-6FF4-4216-8FD6-876D16FB556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8760" y="53578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脅迫・犯行予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11"/>
          <p:cNvGrpSpPr/>
          <p:nvPr/>
        </p:nvGrpSpPr>
        <p:grpSpPr>
          <a:xfrm>
            <a:off x="3859200" y="5327640"/>
            <a:ext cx="785880" cy="573120"/>
            <a:chOff x="3859200" y="5327640"/>
            <a:chExt cx="785880" cy="573120"/>
          </a:xfrm>
        </p:grpSpPr>
        <p:pic>
          <p:nvPicPr>
            <p:cNvPr id="486" name="AutoShape 11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091040" y="535788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8"/>
          <p:cNvSpPr/>
          <p:nvPr/>
        </p:nvSpPr>
        <p:spPr>
          <a:xfrm>
            <a:off x="4714920" y="5357880"/>
            <a:ext cx="42148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ト管理者やプロバイダに届け出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威力業務妨害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5.6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節参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4920" y="2143080"/>
            <a:ext cx="421488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感情的になり、口論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時間をおいて冷静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９　違法販売・有害情報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000" y="2205000"/>
            <a:ext cx="453708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AutoShape 7"/>
          <p:cNvGrpSpPr/>
          <p:nvPr/>
        </p:nvGrpSpPr>
        <p:grpSpPr>
          <a:xfrm>
            <a:off x="5010120" y="2882880"/>
            <a:ext cx="628560" cy="781200"/>
            <a:chOff x="5010120" y="2882880"/>
            <a:chExt cx="628560" cy="781200"/>
          </a:xfrm>
        </p:grpSpPr>
        <p:pic>
          <p:nvPicPr>
            <p:cNvPr id="495" name="AutoShape 7" descr=""/>
            <p:cNvPicPr/>
            <p:nvPr/>
          </p:nvPicPr>
          <p:blipFill>
            <a:blip r:embed="rId1"/>
            <a:stretch/>
          </p:blipFill>
          <p:spPr>
            <a:xfrm>
              <a:off x="5010120" y="2882880"/>
              <a:ext cx="628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02360" y="2924280"/>
              <a:ext cx="252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3C54-9D4C-4D0F-AA8A-1450719AD28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"/>
          <p:cNvSpPr/>
          <p:nvPr/>
        </p:nvSpPr>
        <p:spPr>
          <a:xfrm>
            <a:off x="571680" y="13572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9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違法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T.Yamazumi</cp:lastModifiedBy>
  <dcterms:modified xsi:type="dcterms:W3CDTF">2009-11-02T05:06:57Z</dcterms:modified>
  <cp:revision>89</cp:revision>
  <dc:subject/>
  <dc:title>ネットワーク社会の情報倫理</dc:title>
</cp:coreProperties>
</file>