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1A2-C096-4187-B125-3582B954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FB4-AC7D-4068-88AA-ADE73AE8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681-7F46-4521-AFB6-A6213C95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AF9-2932-4CB0-A9D6-17AA8921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B27E-39FB-4C53-95BA-718DB1AD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3E22-C4ED-4221-A567-4206D994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5918-F06B-40C4-BFA5-4D201458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B423-4E34-4B7E-9B7D-38BDC96B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9D7C-2579-4BB0-B749-62B7E848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B13B-2BA5-4553-9982-3AF34E5D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DB57-5ABD-4A23-A4AB-538073F6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87F-D8A1-4D74-9EA6-B778DBD7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554E-7CC0-4C70-9E72-0C820600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8858-4A04-48DF-B527-F50BE20D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4074-A4D9-4ADF-B77C-A93CEEF5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423B-56A9-411B-AE84-BB350968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2AB0-366F-49E9-B291-541B0D8F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B9CFE-BF43-48F8-AC7D-D79099AF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16FCA-0907-4159-9C06-A3F88942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0472-C865-4338-8ECD-0ED3CB07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768C6-BFD0-4A49-B4FB-BD2D5196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D861A-BC84-4561-8C36-E02F7425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6F6-DEBD-44CC-97EE-C15243FA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9320F-EEFA-4E89-8B49-7740B298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4CB35-DD1E-4326-A2F3-7C981444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680A6-B08D-4A35-BCB1-A51AB73B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AECB5-E93E-4D62-B38D-6BE2B121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2D41E-F567-4CD1-A41D-1454889A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E8EAE-9BD9-4137-ADE6-07F44E7E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463E-3FFD-4116-8026-C3E36DA5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72C6-1C58-416A-9256-3E375964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0ABB8-143F-49EB-B284-CC24A587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E0B9E-6BAD-4832-A3DE-5298641D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609-7937-4DCA-B9D5-525F6F13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37F5-AB1B-49E1-8867-25BBF1AE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2F331-9917-45DB-93F7-1BB113DC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9A84F-8D2E-4B5B-B774-857F9D42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59E3D-D6A8-4158-B082-F0BEB745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88D8C-8789-42A0-A366-3C9EA288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D3DC7-6B41-4F9F-A00B-82542EF5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0DE11-C624-4AEB-B139-2F039989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AE5F5-AE76-4BD8-9EF9-15DEA524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52A0B-1010-428A-A4B7-8DA5B73B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DD99A-38F4-4AEA-971B-E641A554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D15-F130-4EE7-9B0A-5A0CCDDD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1EFA0-B076-41B1-BA0A-51C5E192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6947B-F7A4-4CCB-B499-1C40AE8C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72D12-F3A0-4A39-8B52-D3B17487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5B775-1FEF-4858-9D4B-92214ECF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EDAB2-85DA-4064-9FDB-6B4BE18A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549E2-5BC6-4FF5-AFCB-96096634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84315-4F07-40B6-9304-92E94958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36C65-28B7-404E-A6BB-DD082ABF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ACB03-D7CB-49E1-974B-2063460B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DED6A-4648-450D-B2AB-714DEA1F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63E-C656-4701-A4A7-1A9A3E90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52F0C-3F04-4864-AD29-65C67C3D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D8962-90C8-4129-81AC-AFDA8E2A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841D2-3A9B-41B8-B89D-AF13225D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08908-1E3B-4017-ACFC-956D699B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98975-F016-4EC4-96DA-9DD938E3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2051A-19C7-4C7B-A297-04B0D070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EE05A-342B-4BB2-94BF-E0EB8B20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F83E0-CCF2-4D1C-B068-321B239E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BE668-3A35-4F93-929A-2646C86A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ABA2D-EE05-4077-87F8-A1C49632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B18-42EE-42C8-B4EB-DEDC6D5C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9E5BE-8F60-4461-B092-DB80658D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09811-4106-41CB-9BEB-E23F6092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8FA47-9E31-4E75-BCDA-EBCB79A0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8226B-538B-4384-A58D-0B83545C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9E5EC-968C-4968-B65E-14933795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2A458-2383-4525-A14A-19405327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6EA60-81C5-4E70-A08B-05354918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7B5CE-5F1A-4F4C-8434-19A293E1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179EB-C932-4EFF-A2A0-46014121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2A57F-63B9-41B0-8B23-F3D85B52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FFA-7D7C-4C12-A90C-ED099B51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DC113-74EE-48C9-BA0F-6326C1D1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AB46A-8C34-4FE2-8BD1-D22B191D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8FE36-1AD1-44AC-8496-B9DC754A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10C24-48FD-40DD-B17F-CA21527A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FC22C-9E9F-4EC7-80FF-89D57B39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896AE-DAA4-4077-BEF1-C85EB63F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D95EC-54AC-4C5F-8DD1-0EDFA0D0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4BA58-4615-467D-BE71-5060FCE3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96C49-28F4-4813-BB54-E3035631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82445-F417-46B1-8D03-EF7CA276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C924-B59C-46DC-9A75-4DBAD6AD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83F91-7FCD-4678-8D26-E5A6DA97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2FB7E-A9D5-46CE-A8DB-3E87B3FB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67E6E-A179-49EF-A3DF-BC8B2882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22E65-1925-4A9F-9BEF-7B33C82D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F9A40-C712-4B98-905B-EB71AF0A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D4723-F810-472D-B59B-B72553F6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FA774-1086-4EAA-BE8F-00150CF1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6B7F-47D3-4532-921E-EE7E4A6FEB7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0E72-E1CD-43A4-817A-747A5A580E1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BB88-C258-4F52-85CC-DC16B3B65C8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49C8-0F0D-4CC0-B6A9-2BCB377635A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2456-B785-4F3B-96A7-785F051F04D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3BF5-3F0C-40EE-83C1-1ED8AFFFE7A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A5E1-E438-402F-9637-C024C85ADDC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FD40-76D8-4719-96E6-50EEC6BA7B1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image" Target="../media/image13.wmf"/><Relationship Id="rId4" Type="http://schemas.openxmlformats.org/officeDocument/2006/relationships/image" Target="../media/image19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85920" y="514332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今後の対策と新しい傾向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3"/>
          <p:cNvSpPr/>
          <p:nvPr/>
        </p:nvSpPr>
        <p:spPr>
          <a:xfrm>
            <a:off x="571680" y="1285920"/>
            <a:ext cx="4143240" cy="459720"/>
          </a:xfrm>
          <a:prstGeom prst="rect">
            <a:avLst/>
          </a:prstGeom>
          <a:solidFill>
            <a:srgbClr val="727ca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出会い系サイト規制法の改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4"/>
          <p:cNvSpPr/>
          <p:nvPr/>
        </p:nvSpPr>
        <p:spPr>
          <a:xfrm>
            <a:off x="928800" y="1857240"/>
            <a:ext cx="528624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インターネット異性紹介事業者は届け出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利用者が児童でないことを確認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適切な書き込みを削除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パトロール活動や自主的な規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プロバイダのフィルタリング機能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テキスト ボックス 5"/>
          <p:cNvGrpSpPr/>
          <p:nvPr/>
        </p:nvGrpSpPr>
        <p:grpSpPr>
          <a:xfrm>
            <a:off x="1085760" y="4516560"/>
            <a:ext cx="6126120" cy="873000"/>
            <a:chOff x="1085760" y="4516560"/>
            <a:chExt cx="6126120" cy="873000"/>
          </a:xfrm>
        </p:grpSpPr>
        <p:pic>
          <p:nvPicPr>
            <p:cNvPr id="483" name="テキスト ボックス 5" descr=""/>
            <p:cNvPicPr/>
            <p:nvPr/>
          </p:nvPicPr>
          <p:blipFill>
            <a:blip r:embed="rId1"/>
            <a:stretch/>
          </p:blipFill>
          <p:spPr>
            <a:xfrm>
              <a:off x="1085760" y="4516560"/>
              <a:ext cx="61261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214280" y="4572000"/>
              <a:ext cx="592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SNS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など他のサービスを使った不正誘引が増加傾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家出掲示板などの新たな問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テキスト ボックス 6"/>
          <p:cNvSpPr/>
          <p:nvPr/>
        </p:nvSpPr>
        <p:spPr>
          <a:xfrm>
            <a:off x="3714840" y="3857760"/>
            <a:ext cx="42148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携帯電話のフィルタリングが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下矢印 7"/>
          <p:cNvSpPr/>
          <p:nvPr/>
        </p:nvSpPr>
        <p:spPr>
          <a:xfrm>
            <a:off x="1928880" y="3643200"/>
            <a:ext cx="1500120" cy="785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7"/>
          <p:cNvPicPr/>
          <p:nvPr/>
        </p:nvPicPr>
        <p:blipFill>
          <a:blip r:embed="rId2"/>
          <a:srcRect l="0" t="0" r="0" b="3269"/>
          <a:stretch/>
        </p:blipFill>
        <p:spPr>
          <a:xfrm>
            <a:off x="6858000" y="1500120"/>
            <a:ext cx="1735200" cy="2301840"/>
          </a:xfrm>
          <a:prstGeom prst="rect">
            <a:avLst/>
          </a:prstGeom>
          <a:ln w="0">
            <a:noFill/>
          </a:ln>
        </p:spPr>
      </p:pic>
      <p:sp>
        <p:nvSpPr>
          <p:cNvPr id="488" name="テキスト ボックス 9"/>
          <p:cNvSpPr/>
          <p:nvPr/>
        </p:nvSpPr>
        <p:spPr>
          <a:xfrm>
            <a:off x="1357200" y="5572080"/>
            <a:ext cx="5857920" cy="3682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バーパトロールやプロバイダによる監視体制が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5760-9E5A-45A0-AC46-3FBB84E094A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架空請求・不正請求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7011-A70C-4FAC-B14C-9556D49009E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4"/>
          <p:cNvSpPr/>
          <p:nvPr/>
        </p:nvSpPr>
        <p:spPr>
          <a:xfrm>
            <a:off x="428760" y="128592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架空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一度も利用したことのない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料サイトの利用料金や、契約と異なる有料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5"/>
          <p:cNvSpPr/>
          <p:nvPr/>
        </p:nvSpPr>
        <p:spPr>
          <a:xfrm>
            <a:off x="428760" y="307188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クリック詐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突然「会員登録されました。」というメッセージが表示され、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迷惑メールに記載された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有料サイトに接続（誘導）されて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6"/>
          <p:cNvSpPr/>
          <p:nvPr/>
        </p:nvSpPr>
        <p:spPr>
          <a:xfrm>
            <a:off x="428760" y="2643120"/>
            <a:ext cx="23572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の典型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角丸四角形 7"/>
          <p:cNvGrpSpPr/>
          <p:nvPr/>
        </p:nvGrpSpPr>
        <p:grpSpPr>
          <a:xfrm>
            <a:off x="933480" y="4286160"/>
            <a:ext cx="7199280" cy="803520"/>
            <a:chOff x="933480" y="4286160"/>
            <a:chExt cx="7199280" cy="803520"/>
          </a:xfrm>
        </p:grpSpPr>
        <p:pic>
          <p:nvPicPr>
            <p:cNvPr id="497" name="角丸四角形 7" descr=""/>
            <p:cNvPicPr/>
            <p:nvPr/>
          </p:nvPicPr>
          <p:blipFill>
            <a:blip r:embed="rId1"/>
            <a:stretch/>
          </p:blipFill>
          <p:spPr>
            <a:xfrm>
              <a:off x="933480" y="4286160"/>
              <a:ext cx="719928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031760" y="4389480"/>
              <a:ext cx="7008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契約や会員登録が完了したような表示し、会費をだまし取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心理的な圧迫で代金をだまし取ろうと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テキスト ボックス 9"/>
          <p:cNvSpPr/>
          <p:nvPr/>
        </p:nvSpPr>
        <p:spPr>
          <a:xfrm>
            <a:off x="2500200" y="5214960"/>
            <a:ext cx="51436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怪しいサイト、メールは無視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の了承なしに会員登録することは違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不正請求には一切応じ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右矢印 10"/>
          <p:cNvSpPr/>
          <p:nvPr/>
        </p:nvSpPr>
        <p:spPr>
          <a:xfrm>
            <a:off x="1428840" y="5357880"/>
            <a:ext cx="928440" cy="714240"/>
          </a:xfrm>
          <a:prstGeom prst="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ワン切り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B625-05D5-439E-89DF-0B5B16B2687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テキスト ボックス 5"/>
          <p:cNvSpPr/>
          <p:nvPr/>
        </p:nvSpPr>
        <p:spPr>
          <a:xfrm>
            <a:off x="1285920" y="1714680"/>
            <a:ext cx="47862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一度だけコールし、すぐに電話を切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相手は番号を通知で電話をしてく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テキスト ボックス 6"/>
          <p:cNvSpPr/>
          <p:nvPr/>
        </p:nvSpPr>
        <p:spPr>
          <a:xfrm>
            <a:off x="3071880" y="2571840"/>
            <a:ext cx="31431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ワン切り」に掛け直しをす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テキスト ボックス 7"/>
          <p:cNvSpPr/>
          <p:nvPr/>
        </p:nvSpPr>
        <p:spPr>
          <a:xfrm>
            <a:off x="1285920" y="3143160"/>
            <a:ext cx="4929120" cy="64260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分の携帯番号が知ら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架空の有料サイト使用料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テキスト ボックス 8"/>
          <p:cNvGrpSpPr/>
          <p:nvPr/>
        </p:nvGrpSpPr>
        <p:grpSpPr>
          <a:xfrm>
            <a:off x="1957320" y="3998880"/>
            <a:ext cx="6948720" cy="1487520"/>
            <a:chOff x="1957320" y="3998880"/>
            <a:chExt cx="6948720" cy="1487520"/>
          </a:xfrm>
        </p:grpSpPr>
        <p:pic>
          <p:nvPicPr>
            <p:cNvPr id="508" name="テキスト ボックス 8" descr=""/>
            <p:cNvPicPr/>
            <p:nvPr/>
          </p:nvPicPr>
          <p:blipFill>
            <a:blip r:embed="rId1"/>
            <a:stretch/>
          </p:blipFill>
          <p:spPr>
            <a:xfrm>
              <a:off x="1957320" y="3998880"/>
              <a:ext cx="6948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071800" y="4071960"/>
              <a:ext cx="6715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ワン切りに対しては一切応答し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不正請求はすべて無視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応じると住所等を聞き出されたりして、さらに被害が広が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相談窓口：国民生活センター（消費生活センター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テキスト ボックス 9"/>
          <p:cNvSpPr/>
          <p:nvPr/>
        </p:nvSpPr>
        <p:spPr>
          <a:xfrm>
            <a:off x="857160" y="1285920"/>
            <a:ext cx="157176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切り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下矢印 10"/>
          <p:cNvSpPr/>
          <p:nvPr/>
        </p:nvSpPr>
        <p:spPr>
          <a:xfrm>
            <a:off x="1785960" y="2428920"/>
            <a:ext cx="1143000" cy="642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右矢印 11"/>
          <p:cNvGrpSpPr/>
          <p:nvPr/>
        </p:nvGrpSpPr>
        <p:grpSpPr>
          <a:xfrm>
            <a:off x="639720" y="4114800"/>
            <a:ext cx="1354320" cy="1139760"/>
            <a:chOff x="639720" y="4114800"/>
            <a:chExt cx="1354320" cy="1139760"/>
          </a:xfrm>
        </p:grpSpPr>
        <p:pic>
          <p:nvPicPr>
            <p:cNvPr id="513" name="右矢印 11" descr=""/>
            <p:cNvPicPr/>
            <p:nvPr/>
          </p:nvPicPr>
          <p:blipFill>
            <a:blip r:embed="rId2"/>
            <a:stretch/>
          </p:blipFill>
          <p:spPr>
            <a:xfrm>
              <a:off x="639720" y="4114800"/>
              <a:ext cx="13543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14240" y="4394160"/>
              <a:ext cx="963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2" descr="8"/>
          <p:cNvPicPr/>
          <p:nvPr/>
        </p:nvPicPr>
        <p:blipFill>
          <a:blip r:embed="rId3"/>
          <a:srcRect l="0" t="10299" r="0" b="10299"/>
          <a:stretch/>
        </p:blipFill>
        <p:spPr>
          <a:xfrm>
            <a:off x="6572160" y="1714680"/>
            <a:ext cx="2158920" cy="197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ネット詐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2714760" y="2857680"/>
            <a:ext cx="32144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代金の支払い（振り込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2500200" y="3643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1785960" y="4714920"/>
            <a:ext cx="6072120" cy="15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店舗の実績を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掲載期間（十分に長期間か）、連絡先の明示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きるだけ先払いは避け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取り引きの証拠を残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画面やメールを印刷・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4F9C-B806-40E8-ADFD-D7836FFFD21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テキスト ボックス 12"/>
          <p:cNvSpPr/>
          <p:nvPr/>
        </p:nvSpPr>
        <p:spPr>
          <a:xfrm>
            <a:off x="1285920" y="1571760"/>
            <a:ext cx="6786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商品の取り引きをネットワーク上で行う無店舗型の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販売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785960" y="2000160"/>
            <a:ext cx="710712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ユーザ個人が実際に商品を手に取り、確認することが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3643200" y="2500200"/>
            <a:ext cx="1000080" cy="285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3571920" y="3286080"/>
            <a:ext cx="1143000" cy="3571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テキスト ボックス 16"/>
          <p:cNvGrpSpPr/>
          <p:nvPr/>
        </p:nvGrpSpPr>
        <p:grpSpPr>
          <a:xfrm>
            <a:off x="585720" y="4164120"/>
            <a:ext cx="3052800" cy="560160"/>
            <a:chOff x="585720" y="4164120"/>
            <a:chExt cx="3052800" cy="560160"/>
          </a:xfrm>
        </p:grpSpPr>
        <p:pic>
          <p:nvPicPr>
            <p:cNvPr id="527" name="テキスト ボックス 16" descr=""/>
            <p:cNvPicPr/>
            <p:nvPr/>
          </p:nvPicPr>
          <p:blipFill>
            <a:blip r:embed="rId1"/>
            <a:stretch/>
          </p:blipFill>
          <p:spPr>
            <a:xfrm>
              <a:off x="585720" y="4164120"/>
              <a:ext cx="30528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14240" y="4214880"/>
              <a:ext cx="285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取引に当たっての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テキスト ボックス 17"/>
          <p:cNvSpPr/>
          <p:nvPr/>
        </p:nvSpPr>
        <p:spPr>
          <a:xfrm>
            <a:off x="428760" y="114300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ネットショッピ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ネットオークショ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00040" y="1360800"/>
            <a:ext cx="435780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中古品を出品　→　落札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214720" y="257184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2214720" y="307188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個人の趣味で収集した入手困難なも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1279440" y="1932120"/>
            <a:ext cx="280044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最終的にユーザ同士の取り引き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2214720" y="407196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Gill Sans MT"/>
              </a:rPr>
              <a:t>盗品、毒薬、銃刀類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犯罪に巻き込まれ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071800" y="2643120"/>
            <a:ext cx="71280" cy="1714680"/>
          </a:xfrm>
          <a:custGeom>
            <a:avLst/>
            <a:gdLst>
              <a:gd name="textAreaLeft" fmla="*/ 20880 w 71280"/>
              <a:gd name="textAreaRight" fmla="*/ 71640 w 71280"/>
              <a:gd name="textAreaTop" fmla="*/ 82080 h 1714680"/>
              <a:gd name="textAreaBottom" fmla="*/ 1632600 h 17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36"/>
                  <a:pt x="0" y="2071"/>
                </a:cubicBezTo>
                <a:lnTo>
                  <a:pt x="0" y="19529"/>
                </a:lnTo>
                <a:cubicBezTo>
                  <a:pt x="0" y="2056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Rectangle 10"/>
          <p:cNvGrpSpPr/>
          <p:nvPr/>
        </p:nvGrpSpPr>
        <p:grpSpPr>
          <a:xfrm>
            <a:off x="1957320" y="4668840"/>
            <a:ext cx="6821640" cy="1639800"/>
            <a:chOff x="1957320" y="4668840"/>
            <a:chExt cx="6821640" cy="1639800"/>
          </a:xfrm>
        </p:grpSpPr>
        <p:pic>
          <p:nvPicPr>
            <p:cNvPr id="538" name="Rectangle 10" descr=""/>
            <p:cNvPicPr/>
            <p:nvPr/>
          </p:nvPicPr>
          <p:blipFill>
            <a:blip r:embed="rId1"/>
            <a:stretch/>
          </p:blipFill>
          <p:spPr>
            <a:xfrm>
              <a:off x="1957320" y="4668840"/>
              <a:ext cx="68216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071800" y="4714920"/>
              <a:ext cx="66434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すると犯罪になるもの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詐欺に備え、取り引きの証拠を残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と関係ないメールには注意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犯罪者にメールアドレスやパスワードのヒントを与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 Box 12"/>
          <p:cNvSpPr/>
          <p:nvPr/>
        </p:nvSpPr>
        <p:spPr>
          <a:xfrm>
            <a:off x="5500800" y="1428840"/>
            <a:ext cx="31669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古物営業法（第５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785880" y="3286080"/>
            <a:ext cx="122400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2214720" y="357192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家電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V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本、ゲーム、衣類、食品、チケット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574F-F7EF-4B11-88C1-C9467CE2663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右矢印 15"/>
          <p:cNvGrpSpPr/>
          <p:nvPr/>
        </p:nvGrpSpPr>
        <p:grpSpPr>
          <a:xfrm>
            <a:off x="853920" y="4968720"/>
            <a:ext cx="1140120" cy="1140120"/>
            <a:chOff x="853920" y="4968720"/>
            <a:chExt cx="1140120" cy="1140120"/>
          </a:xfrm>
        </p:grpSpPr>
        <p:pic>
          <p:nvPicPr>
            <p:cNvPr id="546" name="右矢印 15" descr=""/>
            <p:cNvPicPr/>
            <p:nvPr/>
          </p:nvPicPr>
          <p:blipFill>
            <a:blip r:embed="rId2"/>
            <a:stretch/>
          </p:blipFill>
          <p:spPr>
            <a:xfrm>
              <a:off x="853920" y="4968720"/>
              <a:ext cx="114012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928800" y="5251320"/>
              <a:ext cx="749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不正アクセス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720" y="3142800"/>
            <a:ext cx="7643520" cy="178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送信されたメールを盗み見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盗用したユーザ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を利用して、サーバを破壊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そのプロバイダが提供するさまざまなサービスを不正に利用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なりすまして、詐欺をはたらく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ーバを踏み台にして、別のサーバを攻撃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714240" y="1214280"/>
            <a:ext cx="2928960" cy="3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1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不正アクセス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571680" y="2714760"/>
            <a:ext cx="3457440" cy="428400"/>
          </a:xfrm>
          <a:prstGeom prst="roundRect">
            <a:avLst>
              <a:gd name="adj" fmla="val 16667"/>
            </a:avLst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Gill Sans MT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Text Box 6"/>
          <p:cNvGrpSpPr/>
          <p:nvPr/>
        </p:nvGrpSpPr>
        <p:grpSpPr>
          <a:xfrm>
            <a:off x="480960" y="4913280"/>
            <a:ext cx="3249720" cy="646200"/>
            <a:chOff x="480960" y="4913280"/>
            <a:chExt cx="3249720" cy="646200"/>
          </a:xfrm>
        </p:grpSpPr>
        <p:pic>
          <p:nvPicPr>
            <p:cNvPr id="360" name="Text Box 6" descr=""/>
            <p:cNvPicPr/>
            <p:nvPr/>
          </p:nvPicPr>
          <p:blipFill>
            <a:blip r:embed="rId1"/>
            <a:stretch/>
          </p:blipFill>
          <p:spPr>
            <a:xfrm>
              <a:off x="480960" y="4913280"/>
              <a:ext cx="32497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42960" y="500076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不正アクセス禁止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Text Box 7"/>
          <p:cNvGrpSpPr/>
          <p:nvPr/>
        </p:nvGrpSpPr>
        <p:grpSpPr>
          <a:xfrm>
            <a:off x="1225440" y="5430960"/>
            <a:ext cx="6315120" cy="561960"/>
            <a:chOff x="1225440" y="5430960"/>
            <a:chExt cx="6315120" cy="561960"/>
          </a:xfrm>
        </p:grpSpPr>
        <p:pic>
          <p:nvPicPr>
            <p:cNvPr id="363" name="Text Box 7" descr=""/>
            <p:cNvPicPr/>
            <p:nvPr/>
          </p:nvPicPr>
          <p:blipFill>
            <a:blip r:embed="rId2"/>
            <a:stretch/>
          </p:blipFill>
          <p:spPr>
            <a:xfrm>
              <a:off x="1225440" y="5430960"/>
              <a:ext cx="63151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357200" y="55008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他人のアカウントによるアクセスはすべて犯罪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Text Box 8"/>
          <p:cNvGrpSpPr/>
          <p:nvPr/>
        </p:nvGrpSpPr>
        <p:grpSpPr>
          <a:xfrm>
            <a:off x="1225440" y="5877000"/>
            <a:ext cx="6321600" cy="560160"/>
            <a:chOff x="1225440" y="5877000"/>
            <a:chExt cx="6321600" cy="560160"/>
          </a:xfrm>
        </p:grpSpPr>
        <p:pic>
          <p:nvPicPr>
            <p:cNvPr id="366" name="Text Box 8" descr=""/>
            <p:cNvPicPr/>
            <p:nvPr/>
          </p:nvPicPr>
          <p:blipFill>
            <a:blip r:embed="rId3"/>
            <a:stretch/>
          </p:blipFill>
          <p:spPr>
            <a:xfrm>
              <a:off x="1225440" y="5877000"/>
              <a:ext cx="6321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357200" y="59292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いたずら目的でも処罰対象にな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0"/>
          <p:cNvSpPr/>
          <p:nvPr/>
        </p:nvSpPr>
        <p:spPr>
          <a:xfrm>
            <a:off x="1214280" y="5500800"/>
            <a:ext cx="71640" cy="863640"/>
          </a:xfrm>
          <a:custGeom>
            <a:avLst/>
            <a:gdLst>
              <a:gd name="textAreaLeft" fmla="*/ 20880 w 71640"/>
              <a:gd name="textAreaRight" fmla="*/ 72000 w 71640"/>
              <a:gd name="textAreaTop" fmla="*/ 38880 h 863640"/>
              <a:gd name="textAreaBottom" fmla="*/ 82476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75"/>
                  <a:pt x="0" y="1949"/>
                </a:cubicBezTo>
                <a:lnTo>
                  <a:pt x="0" y="19651"/>
                </a:lnTo>
                <a:cubicBezTo>
                  <a:pt x="0" y="2062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テキスト ボックス 9"/>
          <p:cNvSpPr/>
          <p:nvPr/>
        </p:nvSpPr>
        <p:spPr>
          <a:xfrm>
            <a:off x="1285920" y="2000160"/>
            <a:ext cx="685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なりすまし：盗用などで知った他人のアカウントでアクセスす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助長行為：正規のユーザに無断で、アカウントを提供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A7C4-238B-495C-B413-0556720864C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テキスト ボックス 12"/>
          <p:cNvSpPr/>
          <p:nvPr/>
        </p:nvSpPr>
        <p:spPr>
          <a:xfrm>
            <a:off x="1285920" y="15717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llegal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アカウント盗用の防止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785880"/>
          </a:xfrm>
          <a:prstGeom prst="rect">
            <a:avLst/>
          </a:prstGeom>
          <a:solidFill>
            <a:srgbClr val="d2da7a"/>
          </a:solidFill>
          <a:ln w="19080">
            <a:solidFill>
              <a:srgbClr val="9aa05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715000" y="235728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各運用団体での禁止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Text Box 5"/>
          <p:cNvGrpSpPr/>
          <p:nvPr/>
        </p:nvGrpSpPr>
        <p:grpSpPr>
          <a:xfrm>
            <a:off x="55440" y="2359080"/>
            <a:ext cx="4980240" cy="633240"/>
            <a:chOff x="55440" y="2359080"/>
            <a:chExt cx="4980240" cy="633240"/>
          </a:xfrm>
        </p:grpSpPr>
        <p:pic>
          <p:nvPicPr>
            <p:cNvPr id="377" name="Text Box 5" descr=""/>
            <p:cNvPicPr/>
            <p:nvPr/>
          </p:nvPicPr>
          <p:blipFill>
            <a:blip r:embed="rId1"/>
            <a:stretch/>
          </p:blipFill>
          <p:spPr>
            <a:xfrm>
              <a:off x="55440" y="2359080"/>
              <a:ext cx="49802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14200" y="242892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ＭＳ Ｐゴシック"/>
                </a:rPr>
                <a:t>ID</a:t>
              </a: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・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パスワードなどを故意に漏ら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Text Box 6"/>
          <p:cNvGrpSpPr/>
          <p:nvPr/>
        </p:nvGrpSpPr>
        <p:grpSpPr>
          <a:xfrm>
            <a:off x="55440" y="2925720"/>
            <a:ext cx="4980240" cy="646200"/>
            <a:chOff x="55440" y="2925720"/>
            <a:chExt cx="4980240" cy="646200"/>
          </a:xfrm>
        </p:grpSpPr>
        <p:pic>
          <p:nvPicPr>
            <p:cNvPr id="380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2925720"/>
              <a:ext cx="4980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14200" y="300024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カウントを本人に無断で貸し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AutoShape 7"/>
          <p:cNvSpPr/>
          <p:nvPr/>
        </p:nvSpPr>
        <p:spPr>
          <a:xfrm>
            <a:off x="5000760" y="271476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Text Box 8"/>
          <p:cNvGrpSpPr/>
          <p:nvPr/>
        </p:nvGrpSpPr>
        <p:grpSpPr>
          <a:xfrm>
            <a:off x="55440" y="3481560"/>
            <a:ext cx="5052960" cy="1004760"/>
            <a:chOff x="55440" y="3481560"/>
            <a:chExt cx="5052960" cy="1004760"/>
          </a:xfrm>
        </p:grpSpPr>
        <p:pic>
          <p:nvPicPr>
            <p:cNvPr id="384" name="Text Box 8" descr=""/>
            <p:cNvPicPr/>
            <p:nvPr/>
          </p:nvPicPr>
          <p:blipFill>
            <a:blip r:embed="rId3"/>
            <a:stretch/>
          </p:blipFill>
          <p:spPr>
            <a:xfrm>
              <a:off x="55440" y="3481560"/>
              <a:ext cx="50529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14200" y="3571920"/>
              <a:ext cx="4753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管理者を装いパスワードを聞き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（ソーシャルエンジニアリング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9"/>
          <p:cNvSpPr/>
          <p:nvPr/>
        </p:nvSpPr>
        <p:spPr>
          <a:xfrm>
            <a:off x="5000760" y="371484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715000" y="357192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一切応じず、プロバイダに届け出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Rectangle 13"/>
          <p:cNvGrpSpPr/>
          <p:nvPr/>
        </p:nvGrpSpPr>
        <p:grpSpPr>
          <a:xfrm>
            <a:off x="2560680" y="4784760"/>
            <a:ext cx="6364080" cy="1414440"/>
            <a:chOff x="2560680" y="4784760"/>
            <a:chExt cx="6364080" cy="1414440"/>
          </a:xfrm>
        </p:grpSpPr>
        <p:pic>
          <p:nvPicPr>
            <p:cNvPr id="389" name="Rectangle 13" descr=""/>
            <p:cNvPicPr/>
            <p:nvPr/>
          </p:nvPicPr>
          <p:blipFill>
            <a:blip r:embed="rId4"/>
            <a:stretch/>
          </p:blipFill>
          <p:spPr>
            <a:xfrm>
              <a:off x="2560680" y="4784760"/>
              <a:ext cx="63640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643120" y="4857840"/>
              <a:ext cx="61930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大文字と小文字に数字や記号を混ぜた長い文字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単語、地名、人名などをそのまま単独で使わ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個人情報（誕生日など）と無関係なものに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AutoShape 14"/>
          <p:cNvSpPr/>
          <p:nvPr/>
        </p:nvSpPr>
        <p:spPr>
          <a:xfrm>
            <a:off x="428760" y="485784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5DBA-F798-46F0-AFFB-9EAE7123138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個人情報の漏洩（ろうえい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5" name="Rectangle 3"/>
          <p:cNvGrpSpPr/>
          <p:nvPr/>
        </p:nvGrpSpPr>
        <p:grpSpPr>
          <a:xfrm>
            <a:off x="2670120" y="4552920"/>
            <a:ext cx="3633840" cy="1182600"/>
            <a:chOff x="2670120" y="4552920"/>
            <a:chExt cx="3633840" cy="1182600"/>
          </a:xfrm>
        </p:grpSpPr>
        <p:pic>
          <p:nvPicPr>
            <p:cNvPr id="396" name="Rectangle 3" descr=""/>
            <p:cNvPicPr/>
            <p:nvPr/>
          </p:nvPicPr>
          <p:blipFill>
            <a:blip r:embed="rId1"/>
            <a:stretch/>
          </p:blipFill>
          <p:spPr>
            <a:xfrm>
              <a:off x="2670120" y="4552920"/>
              <a:ext cx="36338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786040" y="4643280"/>
              <a:ext cx="34574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流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収集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Rectangle 4"/>
          <p:cNvGrpSpPr/>
          <p:nvPr/>
        </p:nvGrpSpPr>
        <p:grpSpPr>
          <a:xfrm>
            <a:off x="1133640" y="1530360"/>
            <a:ext cx="6887880" cy="1859040"/>
            <a:chOff x="1133640" y="1530360"/>
            <a:chExt cx="6887880" cy="1859040"/>
          </a:xfrm>
        </p:grpSpPr>
        <p:pic>
          <p:nvPicPr>
            <p:cNvPr id="399" name="Rectangle 4" descr=""/>
            <p:cNvPicPr/>
            <p:nvPr/>
          </p:nvPicPr>
          <p:blipFill>
            <a:blip r:embed="rId2"/>
            <a:stretch/>
          </p:blipFill>
          <p:spPr>
            <a:xfrm>
              <a:off x="1133640" y="1530360"/>
              <a:ext cx="68878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357200" y="1571760"/>
              <a:ext cx="633744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fffff"/>
                  </a:solidFill>
                  <a:latin typeface="Gill Sans MT"/>
                </a:rPr>
                <a:t>ネット上で個人情報を入力する機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カード番号やパスワード    ： 電子商取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メールや住所等の連絡先  ： 懸賞、アンケー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3571920" y="364320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B353-2887-477D-8484-21F51B804F2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流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000760" y="1714680"/>
            <a:ext cx="3528720" cy="107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プライバシーが侵害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流出した情報を悪用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会的信用が失墜す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357120" y="1571760"/>
            <a:ext cx="4392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7143840" y="714240"/>
            <a:ext cx="1730160" cy="928800"/>
          </a:xfrm>
          <a:prstGeom prst="irregularSeal1">
            <a:avLst/>
          </a:prstGeom>
          <a:solidFill>
            <a:srgbClr val="8e736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428760" y="3214800"/>
            <a:ext cx="410364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に持ち出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4786200" y="3214800"/>
            <a:ext cx="403236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盗難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Rectangle 9"/>
          <p:cNvGrpSpPr/>
          <p:nvPr/>
        </p:nvGrpSpPr>
        <p:grpSpPr>
          <a:xfrm>
            <a:off x="360360" y="5218200"/>
            <a:ext cx="4303800" cy="1170000"/>
            <a:chOff x="360360" y="5218200"/>
            <a:chExt cx="4303800" cy="1170000"/>
          </a:xfrm>
        </p:grpSpPr>
        <p:pic>
          <p:nvPicPr>
            <p:cNvPr id="411" name="Rectangle 9" descr=""/>
            <p:cNvPicPr/>
            <p:nvPr/>
          </p:nvPicPr>
          <p:blipFill>
            <a:blip r:embed="rId1"/>
            <a:stretch/>
          </p:blipFill>
          <p:spPr>
            <a:xfrm>
              <a:off x="360360" y="5218200"/>
              <a:ext cx="4303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28760" y="5286240"/>
              <a:ext cx="417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機密情報に関し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組織内のルール策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Rectangle 11"/>
          <p:cNvGrpSpPr/>
          <p:nvPr/>
        </p:nvGrpSpPr>
        <p:grpSpPr>
          <a:xfrm>
            <a:off x="4718160" y="5218200"/>
            <a:ext cx="4236840" cy="1170000"/>
            <a:chOff x="4718160" y="5218200"/>
            <a:chExt cx="4236840" cy="1170000"/>
          </a:xfrm>
        </p:grpSpPr>
        <p:pic>
          <p:nvPicPr>
            <p:cNvPr id="414" name="Rectangle 11" descr=""/>
            <p:cNvPicPr/>
            <p:nvPr/>
          </p:nvPicPr>
          <p:blipFill>
            <a:blip r:embed="rId2"/>
            <a:stretch/>
          </p:blipFill>
          <p:spPr>
            <a:xfrm>
              <a:off x="4718160" y="5218200"/>
              <a:ext cx="4236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786200" y="5286240"/>
              <a:ext cx="41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パスワードやＰＣ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盗難に注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12"/>
          <p:cNvSpPr/>
          <p:nvPr/>
        </p:nvSpPr>
        <p:spPr>
          <a:xfrm>
            <a:off x="1714680" y="471492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5929200" y="47149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349E-9B58-4B2B-8280-B7F3E665DC5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収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760" y="1285920"/>
            <a:ext cx="2420640" cy="571320"/>
          </a:xfrm>
          <a:prstGeom prst="parallelogram">
            <a:avLst>
              <a:gd name="adj" fmla="val 14672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Gill Sans MT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9" descr="MCj02872830000[1]"/>
          <p:cNvPicPr/>
          <p:nvPr/>
        </p:nvPicPr>
        <p:blipFill>
          <a:blip r:embed="rId1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423" name="Line 11"/>
          <p:cNvSpPr/>
          <p:nvPr/>
        </p:nvSpPr>
        <p:spPr>
          <a:xfrm flipV="1">
            <a:off x="3500280" y="3286080"/>
            <a:ext cx="928800" cy="1000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1428840" y="36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6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0" descr="MCj02320470000[1]"/>
          <p:cNvPicPr/>
          <p:nvPr/>
        </p:nvPicPr>
        <p:blipFill>
          <a:blip r:embed="rId2"/>
          <a:stretch/>
        </p:blipFill>
        <p:spPr>
          <a:xfrm>
            <a:off x="4433760" y="2071800"/>
            <a:ext cx="1656000" cy="1282680"/>
          </a:xfrm>
          <a:prstGeom prst="rect">
            <a:avLst/>
          </a:prstGeom>
          <a:ln w="0">
            <a:noFill/>
          </a:ln>
        </p:spPr>
      </p:pic>
      <p:sp>
        <p:nvSpPr>
          <p:cNvPr id="430" name="Line 21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2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3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ext Box 24"/>
          <p:cNvGrpSpPr/>
          <p:nvPr/>
        </p:nvGrpSpPr>
        <p:grpSpPr>
          <a:xfrm>
            <a:off x="3584520" y="4286160"/>
            <a:ext cx="3144960" cy="876240"/>
            <a:chOff x="3584520" y="4286160"/>
            <a:chExt cx="3144960" cy="876240"/>
          </a:xfrm>
        </p:grpSpPr>
        <p:pic>
          <p:nvPicPr>
            <p:cNvPr id="434" name="Text Box 24" descr=""/>
            <p:cNvPicPr/>
            <p:nvPr/>
          </p:nvPicPr>
          <p:blipFill>
            <a:blip r:embed="rId3"/>
            <a:stretch/>
          </p:blipFill>
          <p:spPr>
            <a:xfrm>
              <a:off x="3584520" y="4286160"/>
              <a:ext cx="314496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3714840" y="4357800"/>
              <a:ext cx="295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アンケートフォームなどで個人情報を釣り上げ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14" descr="MCBD06551_0000[1]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25"/>
          <p:cNvSpPr/>
          <p:nvPr/>
        </p:nvSpPr>
        <p:spPr>
          <a:xfrm>
            <a:off x="1643040" y="5715000"/>
            <a:ext cx="6120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290D-650D-4595-97E6-A7D6367D506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6-2"/>
          <p:cNvPicPr/>
          <p:nvPr/>
        </p:nvPicPr>
        <p:blipFill>
          <a:blip r:embed="rId5"/>
          <a:stretch/>
        </p:blipFill>
        <p:spPr>
          <a:xfrm>
            <a:off x="428760" y="194940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MCj03429990000[1]"/>
          <p:cNvPicPr/>
          <p:nvPr/>
        </p:nvPicPr>
        <p:blipFill>
          <a:blip r:embed="rId6"/>
          <a:stretch/>
        </p:blipFill>
        <p:spPr>
          <a:xfrm>
            <a:off x="1785960" y="4143240"/>
            <a:ext cx="1800360" cy="125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2.3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クロスサイト・スクリプティン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3" name="Picture 5" descr="MCj02320470000[1]"/>
          <p:cNvPicPr/>
          <p:nvPr/>
        </p:nvPicPr>
        <p:blipFill>
          <a:blip r:embed="rId1"/>
          <a:stretch/>
        </p:blipFill>
        <p:spPr>
          <a:xfrm>
            <a:off x="1071720" y="171468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MCBD06551_0000[1]"/>
          <p:cNvPicPr/>
          <p:nvPr/>
        </p:nvPicPr>
        <p:blipFill>
          <a:blip r:embed="rId2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MCj02872830000[1]"/>
          <p:cNvPicPr/>
          <p:nvPr/>
        </p:nvPicPr>
        <p:blipFill>
          <a:blip r:embed="rId3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446" name="Line 8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4646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1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2928960" y="4572000"/>
            <a:ext cx="266544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Text Box 13"/>
          <p:cNvGrpSpPr/>
          <p:nvPr/>
        </p:nvGrpSpPr>
        <p:grpSpPr>
          <a:xfrm>
            <a:off x="4986360" y="3790800"/>
            <a:ext cx="2603520" cy="648000"/>
            <a:chOff x="4986360" y="3790800"/>
            <a:chExt cx="2603520" cy="648000"/>
          </a:xfrm>
        </p:grpSpPr>
        <p:pic>
          <p:nvPicPr>
            <p:cNvPr id="451" name="Text Box 13" descr=""/>
            <p:cNvPicPr/>
            <p:nvPr/>
          </p:nvPicPr>
          <p:blipFill>
            <a:blip r:embed="rId4"/>
            <a:stretch/>
          </p:blipFill>
          <p:spPr>
            <a:xfrm>
              <a:off x="4986360" y="3790800"/>
              <a:ext cx="260352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148360" y="3860640"/>
              <a:ext cx="23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別サイトへ誘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1500120" y="5214960"/>
            <a:ext cx="6120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ブラウザでスクリプトの実行を許可すると危険がともな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oki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情報を持ち出されないように削除してお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MCj03429990000[1]"/>
          <p:cNvPicPr/>
          <p:nvPr/>
        </p:nvPicPr>
        <p:blipFill>
          <a:blip r:embed="rId5"/>
          <a:stretch/>
        </p:blipFill>
        <p:spPr>
          <a:xfrm>
            <a:off x="1071720" y="3643200"/>
            <a:ext cx="1800000" cy="1252800"/>
          </a:xfrm>
          <a:prstGeom prst="rect">
            <a:avLst/>
          </a:prstGeom>
          <a:ln w="0">
            <a:noFill/>
          </a:ln>
        </p:spPr>
      </p:pic>
      <p:sp>
        <p:nvSpPr>
          <p:cNvPr id="457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9537-06E9-41D3-81A0-F8BCC1E7973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utoShape 15"/>
          <p:cNvSpPr/>
          <p:nvPr/>
        </p:nvSpPr>
        <p:spPr>
          <a:xfrm>
            <a:off x="1785960" y="3571920"/>
            <a:ext cx="590400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e7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出会い系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28800" y="1428840"/>
            <a:ext cx="27144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928800" y="2571840"/>
            <a:ext cx="2665440" cy="82548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857840" y="1428840"/>
            <a:ext cx="338436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57840" y="2571840"/>
            <a:ext cx="3384360" cy="45972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携帯電話の番号通知で本人を認証さ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2214720" y="37148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男性の被害：金品を強奪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1928880" y="42861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>
            <a:off x="221472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642924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3"/>
          <p:cNvSpPr/>
          <p:nvPr/>
        </p:nvSpPr>
        <p:spPr>
          <a:xfrm>
            <a:off x="357120" y="5072040"/>
            <a:ext cx="396072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軽い気持ちで会わ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4714920" y="5072040"/>
            <a:ext cx="388764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慎重かつ分別ある行動を！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182C-F800-4B97-9333-D3DA99C99D8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出会い系サイトに関係した事件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57120" y="1285920"/>
          <a:ext cx="8429760" cy="2293920"/>
        </p:xfrm>
        <a:graphic>
          <a:graphicData uri="http://schemas.openxmlformats.org/drawingml/2006/table">
            <a:tbl>
              <a:tblPr/>
              <a:tblGrid>
                <a:gridCol w="3470400"/>
                <a:gridCol w="995400"/>
                <a:gridCol w="992160"/>
                <a:gridCol w="992160"/>
                <a:gridCol w="992160"/>
                <a:gridCol w="987480"/>
              </a:tblGrid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検挙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5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6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7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8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買春・児童ポルノ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青少年保護育成条例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福祉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出会い系サイト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重要犯罪（殺人・強盗・放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粗暴犯（暴行・傷害・脅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その他（窃盗・詐欺・その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合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9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テキスト ボックス 4"/>
          <p:cNvSpPr/>
          <p:nvPr/>
        </p:nvSpPr>
        <p:spPr>
          <a:xfrm>
            <a:off x="500040" y="4071960"/>
            <a:ext cx="8143920" cy="180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買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出会い系サイトを連絡掲示板として使った違法行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の側が金銭目当てに買春を誘う不正誘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を携帯電話で撮影し、わいせつ画像をインターネット上に掲載、販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写真をばらまくと脅迫され、お金を恐喝されるケース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爆発 2 5"/>
          <p:cNvSpPr/>
          <p:nvPr/>
        </p:nvSpPr>
        <p:spPr>
          <a:xfrm>
            <a:off x="6357960" y="3643200"/>
            <a:ext cx="2500200" cy="1428840"/>
          </a:xfrm>
          <a:prstGeom prst="irregularSeal2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も顕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6A0D-7866-4E04-94B2-69106E6FC68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T.Yamazumi</cp:lastModifiedBy>
  <dcterms:modified xsi:type="dcterms:W3CDTF">2009-11-02T05:03:30Z</dcterms:modified>
  <cp:revision>111</cp:revision>
  <dc:subject/>
  <dc:title>ネットワーク社会の情報倫理</dc:title>
</cp:coreProperties>
</file>