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5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DB09-4A34-4A8C-B385-4093DC9B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DE2F-ECE7-4173-BA44-D4FE4979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3649-ED9B-4E90-BB0C-0158E12C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81D-4BBE-485B-9B93-98347A27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A6D0-817A-4376-9D09-AB0EEEE7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ECA6-3680-4C08-97A5-93ED3ED1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83C4-D196-495C-92E8-A5407E2A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65A7-96D6-4E2C-BDF9-AF3E5F3B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DFBD-1B1B-4CA8-9073-8ACC9424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54FD-F657-415D-AF3A-3F711079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0E58-F59C-4354-8EAA-C7394D22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56F9-4BCB-46E4-AD0A-53EEA82C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EF8D-A50D-489B-BD53-7C6272E6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C42D-1048-4885-B66D-FA08F603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8B7D-249F-450C-B686-677CD4AB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A659-D8A4-499E-9EC3-B2B984EC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B52F-F19A-414C-BFC2-0236253B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2C0DD-931D-4DD3-8E83-226510DB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042D3-A8CC-4A35-9953-9E8B0E04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5AC86-5CA8-4C36-8D85-1C95F35E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865D2-1DF3-42A9-901D-4B8AB4EB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11BFB-5BEE-4683-AF14-52150789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054-ECDD-4BAF-A61C-21358F37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335A2-C575-4D19-9DF2-6DCFF937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5CE58-D3A1-40A2-AB27-C260B44E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8EFC0-9BE2-44E4-98AE-2FB20DAA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61C25-0A3F-47D6-ACE5-8053AE2E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6844C-6226-42FB-87FF-4DF7E569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92099-C036-49C0-9650-C2CD671D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E833C-FFAE-4066-8CFD-ADA84F4F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570A0-88FD-49CD-9735-E18E8740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5CB18-462D-4625-92CB-CBA09414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3B551-6F0A-4AAF-ADD8-03670448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816-586F-4553-8119-E9A1C982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0C7A5-9AC7-4289-87C7-5BE343AB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3D9BA-E8E6-4F4A-8FF9-27FC5B15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2F4A8-0191-4EBB-B6B2-47051EF2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50B83-D2AD-4A74-9CB5-427D2274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A5CE5-1187-4934-BC67-0C29606D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E20AC-6E55-4A99-9A95-CF9C4708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AC2B1-6EC5-4EE1-AAB7-A4A142FB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A5040-CDE1-4ED2-80E2-EE8175D2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9CACA-5577-4520-9335-E88B2EE7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E360C-A761-4C56-A194-2566C1F2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3CC-1E6C-4199-A75C-4097F4CF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AD05F-41D3-4930-B70B-B72782F0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BDFAB-16D7-429F-89CE-5B3EFEC5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CF069-6A72-4D7A-A51F-F8D0DA60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CAF78-1756-4E6A-B7C1-E96F2881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B8556-9A72-42EC-80BF-C19F876D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8EB32-0E3E-4889-8643-66595902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A9CF6-8DC3-4403-A15E-24846F26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790AF-4CBA-4E9F-8471-FBDE03B2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78024-28C2-4DB8-B7E6-528E3C33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AB49B-4BA0-432E-94F6-9083C41A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3540-B70D-45C7-9700-6236FFDF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D5525-6163-4825-8A71-C6D6E26A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9B838-8EB1-44AC-BA30-7DF79697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8382A-695E-4837-8A50-FAD7115C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12D02-2F5E-4D56-8A78-91A55AA3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B46C0-95F4-48D3-9A80-1AC6DBC9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6302C-A456-4679-B9B6-08BEC00F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391A9-5654-45B9-833C-729CF517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7458E-D826-434D-9F18-F309DF9C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C0E99-0094-434B-8A58-BE96CC82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F9CE3-5BC8-4BD8-A64A-7BA89FFD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7F60-237F-4FC4-BF09-1345582F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80A3F-9887-49CE-9D53-0B6A98C7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8071B-116D-4023-A022-06F3A17C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C74BD-5C2C-4F3B-A34A-608AEF0E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1DD0B-E201-47A3-9EAE-ECF842D2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D8D81-23F8-4634-90B9-D7487308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DB397-371D-427D-8330-2CCCCFEC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B5845-C809-42F5-9A14-66D92F77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47092-2A95-4BA6-A301-69BC1D8F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0E30A-2C55-40D6-8402-8BDC636C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3D8B2-0356-4E89-AA02-8EE584A2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1CD-2013-49B3-B58F-724D460F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C95DA-CA20-4129-B4CF-D6E3BB76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FBA52-82F1-4F6A-B14C-5AC07BC5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28587-4D02-4623-A1D7-120EC0C6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C4D36-3E4B-437D-9B5C-D8A68D72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818D7-A9A3-4679-AA2E-4BD8AD33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634B7-D9A8-4565-B8A2-176320A4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CC16C-A3E5-435E-B260-909EB152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59BC4-C9DB-4C6C-A5B5-F8BFDCCF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3CB5A-BDF0-43D8-B67A-4DAAB491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6CBB7-4F29-4D95-BDB7-41B56CA9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005-1D34-43DF-AF40-19B4A68C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4DD12-8602-466B-813F-E2A1B73B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9A245-0C9A-42BA-9FA8-E637B164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9A049-777E-4C01-8940-D9C9A634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9B452-0D0D-4C39-949E-CC63B6EA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A2C11-21D7-4FA0-BEE4-290BA8A7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C17CA-2636-4443-9A37-58B16F90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E1301-FF79-4F11-83F7-92DD7FAA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6608-5137-445E-81E3-95ACB6279B1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6F71-4A49-40DE-A0FB-F759D8AEF36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6E61-0840-49A2-AE1C-EC1D630533B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8AFC-36FC-4A16-BED6-683C2D8C359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2461-A8B5-41CE-BB54-CDCD90F152E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3FDF-4538-46BE-877A-BD4F353DD88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7E40-7485-402C-B762-9BF61C57C15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9546-6ED9-4301-9174-AAFFDD1800F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wmf"/><Relationship Id="rId3" Type="http://schemas.openxmlformats.org/officeDocument/2006/relationships/image" Target="../media/image13.wmf"/><Relationship Id="rId4" Type="http://schemas.openxmlformats.org/officeDocument/2006/relationships/image" Target="../media/image19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85920" y="514332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</a:t>
            </a:r>
            <a:r>
              <a:rPr b="0" lang="en-US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2</a:t>
            </a: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章　ネットワーク犯罪（前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2" descr="5"/>
          <p:cNvPicPr/>
          <p:nvPr/>
        </p:nvPicPr>
        <p:blipFill>
          <a:blip r:embed="rId1"/>
          <a:srcRect l="4642" t="6698" r="4642" b="6698"/>
          <a:stretch/>
        </p:blipFill>
        <p:spPr>
          <a:xfrm>
            <a:off x="6210360" y="1857240"/>
            <a:ext cx="21747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3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今後の対策と新しい傾向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9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3"/>
          <p:cNvSpPr/>
          <p:nvPr/>
        </p:nvSpPr>
        <p:spPr>
          <a:xfrm>
            <a:off x="571680" y="1285920"/>
            <a:ext cx="4143240" cy="459720"/>
          </a:xfrm>
          <a:prstGeom prst="rect">
            <a:avLst/>
          </a:prstGeom>
          <a:solidFill>
            <a:srgbClr val="727ca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出会い系サイト規制法の改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テキスト ボックス 4"/>
          <p:cNvSpPr/>
          <p:nvPr/>
        </p:nvSpPr>
        <p:spPr>
          <a:xfrm>
            <a:off x="928800" y="1857240"/>
            <a:ext cx="5286240" cy="161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インターネット異性紹介事業者は届け出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利用者が児童でないことを確認する義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適切な書き込みを削除する義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パトロール活動や自主的な規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各プロバイダのフィルタリング機能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テキスト ボックス 5"/>
          <p:cNvGrpSpPr/>
          <p:nvPr/>
        </p:nvGrpSpPr>
        <p:grpSpPr>
          <a:xfrm>
            <a:off x="1085760" y="4516560"/>
            <a:ext cx="6126120" cy="873000"/>
            <a:chOff x="1085760" y="4516560"/>
            <a:chExt cx="6126120" cy="873000"/>
          </a:xfrm>
        </p:grpSpPr>
        <p:pic>
          <p:nvPicPr>
            <p:cNvPr id="483" name="テキスト ボックス 5" descr=""/>
            <p:cNvPicPr/>
            <p:nvPr/>
          </p:nvPicPr>
          <p:blipFill>
            <a:blip r:embed="rId1"/>
            <a:stretch/>
          </p:blipFill>
          <p:spPr>
            <a:xfrm>
              <a:off x="1085760" y="4516560"/>
              <a:ext cx="612612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1214280" y="4572000"/>
              <a:ext cx="592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SNS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など他のサービスを使った不正誘引が増加傾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家出掲示板などの新たな問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テキスト ボックス 6"/>
          <p:cNvSpPr/>
          <p:nvPr/>
        </p:nvSpPr>
        <p:spPr>
          <a:xfrm>
            <a:off x="3714840" y="3857760"/>
            <a:ext cx="421488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携帯電話のフィルタリングが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下矢印 7"/>
          <p:cNvSpPr/>
          <p:nvPr/>
        </p:nvSpPr>
        <p:spPr>
          <a:xfrm>
            <a:off x="1928880" y="3643200"/>
            <a:ext cx="1500120" cy="785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7"/>
          <p:cNvPicPr/>
          <p:nvPr/>
        </p:nvPicPr>
        <p:blipFill>
          <a:blip r:embed="rId2"/>
          <a:srcRect l="0" t="0" r="0" b="3269"/>
          <a:stretch/>
        </p:blipFill>
        <p:spPr>
          <a:xfrm>
            <a:off x="6858000" y="1500120"/>
            <a:ext cx="1735200" cy="2301840"/>
          </a:xfrm>
          <a:prstGeom prst="rect">
            <a:avLst/>
          </a:prstGeom>
          <a:ln w="0">
            <a:noFill/>
          </a:ln>
        </p:spPr>
      </p:pic>
      <p:sp>
        <p:nvSpPr>
          <p:cNvPr id="488" name="テキスト ボックス 9"/>
          <p:cNvSpPr/>
          <p:nvPr/>
        </p:nvSpPr>
        <p:spPr>
          <a:xfrm>
            <a:off x="1357200" y="5572080"/>
            <a:ext cx="5857920" cy="3682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イバーパトロールやプロバイダによる監視体制が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03A2-9411-4FC6-91B2-5B6BBB4F171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　架空請求・不正請求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E256-FBFD-451A-8EF2-9A8996EAF41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4"/>
          <p:cNvSpPr/>
          <p:nvPr/>
        </p:nvSpPr>
        <p:spPr>
          <a:xfrm>
            <a:off x="428760" y="1285920"/>
            <a:ext cx="8072280" cy="125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架空請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一度も利用したことのないサイトの利用料金を求め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正請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無料サイトの利用料金や、契約と異なる有料サイトの利用料金を求め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5"/>
          <p:cNvSpPr/>
          <p:nvPr/>
        </p:nvSpPr>
        <p:spPr>
          <a:xfrm>
            <a:off x="428760" y="3071880"/>
            <a:ext cx="8072280" cy="125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ワンクリック詐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突然「会員登録されました。」というメッセージが表示され、会費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迷惑メールに記載された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有料サイトに接続（誘導）されて会費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テキスト ボックス 6"/>
          <p:cNvSpPr/>
          <p:nvPr/>
        </p:nvSpPr>
        <p:spPr>
          <a:xfrm>
            <a:off x="428760" y="2643120"/>
            <a:ext cx="235728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正請求の典型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角丸四角形 7"/>
          <p:cNvGrpSpPr/>
          <p:nvPr/>
        </p:nvGrpSpPr>
        <p:grpSpPr>
          <a:xfrm>
            <a:off x="933480" y="4286160"/>
            <a:ext cx="7199280" cy="803520"/>
            <a:chOff x="933480" y="4286160"/>
            <a:chExt cx="7199280" cy="803520"/>
          </a:xfrm>
        </p:grpSpPr>
        <p:pic>
          <p:nvPicPr>
            <p:cNvPr id="497" name="角丸四角形 7" descr=""/>
            <p:cNvPicPr/>
            <p:nvPr/>
          </p:nvPicPr>
          <p:blipFill>
            <a:blip r:embed="rId1"/>
            <a:stretch/>
          </p:blipFill>
          <p:spPr>
            <a:xfrm>
              <a:off x="933480" y="4286160"/>
              <a:ext cx="719928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031760" y="4389480"/>
              <a:ext cx="7008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契約や会員登録が完了したような表示し、会費をだまし取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心理的な圧迫で代金をだまし取ろうと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テキスト ボックス 9"/>
          <p:cNvSpPr/>
          <p:nvPr/>
        </p:nvSpPr>
        <p:spPr>
          <a:xfrm>
            <a:off x="2500200" y="5214960"/>
            <a:ext cx="51436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怪しいサイト、メールは無視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の了承なしに会員登録することは違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不正請求には一切応じな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右矢印 10"/>
          <p:cNvSpPr/>
          <p:nvPr/>
        </p:nvSpPr>
        <p:spPr>
          <a:xfrm>
            <a:off x="1428840" y="5357880"/>
            <a:ext cx="928440" cy="714240"/>
          </a:xfrm>
          <a:prstGeom prst="rightArrow">
            <a:avLst>
              <a:gd name="adj1" fmla="val 50000"/>
              <a:gd name="adj2" fmla="val 49998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4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ワン切り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3038-4205-4A65-8D30-5B050E64F7C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テキスト ボックス 5"/>
          <p:cNvSpPr/>
          <p:nvPr/>
        </p:nvSpPr>
        <p:spPr>
          <a:xfrm>
            <a:off x="1285920" y="1714680"/>
            <a:ext cx="47862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一度だけコールし、すぐに電話を切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相手は番号を通知で電話をしてく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テキスト ボックス 6"/>
          <p:cNvSpPr/>
          <p:nvPr/>
        </p:nvSpPr>
        <p:spPr>
          <a:xfrm>
            <a:off x="3071880" y="2571840"/>
            <a:ext cx="31431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ワン切り」に掛け直しをする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テキスト ボックス 7"/>
          <p:cNvSpPr/>
          <p:nvPr/>
        </p:nvSpPr>
        <p:spPr>
          <a:xfrm>
            <a:off x="1285920" y="3143160"/>
            <a:ext cx="4929120" cy="642600"/>
          </a:xfrm>
          <a:prstGeom prst="rec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自分の携帯番号が知ら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架空の有料サイト使用料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テキスト ボックス 8"/>
          <p:cNvGrpSpPr/>
          <p:nvPr/>
        </p:nvGrpSpPr>
        <p:grpSpPr>
          <a:xfrm>
            <a:off x="1957320" y="3998880"/>
            <a:ext cx="6948720" cy="1487520"/>
            <a:chOff x="1957320" y="3998880"/>
            <a:chExt cx="6948720" cy="1487520"/>
          </a:xfrm>
        </p:grpSpPr>
        <p:pic>
          <p:nvPicPr>
            <p:cNvPr id="508" name="テキスト ボックス 8" descr=""/>
            <p:cNvPicPr/>
            <p:nvPr/>
          </p:nvPicPr>
          <p:blipFill>
            <a:blip r:embed="rId1"/>
            <a:stretch/>
          </p:blipFill>
          <p:spPr>
            <a:xfrm>
              <a:off x="1957320" y="3998880"/>
              <a:ext cx="69487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2071800" y="4071960"/>
              <a:ext cx="6715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ワン切りに対しては一切応答し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不正請求はすべて無視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応じると住所等を聞き出されたりして、さらに被害が広が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相談窓口：国民生活センター（消費生活センター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テキスト ボックス 9"/>
          <p:cNvSpPr/>
          <p:nvPr/>
        </p:nvSpPr>
        <p:spPr>
          <a:xfrm>
            <a:off x="857160" y="1285920"/>
            <a:ext cx="157176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ワン切り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下矢印 10"/>
          <p:cNvSpPr/>
          <p:nvPr/>
        </p:nvSpPr>
        <p:spPr>
          <a:xfrm>
            <a:off x="1785960" y="2428920"/>
            <a:ext cx="1143000" cy="6429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右矢印 11"/>
          <p:cNvGrpSpPr/>
          <p:nvPr/>
        </p:nvGrpSpPr>
        <p:grpSpPr>
          <a:xfrm>
            <a:off x="639720" y="4114800"/>
            <a:ext cx="1354320" cy="1139760"/>
            <a:chOff x="639720" y="4114800"/>
            <a:chExt cx="1354320" cy="1139760"/>
          </a:xfrm>
        </p:grpSpPr>
        <p:pic>
          <p:nvPicPr>
            <p:cNvPr id="513" name="右矢印 11" descr=""/>
            <p:cNvPicPr/>
            <p:nvPr/>
          </p:nvPicPr>
          <p:blipFill>
            <a:blip r:embed="rId2"/>
            <a:stretch/>
          </p:blipFill>
          <p:spPr>
            <a:xfrm>
              <a:off x="639720" y="4114800"/>
              <a:ext cx="13543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14240" y="4394160"/>
              <a:ext cx="963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Picture 2" descr="8"/>
          <p:cNvPicPr/>
          <p:nvPr/>
        </p:nvPicPr>
        <p:blipFill>
          <a:blip r:embed="rId3"/>
          <a:srcRect l="0" t="10299" r="0" b="10299"/>
          <a:stretch/>
        </p:blipFill>
        <p:spPr>
          <a:xfrm>
            <a:off x="6572160" y="1714680"/>
            <a:ext cx="2158920" cy="197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５　ネット詐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2714760" y="2857680"/>
            <a:ext cx="32144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代金の支払い（振り込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2500200" y="3643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0000"/>
                </a:solidFill>
                <a:uFillTx/>
                <a:latin typeface="Arial"/>
              </a:rPr>
              <a:t>品物が送られてこな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1785960" y="4714920"/>
            <a:ext cx="6072120" cy="15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店舗の実績を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掲載期間（十分に長期間か）、連絡先の明示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きるだけ先払いは避け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取り引きの証拠を残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画面やメールを印刷・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B4DF-9365-4673-B858-AD4F4AF34BD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テキスト ボックス 12"/>
          <p:cNvSpPr/>
          <p:nvPr/>
        </p:nvSpPr>
        <p:spPr>
          <a:xfrm>
            <a:off x="1285920" y="1571760"/>
            <a:ext cx="67863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商品の取り引きをネットワーク上で行う無店舗型の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販売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785960" y="2000160"/>
            <a:ext cx="710712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ユーザ個人が実際に商品を手に取り、確認することが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5"/>
          <p:cNvSpPr/>
          <p:nvPr/>
        </p:nvSpPr>
        <p:spPr>
          <a:xfrm>
            <a:off x="3643200" y="2500200"/>
            <a:ext cx="1000080" cy="285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3571920" y="3286080"/>
            <a:ext cx="1143000" cy="3571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テキスト ボックス 16"/>
          <p:cNvGrpSpPr/>
          <p:nvPr/>
        </p:nvGrpSpPr>
        <p:grpSpPr>
          <a:xfrm>
            <a:off x="585720" y="4164120"/>
            <a:ext cx="3052800" cy="560160"/>
            <a:chOff x="585720" y="4164120"/>
            <a:chExt cx="3052800" cy="560160"/>
          </a:xfrm>
        </p:grpSpPr>
        <p:pic>
          <p:nvPicPr>
            <p:cNvPr id="527" name="テキスト ボックス 16" descr=""/>
            <p:cNvPicPr/>
            <p:nvPr/>
          </p:nvPicPr>
          <p:blipFill>
            <a:blip r:embed="rId1"/>
            <a:stretch/>
          </p:blipFill>
          <p:spPr>
            <a:xfrm>
              <a:off x="585720" y="4164120"/>
              <a:ext cx="30528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714240" y="4214880"/>
              <a:ext cx="285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取引に当たっての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テキスト ボックス 17"/>
          <p:cNvSpPr/>
          <p:nvPr/>
        </p:nvSpPr>
        <p:spPr>
          <a:xfrm>
            <a:off x="428760" y="114300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.4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ネットショッピ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5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ネットオークション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500040" y="1360800"/>
            <a:ext cx="4357800" cy="45972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中古品を出品　→　落札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214720" y="257184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高額なもの（宝石・貴金属や自動車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2214720" y="307188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個人の趣味で収集した入手困難なも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1279440" y="1932120"/>
            <a:ext cx="2800440" cy="45972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最終的にユーザ同士の取り引き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2214720" y="407196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Gill Sans MT"/>
              </a:rPr>
              <a:t>盗品、毒薬、銃刀類　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犯罪に巻き込まれ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9"/>
          <p:cNvSpPr/>
          <p:nvPr/>
        </p:nvSpPr>
        <p:spPr>
          <a:xfrm>
            <a:off x="2071800" y="2643120"/>
            <a:ext cx="71280" cy="1714680"/>
          </a:xfrm>
          <a:custGeom>
            <a:avLst/>
            <a:gdLst>
              <a:gd name="textAreaLeft" fmla="*/ 20880 w 71280"/>
              <a:gd name="textAreaRight" fmla="*/ 71640 w 71280"/>
              <a:gd name="textAreaTop" fmla="*/ 82080 h 1714680"/>
              <a:gd name="textAreaBottom" fmla="*/ 1632600 h 17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36"/>
                  <a:pt x="0" y="2071"/>
                </a:cubicBezTo>
                <a:lnTo>
                  <a:pt x="0" y="19529"/>
                </a:lnTo>
                <a:cubicBezTo>
                  <a:pt x="0" y="2056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Rectangle 10"/>
          <p:cNvGrpSpPr/>
          <p:nvPr/>
        </p:nvGrpSpPr>
        <p:grpSpPr>
          <a:xfrm>
            <a:off x="1957320" y="4668840"/>
            <a:ext cx="6821640" cy="1639800"/>
            <a:chOff x="1957320" y="4668840"/>
            <a:chExt cx="6821640" cy="1639800"/>
          </a:xfrm>
        </p:grpSpPr>
        <p:pic>
          <p:nvPicPr>
            <p:cNvPr id="538" name="Rectangle 10" descr=""/>
            <p:cNvPicPr/>
            <p:nvPr/>
          </p:nvPicPr>
          <p:blipFill>
            <a:blip r:embed="rId1"/>
            <a:stretch/>
          </p:blipFill>
          <p:spPr>
            <a:xfrm>
              <a:off x="1957320" y="4668840"/>
              <a:ext cx="682164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071800" y="4714920"/>
              <a:ext cx="66434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取り引きすると犯罪になるものに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詐欺に備え、取り引きの証拠を残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取り引きと関係ないメールには注意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犯罪者にメールアドレスやパスワードのヒントを与え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Text Box 12"/>
          <p:cNvSpPr/>
          <p:nvPr/>
        </p:nvSpPr>
        <p:spPr>
          <a:xfrm>
            <a:off x="5500800" y="1428840"/>
            <a:ext cx="31669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中古品＝古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古物営業法（第５章）も参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785880" y="3286080"/>
            <a:ext cx="122400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中古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6"/>
          <p:cNvSpPr/>
          <p:nvPr/>
        </p:nvSpPr>
        <p:spPr>
          <a:xfrm>
            <a:off x="2214720" y="357192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家電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VD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本、ゲーム、衣類、食品、チケット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84C6-3B5C-49FE-BCBC-28E79EA3BBD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右矢印 15"/>
          <p:cNvGrpSpPr/>
          <p:nvPr/>
        </p:nvGrpSpPr>
        <p:grpSpPr>
          <a:xfrm>
            <a:off x="853920" y="4968720"/>
            <a:ext cx="1140120" cy="1140120"/>
            <a:chOff x="853920" y="4968720"/>
            <a:chExt cx="1140120" cy="1140120"/>
          </a:xfrm>
        </p:grpSpPr>
        <p:pic>
          <p:nvPicPr>
            <p:cNvPr id="546" name="右矢印 15" descr=""/>
            <p:cNvPicPr/>
            <p:nvPr/>
          </p:nvPicPr>
          <p:blipFill>
            <a:blip r:embed="rId2"/>
            <a:stretch/>
          </p:blipFill>
          <p:spPr>
            <a:xfrm>
              <a:off x="853920" y="4968720"/>
              <a:ext cx="114012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928800" y="5251320"/>
              <a:ext cx="749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１　不正アクセス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71720" y="3142800"/>
            <a:ext cx="7643520" cy="178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に送信されたメールを盗み見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盗用したユーザ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を利用して、サーバを破壊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そのプロバイダが提供するさまざまなサービスを不正に利用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になりすまして、詐欺をはたらく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ーバを踏み台にして、別のサーバを攻撃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714240" y="1214280"/>
            <a:ext cx="2928960" cy="35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1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不正アクセス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571680" y="2714760"/>
            <a:ext cx="3457440" cy="428400"/>
          </a:xfrm>
          <a:prstGeom prst="roundRect">
            <a:avLst>
              <a:gd name="adj" fmla="val 16667"/>
            </a:avLst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Gill Sans MT"/>
              </a:rPr>
              <a:t>不正アクセスによる被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Text Box 6"/>
          <p:cNvGrpSpPr/>
          <p:nvPr/>
        </p:nvGrpSpPr>
        <p:grpSpPr>
          <a:xfrm>
            <a:off x="480960" y="4913280"/>
            <a:ext cx="3249720" cy="646200"/>
            <a:chOff x="480960" y="4913280"/>
            <a:chExt cx="3249720" cy="646200"/>
          </a:xfrm>
        </p:grpSpPr>
        <p:pic>
          <p:nvPicPr>
            <p:cNvPr id="360" name="Text Box 6" descr=""/>
            <p:cNvPicPr/>
            <p:nvPr/>
          </p:nvPicPr>
          <p:blipFill>
            <a:blip r:embed="rId1"/>
            <a:stretch/>
          </p:blipFill>
          <p:spPr>
            <a:xfrm>
              <a:off x="480960" y="4913280"/>
              <a:ext cx="32497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42960" y="5000760"/>
              <a:ext cx="30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不正アクセス禁止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Text Box 7"/>
          <p:cNvGrpSpPr/>
          <p:nvPr/>
        </p:nvGrpSpPr>
        <p:grpSpPr>
          <a:xfrm>
            <a:off x="1225440" y="5430960"/>
            <a:ext cx="6315120" cy="561960"/>
            <a:chOff x="1225440" y="5430960"/>
            <a:chExt cx="6315120" cy="561960"/>
          </a:xfrm>
        </p:grpSpPr>
        <p:pic>
          <p:nvPicPr>
            <p:cNvPr id="363" name="Text Box 7" descr=""/>
            <p:cNvPicPr/>
            <p:nvPr/>
          </p:nvPicPr>
          <p:blipFill>
            <a:blip r:embed="rId2"/>
            <a:stretch/>
          </p:blipFill>
          <p:spPr>
            <a:xfrm>
              <a:off x="1225440" y="5430960"/>
              <a:ext cx="63151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357200" y="5500800"/>
              <a:ext cx="61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他人のアカウントによるアクセスはすべて犯罪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Text Box 8"/>
          <p:cNvGrpSpPr/>
          <p:nvPr/>
        </p:nvGrpSpPr>
        <p:grpSpPr>
          <a:xfrm>
            <a:off x="1225440" y="5877000"/>
            <a:ext cx="6321600" cy="560160"/>
            <a:chOff x="1225440" y="5877000"/>
            <a:chExt cx="6321600" cy="560160"/>
          </a:xfrm>
        </p:grpSpPr>
        <p:pic>
          <p:nvPicPr>
            <p:cNvPr id="366" name="Text Box 8" descr=""/>
            <p:cNvPicPr/>
            <p:nvPr/>
          </p:nvPicPr>
          <p:blipFill>
            <a:blip r:embed="rId3"/>
            <a:stretch/>
          </p:blipFill>
          <p:spPr>
            <a:xfrm>
              <a:off x="1225440" y="5877000"/>
              <a:ext cx="6321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357200" y="5929200"/>
              <a:ext cx="61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いたずら目的でも処罰対象にな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AutoShape 10"/>
          <p:cNvSpPr/>
          <p:nvPr/>
        </p:nvSpPr>
        <p:spPr>
          <a:xfrm>
            <a:off x="1214280" y="5500800"/>
            <a:ext cx="71640" cy="863640"/>
          </a:xfrm>
          <a:custGeom>
            <a:avLst/>
            <a:gdLst>
              <a:gd name="textAreaLeft" fmla="*/ 20880 w 71640"/>
              <a:gd name="textAreaRight" fmla="*/ 72000 w 71640"/>
              <a:gd name="textAreaTop" fmla="*/ 38880 h 863640"/>
              <a:gd name="textAreaBottom" fmla="*/ 82476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75"/>
                  <a:pt x="0" y="1949"/>
                </a:cubicBezTo>
                <a:lnTo>
                  <a:pt x="0" y="19651"/>
                </a:lnTo>
                <a:cubicBezTo>
                  <a:pt x="0" y="2062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テキスト ボックス 9"/>
          <p:cNvSpPr/>
          <p:nvPr/>
        </p:nvSpPr>
        <p:spPr>
          <a:xfrm>
            <a:off x="1285920" y="2000160"/>
            <a:ext cx="685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なりすまし：盗用などで知った他人のアカウントでアクセスする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助長行為：正規のユーザに無断で、アカウントを提供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89DB-DF3C-4D0C-BF5C-FD82D05B313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テキスト ボックス 12"/>
          <p:cNvSpPr/>
          <p:nvPr/>
        </p:nvSpPr>
        <p:spPr>
          <a:xfrm>
            <a:off x="1285920" y="15717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来アクセス権のないコンピュータへのアクセ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llegal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1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アカウント盗用の防止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000920" cy="785880"/>
          </a:xfrm>
          <a:prstGeom prst="rect">
            <a:avLst/>
          </a:prstGeom>
          <a:solidFill>
            <a:srgbClr val="d2da7a"/>
          </a:solidFill>
          <a:ln w="19080">
            <a:solidFill>
              <a:srgbClr val="9aa05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アカウントはユーザー自身が厳重に管理を！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１人の不注意から他人（システム全体）も危険に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5715000" y="2357280"/>
            <a:ext cx="3097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各運用団体での禁止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Text Box 5"/>
          <p:cNvGrpSpPr/>
          <p:nvPr/>
        </p:nvGrpSpPr>
        <p:grpSpPr>
          <a:xfrm>
            <a:off x="55440" y="2359080"/>
            <a:ext cx="4980240" cy="633240"/>
            <a:chOff x="55440" y="2359080"/>
            <a:chExt cx="4980240" cy="633240"/>
          </a:xfrm>
        </p:grpSpPr>
        <p:pic>
          <p:nvPicPr>
            <p:cNvPr id="377" name="Text Box 5" descr=""/>
            <p:cNvPicPr/>
            <p:nvPr/>
          </p:nvPicPr>
          <p:blipFill>
            <a:blip r:embed="rId1"/>
            <a:stretch/>
          </p:blipFill>
          <p:spPr>
            <a:xfrm>
              <a:off x="55440" y="2359080"/>
              <a:ext cx="49802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14200" y="2428920"/>
              <a:ext cx="47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ＭＳ Ｐゴシック"/>
                </a:rPr>
                <a:t>ID</a:t>
              </a: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・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パスワードなどを故意に漏ら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Text Box 6"/>
          <p:cNvGrpSpPr/>
          <p:nvPr/>
        </p:nvGrpSpPr>
        <p:grpSpPr>
          <a:xfrm>
            <a:off x="55440" y="2925720"/>
            <a:ext cx="4980240" cy="646200"/>
            <a:chOff x="55440" y="2925720"/>
            <a:chExt cx="4980240" cy="646200"/>
          </a:xfrm>
        </p:grpSpPr>
        <p:pic>
          <p:nvPicPr>
            <p:cNvPr id="380" name="Text Box 6" descr=""/>
            <p:cNvPicPr/>
            <p:nvPr/>
          </p:nvPicPr>
          <p:blipFill>
            <a:blip r:embed="rId2"/>
            <a:stretch/>
          </p:blipFill>
          <p:spPr>
            <a:xfrm>
              <a:off x="55440" y="2925720"/>
              <a:ext cx="49802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14200" y="3000240"/>
              <a:ext cx="47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アカウントを本人に無断で貸し出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AutoShape 7"/>
          <p:cNvSpPr/>
          <p:nvPr/>
        </p:nvSpPr>
        <p:spPr>
          <a:xfrm>
            <a:off x="5000760" y="2714760"/>
            <a:ext cx="574560" cy="431640"/>
          </a:xfrm>
          <a:custGeom>
            <a:avLst/>
            <a:gdLst>
              <a:gd name="textAreaLeft" fmla="*/ 0 w 574560"/>
              <a:gd name="textAreaRight" fmla="*/ 574920 w 574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Text Box 8"/>
          <p:cNvGrpSpPr/>
          <p:nvPr/>
        </p:nvGrpSpPr>
        <p:grpSpPr>
          <a:xfrm>
            <a:off x="55440" y="3481560"/>
            <a:ext cx="5052960" cy="1004760"/>
            <a:chOff x="55440" y="3481560"/>
            <a:chExt cx="5052960" cy="1004760"/>
          </a:xfrm>
        </p:grpSpPr>
        <p:pic>
          <p:nvPicPr>
            <p:cNvPr id="384" name="Text Box 8" descr=""/>
            <p:cNvPicPr/>
            <p:nvPr/>
          </p:nvPicPr>
          <p:blipFill>
            <a:blip r:embed="rId3"/>
            <a:stretch/>
          </p:blipFill>
          <p:spPr>
            <a:xfrm>
              <a:off x="55440" y="3481560"/>
              <a:ext cx="50529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14200" y="3571920"/>
              <a:ext cx="4753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管理者を装いパスワードを聞き出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（ソーシャルエンジニアリング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AutoShape 9"/>
          <p:cNvSpPr/>
          <p:nvPr/>
        </p:nvSpPr>
        <p:spPr>
          <a:xfrm>
            <a:off x="5000760" y="3714840"/>
            <a:ext cx="574560" cy="431640"/>
          </a:xfrm>
          <a:custGeom>
            <a:avLst/>
            <a:gdLst>
              <a:gd name="textAreaLeft" fmla="*/ 0 w 574560"/>
              <a:gd name="textAreaRight" fmla="*/ 574920 w 574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5715000" y="3571920"/>
            <a:ext cx="3097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一切応じず、プロバイダに届け出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Rectangle 13"/>
          <p:cNvGrpSpPr/>
          <p:nvPr/>
        </p:nvGrpSpPr>
        <p:grpSpPr>
          <a:xfrm>
            <a:off x="2560680" y="4784760"/>
            <a:ext cx="6364080" cy="1414440"/>
            <a:chOff x="2560680" y="4784760"/>
            <a:chExt cx="6364080" cy="1414440"/>
          </a:xfrm>
        </p:grpSpPr>
        <p:pic>
          <p:nvPicPr>
            <p:cNvPr id="389" name="Rectangle 13" descr=""/>
            <p:cNvPicPr/>
            <p:nvPr/>
          </p:nvPicPr>
          <p:blipFill>
            <a:blip r:embed="rId4"/>
            <a:stretch/>
          </p:blipFill>
          <p:spPr>
            <a:xfrm>
              <a:off x="2560680" y="4784760"/>
              <a:ext cx="63640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643120" y="4857840"/>
              <a:ext cx="619308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大文字と小文字に数字や記号を混ぜた長い文字列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単語、地名、人名などをそのまま単独で使わ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個人情報（誕生日など）と無関係なものに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AutoShape 14"/>
          <p:cNvSpPr/>
          <p:nvPr/>
        </p:nvSpPr>
        <p:spPr>
          <a:xfrm>
            <a:off x="428760" y="4857840"/>
            <a:ext cx="216036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推測されにく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パスワードを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スライド番号プレースホルダ 1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26BB-82BB-4A4C-8C14-6E5B3E11EE3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　個人情報の漏洩（ろうえい）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5" name="Rectangle 3"/>
          <p:cNvGrpSpPr/>
          <p:nvPr/>
        </p:nvGrpSpPr>
        <p:grpSpPr>
          <a:xfrm>
            <a:off x="2670120" y="4552920"/>
            <a:ext cx="3633840" cy="1182600"/>
            <a:chOff x="2670120" y="4552920"/>
            <a:chExt cx="3633840" cy="1182600"/>
          </a:xfrm>
        </p:grpSpPr>
        <p:pic>
          <p:nvPicPr>
            <p:cNvPr id="396" name="Rectangle 3" descr=""/>
            <p:cNvPicPr/>
            <p:nvPr/>
          </p:nvPicPr>
          <p:blipFill>
            <a:blip r:embed="rId1"/>
            <a:stretch/>
          </p:blipFill>
          <p:spPr>
            <a:xfrm>
              <a:off x="2670120" y="4552920"/>
              <a:ext cx="36338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2786040" y="4643280"/>
              <a:ext cx="345744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Gill Sans MT"/>
                </a:rPr>
                <a:t>不正な情報流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Gill Sans MT"/>
                </a:rPr>
                <a:t>不正な情報収集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Rectangle 4"/>
          <p:cNvGrpSpPr/>
          <p:nvPr/>
        </p:nvGrpSpPr>
        <p:grpSpPr>
          <a:xfrm>
            <a:off x="1133640" y="1530360"/>
            <a:ext cx="6887880" cy="1859040"/>
            <a:chOff x="1133640" y="1530360"/>
            <a:chExt cx="6887880" cy="1859040"/>
          </a:xfrm>
        </p:grpSpPr>
        <p:pic>
          <p:nvPicPr>
            <p:cNvPr id="399" name="Rectangle 4" descr=""/>
            <p:cNvPicPr/>
            <p:nvPr/>
          </p:nvPicPr>
          <p:blipFill>
            <a:blip r:embed="rId2"/>
            <a:stretch/>
          </p:blipFill>
          <p:spPr>
            <a:xfrm>
              <a:off x="1133640" y="1530360"/>
              <a:ext cx="68878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357200" y="1571760"/>
              <a:ext cx="633744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ffffff"/>
                  </a:solidFill>
                  <a:latin typeface="Gill Sans MT"/>
                </a:rPr>
                <a:t>ネット上で個人情報を入力する機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　・カード番号やパスワード    ： 電子商取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　・メールや住所等の連絡先  ： 懸賞、アンケー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AutoShape 5"/>
          <p:cNvSpPr/>
          <p:nvPr/>
        </p:nvSpPr>
        <p:spPr>
          <a:xfrm>
            <a:off x="3571920" y="3643200"/>
            <a:ext cx="1800360" cy="647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ッター プレースホルダ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スライド番号プレースホルダ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607B-19CE-48C3-A568-66FA84C59E0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2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不正な情報流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000760" y="1714680"/>
            <a:ext cx="3528720" cy="107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プライバシーが侵害され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流出した情報を悪用され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社会的信用が失墜す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357120" y="1571760"/>
            <a:ext cx="4392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個人情報を収集した側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管理責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7143840" y="714240"/>
            <a:ext cx="1730160" cy="928800"/>
          </a:xfrm>
          <a:prstGeom prst="irregularSeal1">
            <a:avLst/>
          </a:prstGeom>
          <a:solidFill>
            <a:srgbClr val="8e736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428760" y="3214800"/>
            <a:ext cx="4103640" cy="136836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（１）内部の人間が機密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不正に持ち出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4786200" y="3214800"/>
            <a:ext cx="4032360" cy="136836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（２）部外者に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盗難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Rectangle 9"/>
          <p:cNvGrpSpPr/>
          <p:nvPr/>
        </p:nvGrpSpPr>
        <p:grpSpPr>
          <a:xfrm>
            <a:off x="360360" y="5218200"/>
            <a:ext cx="4303800" cy="1170000"/>
            <a:chOff x="360360" y="5218200"/>
            <a:chExt cx="4303800" cy="1170000"/>
          </a:xfrm>
        </p:grpSpPr>
        <p:pic>
          <p:nvPicPr>
            <p:cNvPr id="411" name="Rectangle 9" descr=""/>
            <p:cNvPicPr/>
            <p:nvPr/>
          </p:nvPicPr>
          <p:blipFill>
            <a:blip r:embed="rId1"/>
            <a:stretch/>
          </p:blipFill>
          <p:spPr>
            <a:xfrm>
              <a:off x="360360" y="5218200"/>
              <a:ext cx="43038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28760" y="5286240"/>
              <a:ext cx="417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機密情報に関し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組織内のルール策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Rectangle 11"/>
          <p:cNvGrpSpPr/>
          <p:nvPr/>
        </p:nvGrpSpPr>
        <p:grpSpPr>
          <a:xfrm>
            <a:off x="4718160" y="5218200"/>
            <a:ext cx="4236840" cy="1170000"/>
            <a:chOff x="4718160" y="5218200"/>
            <a:chExt cx="4236840" cy="1170000"/>
          </a:xfrm>
        </p:grpSpPr>
        <p:pic>
          <p:nvPicPr>
            <p:cNvPr id="414" name="Rectangle 11" descr=""/>
            <p:cNvPicPr/>
            <p:nvPr/>
          </p:nvPicPr>
          <p:blipFill>
            <a:blip r:embed="rId2"/>
            <a:stretch/>
          </p:blipFill>
          <p:spPr>
            <a:xfrm>
              <a:off x="4718160" y="5218200"/>
              <a:ext cx="4236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786200" y="5286240"/>
              <a:ext cx="41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パスワードやＰＣ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盗難に注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12"/>
          <p:cNvSpPr/>
          <p:nvPr/>
        </p:nvSpPr>
        <p:spPr>
          <a:xfrm>
            <a:off x="1714680" y="4714920"/>
            <a:ext cx="1800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3"/>
          <p:cNvSpPr/>
          <p:nvPr/>
        </p:nvSpPr>
        <p:spPr>
          <a:xfrm>
            <a:off x="5929200" y="47149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ABC3-0C18-4405-853F-071E47E19FB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2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不正な情報収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760" y="1285920"/>
            <a:ext cx="2420640" cy="571320"/>
          </a:xfrm>
          <a:prstGeom prst="parallelogram">
            <a:avLst>
              <a:gd name="adj" fmla="val 14672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Gill Sans MT"/>
              </a:rPr>
              <a:t>フィッ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9" descr="MCj02872830000[1]"/>
          <p:cNvPicPr/>
          <p:nvPr/>
        </p:nvPicPr>
        <p:blipFill>
          <a:blip r:embed="rId1"/>
          <a:stretch/>
        </p:blipFill>
        <p:spPr>
          <a:xfrm>
            <a:off x="7236000" y="1484280"/>
            <a:ext cx="1296720" cy="1068480"/>
          </a:xfrm>
          <a:prstGeom prst="rect">
            <a:avLst/>
          </a:prstGeom>
          <a:ln w="0">
            <a:noFill/>
          </a:ln>
        </p:spPr>
      </p:pic>
      <p:sp>
        <p:nvSpPr>
          <p:cNvPr id="423" name="Line 11"/>
          <p:cNvSpPr/>
          <p:nvPr/>
        </p:nvSpPr>
        <p:spPr>
          <a:xfrm flipV="1">
            <a:off x="3500280" y="3286080"/>
            <a:ext cx="928800" cy="1000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1428840" y="3643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偽装メール（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5"/>
          <p:cNvSpPr/>
          <p:nvPr/>
        </p:nvSpPr>
        <p:spPr>
          <a:xfrm flipV="1">
            <a:off x="5867280" y="2276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6"/>
          <p:cNvSpPr/>
          <p:nvPr/>
        </p:nvSpPr>
        <p:spPr>
          <a:xfrm>
            <a:off x="5867280" y="2997360"/>
            <a:ext cx="108108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7488360" y="263700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694836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0" descr="MCj02320470000[1]"/>
          <p:cNvPicPr/>
          <p:nvPr/>
        </p:nvPicPr>
        <p:blipFill>
          <a:blip r:embed="rId2"/>
          <a:stretch/>
        </p:blipFill>
        <p:spPr>
          <a:xfrm>
            <a:off x="4433760" y="2071800"/>
            <a:ext cx="1656000" cy="1282680"/>
          </a:xfrm>
          <a:prstGeom prst="rect">
            <a:avLst/>
          </a:prstGeom>
          <a:ln w="0">
            <a:noFill/>
          </a:ln>
        </p:spPr>
      </p:pic>
      <p:sp>
        <p:nvSpPr>
          <p:cNvPr id="430" name="Line 21"/>
          <p:cNvSpPr/>
          <p:nvPr/>
        </p:nvSpPr>
        <p:spPr>
          <a:xfrm flipH="1">
            <a:off x="6300360" y="2492280"/>
            <a:ext cx="36036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2"/>
          <p:cNvSpPr/>
          <p:nvPr/>
        </p:nvSpPr>
        <p:spPr>
          <a:xfrm>
            <a:off x="6300720" y="2492280"/>
            <a:ext cx="35892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3"/>
          <p:cNvSpPr/>
          <p:nvPr/>
        </p:nvSpPr>
        <p:spPr>
          <a:xfrm>
            <a:off x="4932360" y="33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Text Box 24"/>
          <p:cNvGrpSpPr/>
          <p:nvPr/>
        </p:nvGrpSpPr>
        <p:grpSpPr>
          <a:xfrm>
            <a:off x="3584520" y="4286160"/>
            <a:ext cx="3144960" cy="876240"/>
            <a:chOff x="3584520" y="4286160"/>
            <a:chExt cx="3144960" cy="876240"/>
          </a:xfrm>
        </p:grpSpPr>
        <p:pic>
          <p:nvPicPr>
            <p:cNvPr id="434" name="Text Box 24" descr=""/>
            <p:cNvPicPr/>
            <p:nvPr/>
          </p:nvPicPr>
          <p:blipFill>
            <a:blip r:embed="rId3"/>
            <a:stretch/>
          </p:blipFill>
          <p:spPr>
            <a:xfrm>
              <a:off x="3584520" y="4286160"/>
              <a:ext cx="314496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3714840" y="4357800"/>
              <a:ext cx="295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アンケートフォームなどで個人情報を釣り上げ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Picture 14" descr="MCBD06551_0000[1]"/>
          <p:cNvPicPr/>
          <p:nvPr/>
        </p:nvPicPr>
        <p:blipFill>
          <a:blip r:embed="rId4"/>
          <a:stretch/>
        </p:blipFill>
        <p:spPr>
          <a:xfrm>
            <a:off x="6732720" y="3933720"/>
            <a:ext cx="2089080" cy="170820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25"/>
          <p:cNvSpPr/>
          <p:nvPr/>
        </p:nvSpPr>
        <p:spPr>
          <a:xfrm>
            <a:off x="1643040" y="5715000"/>
            <a:ext cx="6120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本サイトと偽装サイトの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チェック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フッター プレースホルダ 1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スライド番号プレースホルダ 1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4026-4FA1-45F7-A42C-2C4CE82E799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6-2"/>
          <p:cNvPicPr/>
          <p:nvPr/>
        </p:nvPicPr>
        <p:blipFill>
          <a:blip r:embed="rId5"/>
          <a:stretch/>
        </p:blipFill>
        <p:spPr>
          <a:xfrm>
            <a:off x="428760" y="1949400"/>
            <a:ext cx="2286000" cy="1474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MCj03429990000[1]"/>
          <p:cNvPicPr/>
          <p:nvPr/>
        </p:nvPicPr>
        <p:blipFill>
          <a:blip r:embed="rId6"/>
          <a:stretch/>
        </p:blipFill>
        <p:spPr>
          <a:xfrm>
            <a:off x="1785960" y="4143240"/>
            <a:ext cx="1800360" cy="125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2.2.3</a:t>
            </a:r>
            <a:r>
              <a:rPr b="0" lang="ja-JP" sz="36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クロスサイト・スクリプティン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43" name="Picture 5" descr="MCj02320470000[1]"/>
          <p:cNvPicPr/>
          <p:nvPr/>
        </p:nvPicPr>
        <p:blipFill>
          <a:blip r:embed="rId1"/>
          <a:stretch/>
        </p:blipFill>
        <p:spPr>
          <a:xfrm>
            <a:off x="1071720" y="1714680"/>
            <a:ext cx="1949400" cy="15094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MCBD06551_0000[1]"/>
          <p:cNvPicPr/>
          <p:nvPr/>
        </p:nvPicPr>
        <p:blipFill>
          <a:blip r:embed="rId2"/>
          <a:stretch/>
        </p:blipFill>
        <p:spPr>
          <a:xfrm>
            <a:off x="5940360" y="2205000"/>
            <a:ext cx="2089080" cy="17082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MCj02872830000[1]"/>
          <p:cNvPicPr/>
          <p:nvPr/>
        </p:nvPicPr>
        <p:blipFill>
          <a:blip r:embed="rId3"/>
          <a:stretch/>
        </p:blipFill>
        <p:spPr>
          <a:xfrm>
            <a:off x="3995640" y="3141720"/>
            <a:ext cx="1297080" cy="1068480"/>
          </a:xfrm>
          <a:prstGeom prst="rect">
            <a:avLst/>
          </a:prstGeom>
          <a:ln w="0">
            <a:noFill/>
          </a:ln>
        </p:spPr>
      </p:pic>
      <p:sp>
        <p:nvSpPr>
          <p:cNvPr id="446" name="Line 8"/>
          <p:cNvSpPr/>
          <p:nvPr/>
        </p:nvSpPr>
        <p:spPr>
          <a:xfrm>
            <a:off x="2987640" y="2997360"/>
            <a:ext cx="1008000" cy="431640"/>
          </a:xfrm>
          <a:prstGeom prst="line">
            <a:avLst/>
          </a:prstGeom>
          <a:ln w="57240">
            <a:solidFill>
              <a:srgbClr val="4646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0"/>
          <p:cNvSpPr/>
          <p:nvPr/>
        </p:nvSpPr>
        <p:spPr>
          <a:xfrm flipV="1">
            <a:off x="4859280" y="3141720"/>
            <a:ext cx="100800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1"/>
          <p:cNvSpPr/>
          <p:nvPr/>
        </p:nvSpPr>
        <p:spPr>
          <a:xfrm flipV="1">
            <a:off x="2843280" y="3860280"/>
            <a:ext cx="1152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2928960" y="4572000"/>
            <a:ext cx="2665440" cy="3988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Gill Sans MT"/>
              </a:rPr>
              <a:t>ページ内容の書き換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Text Box 13"/>
          <p:cNvGrpSpPr/>
          <p:nvPr/>
        </p:nvGrpSpPr>
        <p:grpSpPr>
          <a:xfrm>
            <a:off x="4986360" y="3790800"/>
            <a:ext cx="2603520" cy="648000"/>
            <a:chOff x="4986360" y="3790800"/>
            <a:chExt cx="2603520" cy="648000"/>
          </a:xfrm>
        </p:grpSpPr>
        <p:pic>
          <p:nvPicPr>
            <p:cNvPr id="451" name="Text Box 13" descr=""/>
            <p:cNvPicPr/>
            <p:nvPr/>
          </p:nvPicPr>
          <p:blipFill>
            <a:blip r:embed="rId4"/>
            <a:stretch/>
          </p:blipFill>
          <p:spPr>
            <a:xfrm>
              <a:off x="4986360" y="3790800"/>
              <a:ext cx="260352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5148360" y="3860640"/>
              <a:ext cx="23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別サイトへ誘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14"/>
          <p:cNvSpPr/>
          <p:nvPr/>
        </p:nvSpPr>
        <p:spPr>
          <a:xfrm>
            <a:off x="3132000" y="2421000"/>
            <a:ext cx="1366920" cy="45972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1500120" y="5214960"/>
            <a:ext cx="61200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ブラウザでスクリプトの実行を許可すると危険がともな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oki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の情報を持ち出されないように削除してお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MCj03429990000[1]"/>
          <p:cNvPicPr/>
          <p:nvPr/>
        </p:nvPicPr>
        <p:blipFill>
          <a:blip r:embed="rId5"/>
          <a:stretch/>
        </p:blipFill>
        <p:spPr>
          <a:xfrm>
            <a:off x="1071720" y="3643200"/>
            <a:ext cx="1800000" cy="1252800"/>
          </a:xfrm>
          <a:prstGeom prst="rect">
            <a:avLst/>
          </a:prstGeom>
          <a:ln w="0">
            <a:noFill/>
          </a:ln>
        </p:spPr>
      </p:pic>
      <p:sp>
        <p:nvSpPr>
          <p:cNvPr id="457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1BB5-81D2-4C05-93FB-684CAC856F6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AutoShape 15"/>
          <p:cNvSpPr/>
          <p:nvPr/>
        </p:nvSpPr>
        <p:spPr>
          <a:xfrm>
            <a:off x="1785960" y="3571920"/>
            <a:ext cx="590400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e7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３　出会い系サイ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928800" y="1428840"/>
            <a:ext cx="271440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新しい友人を作るための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928800" y="2571840"/>
            <a:ext cx="2665440" cy="82548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金銭目的の少女と大人が児童買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4857840" y="1428840"/>
            <a:ext cx="338436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アクセスのほぼ１００％が携帯電話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857840" y="2571840"/>
            <a:ext cx="3384360" cy="45972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携帯電話の番号通知で本人を認証させ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2214720" y="37148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男性の被害：金品を強奪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1928880" y="42861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女性の被害：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歳未満の少女が児童買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1"/>
          <p:cNvSpPr/>
          <p:nvPr/>
        </p:nvSpPr>
        <p:spPr>
          <a:xfrm>
            <a:off x="2214720" y="2286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6429240" y="2286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3"/>
          <p:cNvSpPr/>
          <p:nvPr/>
        </p:nvSpPr>
        <p:spPr>
          <a:xfrm>
            <a:off x="357120" y="5072040"/>
            <a:ext cx="3960720" cy="1008000"/>
          </a:xfrm>
          <a:prstGeom prst="rect">
            <a:avLst/>
          </a:prstGeom>
          <a:solidFill>
            <a:srgbClr val="fada7a"/>
          </a:solidFill>
          <a:ln w="19080">
            <a:solidFill>
              <a:srgbClr val="b8a0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知り合って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軽い気持ちで会わな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4"/>
          <p:cNvSpPr/>
          <p:nvPr/>
        </p:nvSpPr>
        <p:spPr>
          <a:xfrm>
            <a:off x="4714920" y="5072040"/>
            <a:ext cx="3887640" cy="1008000"/>
          </a:xfrm>
          <a:prstGeom prst="rect">
            <a:avLst/>
          </a:prstGeom>
          <a:solidFill>
            <a:srgbClr val="fada7a"/>
          </a:solidFill>
          <a:ln w="19080">
            <a:solidFill>
              <a:srgbClr val="b8a0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犯罪の温床とならない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慎重かつ分別ある行動を！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24D4-BAD5-4382-88E4-99E312FFAE6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3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出会い系サイトに関係した事件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57120" y="1285920"/>
          <a:ext cx="8429760" cy="2293920"/>
        </p:xfrm>
        <a:graphic>
          <a:graphicData uri="http://schemas.openxmlformats.org/drawingml/2006/table">
            <a:tbl>
              <a:tblPr/>
              <a:tblGrid>
                <a:gridCol w="3470400"/>
                <a:gridCol w="995400"/>
                <a:gridCol w="992160"/>
                <a:gridCol w="992160"/>
                <a:gridCol w="992160"/>
                <a:gridCol w="987480"/>
              </a:tblGrid>
              <a:tr h="28548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検挙内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5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6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7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8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児童買春・児童ポルノ規制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6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青少年保護育成条例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児童福祉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出会い系サイト規制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重要犯罪（殺人・強盗・放火・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粗暴犯（暴行・傷害・脅迫・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その他（窃盗・詐欺・その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合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9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テキスト ボックス 4"/>
          <p:cNvSpPr/>
          <p:nvPr/>
        </p:nvSpPr>
        <p:spPr>
          <a:xfrm>
            <a:off x="500040" y="4071960"/>
            <a:ext cx="8143920" cy="180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児童買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出会い系サイトを連絡掲示板として使った違法行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児童の側が金銭目当てに買春を誘う不正誘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児童ポル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児童を携帯電話で撮影し、わいせつ画像をインターネット上に掲載、販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写真をばらまくと脅迫され、お金を恐喝されるケース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爆発 2 5"/>
          <p:cNvSpPr/>
          <p:nvPr/>
        </p:nvSpPr>
        <p:spPr>
          <a:xfrm>
            <a:off x="6357960" y="3643200"/>
            <a:ext cx="2500200" cy="1428840"/>
          </a:xfrm>
          <a:prstGeom prst="irregularSeal2">
            <a:avLst/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最も顕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スライド番号プレースホルダ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F7CA-4842-401D-8D05-D74D1096363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4:13:02Z</dcterms:created>
  <dc:creator>T.Yamazumi</dc:creator>
  <dc:description/>
  <dc:language>en-US</dc:language>
  <cp:lastModifiedBy>T.Yamazumi</cp:lastModifiedBy>
  <dcterms:modified xsi:type="dcterms:W3CDTF">2009-11-02T05:03:30Z</dcterms:modified>
  <cp:revision>111</cp:revision>
  <dc:subject/>
  <dc:title>ネットワーク社会の情報倫理</dc:title>
</cp:coreProperties>
</file>