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20.png" ContentType="image/png"/>
  <Override PartName="/ppt/media/image19.png" ContentType="image/png"/>
  <Override PartName="/ppt/media/image18.wmf" ContentType="image/x-wmf"/>
  <Override PartName="/ppt/media/image15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5703-EAF3-4529-8E19-FC24152E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B41-CDD4-419A-80D7-45246DAD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BFC-52C1-437E-BF11-509993BE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FFAC-02BD-4E24-956C-1CA6D655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3C62-DD4B-47A9-AD37-451C1F61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EF9E7-84F3-4986-95FA-887210F8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0457-6D2F-4B4E-8A2C-508E701C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9AD9-1526-454F-A94A-F566B066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718A-E69A-4658-AAB8-5A883700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5596-E665-41A5-AD6E-E2DF73C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E1ED-E420-4605-AE42-68D738B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5A2-9415-4305-BE1B-19E11306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3450-0F6A-456F-8EF2-A703CF4B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9268-8DE2-4D4D-8E3F-47F0069D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3240-7FF5-433E-9112-E4AFF83B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64FF-B271-48D4-A604-41591E80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16CB-7A10-42F5-95CF-785B85425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ADB0D-14E1-4B72-8AEF-E034DE9D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B71A-46BA-43AC-BD41-62CEA8F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944C-E899-439F-BB46-E2243E27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B511D-2EB8-458B-86CE-7DFDE2BE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01D8D-92D7-4595-976C-ED66A45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CE86-36E2-45B4-9F81-2CEAEBD21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72702-C250-4A75-B39C-794A7391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6D4FD-6A17-49FE-A0A0-E2DCFAE1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EDE63-D2B0-4C20-B8BF-9A6B3AB0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0578-4596-4046-A32D-6DC88A5C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26726-359A-46ED-A178-8D1152E9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8D5E-FD18-4AA3-82D6-6936AF5A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7FE3-DEEB-4C86-8E52-ACA72F81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14A76-8F9E-4E76-BBD3-706CCFBB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6BD85-313A-44B4-87DE-380A96FA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D38CF-F6CC-41EB-8E02-058AAC43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F27-DC0B-4136-8C94-DC7339EC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A9CE8-9182-481B-B6ED-0FB201A8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1D6AC-EA69-41F5-B16C-20EF76B3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83DB6-B565-49D2-B9CF-B9C58D07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32F46-3A2B-43DE-995A-7FCBB0AC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8B1E-059A-4753-AACA-4CE56640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F1C77-AD9D-47E3-A856-7B3250E9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0852E-3F14-4ADC-88AB-CE53C171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85317-97C0-493B-972B-BBDDEAC6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2E0A6-3E94-4E3D-8E04-B109FDA0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335F6-9258-49E8-82E9-3B40E177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A1E-2FEB-4FD0-A5FC-5426C99A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89A5D-D40B-48A0-98E8-00D237CE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93583-464A-44FC-9DCC-9195968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FAD2-1B23-4D91-A6EC-57F9E2D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8FE8F-B2C2-4D2A-8168-7D20231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A49B-9829-4A43-91D9-E8A19FC5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A6C44-4B9D-4473-B7F5-5B3D446A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03822-7507-4ECA-8E57-A5ECA55C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280EA-33D6-44E4-A01E-FF342B94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9E55-F475-409F-BBEB-455E8F4C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00D1C-8249-4C09-8FC6-20488232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2117-3207-46FF-B3B6-46DBBD6B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19502-0B50-4F9E-B03C-8136004C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3FB30-BB04-4654-A3A6-EB7DC8FD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DD2C0-214A-458A-812E-311E9918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0ADEF-7380-4D3B-9266-E95BE466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8634C-A392-445A-B792-A44EC94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69860-FC8E-4C0A-988A-49B2407D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64BC-1231-4841-877A-8D8A571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0260-9BF7-4D4B-BB7F-E058F20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0C3D2-B65D-4F4F-9BDE-6D999EC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356E7-4281-4640-A1C8-C1126A83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082C-E5E2-4840-A8E0-B451F303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EE84-185C-4C5A-819D-10A19DB2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31967-637C-4DDC-B127-A882DEDA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E2095-4007-4BD8-B47A-89A3E1C1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29044-9A61-4FC0-955F-4F3C8F79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1FE5A-0A0A-42FF-A76C-1C94E066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143E0-BB1D-4095-83E2-883199FB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7FC84-4D0A-4B6E-9A9E-E0D8887D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E635-D9D1-49F1-AF0F-C97C92C1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40E2-068D-4CE9-8215-E74DB3EB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78D8A-E099-4EA5-B3F6-1F061B7C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1D0-ADFB-4993-B17A-844AF1FC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2C0C-7C6B-4158-A3E1-6C84A1B2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39B5-858F-481B-BFFA-E2816F01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D2E48-8017-47CE-AC5F-8103AA69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4657E-90D7-402D-80F5-506706AC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F7938-C8E6-4279-8A06-1961BFDA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99614-8D3F-4130-AD65-6BDECC900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89605-8342-456A-B049-888E7376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AB878-5876-4B22-902C-95FA7B3C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9CA79-C946-4F43-A227-D418007C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911A4-6DE3-4F76-A70F-F80D8910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F38-C7E6-48CA-B5AC-80539C48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54F63-3C7E-40FE-BCCC-9CB8EC0B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6F946-16AE-4671-97FD-62F5E7EB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542C9-86F2-46EA-9642-B29A54D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3DDA7-2D76-48EC-BC38-80C793A5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FE4B-CFDE-416B-81C4-424E4773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5483C-6248-4129-90FB-9E9BC6C8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F165F-837D-4358-9850-8A95A591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A21C-07F4-4407-8B20-FA893AAD9EA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AA09-0BA6-43D3-A2E0-97299FC9F15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C0F-AE03-41E0-9081-A00FFC4216A8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91FE-B40E-4CFD-ABA4-F869329C5EC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6C24-D2F4-4631-B606-46BD71E1D58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D3C9-40EB-4429-9876-FA6B042323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B450-F45C-4268-B72E-6226D457C911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E38A-DAAD-40DC-9633-EA81F5E7620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6.wmf"/><Relationship Id="rId3" Type="http://schemas.openxmlformats.org/officeDocument/2006/relationships/image" Target="../media/image13.wmf"/><Relationship Id="rId4" Type="http://schemas.openxmlformats.org/officeDocument/2006/relationships/image" Target="../media/image19.png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85920" y="514332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前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今後の対策と新しい傾向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9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3"/>
          <p:cNvSpPr/>
          <p:nvPr/>
        </p:nvSpPr>
        <p:spPr>
          <a:xfrm>
            <a:off x="571680" y="1285920"/>
            <a:ext cx="4143240" cy="459720"/>
          </a:xfrm>
          <a:prstGeom prst="rect">
            <a:avLst/>
          </a:prstGeom>
          <a:solidFill>
            <a:srgbClr val="727ca3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出会い系サイト規制法の改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928800" y="1857240"/>
            <a:ext cx="5286240" cy="161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インターネット異性紹介事業者は届け出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利用者が児童でないことを確認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適切な書き込みを削除する義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トロール活動や自主的な規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プロバイダのフィルタリング機能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テキスト ボックス 5"/>
          <p:cNvGrpSpPr/>
          <p:nvPr/>
        </p:nvGrpSpPr>
        <p:grpSpPr>
          <a:xfrm>
            <a:off x="1085760" y="4516560"/>
            <a:ext cx="6126120" cy="873000"/>
            <a:chOff x="1085760" y="4516560"/>
            <a:chExt cx="6126120" cy="873000"/>
          </a:xfrm>
        </p:grpSpPr>
        <p:pic>
          <p:nvPicPr>
            <p:cNvPr id="483" name="テキスト ボックス 5" descr=""/>
            <p:cNvPicPr/>
            <p:nvPr/>
          </p:nvPicPr>
          <p:blipFill>
            <a:blip r:embed="rId1"/>
            <a:stretch/>
          </p:blipFill>
          <p:spPr>
            <a:xfrm>
              <a:off x="1085760" y="4516560"/>
              <a:ext cx="612612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1214280" y="4572000"/>
              <a:ext cx="592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SNS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など他のサービスを使った不正誘引が増加傾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家出掲示板などの新たな問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テキスト ボックス 6"/>
          <p:cNvSpPr/>
          <p:nvPr/>
        </p:nvSpPr>
        <p:spPr>
          <a:xfrm>
            <a:off x="3714840" y="3857760"/>
            <a:ext cx="42148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携帯電話のフィルタリングが強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下矢印 7"/>
          <p:cNvSpPr/>
          <p:nvPr/>
        </p:nvSpPr>
        <p:spPr>
          <a:xfrm>
            <a:off x="1928880" y="3643200"/>
            <a:ext cx="1500120" cy="7858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7"/>
          <p:cNvPicPr/>
          <p:nvPr/>
        </p:nvPicPr>
        <p:blipFill>
          <a:blip r:embed="rId2"/>
          <a:srcRect l="0" t="0" r="0" b="3269"/>
          <a:stretch/>
        </p:blipFill>
        <p:spPr>
          <a:xfrm>
            <a:off x="6858000" y="1500120"/>
            <a:ext cx="1735200" cy="2301840"/>
          </a:xfrm>
          <a:prstGeom prst="rect">
            <a:avLst/>
          </a:prstGeom>
          <a:ln w="0">
            <a:noFill/>
          </a:ln>
        </p:spPr>
      </p:pic>
      <p:sp>
        <p:nvSpPr>
          <p:cNvPr id="488" name="テキスト ボックス 9"/>
          <p:cNvSpPr/>
          <p:nvPr/>
        </p:nvSpPr>
        <p:spPr>
          <a:xfrm>
            <a:off x="1357200" y="5572080"/>
            <a:ext cx="5857920" cy="3682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バーパトロールやプロバイダによる監視体制が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D268-D201-4A62-9292-74180D95B3F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４　架空請求・不正請求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087B-A385-48F7-866C-7C02B0006A5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4"/>
          <p:cNvSpPr/>
          <p:nvPr/>
        </p:nvSpPr>
        <p:spPr>
          <a:xfrm>
            <a:off x="428760" y="128592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架空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一度も利用したことのない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無料サイトの利用料金や、契約と異なる有料サイトの利用料金を求める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テキスト ボックス 5"/>
          <p:cNvSpPr/>
          <p:nvPr/>
        </p:nvSpPr>
        <p:spPr>
          <a:xfrm>
            <a:off x="428760" y="3071880"/>
            <a:ext cx="8072280" cy="125244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クリック詐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突然「会員登録されました。」というメッセージが表示され、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迷惑メールに記載された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有料サイトに接続（誘導）されて会費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テキスト ボックス 6"/>
          <p:cNvSpPr/>
          <p:nvPr/>
        </p:nvSpPr>
        <p:spPr>
          <a:xfrm>
            <a:off x="428760" y="2643120"/>
            <a:ext cx="235728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不正請求の典型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角丸四角形 7"/>
          <p:cNvGrpSpPr/>
          <p:nvPr/>
        </p:nvGrpSpPr>
        <p:grpSpPr>
          <a:xfrm>
            <a:off x="933480" y="4286160"/>
            <a:ext cx="7199280" cy="803520"/>
            <a:chOff x="933480" y="4286160"/>
            <a:chExt cx="7199280" cy="803520"/>
          </a:xfrm>
        </p:grpSpPr>
        <p:pic>
          <p:nvPicPr>
            <p:cNvPr id="497" name="角丸四角形 7" descr=""/>
            <p:cNvPicPr/>
            <p:nvPr/>
          </p:nvPicPr>
          <p:blipFill>
            <a:blip r:embed="rId1"/>
            <a:stretch/>
          </p:blipFill>
          <p:spPr>
            <a:xfrm>
              <a:off x="933480" y="4286160"/>
              <a:ext cx="71992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1031760" y="4389480"/>
              <a:ext cx="7008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契約や会員登録が完了したような表示し、会費をだまし取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心理的な圧迫で代金をだまし取ろうと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テキスト ボックス 9"/>
          <p:cNvSpPr/>
          <p:nvPr/>
        </p:nvSpPr>
        <p:spPr>
          <a:xfrm>
            <a:off x="2500200" y="5214960"/>
            <a:ext cx="514368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怪しいサイト、メールは無視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の了承なしに会員登録することは違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不正請求には一切応じ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右矢印 10"/>
          <p:cNvSpPr/>
          <p:nvPr/>
        </p:nvSpPr>
        <p:spPr>
          <a:xfrm>
            <a:off x="1428840" y="5357880"/>
            <a:ext cx="928440" cy="714240"/>
          </a:xfrm>
          <a:prstGeom prst="rightArrow">
            <a:avLst>
              <a:gd name="adj1" fmla="val 50000"/>
              <a:gd name="adj2" fmla="val 49998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4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ワン切り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2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3D38-5E09-48C8-A561-AD37F62BE35F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テキスト ボックス 5"/>
          <p:cNvSpPr/>
          <p:nvPr/>
        </p:nvSpPr>
        <p:spPr>
          <a:xfrm>
            <a:off x="1285920" y="1714680"/>
            <a:ext cx="47862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一度だけコールし、すぐに電話を切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相手は番号を通知で電話をしてく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テキスト ボックス 6"/>
          <p:cNvSpPr/>
          <p:nvPr/>
        </p:nvSpPr>
        <p:spPr>
          <a:xfrm>
            <a:off x="3071880" y="2571840"/>
            <a:ext cx="3143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ワン切り」に掛け直しをする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テキスト ボックス 7"/>
          <p:cNvSpPr/>
          <p:nvPr/>
        </p:nvSpPr>
        <p:spPr>
          <a:xfrm>
            <a:off x="1285920" y="3143160"/>
            <a:ext cx="4929120" cy="64260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分の携帯番号が知ら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架空の有料サイト使用料を請求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テキスト ボックス 8"/>
          <p:cNvGrpSpPr/>
          <p:nvPr/>
        </p:nvGrpSpPr>
        <p:grpSpPr>
          <a:xfrm>
            <a:off x="1957320" y="3998880"/>
            <a:ext cx="6948720" cy="1487520"/>
            <a:chOff x="1957320" y="3998880"/>
            <a:chExt cx="6948720" cy="1487520"/>
          </a:xfrm>
        </p:grpSpPr>
        <p:pic>
          <p:nvPicPr>
            <p:cNvPr id="508" name="テキスト ボックス 8" descr=""/>
            <p:cNvPicPr/>
            <p:nvPr/>
          </p:nvPicPr>
          <p:blipFill>
            <a:blip r:embed="rId1"/>
            <a:stretch/>
          </p:blipFill>
          <p:spPr>
            <a:xfrm>
              <a:off x="1957320" y="3998880"/>
              <a:ext cx="69487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2071800" y="4071960"/>
              <a:ext cx="6715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ワン切りに対しては一切応答し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不正請求はすべて無視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応じると住所等を聞き出されたりして、さらに被害が広が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相談窓口：国民生活センター（消費生活センター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テキスト ボックス 9"/>
          <p:cNvSpPr/>
          <p:nvPr/>
        </p:nvSpPr>
        <p:spPr>
          <a:xfrm>
            <a:off x="857160" y="1285920"/>
            <a:ext cx="157176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ワン切り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下矢印 10"/>
          <p:cNvSpPr/>
          <p:nvPr/>
        </p:nvSpPr>
        <p:spPr>
          <a:xfrm>
            <a:off x="1785960" y="2428920"/>
            <a:ext cx="1143000" cy="642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右矢印 11"/>
          <p:cNvGrpSpPr/>
          <p:nvPr/>
        </p:nvGrpSpPr>
        <p:grpSpPr>
          <a:xfrm>
            <a:off x="639720" y="4114800"/>
            <a:ext cx="1354320" cy="1139760"/>
            <a:chOff x="639720" y="4114800"/>
            <a:chExt cx="1354320" cy="1139760"/>
          </a:xfrm>
        </p:grpSpPr>
        <p:pic>
          <p:nvPicPr>
            <p:cNvPr id="513" name="右矢印 11" descr=""/>
            <p:cNvPicPr/>
            <p:nvPr/>
          </p:nvPicPr>
          <p:blipFill>
            <a:blip r:embed="rId2"/>
            <a:stretch/>
          </p:blipFill>
          <p:spPr>
            <a:xfrm>
              <a:off x="639720" y="4114800"/>
              <a:ext cx="135432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714240" y="4394160"/>
              <a:ext cx="963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5" name="Picture 2" descr="8"/>
          <p:cNvPicPr/>
          <p:nvPr/>
        </p:nvPicPr>
        <p:blipFill>
          <a:blip r:embed="rId3"/>
          <a:srcRect l="0" t="10299" r="0" b="10299"/>
          <a:stretch/>
        </p:blipFill>
        <p:spPr>
          <a:xfrm>
            <a:off x="6572160" y="1714680"/>
            <a:ext cx="2158920" cy="1979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５　ネット詐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17" name="Text Box 8"/>
          <p:cNvSpPr/>
          <p:nvPr/>
        </p:nvSpPr>
        <p:spPr>
          <a:xfrm>
            <a:off x="2714760" y="2857680"/>
            <a:ext cx="32144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代金の支払い（振り込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2500200" y="364320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0000"/>
                </a:solidFill>
                <a:uFillTx/>
                <a:latin typeface="Arial"/>
              </a:rPr>
              <a:t>品物が送られてこな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3"/>
          <p:cNvSpPr/>
          <p:nvPr/>
        </p:nvSpPr>
        <p:spPr>
          <a:xfrm>
            <a:off x="1785960" y="4714920"/>
            <a:ext cx="6072120" cy="1571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店舗の実績を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掲載期間（十分に長期間か）、連絡先の明示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できるだけ先払いは避け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取り引きの証拠を残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画面やメールを印刷・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2788-D6AE-4844-B010-79A2379C689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テキスト ボックス 12"/>
          <p:cNvSpPr/>
          <p:nvPr/>
        </p:nvSpPr>
        <p:spPr>
          <a:xfrm>
            <a:off x="1285920" y="1571760"/>
            <a:ext cx="67863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商品の取り引きをネットワーク上で行う無店舗型の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販売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"/>
          <p:cNvSpPr/>
          <p:nvPr/>
        </p:nvSpPr>
        <p:spPr>
          <a:xfrm>
            <a:off x="1785960" y="2000160"/>
            <a:ext cx="710712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ユーザ個人が実際に商品を手に取り、確認することが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3643200" y="2500200"/>
            <a:ext cx="1000080" cy="2858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3571920" y="3286080"/>
            <a:ext cx="1143000" cy="35712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テキスト ボックス 16"/>
          <p:cNvGrpSpPr/>
          <p:nvPr/>
        </p:nvGrpSpPr>
        <p:grpSpPr>
          <a:xfrm>
            <a:off x="585720" y="4164120"/>
            <a:ext cx="3052800" cy="560160"/>
            <a:chOff x="585720" y="4164120"/>
            <a:chExt cx="3052800" cy="560160"/>
          </a:xfrm>
        </p:grpSpPr>
        <p:pic>
          <p:nvPicPr>
            <p:cNvPr id="527" name="テキスト ボックス 16" descr=""/>
            <p:cNvPicPr/>
            <p:nvPr/>
          </p:nvPicPr>
          <p:blipFill>
            <a:blip r:embed="rId1"/>
            <a:stretch/>
          </p:blipFill>
          <p:spPr>
            <a:xfrm>
              <a:off x="585720" y="4164120"/>
              <a:ext cx="30528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714240" y="4214880"/>
              <a:ext cx="28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取引に当たっての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テキスト ボックス 17"/>
          <p:cNvSpPr/>
          <p:nvPr/>
        </p:nvSpPr>
        <p:spPr>
          <a:xfrm>
            <a:off x="428760" y="1143000"/>
            <a:ext cx="30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3.4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ネットショッピ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5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ネットオークショ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500040" y="1360800"/>
            <a:ext cx="435780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中古品を出品　→　落札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214720" y="257184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高額なもの（宝石・貴金属や自動車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6"/>
          <p:cNvSpPr/>
          <p:nvPr/>
        </p:nvSpPr>
        <p:spPr>
          <a:xfrm>
            <a:off x="2214720" y="307188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個人の趣味で収集した入手困難なも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1279440" y="1932120"/>
            <a:ext cx="2800440" cy="45972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最終的にユーザ同士の取り引き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2214720" y="407196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Gill Sans MT"/>
              </a:rPr>
              <a:t>盗品、毒薬、銃刀類　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（犯罪に巻き込まれ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9"/>
          <p:cNvSpPr/>
          <p:nvPr/>
        </p:nvSpPr>
        <p:spPr>
          <a:xfrm>
            <a:off x="2071800" y="2643120"/>
            <a:ext cx="71280" cy="1714680"/>
          </a:xfrm>
          <a:custGeom>
            <a:avLst/>
            <a:gdLst>
              <a:gd name="textAreaLeft" fmla="*/ 20880 w 71280"/>
              <a:gd name="textAreaRight" fmla="*/ 71640 w 71280"/>
              <a:gd name="textAreaTop" fmla="*/ 82080 h 1714680"/>
              <a:gd name="textAreaBottom" fmla="*/ 1632600 h 17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36"/>
                  <a:pt x="0" y="2071"/>
                </a:cubicBezTo>
                <a:lnTo>
                  <a:pt x="0" y="19529"/>
                </a:lnTo>
                <a:cubicBezTo>
                  <a:pt x="0" y="2056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Rectangle 10"/>
          <p:cNvGrpSpPr/>
          <p:nvPr/>
        </p:nvGrpSpPr>
        <p:grpSpPr>
          <a:xfrm>
            <a:off x="1957320" y="4668840"/>
            <a:ext cx="6821640" cy="1639800"/>
            <a:chOff x="1957320" y="4668840"/>
            <a:chExt cx="6821640" cy="1639800"/>
          </a:xfrm>
        </p:grpSpPr>
        <p:pic>
          <p:nvPicPr>
            <p:cNvPr id="538" name="Rectangle 10" descr=""/>
            <p:cNvPicPr/>
            <p:nvPr/>
          </p:nvPicPr>
          <p:blipFill>
            <a:blip r:embed="rId1"/>
            <a:stretch/>
          </p:blipFill>
          <p:spPr>
            <a:xfrm>
              <a:off x="1957320" y="4668840"/>
              <a:ext cx="682164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9" name=""/>
            <p:cNvSpPr/>
            <p:nvPr/>
          </p:nvSpPr>
          <p:spPr>
            <a:xfrm>
              <a:off x="2071800" y="4714920"/>
              <a:ext cx="6643440" cy="150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すると犯罪になるもの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詐欺に備え、取り引きの証拠を残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取り引きと関係ないメールには注意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犯罪者にメールアドレスやパスワードのヒントを与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Text Box 12"/>
          <p:cNvSpPr/>
          <p:nvPr/>
        </p:nvSpPr>
        <p:spPr>
          <a:xfrm>
            <a:off x="5500800" y="1428840"/>
            <a:ext cx="316692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中古品＝古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古物営業法（第５章）も参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4"/>
          <p:cNvSpPr/>
          <p:nvPr/>
        </p:nvSpPr>
        <p:spPr>
          <a:xfrm>
            <a:off x="785880" y="3286080"/>
            <a:ext cx="122400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中古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2214720" y="3571920"/>
            <a:ext cx="6551280" cy="39888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家電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VD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、本、ゲーム、衣類、食品、チケット・・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9473-D493-4EE7-B9D4-E0B783732E7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右矢印 15"/>
          <p:cNvGrpSpPr/>
          <p:nvPr/>
        </p:nvGrpSpPr>
        <p:grpSpPr>
          <a:xfrm>
            <a:off x="853920" y="4968720"/>
            <a:ext cx="1140120" cy="1140120"/>
            <a:chOff x="853920" y="4968720"/>
            <a:chExt cx="1140120" cy="1140120"/>
          </a:xfrm>
        </p:grpSpPr>
        <p:pic>
          <p:nvPicPr>
            <p:cNvPr id="546" name="右矢印 15" descr=""/>
            <p:cNvPicPr/>
            <p:nvPr/>
          </p:nvPicPr>
          <p:blipFill>
            <a:blip r:embed="rId2"/>
            <a:stretch/>
          </p:blipFill>
          <p:spPr>
            <a:xfrm>
              <a:off x="853920" y="4968720"/>
              <a:ext cx="1140120" cy="114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"/>
            <p:cNvSpPr/>
            <p:nvPr/>
          </p:nvSpPr>
          <p:spPr>
            <a:xfrm>
              <a:off x="928800" y="5251320"/>
              <a:ext cx="749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１　不正アクセス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71720" y="3142800"/>
            <a:ext cx="7643520" cy="178596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送信されたメールを盗み見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盗用したユーザ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を利用して、サーバを破壊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そのプロバイダが提供するさまざまなサービスを不正に利用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本人になりすまして、詐欺をはたらく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ーバを踏み台にして、別のサーバを攻撃する。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714240" y="1214280"/>
            <a:ext cx="2928960" cy="35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1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不正アクセス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571680" y="2714760"/>
            <a:ext cx="3457440" cy="428400"/>
          </a:xfrm>
          <a:prstGeom prst="roundRect">
            <a:avLst>
              <a:gd name="adj" fmla="val 16667"/>
            </a:avLst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Gill Sans MT"/>
              </a:rPr>
              <a:t>不正アクセスによる被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Text Box 6"/>
          <p:cNvGrpSpPr/>
          <p:nvPr/>
        </p:nvGrpSpPr>
        <p:grpSpPr>
          <a:xfrm>
            <a:off x="480960" y="4913280"/>
            <a:ext cx="3249720" cy="646200"/>
            <a:chOff x="480960" y="4913280"/>
            <a:chExt cx="3249720" cy="646200"/>
          </a:xfrm>
        </p:grpSpPr>
        <p:pic>
          <p:nvPicPr>
            <p:cNvPr id="360" name="Text Box 6" descr=""/>
            <p:cNvPicPr/>
            <p:nvPr/>
          </p:nvPicPr>
          <p:blipFill>
            <a:blip r:embed="rId1"/>
            <a:stretch/>
          </p:blipFill>
          <p:spPr>
            <a:xfrm>
              <a:off x="480960" y="4913280"/>
              <a:ext cx="3249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42960" y="500076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ffffff"/>
                  </a:solidFill>
                  <a:latin typeface="Gill Sans MT"/>
                </a:rPr>
                <a:t>不正アクセス禁止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Text Box 7"/>
          <p:cNvGrpSpPr/>
          <p:nvPr/>
        </p:nvGrpSpPr>
        <p:grpSpPr>
          <a:xfrm>
            <a:off x="1225440" y="5430960"/>
            <a:ext cx="6315120" cy="561960"/>
            <a:chOff x="1225440" y="5430960"/>
            <a:chExt cx="6315120" cy="561960"/>
          </a:xfrm>
        </p:grpSpPr>
        <p:pic>
          <p:nvPicPr>
            <p:cNvPr id="363" name="Text Box 7" descr=""/>
            <p:cNvPicPr/>
            <p:nvPr/>
          </p:nvPicPr>
          <p:blipFill>
            <a:blip r:embed="rId2"/>
            <a:stretch/>
          </p:blipFill>
          <p:spPr>
            <a:xfrm>
              <a:off x="1225440" y="5430960"/>
              <a:ext cx="631512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1357200" y="55008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他人のアカウントによるアクセスはすべて犯罪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Text Box 8"/>
          <p:cNvGrpSpPr/>
          <p:nvPr/>
        </p:nvGrpSpPr>
        <p:grpSpPr>
          <a:xfrm>
            <a:off x="1225440" y="5877000"/>
            <a:ext cx="6321600" cy="560160"/>
            <a:chOff x="1225440" y="5877000"/>
            <a:chExt cx="6321600" cy="560160"/>
          </a:xfrm>
        </p:grpSpPr>
        <p:pic>
          <p:nvPicPr>
            <p:cNvPr id="366" name="Text Box 8" descr=""/>
            <p:cNvPicPr/>
            <p:nvPr/>
          </p:nvPicPr>
          <p:blipFill>
            <a:blip r:embed="rId3"/>
            <a:stretch/>
          </p:blipFill>
          <p:spPr>
            <a:xfrm>
              <a:off x="1225440" y="5877000"/>
              <a:ext cx="6321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357200" y="5929200"/>
              <a:ext cx="612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いたずら目的でも処罰対象にな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AutoShape 10"/>
          <p:cNvSpPr/>
          <p:nvPr/>
        </p:nvSpPr>
        <p:spPr>
          <a:xfrm>
            <a:off x="1214280" y="5500800"/>
            <a:ext cx="71640" cy="863640"/>
          </a:xfrm>
          <a:custGeom>
            <a:avLst/>
            <a:gdLst>
              <a:gd name="textAreaLeft" fmla="*/ 20880 w 71640"/>
              <a:gd name="textAreaRight" fmla="*/ 72000 w 71640"/>
              <a:gd name="textAreaTop" fmla="*/ 38880 h 863640"/>
              <a:gd name="textAreaBottom" fmla="*/ 82476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75"/>
                  <a:pt x="0" y="1949"/>
                </a:cubicBezTo>
                <a:lnTo>
                  <a:pt x="0" y="19651"/>
                </a:lnTo>
                <a:cubicBezTo>
                  <a:pt x="0" y="20626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テキスト ボックス 9"/>
          <p:cNvSpPr/>
          <p:nvPr/>
        </p:nvSpPr>
        <p:spPr>
          <a:xfrm>
            <a:off x="1285920" y="2000160"/>
            <a:ext cx="68580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なりすまし：盗用などで知った他人のアカウントでアクセスする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助長行為：正規のユーザに無断で、アカウントを提供す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7426-767B-4BC1-8776-7121BA35484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テキスト ボックス 12"/>
          <p:cNvSpPr/>
          <p:nvPr/>
        </p:nvSpPr>
        <p:spPr>
          <a:xfrm>
            <a:off x="1285920" y="15717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来アクセス権のないコンピュータへのアクセ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llegal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1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アカウント盗用の防止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000920" cy="785880"/>
          </a:xfrm>
          <a:prstGeom prst="rect">
            <a:avLst/>
          </a:prstGeom>
          <a:solidFill>
            <a:srgbClr val="d2da7a"/>
          </a:solidFill>
          <a:ln w="19080">
            <a:solidFill>
              <a:srgbClr val="9aa05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アカウントはユーザー自身が厳重に管理を！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Gill Sans MT"/>
              </a:rPr>
              <a:t>１人の不注意から他人（システム全体）も危険に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5715000" y="235728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各運用団体での禁止行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Text Box 5"/>
          <p:cNvGrpSpPr/>
          <p:nvPr/>
        </p:nvGrpSpPr>
        <p:grpSpPr>
          <a:xfrm>
            <a:off x="55440" y="2359080"/>
            <a:ext cx="4980240" cy="633240"/>
            <a:chOff x="55440" y="2359080"/>
            <a:chExt cx="4980240" cy="633240"/>
          </a:xfrm>
        </p:grpSpPr>
        <p:pic>
          <p:nvPicPr>
            <p:cNvPr id="377" name="Text Box 5" descr=""/>
            <p:cNvPicPr/>
            <p:nvPr/>
          </p:nvPicPr>
          <p:blipFill>
            <a:blip r:embed="rId1"/>
            <a:stretch/>
          </p:blipFill>
          <p:spPr>
            <a:xfrm>
              <a:off x="55440" y="2359080"/>
              <a:ext cx="4980240" cy="63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214200" y="242892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ＭＳ Ｐゴシック"/>
                </a:rPr>
                <a:t>ID</a:t>
              </a:r>
              <a:r>
                <a:rPr b="0" lang="ja-JP" sz="2000" spc="-1" strike="noStrike">
                  <a:solidFill>
                    <a:srgbClr val="ffffff"/>
                  </a:solidFill>
                  <a:latin typeface="ＭＳ Ｐゴシック"/>
                </a:rPr>
                <a:t>・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パスワードなどを故意に漏ら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Text Box 6"/>
          <p:cNvGrpSpPr/>
          <p:nvPr/>
        </p:nvGrpSpPr>
        <p:grpSpPr>
          <a:xfrm>
            <a:off x="55440" y="2925720"/>
            <a:ext cx="4980240" cy="646200"/>
            <a:chOff x="55440" y="2925720"/>
            <a:chExt cx="4980240" cy="646200"/>
          </a:xfrm>
        </p:grpSpPr>
        <p:pic>
          <p:nvPicPr>
            <p:cNvPr id="380" name="Text Box 6" descr=""/>
            <p:cNvPicPr/>
            <p:nvPr/>
          </p:nvPicPr>
          <p:blipFill>
            <a:blip r:embed="rId2"/>
            <a:stretch/>
          </p:blipFill>
          <p:spPr>
            <a:xfrm>
              <a:off x="55440" y="2925720"/>
              <a:ext cx="49802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14200" y="3000240"/>
              <a:ext cx="47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アカウントを本人に無断で貸し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AutoShape 7"/>
          <p:cNvSpPr/>
          <p:nvPr/>
        </p:nvSpPr>
        <p:spPr>
          <a:xfrm>
            <a:off x="5000760" y="271476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Text Box 8"/>
          <p:cNvGrpSpPr/>
          <p:nvPr/>
        </p:nvGrpSpPr>
        <p:grpSpPr>
          <a:xfrm>
            <a:off x="55440" y="3481560"/>
            <a:ext cx="5052960" cy="1004760"/>
            <a:chOff x="55440" y="3481560"/>
            <a:chExt cx="5052960" cy="1004760"/>
          </a:xfrm>
        </p:grpSpPr>
        <p:pic>
          <p:nvPicPr>
            <p:cNvPr id="384" name="Text Box 8" descr=""/>
            <p:cNvPicPr/>
            <p:nvPr/>
          </p:nvPicPr>
          <p:blipFill>
            <a:blip r:embed="rId3"/>
            <a:stretch/>
          </p:blipFill>
          <p:spPr>
            <a:xfrm>
              <a:off x="55440" y="3481560"/>
              <a:ext cx="505296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214200" y="3571920"/>
              <a:ext cx="4753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管理者を装いパスワードを聞き出す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（ソーシャルエンジニアリング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AutoShape 9"/>
          <p:cNvSpPr/>
          <p:nvPr/>
        </p:nvSpPr>
        <p:spPr>
          <a:xfrm>
            <a:off x="5000760" y="3714840"/>
            <a:ext cx="574560" cy="431640"/>
          </a:xfrm>
          <a:custGeom>
            <a:avLst/>
            <a:gdLst>
              <a:gd name="textAreaLeft" fmla="*/ 0 w 574560"/>
              <a:gd name="textAreaRight" fmla="*/ 574920 w 5745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5715000" y="3571920"/>
            <a:ext cx="309708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一切応じず、プロバイダに届け出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13"/>
          <p:cNvGrpSpPr/>
          <p:nvPr/>
        </p:nvGrpSpPr>
        <p:grpSpPr>
          <a:xfrm>
            <a:off x="2560680" y="4784760"/>
            <a:ext cx="6364080" cy="1414440"/>
            <a:chOff x="2560680" y="4784760"/>
            <a:chExt cx="6364080" cy="1414440"/>
          </a:xfrm>
        </p:grpSpPr>
        <p:pic>
          <p:nvPicPr>
            <p:cNvPr id="389" name="Rectangle 13" descr=""/>
            <p:cNvPicPr/>
            <p:nvPr/>
          </p:nvPicPr>
          <p:blipFill>
            <a:blip r:embed="rId4"/>
            <a:stretch/>
          </p:blipFill>
          <p:spPr>
            <a:xfrm>
              <a:off x="2560680" y="4784760"/>
              <a:ext cx="63640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2643120" y="4857840"/>
              <a:ext cx="6193080" cy="12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大文字と小文字に数字や記号を混ぜた長い文字列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単語、地名、人名などをそのまま単独で使わ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個人情報（誕生日など）と無関係なものに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AutoShape 14"/>
          <p:cNvSpPr/>
          <p:nvPr/>
        </p:nvSpPr>
        <p:spPr>
          <a:xfrm>
            <a:off x="428760" y="4857840"/>
            <a:ext cx="216036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推測されにく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パスワードを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0ADD-AF83-49CD-842A-5EA57E2A2B9C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　個人情報の漏洩（ろうえい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395" name="Rectangle 3"/>
          <p:cNvGrpSpPr/>
          <p:nvPr/>
        </p:nvGrpSpPr>
        <p:grpSpPr>
          <a:xfrm>
            <a:off x="2670120" y="4552920"/>
            <a:ext cx="3633840" cy="1182600"/>
            <a:chOff x="2670120" y="4552920"/>
            <a:chExt cx="3633840" cy="1182600"/>
          </a:xfrm>
        </p:grpSpPr>
        <p:pic>
          <p:nvPicPr>
            <p:cNvPr id="396" name="Rectangle 3" descr=""/>
            <p:cNvPicPr/>
            <p:nvPr/>
          </p:nvPicPr>
          <p:blipFill>
            <a:blip r:embed="rId1"/>
            <a:stretch/>
          </p:blipFill>
          <p:spPr>
            <a:xfrm>
              <a:off x="2670120" y="4552920"/>
              <a:ext cx="363384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2786040" y="4643280"/>
              <a:ext cx="3457440" cy="100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流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600" spc="-1" strike="noStrike">
                  <a:solidFill>
                    <a:srgbClr val="ffffff"/>
                  </a:solidFill>
                  <a:latin typeface="Gill Sans MT"/>
                </a:rPr>
                <a:t>不正な情報収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Rectangle 4"/>
          <p:cNvGrpSpPr/>
          <p:nvPr/>
        </p:nvGrpSpPr>
        <p:grpSpPr>
          <a:xfrm>
            <a:off x="1133640" y="1530360"/>
            <a:ext cx="6887880" cy="1859040"/>
            <a:chOff x="1133640" y="1530360"/>
            <a:chExt cx="6887880" cy="1859040"/>
          </a:xfrm>
        </p:grpSpPr>
        <p:pic>
          <p:nvPicPr>
            <p:cNvPr id="399" name="Rectangle 4" descr=""/>
            <p:cNvPicPr/>
            <p:nvPr/>
          </p:nvPicPr>
          <p:blipFill>
            <a:blip r:embed="rId2"/>
            <a:stretch/>
          </p:blipFill>
          <p:spPr>
            <a:xfrm>
              <a:off x="1133640" y="1530360"/>
              <a:ext cx="688788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357200" y="1571760"/>
              <a:ext cx="6337440" cy="172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ffffff"/>
                  </a:solidFill>
                  <a:latin typeface="Gill Sans MT"/>
                </a:rPr>
                <a:t>ネット上で個人情報を入力する機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カード番号やパスワード    ： 電子商取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　・メールや住所等の連絡先  ： 懸賞、アンケー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AutoShape 5"/>
          <p:cNvSpPr/>
          <p:nvPr/>
        </p:nvSpPr>
        <p:spPr>
          <a:xfrm>
            <a:off x="3571920" y="3643200"/>
            <a:ext cx="1800360" cy="64764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4216-0F50-4F39-B567-247F4898E73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流出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000760" y="1714680"/>
            <a:ext cx="3528720" cy="107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プライバシーが侵害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流出した情報を悪用され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社会的信用が失墜する。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AutoShape 4"/>
          <p:cNvSpPr/>
          <p:nvPr/>
        </p:nvSpPr>
        <p:spPr>
          <a:xfrm>
            <a:off x="357120" y="1571760"/>
            <a:ext cx="4392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個人情報を収集した側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管理責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6"/>
          <p:cNvSpPr/>
          <p:nvPr/>
        </p:nvSpPr>
        <p:spPr>
          <a:xfrm>
            <a:off x="7143840" y="714240"/>
            <a:ext cx="1730160" cy="928800"/>
          </a:xfrm>
          <a:prstGeom prst="irregularSeal1">
            <a:avLst/>
          </a:prstGeom>
          <a:solidFill>
            <a:srgbClr val="8e736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流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428760" y="3214800"/>
            <a:ext cx="410364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１）内部の人間が機密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不正に持ち出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8"/>
          <p:cNvSpPr/>
          <p:nvPr/>
        </p:nvSpPr>
        <p:spPr>
          <a:xfrm>
            <a:off x="4786200" y="3214800"/>
            <a:ext cx="4032360" cy="136836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（２）部外者に情報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盗難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Rectangle 9"/>
          <p:cNvGrpSpPr/>
          <p:nvPr/>
        </p:nvGrpSpPr>
        <p:grpSpPr>
          <a:xfrm>
            <a:off x="360360" y="5218200"/>
            <a:ext cx="4303800" cy="1170000"/>
            <a:chOff x="360360" y="5218200"/>
            <a:chExt cx="4303800" cy="1170000"/>
          </a:xfrm>
        </p:grpSpPr>
        <p:pic>
          <p:nvPicPr>
            <p:cNvPr id="411" name="Rectangle 9" descr=""/>
            <p:cNvPicPr/>
            <p:nvPr/>
          </p:nvPicPr>
          <p:blipFill>
            <a:blip r:embed="rId1"/>
            <a:stretch/>
          </p:blipFill>
          <p:spPr>
            <a:xfrm>
              <a:off x="360360" y="5218200"/>
              <a:ext cx="43038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28760" y="5286240"/>
              <a:ext cx="417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機密情報に関し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組織内のルール策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Rectangle 11"/>
          <p:cNvGrpSpPr/>
          <p:nvPr/>
        </p:nvGrpSpPr>
        <p:grpSpPr>
          <a:xfrm>
            <a:off x="4718160" y="5218200"/>
            <a:ext cx="4236840" cy="1170000"/>
            <a:chOff x="4718160" y="5218200"/>
            <a:chExt cx="4236840" cy="1170000"/>
          </a:xfrm>
        </p:grpSpPr>
        <p:pic>
          <p:nvPicPr>
            <p:cNvPr id="414" name="Rectangle 11" descr=""/>
            <p:cNvPicPr/>
            <p:nvPr/>
          </p:nvPicPr>
          <p:blipFill>
            <a:blip r:embed="rId2"/>
            <a:stretch/>
          </p:blipFill>
          <p:spPr>
            <a:xfrm>
              <a:off x="4718160" y="5218200"/>
              <a:ext cx="423684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786200" y="5286240"/>
              <a:ext cx="410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パスワードやＰＣ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800" spc="-1" strike="noStrike">
                  <a:solidFill>
                    <a:srgbClr val="ffffff"/>
                  </a:solidFill>
                  <a:latin typeface="Gill Sans MT"/>
                </a:rPr>
                <a:t>盗難に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AutoShape 12"/>
          <p:cNvSpPr/>
          <p:nvPr/>
        </p:nvSpPr>
        <p:spPr>
          <a:xfrm>
            <a:off x="1714680" y="4714920"/>
            <a:ext cx="1800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3"/>
          <p:cNvSpPr/>
          <p:nvPr/>
        </p:nvSpPr>
        <p:spPr>
          <a:xfrm>
            <a:off x="5929200" y="4714920"/>
            <a:ext cx="180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スライド番号プレースホルダ 12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3C7A-F81D-4A34-940A-263866B57B5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2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不正な情報収集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AutoShape 4"/>
          <p:cNvSpPr/>
          <p:nvPr/>
        </p:nvSpPr>
        <p:spPr>
          <a:xfrm>
            <a:off x="428760" y="1285920"/>
            <a:ext cx="2420640" cy="571320"/>
          </a:xfrm>
          <a:prstGeom prst="parallelogram">
            <a:avLst>
              <a:gd name="adj" fmla="val 14672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Gill Sans MT"/>
              </a:rPr>
              <a:t>フィッシン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9" descr="MCj02872830000[1]"/>
          <p:cNvPicPr/>
          <p:nvPr/>
        </p:nvPicPr>
        <p:blipFill>
          <a:blip r:embed="rId1"/>
          <a:stretch/>
        </p:blipFill>
        <p:spPr>
          <a:xfrm>
            <a:off x="7236000" y="1484280"/>
            <a:ext cx="1296720" cy="1068480"/>
          </a:xfrm>
          <a:prstGeom prst="rect">
            <a:avLst/>
          </a:prstGeom>
          <a:ln w="0">
            <a:noFill/>
          </a:ln>
        </p:spPr>
      </p:pic>
      <p:sp>
        <p:nvSpPr>
          <p:cNvPr id="423" name="Line 11"/>
          <p:cNvSpPr/>
          <p:nvPr/>
        </p:nvSpPr>
        <p:spPr>
          <a:xfrm flipV="1">
            <a:off x="3500280" y="3286080"/>
            <a:ext cx="928800" cy="1000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1428840" y="3643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メール（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5"/>
          <p:cNvSpPr/>
          <p:nvPr/>
        </p:nvSpPr>
        <p:spPr>
          <a:xfrm flipV="1">
            <a:off x="5867280" y="2276640"/>
            <a:ext cx="1297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5867280" y="2997360"/>
            <a:ext cx="1081080" cy="79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7"/>
          <p:cNvSpPr/>
          <p:nvPr/>
        </p:nvSpPr>
        <p:spPr>
          <a:xfrm>
            <a:off x="7488360" y="2637000"/>
            <a:ext cx="12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9"/>
          <p:cNvSpPr/>
          <p:nvPr/>
        </p:nvSpPr>
        <p:spPr>
          <a:xfrm>
            <a:off x="6948360" y="350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偽装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0" descr="MCj02320470000[1]"/>
          <p:cNvPicPr/>
          <p:nvPr/>
        </p:nvPicPr>
        <p:blipFill>
          <a:blip r:embed="rId2"/>
          <a:stretch/>
        </p:blipFill>
        <p:spPr>
          <a:xfrm>
            <a:off x="4433760" y="2071800"/>
            <a:ext cx="1656000" cy="1282680"/>
          </a:xfrm>
          <a:prstGeom prst="rect">
            <a:avLst/>
          </a:prstGeom>
          <a:ln w="0">
            <a:noFill/>
          </a:ln>
        </p:spPr>
      </p:pic>
      <p:sp>
        <p:nvSpPr>
          <p:cNvPr id="430" name="Line 21"/>
          <p:cNvSpPr/>
          <p:nvPr/>
        </p:nvSpPr>
        <p:spPr>
          <a:xfrm flipH="1">
            <a:off x="6300360" y="2492280"/>
            <a:ext cx="360360" cy="43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6300720" y="2492280"/>
            <a:ext cx="358920" cy="36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3"/>
          <p:cNvSpPr/>
          <p:nvPr/>
        </p:nvSpPr>
        <p:spPr>
          <a:xfrm>
            <a:off x="4932360" y="3357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リ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Text Box 24"/>
          <p:cNvGrpSpPr/>
          <p:nvPr/>
        </p:nvGrpSpPr>
        <p:grpSpPr>
          <a:xfrm>
            <a:off x="3584520" y="4286160"/>
            <a:ext cx="3144960" cy="876240"/>
            <a:chOff x="3584520" y="4286160"/>
            <a:chExt cx="3144960" cy="876240"/>
          </a:xfrm>
        </p:grpSpPr>
        <p:pic>
          <p:nvPicPr>
            <p:cNvPr id="434" name="Text Box 24" descr=""/>
            <p:cNvPicPr/>
            <p:nvPr/>
          </p:nvPicPr>
          <p:blipFill>
            <a:blip r:embed="rId3"/>
            <a:stretch/>
          </p:blipFill>
          <p:spPr>
            <a:xfrm>
              <a:off x="3584520" y="4286160"/>
              <a:ext cx="31449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3714840" y="4357800"/>
              <a:ext cx="295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ffffff"/>
                  </a:solidFill>
                  <a:latin typeface="Gill Sans MT"/>
                </a:rPr>
                <a:t>アンケートフォームなどで個人情報を釣り上げ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6" name="Picture 14" descr="MCBD06551_0000[1]"/>
          <p:cNvPicPr/>
          <p:nvPr/>
        </p:nvPicPr>
        <p:blipFill>
          <a:blip r:embed="rId4"/>
          <a:stretch/>
        </p:blipFill>
        <p:spPr>
          <a:xfrm>
            <a:off x="6732720" y="3933720"/>
            <a:ext cx="2089080" cy="170820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25"/>
          <p:cNvSpPr/>
          <p:nvPr/>
        </p:nvSpPr>
        <p:spPr>
          <a:xfrm>
            <a:off x="1643040" y="5715000"/>
            <a:ext cx="6120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本サイトと偽装サイトの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をチェックす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フッター プレースホルダ 1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スライド番号プレースホルダ 1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3537-F729-44C7-B254-91D054E1A81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6-2"/>
          <p:cNvPicPr/>
          <p:nvPr/>
        </p:nvPicPr>
        <p:blipFill>
          <a:blip r:embed="rId5"/>
          <a:stretch/>
        </p:blipFill>
        <p:spPr>
          <a:xfrm>
            <a:off x="428760" y="1949400"/>
            <a:ext cx="2286000" cy="14749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MCj03429990000[1]"/>
          <p:cNvPicPr/>
          <p:nvPr/>
        </p:nvPicPr>
        <p:blipFill>
          <a:blip r:embed="rId6"/>
          <a:stretch/>
        </p:blipFill>
        <p:spPr>
          <a:xfrm>
            <a:off x="1785960" y="4143240"/>
            <a:ext cx="1800360" cy="125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2.3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クロスサイト・スクリプティング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443" name="Picture 5" descr="MCj02320470000[1]"/>
          <p:cNvPicPr/>
          <p:nvPr/>
        </p:nvPicPr>
        <p:blipFill>
          <a:blip r:embed="rId1"/>
          <a:stretch/>
        </p:blipFill>
        <p:spPr>
          <a:xfrm>
            <a:off x="1071720" y="1714680"/>
            <a:ext cx="1949400" cy="150948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6" descr="MCBD06551_0000[1]"/>
          <p:cNvPicPr/>
          <p:nvPr/>
        </p:nvPicPr>
        <p:blipFill>
          <a:blip r:embed="rId2"/>
          <a:stretch/>
        </p:blipFill>
        <p:spPr>
          <a:xfrm>
            <a:off x="5940360" y="2205000"/>
            <a:ext cx="2089080" cy="170820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MCj02872830000[1]"/>
          <p:cNvPicPr/>
          <p:nvPr/>
        </p:nvPicPr>
        <p:blipFill>
          <a:blip r:embed="rId3"/>
          <a:stretch/>
        </p:blipFill>
        <p:spPr>
          <a:xfrm>
            <a:off x="3995640" y="3141720"/>
            <a:ext cx="1297080" cy="1068480"/>
          </a:xfrm>
          <a:prstGeom prst="rect">
            <a:avLst/>
          </a:prstGeom>
          <a:ln w="0">
            <a:noFill/>
          </a:ln>
        </p:spPr>
      </p:pic>
      <p:sp>
        <p:nvSpPr>
          <p:cNvPr id="446" name="Line 8"/>
          <p:cNvSpPr/>
          <p:nvPr/>
        </p:nvSpPr>
        <p:spPr>
          <a:xfrm>
            <a:off x="2987640" y="2997360"/>
            <a:ext cx="1008000" cy="431640"/>
          </a:xfrm>
          <a:prstGeom prst="line">
            <a:avLst/>
          </a:prstGeom>
          <a:ln w="57240">
            <a:solidFill>
              <a:srgbClr val="46465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0"/>
          <p:cNvSpPr/>
          <p:nvPr/>
        </p:nvSpPr>
        <p:spPr>
          <a:xfrm flipV="1">
            <a:off x="4859280" y="3141720"/>
            <a:ext cx="1008000" cy="21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1"/>
          <p:cNvSpPr/>
          <p:nvPr/>
        </p:nvSpPr>
        <p:spPr>
          <a:xfrm flipV="1">
            <a:off x="2843280" y="3860280"/>
            <a:ext cx="1152360" cy="57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2928960" y="4572000"/>
            <a:ext cx="2665440" cy="39888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</a:rPr>
              <a:t>ページ内容の書き換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3"/>
          <p:cNvGrpSpPr/>
          <p:nvPr/>
        </p:nvGrpSpPr>
        <p:grpSpPr>
          <a:xfrm>
            <a:off x="4986360" y="3790800"/>
            <a:ext cx="2603520" cy="648000"/>
            <a:chOff x="4986360" y="3790800"/>
            <a:chExt cx="2603520" cy="648000"/>
          </a:xfrm>
        </p:grpSpPr>
        <p:pic>
          <p:nvPicPr>
            <p:cNvPr id="451" name="Text Box 13" descr=""/>
            <p:cNvPicPr/>
            <p:nvPr/>
          </p:nvPicPr>
          <p:blipFill>
            <a:blip r:embed="rId4"/>
            <a:stretch/>
          </p:blipFill>
          <p:spPr>
            <a:xfrm>
              <a:off x="4986360" y="3790800"/>
              <a:ext cx="260352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5148360" y="3860640"/>
              <a:ext cx="237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ffffff"/>
                  </a:solidFill>
                  <a:latin typeface="Gill Sans MT"/>
                </a:rPr>
                <a:t>別サイトへ誘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 Box 14"/>
          <p:cNvSpPr/>
          <p:nvPr/>
        </p:nvSpPr>
        <p:spPr>
          <a:xfrm>
            <a:off x="3132000" y="2421000"/>
            <a:ext cx="1366920" cy="4597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アクセ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1500120" y="5214960"/>
            <a:ext cx="6120000" cy="86256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ブラウザでスクリプトの実行を許可すると危険がともな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oki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の情報を持ち出されないように削除してお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MCj03429990000[1]"/>
          <p:cNvPicPr/>
          <p:nvPr/>
        </p:nvPicPr>
        <p:blipFill>
          <a:blip r:embed="rId5"/>
          <a:stretch/>
        </p:blipFill>
        <p:spPr>
          <a:xfrm>
            <a:off x="1071720" y="3643200"/>
            <a:ext cx="1800000" cy="1252800"/>
          </a:xfrm>
          <a:prstGeom prst="rect">
            <a:avLst/>
          </a:prstGeom>
          <a:ln w="0">
            <a:noFill/>
          </a:ln>
        </p:spPr>
      </p:pic>
      <p:sp>
        <p:nvSpPr>
          <p:cNvPr id="457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DFA3-7A57-4033-906E-61D1DE04787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utoShape 15"/>
          <p:cNvSpPr/>
          <p:nvPr/>
        </p:nvSpPr>
        <p:spPr>
          <a:xfrm>
            <a:off x="1785960" y="3571920"/>
            <a:ext cx="59040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e73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３　出会い系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28800" y="1428840"/>
            <a:ext cx="271440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新しい友人を作るためのサイ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928800" y="2571840"/>
            <a:ext cx="2665440" cy="82548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金銭目的の少女と大人が児童買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4857840" y="1428840"/>
            <a:ext cx="3384360" cy="825480"/>
          </a:xfrm>
          <a:prstGeom prst="rect">
            <a:avLst/>
          </a:prstGeom>
          <a:solidFill>
            <a:srgbClr val="ffffff"/>
          </a:solidFill>
          <a:ln w="19080">
            <a:solidFill>
              <a:srgbClr val="b88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アクセスのほぼ１００％が携帯電話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8"/>
          <p:cNvSpPr/>
          <p:nvPr/>
        </p:nvSpPr>
        <p:spPr>
          <a:xfrm>
            <a:off x="4857840" y="2571840"/>
            <a:ext cx="3384360" cy="45972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携帯電話の番号通知で本人を認証させ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9"/>
          <p:cNvSpPr/>
          <p:nvPr/>
        </p:nvSpPr>
        <p:spPr>
          <a:xfrm>
            <a:off x="2214720" y="371484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男性の被害：金品を強奪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0"/>
          <p:cNvSpPr/>
          <p:nvPr/>
        </p:nvSpPr>
        <p:spPr>
          <a:xfrm>
            <a:off x="1928880" y="42861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女性の被害：</a:t>
            </a: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歳未満の少女が児童買春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1"/>
          <p:cNvSpPr/>
          <p:nvPr/>
        </p:nvSpPr>
        <p:spPr>
          <a:xfrm>
            <a:off x="221472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6429240" y="228600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3"/>
          <p:cNvSpPr/>
          <p:nvPr/>
        </p:nvSpPr>
        <p:spPr>
          <a:xfrm>
            <a:off x="357120" y="5072040"/>
            <a:ext cx="396072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知り合って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軽い気持ちで会わない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4"/>
          <p:cNvSpPr/>
          <p:nvPr/>
        </p:nvSpPr>
        <p:spPr>
          <a:xfrm>
            <a:off x="4714920" y="5072040"/>
            <a:ext cx="3887640" cy="1008000"/>
          </a:xfrm>
          <a:prstGeom prst="rect">
            <a:avLst/>
          </a:prstGeom>
          <a:solidFill>
            <a:srgbClr val="fada7a"/>
          </a:solidFill>
          <a:ln w="19080">
            <a:solidFill>
              <a:srgbClr val="b8a0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犯罪の温床とならないよ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慎重かつ分別ある行動を！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フッター プレースホルダ 1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3FA-3D2B-4ED8-B2E3-CEA92AD0BADA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3.1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出会い系サイトに関係した事件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73" name="フッター プレースホルダ 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57120" y="1285920"/>
          <a:ext cx="8429760" cy="2293920"/>
        </p:xfrm>
        <a:graphic>
          <a:graphicData uri="http://schemas.openxmlformats.org/drawingml/2006/table">
            <a:tbl>
              <a:tblPr/>
              <a:tblGrid>
                <a:gridCol w="3470400"/>
                <a:gridCol w="995400"/>
                <a:gridCol w="992160"/>
                <a:gridCol w="992160"/>
                <a:gridCol w="992160"/>
                <a:gridCol w="987480"/>
              </a:tblGrid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検挙内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5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6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7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008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買春・児童ポルノ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6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青少年保護育成条例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児童福祉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出会い系サイト規制法違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重要犯罪（殺人・強盗・放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54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粗暴犯（暴行・傷害・脅迫・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08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その他（窃盗・詐欺・その他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3000" rIns="63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Century"/>
                          <a:ea typeface="HGSｺﾞｼｯｸM"/>
                        </a:rPr>
                        <a:t>合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9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GSｺﾞｼｯｸM"/>
                          <a:ea typeface="ＭＳ 明朝"/>
                        </a:rPr>
                        <a:t>1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テキスト ボックス 4"/>
          <p:cNvSpPr/>
          <p:nvPr/>
        </p:nvSpPr>
        <p:spPr>
          <a:xfrm>
            <a:off x="500040" y="4071960"/>
            <a:ext cx="8143920" cy="180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買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出会い系サイトを連絡掲示板として使った違法行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の側が金銭目当てに買春を誘う不正誘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児童を携帯電話で撮影し、わいせつ画像をインターネット上に掲載、販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写真をばらまくと脅迫され、お金を恐喝されるケース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爆発 2 5"/>
          <p:cNvSpPr/>
          <p:nvPr/>
        </p:nvSpPr>
        <p:spPr>
          <a:xfrm>
            <a:off x="6357960" y="3643200"/>
            <a:ext cx="2500200" cy="1428840"/>
          </a:xfrm>
          <a:prstGeom prst="irregularSeal2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も顕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スライド番号プレースホルダ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F948-84C0-4B94-B17D-F36287EACD3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0T04:13:02Z</dcterms:created>
  <dc:creator>T.Yamazumi</dc:creator>
  <dc:description/>
  <dc:language>en-US</dc:language>
  <cp:lastModifiedBy>T.Yamazumi</cp:lastModifiedBy>
  <dcterms:modified xsi:type="dcterms:W3CDTF">2009-11-02T05:03:30Z</dcterms:modified>
  <cp:revision>111</cp:revision>
  <dc:subject/>
  <dc:title>ネットワーク社会の情報倫理</dc:title>
</cp:coreProperties>
</file>