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4.jpeg" ContentType="image/jpe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F821-FFFC-4CD7-8392-6EBA2C8B2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ネットワーク社会の情報倫理　近代科学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8427-C014-416E-881C-418C3FBF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BC5-5FE6-4C0E-883D-55893C2A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0217-7E85-4897-8786-B112A0A9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255-7238-4C45-B93F-F8E03DF7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B87D-00AA-41E2-89F7-6F92DD7F9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FB16-AAF6-4757-A0D6-A3E598A7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56A0-CA56-4629-B37D-9E014CE9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A812-49CC-4150-8A0F-C29DE37A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684E-0C07-4D0A-AD72-BD3169D4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8D38-F0E8-44FA-86AF-38BE91AC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E64D-C710-4607-94B2-89F49D1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746-7E69-43E4-B25B-BE6D412E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2F86-CC45-484E-8EE2-C19E3A07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ED75-AF33-4C89-B491-B184AE8E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23CB-3376-4018-AD79-C2861C80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B1BD-815F-4DBD-A29A-62821336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CD72-CDFE-49A9-8920-A304CA21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6938F-EA16-4315-9EDB-AD5D963B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FB3D5-C4E9-46C9-AA9F-34C983CF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EDC8-63C2-48EA-A3B9-7055528B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A8168-937F-43EB-8328-2C82B206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5B4D-9A5D-4731-9A0A-0DA9DC9C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ED7-9EA3-406A-9B08-CED9C028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0AC8-891C-44DB-BFE1-E35D916F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2D96B-5EE7-44A8-BCE8-1D52DEF5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27BE-4C67-4A2E-9749-7A955034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9C90A-2E9C-456E-A3C5-72864D91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3438B-C4B5-44DF-8EF4-FA2FFD07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56078-4A12-4F0A-9634-3804F9AF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DE249-80D8-4AF2-8F90-EACA95FA2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81AF7-B224-462B-B924-299621EF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CFDF3-23FE-4413-A297-7C84EDBE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84848-52C9-41CE-9A13-80F926CB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DA9-9171-4604-9AB0-D2C68DA2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C7363-EA97-4963-9D3C-38566B8E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B6D0D-959D-4C2A-B40C-AD6AB03F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974C1-7277-43BB-84FC-AD605D7D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5166D-DFE5-4FA3-A7E9-CCE8E1CC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4C0CF-E365-429C-8B5E-79F0CBB1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6173-1902-4E92-BAA6-7823C72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5AD70-6F7E-4286-8045-7B95AE15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24324-6B8A-4212-B4CC-F60900CEE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8A69F-FF07-4577-88D9-668F7ECB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616C-4942-4321-901E-758BAC699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BF0-E9F6-4169-BB19-CA4F30C0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3140C-F800-40E9-8E58-75023324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5146B-ADBE-4E68-85C4-EEE3275F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12C3F-31C0-45E6-8ADF-A9302FD9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E4D31-3306-4FE0-B9B2-387831E5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ACD1A-66C4-4A60-AAD9-1A588AA2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FAF3A-2BBD-4D1D-80D5-40080391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1E136-AD14-4634-98D7-DAB68C9E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5C677-148F-4BE7-A985-B816BFAB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D72D6-FFC7-473E-B556-D4C1FCC5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24FA4-735F-42EE-A6EF-6DB2BC61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6BE-8E37-4450-90C5-C281AF9F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49C382-CBBC-4FC3-A67E-15A31AFA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F3CE5-7E0C-4F43-A3AE-15DE6083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40F56-E2AE-4542-9A16-DEA0AF23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1314E-29E2-47CA-ADD7-D969062C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5BF50-88DF-4FB9-820A-E925790A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88D97-B4C0-452A-A1E1-50F2D5D2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62392-CD43-4216-B898-44ACC7E3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5EAC3-6B68-4DA8-8CD5-20711E6E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44EDA-58FF-4B0C-91A9-E7372331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F1854-6267-4730-82EC-8E498163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3079-B889-43F5-BA9B-E4C80F27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A5C11-D0B4-4A11-B055-1583A826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44E02-871D-437A-A320-25D2D808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BDBEF-B93C-4134-928A-70A0843D2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B049C-2A0C-4EF2-A559-4E08FCEF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C74BF-19CB-4B9A-A5A4-1B6BAE36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25B63-8682-4660-9F96-36935B5F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FECE4-9F10-4811-AA51-10980EFF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9C7AD-3001-4A3D-9347-F3227567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5D0D2-8691-4590-9BC2-6B089E5B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6AD97-ADFC-45EB-A47A-96D1FB46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D43-9C3B-47E0-8103-495792B2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E248F-BC89-4597-A9D0-2E1EF0F2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1B72-9A02-4E32-ADEC-CF005E87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6747A-DA9D-4C20-AA51-4B242042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ACBAD-FAEE-472A-A47D-97601969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83F7F-A3B5-499A-A74E-1D35B7262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F1C4F-6D4B-45A4-9552-6D7BC796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D6100-6249-4CE5-BA79-5B902AC0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4983B-E66D-4DFC-A4C9-CD736962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72C1BC-6E1F-42C1-B88E-25067C9B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CAEE3-BA25-482B-8DB4-B86831C9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3A5-6F83-4F71-BF8E-C532AA05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A6544-3B46-4B30-B55B-5ACDC8E8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41266-27DB-4396-A06A-4CF26E1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A3EA4-0375-44E6-B7E7-8DAC8A6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214EF-FD18-4534-8872-D897A70F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918A6-FABE-4C06-A7DE-6762A40C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690BC-2ED7-40D8-A2D3-862BCE13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95CCC-A35A-4C90-ADE0-47A211AE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3E0D-1C3E-478E-B570-F88FEE6F428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2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32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21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31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4E84-CEE7-4E58-971F-5BDF1C94AB15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6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7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917B-EA79-4CC5-AF5C-583FDA9EB372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B828-31A0-4DCD-A711-1E1A27FC27E2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4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5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D728-9F28-4C69-A483-639B80BF8EFD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9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B446-52BF-4F0A-B152-FD08E53CAFA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8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9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dde9ec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4356-8468-47FF-AF3E-F3663D82ED87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6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7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8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ネットワーク社会の情報倫理　近代科学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Times New Roman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0011-5F39-4324-B2FC-30A4300F30E3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Bookman Old Style"/>
              </a:rPr>
              <a:t>モバイルネットワーク時代の情報倫理</a:t>
            </a:r>
            <a:br>
              <a:rPr sz="2900"/>
            </a:b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＜近代科学社刊＞</a:t>
            </a:r>
            <a:endParaRPr b="0" lang="en-US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第</a:t>
            </a:r>
            <a:r>
              <a:rPr b="0" lang="en-US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2</a:t>
            </a:r>
            <a:r>
              <a:rPr b="0" lang="ja-JP" sz="2000" spc="-1" strike="noStrike">
                <a:solidFill>
                  <a:srgbClr val="464653"/>
                </a:solidFill>
                <a:latin typeface="Bookman Old Style"/>
                <a:ea typeface="HG明朝E"/>
              </a:rPr>
              <a:t>章　ネットワーク犯罪（後半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2" descr="5"/>
          <p:cNvPicPr/>
          <p:nvPr/>
        </p:nvPicPr>
        <p:blipFill>
          <a:blip r:embed="rId1"/>
          <a:srcRect l="4642" t="6698" r="4642" b="6698"/>
          <a:stretch/>
        </p:blipFill>
        <p:spPr>
          <a:xfrm>
            <a:off x="6210360" y="1857240"/>
            <a:ext cx="2174760" cy="144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9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有害情報の掲載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502" name="AutoShape 5"/>
          <p:cNvGrpSpPr/>
          <p:nvPr/>
        </p:nvGrpSpPr>
        <p:grpSpPr>
          <a:xfrm>
            <a:off x="4863960" y="2170080"/>
            <a:ext cx="920880" cy="639720"/>
            <a:chOff x="4863960" y="2170080"/>
            <a:chExt cx="920880" cy="639720"/>
          </a:xfrm>
        </p:grpSpPr>
        <p:pic>
          <p:nvPicPr>
            <p:cNvPr id="503" name="AutoShape 5" descr=""/>
            <p:cNvPicPr/>
            <p:nvPr/>
          </p:nvPicPr>
          <p:blipFill>
            <a:blip r:embed="rId1"/>
            <a:stretch/>
          </p:blipFill>
          <p:spPr>
            <a:xfrm>
              <a:off x="4863960" y="2170080"/>
              <a:ext cx="92088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27480" y="2214720"/>
              <a:ext cx="3952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スライド番号プレースホルダ 11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19FD-345F-441C-8CFF-291DBD6476E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フッター プレースホルダ 12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テキスト ボックス 14"/>
          <p:cNvSpPr/>
          <p:nvPr/>
        </p:nvSpPr>
        <p:spPr>
          <a:xfrm>
            <a:off x="571680" y="1357200"/>
            <a:ext cx="4071600" cy="2014200"/>
          </a:xfrm>
          <a:prstGeom prst="rect">
            <a:avLst/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自殺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方法の情報交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自殺仲間を募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練炭、硫化水素自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犯罪を誘引するサイ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犯罪の共謀や請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  <a:ea typeface="ＭＳ Ｐゴシック"/>
              </a:rPr>
              <a:t>泥棒や殺人の方法など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テキスト ボックス 15"/>
          <p:cNvSpPr/>
          <p:nvPr/>
        </p:nvSpPr>
        <p:spPr>
          <a:xfrm>
            <a:off x="5929200" y="1500120"/>
            <a:ext cx="1928880" cy="36828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言論・表現の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16"/>
          <p:cNvSpPr/>
          <p:nvPr/>
        </p:nvSpPr>
        <p:spPr>
          <a:xfrm>
            <a:off x="5929200" y="3000240"/>
            <a:ext cx="1928880" cy="3682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情報・悪影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上下矢印 17"/>
          <p:cNvSpPr/>
          <p:nvPr/>
        </p:nvSpPr>
        <p:spPr>
          <a:xfrm>
            <a:off x="6572160" y="2000160"/>
            <a:ext cx="642960" cy="857520"/>
          </a:xfrm>
          <a:prstGeom prst="upDownArrow">
            <a:avLst>
              <a:gd name="adj1" fmla="val 50000"/>
              <a:gd name="adj2" fmla="val 50014"/>
            </a:avLst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テキスト ボックス 18"/>
          <p:cNvGrpSpPr/>
          <p:nvPr/>
        </p:nvGrpSpPr>
        <p:grpSpPr>
          <a:xfrm>
            <a:off x="384120" y="4359240"/>
            <a:ext cx="4889520" cy="530280"/>
            <a:chOff x="384120" y="4359240"/>
            <a:chExt cx="4889520" cy="530280"/>
          </a:xfrm>
        </p:grpSpPr>
        <p:pic>
          <p:nvPicPr>
            <p:cNvPr id="512" name="テキスト ボックス 18" descr=""/>
            <p:cNvPicPr/>
            <p:nvPr/>
          </p:nvPicPr>
          <p:blipFill>
            <a:blip r:embed="rId2"/>
            <a:stretch/>
          </p:blipFill>
          <p:spPr>
            <a:xfrm>
              <a:off x="384120" y="4359240"/>
              <a:ext cx="48895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00040" y="4429080"/>
              <a:ext cx="471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青少年ネット規制法（有害サイト規制法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テキスト ボックス 19"/>
          <p:cNvSpPr/>
          <p:nvPr/>
        </p:nvSpPr>
        <p:spPr>
          <a:xfrm>
            <a:off x="785880" y="4857840"/>
            <a:ext cx="728640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携帯電話の事業者やパソコンメーカーに対しフィルタリングを義務づけ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有害か否かの基準を民間の第三者機関が策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下矢印 22"/>
          <p:cNvGrpSpPr/>
          <p:nvPr/>
        </p:nvGrpSpPr>
        <p:grpSpPr>
          <a:xfrm>
            <a:off x="1979640" y="3573360"/>
            <a:ext cx="1341360" cy="765360"/>
            <a:chOff x="1979640" y="3573360"/>
            <a:chExt cx="1341360" cy="765360"/>
          </a:xfrm>
        </p:grpSpPr>
        <p:pic>
          <p:nvPicPr>
            <p:cNvPr id="516" name="下矢印 22" descr=""/>
            <p:cNvPicPr/>
            <p:nvPr/>
          </p:nvPicPr>
          <p:blipFill>
            <a:blip r:embed="rId3"/>
            <a:stretch/>
          </p:blipFill>
          <p:spPr>
            <a:xfrm>
              <a:off x="1979640" y="3573360"/>
              <a:ext cx="134136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2349360" y="3607560"/>
              <a:ext cx="60768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６　知的財産権の侵害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85520" y="3500280"/>
            <a:ext cx="7643880" cy="1500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他の人が作ったデータには、全て著作権</a:t>
            </a:r>
            <a:r>
              <a:rPr b="0" lang="en-US" sz="1900" spc="-1" strike="noStrike">
                <a:solidFill>
                  <a:srgbClr val="000000"/>
                </a:solidFill>
                <a:latin typeface="Gill Sans MT"/>
              </a:rPr>
              <a:t>(Copyright)</a:t>
            </a: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がある。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売り物であるなしにかかわらず、他人の作成したものを勝手にコピーして公開したり配布してはいけない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Gill Sans MT"/>
              </a:rPr>
              <a:t>例外：著作権フリーのデータ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著作権はあるが、利用者に複製や配布を認めている。</a:t>
            </a:r>
            <a:endParaRPr b="0" lang="en-US" sz="18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42960" y="1643040"/>
            <a:ext cx="5800680" cy="41760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デジタルデータはすべてファイル単位で扱われ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Rectangle 6"/>
          <p:cNvGrpSpPr/>
          <p:nvPr/>
        </p:nvGrpSpPr>
        <p:grpSpPr>
          <a:xfrm>
            <a:off x="884160" y="2103480"/>
            <a:ext cx="4894200" cy="914400"/>
            <a:chOff x="884160" y="2103480"/>
            <a:chExt cx="4894200" cy="914400"/>
          </a:xfrm>
        </p:grpSpPr>
        <p:pic>
          <p:nvPicPr>
            <p:cNvPr id="366" name="Rectangle 6" descr=""/>
            <p:cNvPicPr/>
            <p:nvPr/>
          </p:nvPicPr>
          <p:blipFill>
            <a:blip r:embed="rId1"/>
            <a:stretch/>
          </p:blipFill>
          <p:spPr>
            <a:xfrm>
              <a:off x="884160" y="2103480"/>
              <a:ext cx="489420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1000080" y="2143080"/>
              <a:ext cx="471492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メディアからメディアへのコピーが容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Gill Sans MT"/>
                </a:rPr>
                <a:t>Web</a:t>
              </a: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で公開可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AutoShape 8"/>
          <p:cNvGrpSpPr/>
          <p:nvPr/>
        </p:nvGrpSpPr>
        <p:grpSpPr>
          <a:xfrm>
            <a:off x="2571840" y="2968560"/>
            <a:ext cx="1280880" cy="573120"/>
            <a:chOff x="2571840" y="2968560"/>
            <a:chExt cx="1280880" cy="573120"/>
          </a:xfrm>
        </p:grpSpPr>
        <p:pic>
          <p:nvPicPr>
            <p:cNvPr id="369" name="AutoShape 8" descr=""/>
            <p:cNvPicPr/>
            <p:nvPr/>
          </p:nvPicPr>
          <p:blipFill>
            <a:blip r:embed="rId2"/>
            <a:stretch/>
          </p:blipFill>
          <p:spPr>
            <a:xfrm>
              <a:off x="2571840" y="2968560"/>
              <a:ext cx="1280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928960" y="3000240"/>
              <a:ext cx="57132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フッター プレースホルダ 7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スライド番号プレースホルダ 8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6848-1D04-45A7-9FC6-BC5F185BD20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テキスト ボックス 9"/>
          <p:cNvSpPr/>
          <p:nvPr/>
        </p:nvSpPr>
        <p:spPr>
          <a:xfrm>
            <a:off x="428760" y="1214280"/>
            <a:ext cx="42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6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HG明朝E"/>
                <a:ea typeface="HG明朝E"/>
              </a:rPr>
              <a:t>デジタルデータと著作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テキスト ボックス 10"/>
          <p:cNvGrpSpPr/>
          <p:nvPr/>
        </p:nvGrpSpPr>
        <p:grpSpPr>
          <a:xfrm>
            <a:off x="2444760" y="5284800"/>
            <a:ext cx="5834160" cy="561960"/>
            <a:chOff x="2444760" y="5284800"/>
            <a:chExt cx="5834160" cy="561960"/>
          </a:xfrm>
        </p:grpSpPr>
        <p:pic>
          <p:nvPicPr>
            <p:cNvPr id="375" name="テキスト ボックス 10" descr=""/>
            <p:cNvPicPr/>
            <p:nvPr/>
          </p:nvPicPr>
          <p:blipFill>
            <a:blip r:embed="rId3"/>
            <a:stretch/>
          </p:blipFill>
          <p:spPr>
            <a:xfrm>
              <a:off x="2444760" y="5284800"/>
              <a:ext cx="583416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71840" y="5357880"/>
              <a:ext cx="564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ジタルデータのコピーは著作権を確かめてか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右矢印 11"/>
          <p:cNvGrpSpPr/>
          <p:nvPr/>
        </p:nvGrpSpPr>
        <p:grpSpPr>
          <a:xfrm>
            <a:off x="1359000" y="5241960"/>
            <a:ext cx="1060200" cy="780840"/>
            <a:chOff x="1359000" y="5241960"/>
            <a:chExt cx="1060200" cy="780840"/>
          </a:xfrm>
        </p:grpSpPr>
        <p:pic>
          <p:nvPicPr>
            <p:cNvPr id="378" name="右矢印 11" descr=""/>
            <p:cNvPicPr/>
            <p:nvPr/>
          </p:nvPicPr>
          <p:blipFill>
            <a:blip r:embed="rId4"/>
            <a:stretch/>
          </p:blipFill>
          <p:spPr>
            <a:xfrm>
              <a:off x="1359000" y="5241960"/>
              <a:ext cx="106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1428840" y="5446800"/>
              <a:ext cx="7682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6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ファイル共有ソフ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1" name="テキスト ボックス 2"/>
          <p:cNvSpPr/>
          <p:nvPr/>
        </p:nvSpPr>
        <p:spPr>
          <a:xfrm>
            <a:off x="571680" y="1285920"/>
            <a:ext cx="4929120" cy="39888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ファイル共有ソフト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File Sharing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テキスト ボックス 3"/>
          <p:cNvSpPr/>
          <p:nvPr/>
        </p:nvSpPr>
        <p:spPr>
          <a:xfrm>
            <a:off x="1214280" y="1714680"/>
            <a:ext cx="7461360" cy="7038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複数のユーザ同士が、ファイルを共有するためのソフトウェ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各ユーザが自分の欲しいファイルを入手でき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テキスト ボックス 4"/>
          <p:cNvGrpSpPr/>
          <p:nvPr/>
        </p:nvGrpSpPr>
        <p:grpSpPr>
          <a:xfrm>
            <a:off x="725400" y="3664080"/>
            <a:ext cx="4773600" cy="560160"/>
            <a:chOff x="725400" y="3664080"/>
            <a:chExt cx="4773600" cy="560160"/>
          </a:xfrm>
        </p:grpSpPr>
        <p:pic>
          <p:nvPicPr>
            <p:cNvPr id="384" name="テキスト ボックス 4" descr=""/>
            <p:cNvPicPr/>
            <p:nvPr/>
          </p:nvPicPr>
          <p:blipFill>
            <a:blip r:embed="rId1"/>
            <a:stretch/>
          </p:blipFill>
          <p:spPr>
            <a:xfrm>
              <a:off x="725400" y="3664080"/>
              <a:ext cx="477360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857160" y="3714840"/>
              <a:ext cx="457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複製禁止のデータの共有は違法行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爆発 2 5"/>
          <p:cNvGrpSpPr/>
          <p:nvPr/>
        </p:nvGrpSpPr>
        <p:grpSpPr>
          <a:xfrm>
            <a:off x="5651640" y="2603520"/>
            <a:ext cx="2554200" cy="1846080"/>
            <a:chOff x="5651640" y="2603520"/>
            <a:chExt cx="2554200" cy="1846080"/>
          </a:xfrm>
        </p:grpSpPr>
        <p:pic>
          <p:nvPicPr>
            <p:cNvPr id="387" name="爆発 2 5" descr=""/>
            <p:cNvPicPr/>
            <p:nvPr/>
          </p:nvPicPr>
          <p:blipFill>
            <a:blip r:embed="rId2"/>
            <a:stretch/>
          </p:blipFill>
          <p:spPr>
            <a:xfrm>
              <a:off x="5651640" y="2603520"/>
              <a:ext cx="2554200" cy="18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319800" y="3149640"/>
              <a:ext cx="104148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著作権侵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テキスト ボックス 6"/>
          <p:cNvGrpSpPr/>
          <p:nvPr/>
        </p:nvGrpSpPr>
        <p:grpSpPr>
          <a:xfrm>
            <a:off x="738360" y="4230720"/>
            <a:ext cx="5473440" cy="811080"/>
            <a:chOff x="738360" y="4230720"/>
            <a:chExt cx="5473440" cy="811080"/>
          </a:xfrm>
        </p:grpSpPr>
        <p:pic>
          <p:nvPicPr>
            <p:cNvPr id="390" name="テキスト ボックス 6" descr=""/>
            <p:cNvPicPr/>
            <p:nvPr/>
          </p:nvPicPr>
          <p:blipFill>
            <a:blip r:embed="rId3"/>
            <a:stretch/>
          </p:blipFill>
          <p:spPr>
            <a:xfrm>
              <a:off x="738360" y="4230720"/>
              <a:ext cx="547344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857160" y="4286160"/>
              <a:ext cx="528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Gill Sans MT"/>
                </a:rPr>
                <a:t>共有させることを目的に、サーバやパソコン上にファイルを置くことは著作権（公衆送信権）に抵触する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下矢印 7"/>
          <p:cNvGrpSpPr/>
          <p:nvPr/>
        </p:nvGrpSpPr>
        <p:grpSpPr>
          <a:xfrm>
            <a:off x="1979640" y="2708280"/>
            <a:ext cx="1987560" cy="898560"/>
            <a:chOff x="1979640" y="2708280"/>
            <a:chExt cx="1987560" cy="898560"/>
          </a:xfrm>
        </p:grpSpPr>
        <p:pic>
          <p:nvPicPr>
            <p:cNvPr id="393" name="下矢印 7" descr=""/>
            <p:cNvPicPr/>
            <p:nvPr/>
          </p:nvPicPr>
          <p:blipFill>
            <a:blip r:embed="rId4"/>
            <a:stretch/>
          </p:blipFill>
          <p:spPr>
            <a:xfrm>
              <a:off x="1979640" y="2708280"/>
              <a:ext cx="1987560" cy="8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2509920" y="2741760"/>
              <a:ext cx="928800" cy="59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右矢印 8"/>
          <p:cNvGrpSpPr/>
          <p:nvPr/>
        </p:nvGrpSpPr>
        <p:grpSpPr>
          <a:xfrm>
            <a:off x="712800" y="5400720"/>
            <a:ext cx="1139760" cy="853920"/>
            <a:chOff x="712800" y="5400720"/>
            <a:chExt cx="1139760" cy="853920"/>
          </a:xfrm>
        </p:grpSpPr>
        <p:pic>
          <p:nvPicPr>
            <p:cNvPr id="396" name="右矢印 8" descr=""/>
            <p:cNvPicPr/>
            <p:nvPr/>
          </p:nvPicPr>
          <p:blipFill>
            <a:blip r:embed="rId5"/>
            <a:stretch/>
          </p:blipFill>
          <p:spPr>
            <a:xfrm>
              <a:off x="712800" y="5400720"/>
              <a:ext cx="1139760" cy="8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85880" y="5608800"/>
              <a:ext cx="8208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テキスト ボックス 9"/>
          <p:cNvGrpSpPr/>
          <p:nvPr/>
        </p:nvGrpSpPr>
        <p:grpSpPr>
          <a:xfrm>
            <a:off x="1944720" y="5499000"/>
            <a:ext cx="5688000" cy="567000"/>
            <a:chOff x="1944720" y="5499000"/>
            <a:chExt cx="5688000" cy="567000"/>
          </a:xfrm>
        </p:grpSpPr>
        <p:pic>
          <p:nvPicPr>
            <p:cNvPr id="399" name="テキスト ボックス 9" descr=""/>
            <p:cNvPicPr/>
            <p:nvPr/>
          </p:nvPicPr>
          <p:blipFill>
            <a:blip r:embed="rId6"/>
            <a:stretch/>
          </p:blipFill>
          <p:spPr>
            <a:xfrm>
              <a:off x="1944720" y="5499000"/>
              <a:ext cx="5688000" cy="5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2071800" y="5572080"/>
              <a:ext cx="550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ファイルの共有はファイルの著作権侵害に注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スライド番号プレースホルダ 10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2443-402A-4597-B063-6A3AC5EAF34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フッター プレースホルダ 1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７　電子メールやブログの悪用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4" name="テキスト ボックス 5"/>
          <p:cNvSpPr/>
          <p:nvPr/>
        </p:nvSpPr>
        <p:spPr>
          <a:xfrm>
            <a:off x="571680" y="1285920"/>
            <a:ext cx="29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7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スパムメー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785880" y="3071880"/>
            <a:ext cx="2428920" cy="928800"/>
          </a:xfrm>
          <a:prstGeom prst="rect">
            <a:avLst/>
          </a:prstGeom>
          <a:solidFill>
            <a:srgbClr val="d2da7a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特定電子メール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改正特定商取引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1214280" y="4143240"/>
            <a:ext cx="7358400" cy="71460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・受信者の承諾なく宣伝メールを配信することはすべて違法行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AutoShape 12"/>
          <p:cNvGrpSpPr/>
          <p:nvPr/>
        </p:nvGrpSpPr>
        <p:grpSpPr>
          <a:xfrm>
            <a:off x="1219320" y="4896000"/>
            <a:ext cx="6205320" cy="1425600"/>
            <a:chOff x="1219320" y="4896000"/>
            <a:chExt cx="6205320" cy="1425600"/>
          </a:xfrm>
        </p:grpSpPr>
        <p:pic>
          <p:nvPicPr>
            <p:cNvPr id="408" name="AutoShape 12" descr=""/>
            <p:cNvPicPr/>
            <p:nvPr/>
          </p:nvPicPr>
          <p:blipFill>
            <a:blip r:embed="rId1"/>
            <a:stretch/>
          </p:blipFill>
          <p:spPr>
            <a:xfrm>
              <a:off x="1219320" y="4896000"/>
              <a:ext cx="620532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346040" y="5060880"/>
              <a:ext cx="5954760" cy="11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スパムメール対策（自己防衛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スパムメールを受信しても開かずに削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フィルタリング機能の活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  <a:ea typeface="ＭＳ Ｐゴシック"/>
                </a:rPr>
                <a:t>長めのアドレス設定（記号も含める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テキスト ボックス 12"/>
          <p:cNvSpPr/>
          <p:nvPr/>
        </p:nvSpPr>
        <p:spPr>
          <a:xfrm>
            <a:off x="1143000" y="1714680"/>
            <a:ext cx="5857920" cy="1191240"/>
          </a:xfrm>
          <a:prstGeom prst="rect">
            <a:avLst/>
          </a:prstGeom>
          <a:solidFill>
            <a:srgbClr val="ffffff"/>
          </a:solidFill>
          <a:ln w="19080">
            <a:solidFill>
              <a:srgbClr val="d2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ユーザに対して勝手に送りつけてくる広告メ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受信者の承諾を得ず無差別に送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自動的にメールアドレスを生成し送信するツールを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宛て先が不明のメールも増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下矢印 13"/>
          <p:cNvGrpSpPr/>
          <p:nvPr/>
        </p:nvGrpSpPr>
        <p:grpSpPr>
          <a:xfrm>
            <a:off x="4290840" y="3103560"/>
            <a:ext cx="1487520" cy="919080"/>
            <a:chOff x="4290840" y="3103560"/>
            <a:chExt cx="1487520" cy="919080"/>
          </a:xfrm>
        </p:grpSpPr>
        <p:pic>
          <p:nvPicPr>
            <p:cNvPr id="412" name="下矢印 13" descr=""/>
            <p:cNvPicPr/>
            <p:nvPr/>
          </p:nvPicPr>
          <p:blipFill>
            <a:blip r:embed="rId2"/>
            <a:stretch/>
          </p:blipFill>
          <p:spPr>
            <a:xfrm>
              <a:off x="4290840" y="3103560"/>
              <a:ext cx="1487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4697280" y="3143160"/>
              <a:ext cx="67788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スライド番号プレースホルダ 1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A332-A5F1-4CAD-9CC7-F6580985D08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フッター プレースホルダ 15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2.7.2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　デマメール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357120" y="2500200"/>
            <a:ext cx="4103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チェーン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このメールを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人に送信して・・・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虚偽の情報が広がる可能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4714920" y="2500200"/>
            <a:ext cx="38163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ada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・脅迫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明日、＊＊学校を爆破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　「＊＊を誘拐する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AutoShape 12"/>
          <p:cNvGrpSpPr/>
          <p:nvPr/>
        </p:nvGrpSpPr>
        <p:grpSpPr>
          <a:xfrm>
            <a:off x="1504800" y="3743280"/>
            <a:ext cx="1927440" cy="847800"/>
            <a:chOff x="1504800" y="3743280"/>
            <a:chExt cx="1927440" cy="847800"/>
          </a:xfrm>
        </p:grpSpPr>
        <p:pic>
          <p:nvPicPr>
            <p:cNvPr id="420" name="AutoShape 12" descr=""/>
            <p:cNvPicPr/>
            <p:nvPr/>
          </p:nvPicPr>
          <p:blipFill>
            <a:blip r:embed="rId1"/>
            <a:stretch/>
          </p:blipFill>
          <p:spPr>
            <a:xfrm>
              <a:off x="1504800" y="3743280"/>
              <a:ext cx="19274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2021040" y="3786120"/>
              <a:ext cx="90000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テキスト ボックス 11"/>
          <p:cNvSpPr/>
          <p:nvPr/>
        </p:nvSpPr>
        <p:spPr>
          <a:xfrm>
            <a:off x="2571840" y="1428840"/>
            <a:ext cx="3857400" cy="767160"/>
          </a:xfrm>
          <a:prstGeom prst="rect">
            <a:avLst/>
          </a:prstGeom>
          <a:gradFill rotWithShape="0">
            <a:gsLst>
              <a:gs pos="0">
                <a:srgbClr val="fff8bb"/>
              </a:gs>
              <a:gs pos="100000">
                <a:srgbClr val="fff8bb"/>
              </a:gs>
            </a:gsLst>
            <a:lin ang="900000"/>
          </a:gradFill>
          <a:ln w="9360">
            <a:solidFill>
              <a:srgbClr val="fa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事実無根の内容を送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いたずら・嫌がら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AutoShape 12"/>
          <p:cNvGrpSpPr/>
          <p:nvPr/>
        </p:nvGrpSpPr>
        <p:grpSpPr>
          <a:xfrm>
            <a:off x="5651640" y="3743280"/>
            <a:ext cx="1925640" cy="847800"/>
            <a:chOff x="5651640" y="3743280"/>
            <a:chExt cx="1925640" cy="847800"/>
          </a:xfrm>
        </p:grpSpPr>
        <p:pic>
          <p:nvPicPr>
            <p:cNvPr id="424" name="AutoShape 12" descr=""/>
            <p:cNvPicPr/>
            <p:nvPr/>
          </p:nvPicPr>
          <p:blipFill>
            <a:blip r:embed="rId2"/>
            <a:stretch/>
          </p:blipFill>
          <p:spPr>
            <a:xfrm>
              <a:off x="5651640" y="3743280"/>
              <a:ext cx="1925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"/>
            <p:cNvSpPr/>
            <p:nvPr/>
          </p:nvSpPr>
          <p:spPr>
            <a:xfrm>
              <a:off x="6165720" y="3786120"/>
              <a:ext cx="900360" cy="6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角丸四角形 13"/>
          <p:cNvGrpSpPr/>
          <p:nvPr/>
        </p:nvGrpSpPr>
        <p:grpSpPr>
          <a:xfrm>
            <a:off x="4711680" y="4614840"/>
            <a:ext cx="3925800" cy="1352520"/>
            <a:chOff x="4711680" y="4614840"/>
            <a:chExt cx="3925800" cy="1352520"/>
          </a:xfrm>
        </p:grpSpPr>
        <p:pic>
          <p:nvPicPr>
            <p:cNvPr id="427" name="角丸四角形 13" descr=""/>
            <p:cNvPicPr/>
            <p:nvPr/>
          </p:nvPicPr>
          <p:blipFill>
            <a:blip r:embed="rId3"/>
            <a:stretch/>
          </p:blipFill>
          <p:spPr>
            <a:xfrm>
              <a:off x="4711680" y="4614840"/>
              <a:ext cx="3925800" cy="13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4844880" y="4702320"/>
              <a:ext cx="366876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デマか実際の犯行予告か判断が難しい場合は、放置せずに警察等に連絡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角丸四角形 14"/>
          <p:cNvGrpSpPr/>
          <p:nvPr/>
        </p:nvGrpSpPr>
        <p:grpSpPr>
          <a:xfrm>
            <a:off x="360360" y="4602240"/>
            <a:ext cx="4199040" cy="1347840"/>
            <a:chOff x="360360" y="4602240"/>
            <a:chExt cx="4199040" cy="1347840"/>
          </a:xfrm>
        </p:grpSpPr>
        <p:pic>
          <p:nvPicPr>
            <p:cNvPr id="430" name="角丸四角形 14" descr=""/>
            <p:cNvPicPr/>
            <p:nvPr/>
          </p:nvPicPr>
          <p:blipFill>
            <a:blip r:embed="rId4"/>
            <a:stretch/>
          </p:blipFill>
          <p:spPr>
            <a:xfrm>
              <a:off x="360360" y="4602240"/>
              <a:ext cx="419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487440" y="4702320"/>
              <a:ext cx="3954240" cy="10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振り回されず、怪しいメールに対しては一切応じないで削除す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スライド番号プレースホルダ 15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38E8-2505-4832-81BB-5CD86A8778C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フッター プレースホルダ 16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2.7.3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　メールやブログでのいじめ・ストーカー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785600" y="2642760"/>
            <a:ext cx="5915160" cy="1003320"/>
          </a:xfrm>
          <a:prstGeom prst="rect">
            <a:avLst/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クラスメートの悪口・中傷を書き込み送信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カメラ付の携帯で撮影した写真を添付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メールによるストーカー行為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714240" y="1571760"/>
            <a:ext cx="3457800" cy="792000"/>
          </a:xfrm>
          <a:prstGeom prst="rect">
            <a:avLst/>
          </a:prstGeom>
          <a:gradFill rotWithShape="0">
            <a:gsLst>
              <a:gs pos="0">
                <a:srgbClr val="eccec6"/>
              </a:gs>
              <a:gs pos="100000">
                <a:srgbClr val="eccec6"/>
              </a:gs>
            </a:gsLst>
            <a:lin ang="900000"/>
          </a:gradFill>
          <a:ln w="9360">
            <a:solidFill>
              <a:srgbClr val="b8847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高生が携帯を所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929120" y="1500120"/>
            <a:ext cx="2954520" cy="857160"/>
          </a:xfrm>
          <a:prstGeom prst="rect">
            <a:avLst/>
          </a:prstGeom>
          <a:solidFill>
            <a:srgbClr val="b88472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Gill Sans MT"/>
              </a:rPr>
              <a:t>いじめに利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6"/>
          <p:cNvSpPr/>
          <p:nvPr/>
        </p:nvSpPr>
        <p:spPr>
          <a:xfrm>
            <a:off x="4214880" y="2000160"/>
            <a:ext cx="71892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AutoShape 7"/>
          <p:cNvGrpSpPr/>
          <p:nvPr/>
        </p:nvGrpSpPr>
        <p:grpSpPr>
          <a:xfrm>
            <a:off x="1504800" y="5102280"/>
            <a:ext cx="6102360" cy="774720"/>
            <a:chOff x="1504800" y="5102280"/>
            <a:chExt cx="6102360" cy="774720"/>
          </a:xfrm>
        </p:grpSpPr>
        <p:pic>
          <p:nvPicPr>
            <p:cNvPr id="440" name="AutoShape 7" descr=""/>
            <p:cNvPicPr/>
            <p:nvPr/>
          </p:nvPicPr>
          <p:blipFill>
            <a:blip r:embed="rId1"/>
            <a:stretch/>
          </p:blipFill>
          <p:spPr>
            <a:xfrm>
              <a:off x="1504800" y="5102280"/>
              <a:ext cx="61023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603440" y="5175360"/>
              <a:ext cx="591336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Gill Sans MT"/>
                </a:rPr>
                <a:t>被害が広まる前に、早急に届け出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AutoShape 8"/>
          <p:cNvGrpSpPr/>
          <p:nvPr/>
        </p:nvGrpSpPr>
        <p:grpSpPr>
          <a:xfrm>
            <a:off x="2146320" y="3743280"/>
            <a:ext cx="1932120" cy="1346400"/>
            <a:chOff x="2146320" y="3743280"/>
            <a:chExt cx="1932120" cy="1346400"/>
          </a:xfrm>
        </p:grpSpPr>
        <p:pic>
          <p:nvPicPr>
            <p:cNvPr id="443" name="AutoShape 8" descr=""/>
            <p:cNvPicPr/>
            <p:nvPr/>
          </p:nvPicPr>
          <p:blipFill>
            <a:blip r:embed="rId2"/>
            <a:stretch/>
          </p:blipFill>
          <p:spPr>
            <a:xfrm>
              <a:off x="2146320" y="3743280"/>
              <a:ext cx="1932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2664000" y="3786120"/>
              <a:ext cx="900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ectangle 9"/>
          <p:cNvGrpSpPr/>
          <p:nvPr/>
        </p:nvGrpSpPr>
        <p:grpSpPr>
          <a:xfrm>
            <a:off x="4133880" y="3681360"/>
            <a:ext cx="3668760" cy="1347840"/>
            <a:chOff x="4133880" y="3681360"/>
            <a:chExt cx="3668760" cy="1347840"/>
          </a:xfrm>
        </p:grpSpPr>
        <p:pic>
          <p:nvPicPr>
            <p:cNvPr id="446" name="Rectangle 9" descr=""/>
            <p:cNvPicPr/>
            <p:nvPr/>
          </p:nvPicPr>
          <p:blipFill>
            <a:blip r:embed="rId3"/>
            <a:stretch/>
          </p:blipFill>
          <p:spPr>
            <a:xfrm>
              <a:off x="4133880" y="3681360"/>
              <a:ext cx="36687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214880" y="3786120"/>
              <a:ext cx="3527280" cy="11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情報はすぐに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本人に大きなダメー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dde9ec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不登校や自殺の原因に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スライド番号プレースホルダ 9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DFDE-6D0B-455B-82D2-411DBDB2814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フッター プレースホルダ 10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3200" spc="-1" strike="noStrike">
                <a:solidFill>
                  <a:srgbClr val="464653"/>
                </a:solidFill>
                <a:latin typeface="Bookman Old Style"/>
              </a:rPr>
              <a:t>８　掲示板・コミュニティサイト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pSp>
        <p:nvGrpSpPr>
          <p:cNvPr id="451" name="Rectangle 3"/>
          <p:cNvGrpSpPr/>
          <p:nvPr/>
        </p:nvGrpSpPr>
        <p:grpSpPr>
          <a:xfrm>
            <a:off x="268200" y="2571840"/>
            <a:ext cx="5980320" cy="2165400"/>
            <a:chOff x="268200" y="2571840"/>
            <a:chExt cx="5980320" cy="2165400"/>
          </a:xfrm>
        </p:grpSpPr>
        <p:pic>
          <p:nvPicPr>
            <p:cNvPr id="452" name="Rectangle 3" descr=""/>
            <p:cNvPicPr/>
            <p:nvPr/>
          </p:nvPicPr>
          <p:blipFill>
            <a:blip r:embed="rId1"/>
            <a:stretch/>
          </p:blipFill>
          <p:spPr>
            <a:xfrm>
              <a:off x="268200" y="2571840"/>
              <a:ext cx="598032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357120" y="2643120"/>
              <a:ext cx="58327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601"/>
                </a:spcBef>
                <a:buClr>
                  <a:srgbClr val="727ca3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</a:rPr>
                <a:t>チャット・掲示板での被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顔が見えな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ゲーム感覚で無責任に書き込む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被害は一瞬で広まる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47560" indent="-272880">
                <a:lnSpc>
                  <a:spcPct val="100000"/>
                </a:lnSpc>
                <a:spcBef>
                  <a:spcPts val="499"/>
                </a:spcBef>
                <a:buClr>
                  <a:srgbClr val="9fb8cd"/>
                </a:buClr>
                <a:buSzPct val="76000"/>
                <a:buFont typeface="Wingdings 3" charset="2"/>
                <a:buChar char="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000" spc="-1" strike="noStrike">
                  <a:solidFill>
                    <a:srgbClr val="ffffff"/>
                  </a:solidFill>
                  <a:latin typeface="Gill Sans MT"/>
                  <a:ea typeface="ＭＳ Ｐゴシック"/>
                </a:rPr>
                <a:t>情報が暴走し、２次的、３次的被害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4"/>
          <p:cNvSpPr/>
          <p:nvPr/>
        </p:nvSpPr>
        <p:spPr>
          <a:xfrm>
            <a:off x="1000080" y="1643040"/>
            <a:ext cx="5643720" cy="7984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誹謗：他人の悪口をいうこと、そし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中傷：無根拠のことをいって、名誉を傷つけるこ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Rectangle 7"/>
          <p:cNvGrpSpPr/>
          <p:nvPr/>
        </p:nvGrpSpPr>
        <p:grpSpPr>
          <a:xfrm>
            <a:off x="291960" y="5389560"/>
            <a:ext cx="5956560" cy="779400"/>
            <a:chOff x="291960" y="5389560"/>
            <a:chExt cx="5956560" cy="779400"/>
          </a:xfrm>
        </p:grpSpPr>
        <p:pic>
          <p:nvPicPr>
            <p:cNvPr id="456" name="Rectangle 7" descr=""/>
            <p:cNvPicPr/>
            <p:nvPr/>
          </p:nvPicPr>
          <p:blipFill>
            <a:blip r:embed="rId2"/>
            <a:stretch/>
          </p:blipFill>
          <p:spPr>
            <a:xfrm>
              <a:off x="291960" y="5389560"/>
              <a:ext cx="59565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357120" y="5429160"/>
              <a:ext cx="5832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Gill Sans MT"/>
                </a:rPr>
                <a:t>まず、相手の気持ちになって、思いやりを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AutoShape 8"/>
          <p:cNvGrpSpPr/>
          <p:nvPr/>
        </p:nvGrpSpPr>
        <p:grpSpPr>
          <a:xfrm>
            <a:off x="2292480" y="4743360"/>
            <a:ext cx="1925640" cy="627120"/>
            <a:chOff x="2292480" y="4743360"/>
            <a:chExt cx="1925640" cy="627120"/>
          </a:xfrm>
        </p:grpSpPr>
        <p:pic>
          <p:nvPicPr>
            <p:cNvPr id="459" name="AutoShape 8" descr=""/>
            <p:cNvPicPr/>
            <p:nvPr/>
          </p:nvPicPr>
          <p:blipFill>
            <a:blip r:embed="rId3"/>
            <a:stretch/>
          </p:blipFill>
          <p:spPr>
            <a:xfrm>
              <a:off x="2292480" y="4743360"/>
              <a:ext cx="192564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2806560" y="4786200"/>
              <a:ext cx="90036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25CB-36F3-4C39-A1FE-C74761F3865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テキスト ボックス 9"/>
          <p:cNvSpPr/>
          <p:nvPr/>
        </p:nvSpPr>
        <p:spPr>
          <a:xfrm>
            <a:off x="500040" y="121428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8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誹謗中傷と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9" descr="9"/>
          <p:cNvPicPr/>
          <p:nvPr/>
        </p:nvPicPr>
        <p:blipFill>
          <a:blip r:embed="rId4"/>
          <a:srcRect l="0" t="844" r="0" b="0"/>
          <a:stretch/>
        </p:blipFill>
        <p:spPr>
          <a:xfrm>
            <a:off x="6370560" y="3071880"/>
            <a:ext cx="2773440" cy="2070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2.8.2</a:t>
            </a:r>
            <a:r>
              <a:rPr b="0" lang="ja-JP" sz="3600" spc="-1" strike="noStrike">
                <a:solidFill>
                  <a:srgbClr val="464653"/>
                </a:solidFill>
                <a:latin typeface="Bookman Old Style"/>
              </a:rPr>
              <a:t>　誹謗中傷に発展するケース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428760" y="228600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互いの意見が衝突し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428760" y="335772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個人情報を書き込まれた。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4714920" y="3000240"/>
            <a:ext cx="4214880" cy="100044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掲載内容やメールを保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管理者に削除を依頼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fb8c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プロバイダ責任制限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428760" y="44290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企業や団体に対する中傷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714920" y="4143240"/>
            <a:ext cx="421488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企業の名誉毀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業務妨害が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証拠を保存し警察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AutoShape 9"/>
          <p:cNvGrpSpPr/>
          <p:nvPr/>
        </p:nvGrpSpPr>
        <p:grpSpPr>
          <a:xfrm>
            <a:off x="3859200" y="2328840"/>
            <a:ext cx="785880" cy="573120"/>
            <a:chOff x="3859200" y="2328840"/>
            <a:chExt cx="785880" cy="573120"/>
          </a:xfrm>
        </p:grpSpPr>
        <p:pic>
          <p:nvPicPr>
            <p:cNvPr id="472" name="AutoShape 9" descr=""/>
            <p:cNvPicPr/>
            <p:nvPr/>
          </p:nvPicPr>
          <p:blipFill>
            <a:blip r:embed="rId1"/>
            <a:stretch/>
          </p:blipFill>
          <p:spPr>
            <a:xfrm>
              <a:off x="3859200" y="23288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4091040" y="23572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AutoShape 10"/>
          <p:cNvGrpSpPr/>
          <p:nvPr/>
        </p:nvGrpSpPr>
        <p:grpSpPr>
          <a:xfrm>
            <a:off x="3859200" y="3402000"/>
            <a:ext cx="785880" cy="566640"/>
            <a:chOff x="3859200" y="3402000"/>
            <a:chExt cx="785880" cy="566640"/>
          </a:xfrm>
        </p:grpSpPr>
        <p:pic>
          <p:nvPicPr>
            <p:cNvPr id="475" name="AutoShape 10" descr=""/>
            <p:cNvPicPr/>
            <p:nvPr/>
          </p:nvPicPr>
          <p:blipFill>
            <a:blip r:embed="rId2"/>
            <a:stretch/>
          </p:blipFill>
          <p:spPr>
            <a:xfrm>
              <a:off x="3859200" y="3402000"/>
              <a:ext cx="785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4091040" y="342900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AutoShape 11"/>
          <p:cNvGrpSpPr/>
          <p:nvPr/>
        </p:nvGrpSpPr>
        <p:grpSpPr>
          <a:xfrm>
            <a:off x="3859200" y="4400640"/>
            <a:ext cx="785880" cy="568080"/>
            <a:chOff x="3859200" y="4400640"/>
            <a:chExt cx="785880" cy="568080"/>
          </a:xfrm>
        </p:grpSpPr>
        <p:pic>
          <p:nvPicPr>
            <p:cNvPr id="478" name="AutoShape 11" descr=""/>
            <p:cNvPicPr/>
            <p:nvPr/>
          </p:nvPicPr>
          <p:blipFill>
            <a:blip r:embed="rId3"/>
            <a:stretch/>
          </p:blipFill>
          <p:spPr>
            <a:xfrm>
              <a:off x="3859200" y="4400640"/>
              <a:ext cx="7858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4091040" y="4429080"/>
              <a:ext cx="3254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AutoShape 12"/>
          <p:cNvSpPr/>
          <p:nvPr/>
        </p:nvSpPr>
        <p:spPr>
          <a:xfrm>
            <a:off x="785880" y="1357200"/>
            <a:ext cx="2879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起こりうるケ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3"/>
          <p:cNvSpPr/>
          <p:nvPr/>
        </p:nvSpPr>
        <p:spPr>
          <a:xfrm>
            <a:off x="5357880" y="1357200"/>
            <a:ext cx="2736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e3f2"/>
              </a:gs>
              <a:gs pos="100000">
                <a:srgbClr val="d3e3f2"/>
              </a:gs>
            </a:gsLst>
            <a:lin ang="900000"/>
          </a:gradFill>
          <a:ln w="9360">
            <a:solidFill>
              <a:srgbClr val="9fb8cd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対処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スライド番号プレースホルダ 1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2EB2-154D-4E0A-A45E-5AC675601FE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フッター プレースホルダ 14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428760" y="5357880"/>
            <a:ext cx="3311280" cy="500040"/>
          </a:xfrm>
          <a:prstGeom prst="rect">
            <a:avLst/>
          </a:prstGeom>
          <a:solidFill>
            <a:srgbClr val="ffffff"/>
          </a:solidFill>
          <a:ln w="190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Gill Sans MT"/>
              </a:rPr>
              <a:t>脅迫・犯行予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AutoShape 11"/>
          <p:cNvGrpSpPr/>
          <p:nvPr/>
        </p:nvGrpSpPr>
        <p:grpSpPr>
          <a:xfrm>
            <a:off x="3859200" y="5327640"/>
            <a:ext cx="785880" cy="573120"/>
            <a:chOff x="3859200" y="5327640"/>
            <a:chExt cx="785880" cy="573120"/>
          </a:xfrm>
        </p:grpSpPr>
        <p:pic>
          <p:nvPicPr>
            <p:cNvPr id="486" name="AutoShape 11" descr=""/>
            <p:cNvPicPr/>
            <p:nvPr/>
          </p:nvPicPr>
          <p:blipFill>
            <a:blip r:embed="rId4"/>
            <a:stretch/>
          </p:blipFill>
          <p:spPr>
            <a:xfrm>
              <a:off x="3859200" y="5327640"/>
              <a:ext cx="78588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4091040" y="5357880"/>
              <a:ext cx="3254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Rectangle 8"/>
          <p:cNvSpPr/>
          <p:nvPr/>
        </p:nvSpPr>
        <p:spPr>
          <a:xfrm>
            <a:off x="4714920" y="5357880"/>
            <a:ext cx="4214880" cy="78588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サイト管理者やプロバイダに届け出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威力業務妨害（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5.6</a:t>
            </a:r>
            <a:r>
              <a:rPr b="0" lang="ja-JP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節参照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4714920" y="2143080"/>
            <a:ext cx="4214880" cy="714600"/>
          </a:xfrm>
          <a:prstGeom prst="rect">
            <a:avLst/>
          </a:prstGeom>
          <a:solidFill>
            <a:srgbClr val="ffffff"/>
          </a:solidFill>
          <a:ln w="190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感情的になり、口論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de9ec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Gill Sans MT"/>
              </a:rPr>
              <a:t>時間をおいて冷静に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２</a:t>
            </a: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.</a:t>
            </a:r>
            <a:r>
              <a:rPr b="0" lang="ja-JP" sz="2900" spc="-1" strike="noStrike">
                <a:solidFill>
                  <a:srgbClr val="464653"/>
                </a:solidFill>
                <a:latin typeface="Bookman Old Style"/>
              </a:rPr>
              <a:t>９　違法販売・有害情報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68000" y="2205000"/>
            <a:ext cx="4537080" cy="1866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わいせつ画像の公開、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販売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児童ポルノ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拳銃など所持禁止の物品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海賊版ソフト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826920" y="530064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怪しいサイト、公序良俗に反するサイトには近づか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651640" y="2708280"/>
            <a:ext cx="3168360" cy="1015920"/>
          </a:xfrm>
          <a:prstGeom prst="rect">
            <a:avLst/>
          </a:prstGeom>
          <a:gradFill rotWithShape="0">
            <a:gsLst>
              <a:gs pos="0">
                <a:srgbClr val="dacdca"/>
              </a:gs>
              <a:gs pos="100000">
                <a:srgbClr val="dacdca"/>
              </a:gs>
            </a:gsLst>
            <a:lin ang="900000"/>
          </a:gradFill>
          <a:ln w="9360">
            <a:solidFill>
              <a:srgbClr val="8e736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外国のサーバを利用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Gill Sans MT"/>
              </a:rPr>
              <a:t>法律をかいくぐ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AutoShape 7"/>
          <p:cNvGrpSpPr/>
          <p:nvPr/>
        </p:nvGrpSpPr>
        <p:grpSpPr>
          <a:xfrm>
            <a:off x="5010120" y="2882880"/>
            <a:ext cx="628560" cy="781200"/>
            <a:chOff x="5010120" y="2882880"/>
            <a:chExt cx="628560" cy="781200"/>
          </a:xfrm>
        </p:grpSpPr>
        <p:pic>
          <p:nvPicPr>
            <p:cNvPr id="495" name="AutoShape 7" descr=""/>
            <p:cNvPicPr/>
            <p:nvPr/>
          </p:nvPicPr>
          <p:blipFill>
            <a:blip r:embed="rId1"/>
            <a:stretch/>
          </p:blipFill>
          <p:spPr>
            <a:xfrm>
              <a:off x="5010120" y="2882880"/>
              <a:ext cx="6285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5202360" y="2924280"/>
              <a:ext cx="2523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Text Box 8"/>
          <p:cNvSpPr/>
          <p:nvPr/>
        </p:nvSpPr>
        <p:spPr>
          <a:xfrm>
            <a:off x="826920" y="4653000"/>
            <a:ext cx="7488360" cy="459720"/>
          </a:xfrm>
          <a:prstGeom prst="rect">
            <a:avLst/>
          </a:prstGeom>
          <a:gradFill rotWithShape="0">
            <a:gsLst>
              <a:gs pos="0">
                <a:srgbClr val="f8fec2"/>
              </a:gs>
              <a:gs pos="100000">
                <a:srgbClr val="f8fec2"/>
              </a:gs>
            </a:gsLst>
            <a:lin ang="900000"/>
          </a:gradFill>
          <a:ln w="9360">
            <a:solidFill>
              <a:srgbClr val="d2da7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ユーザ自身の善悪の判断と見極めが肝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スライド番号プレースホルダ 7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F704-28B6-463F-9613-933AE8A5FC6D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フッター プレースホルダ 8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464653"/>
                </a:solidFill>
                <a:latin typeface="Arial"/>
              </a:rPr>
              <a:t>モバイルネットワーク時代の情報倫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テキスト ボックス 9"/>
          <p:cNvSpPr/>
          <p:nvPr/>
        </p:nvSpPr>
        <p:spPr>
          <a:xfrm>
            <a:off x="571680" y="135720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2.9.1</a:t>
            </a:r>
            <a:r>
              <a:rPr b="0" lang="ja-JP" sz="2000" spc="-1" strike="noStrike">
                <a:solidFill>
                  <a:srgbClr val="000000"/>
                </a:solidFill>
                <a:latin typeface="Bookman Old Style"/>
              </a:rPr>
              <a:t>　違法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2T07:20:09Z</dcterms:created>
  <dc:creator>T.Yamazumi</dc:creator>
  <dc:description/>
  <dc:language>en-US</dc:language>
  <cp:lastModifiedBy>T.Yamazumi</cp:lastModifiedBy>
  <dcterms:modified xsi:type="dcterms:W3CDTF">2009-11-02T05:06:57Z</dcterms:modified>
  <cp:revision>89</cp:revision>
  <dc:subject/>
  <dc:title>ネットワーク社会の情報倫理</dc:title>
</cp:coreProperties>
</file>