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26.wmf" ContentType="image/x-wmf"/>
  <Override PartName="/ppt/media/image24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20.png" ContentType="image/png"/>
  <Override PartName="/ppt/media/image27.png" ContentType="image/png"/>
  <Override PartName="/ppt/media/image30.wmf" ContentType="image/x-wmf"/>
  <Override PartName="/ppt/media/image8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12.png" ContentType="image/png"/>
  <Override PartName="/ppt/media/image13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5.png" ContentType="image/png"/>
  <Override PartName="/ppt/media/image5.png" ContentType="image/png"/>
  <Override PartName="/ppt/media/image31.wmf" ContentType="image/x-wmf"/>
  <Override PartName="/ppt/media/image28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0440-6F89-4ED6-8C29-32AD5CD32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D79D-715A-4F75-9073-F584F3F7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80D81B-B3C0-462B-8C1E-A49B855A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CB2548-F489-48D6-92F0-158BCDBC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B05F47-2DC6-4924-B370-441C0873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E4FA58-BDF1-4D36-A22F-4B8EA45A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FADE00-5C53-49F0-AC7C-F4E54C5F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14A9AF-DB31-43C1-B5A2-CE58C283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363D77-23C4-4D29-9436-73138B9E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44B39C-E053-4EAD-B6DB-80CEAB26F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9859AD-3D9B-447D-A483-C8BC16023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C714-FF89-499D-91F9-3FACE1ED5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A640-D2B6-4B08-ABB7-0A4A2E51B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AB05-3CCE-4589-9DFF-F91CE0BF3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434D-3A52-4DBD-BD78-E2C3580EB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29AFA-96EE-4296-ACFC-E184088A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0E18-D360-4F96-ACF9-A7F87AF1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EFFC-3880-4DA1-9472-5BB503CA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79FFC-DC16-4C72-9507-95047BA2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487AE-B6A9-4D67-9026-58B2B720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019A-192F-4A31-ABCF-471CB64D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2A531-6CDF-4AE5-A447-679985B0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AFE5-3336-49A1-A700-7BFFFA34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0D4B-EE53-45B2-92E0-438E8214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D63B-8C3E-4242-B89F-25818A496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0BF9-F803-4E84-9BC8-AB2DB64D7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2FB45-E669-461F-B6BD-769C45E46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2443F-FED3-4D75-A6E9-5FDB0322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37A45-FE53-4146-B9EF-5849DBDC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55690-BD2E-4B57-A9BD-6A610DB0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482C8-0DAB-419A-9BD4-A25279C2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51F0-4B61-441F-86B0-FE5A3228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14C7E-E065-4A46-95F0-E3DCDD9D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BBBC1-F152-4800-96CE-FF253247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7E1DD-3DD8-4D7D-96C6-0B737909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0C39A-F6AC-4D9B-8258-3F481F66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430DC-FC49-4924-81AB-4EC8080F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F2ACE-982D-4A3D-B95B-03DBAF11D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211B6-5A62-410C-8211-2F5C1AF42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9BEC6-5627-4BBA-8001-67B3EA069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BC4FE-43FB-43A4-B7BD-A5E04FFF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23667-063D-4760-BFEA-5A9E6A1F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FACA-5A40-4CE9-B40A-0F7F9D35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5D3EC-8D8F-4584-8FCC-63910FEF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308C3-59EB-46B6-AF8A-03F0AC148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6252B-86BB-4E18-8929-22608588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BD16D-7489-4E9D-8650-568D0E5A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480D1-7D57-4C8E-9225-5848454A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221B7-191E-4383-8254-070B999A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42BDC-0CB9-4D24-BA33-25931373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FAEF0-3F09-4266-B0CB-2CEFAB533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7792B-0650-4459-89BD-40AD10087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03AAC-EDEF-4965-8D4A-71DDC24D7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38A0-B2D2-4DD9-97E3-C25C10D3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D48FB-86CB-4840-B6CF-49CFA1B4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DDD8A-20E2-4681-B65E-34648305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6EBD2-639C-4233-A8C5-C8491ADF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5804B-8C24-42D4-91A2-E50DEB8A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E0297-5FBB-491F-8766-54889F910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713DF-65AD-4A3E-AAD3-D3C5E601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B6319-D7EC-42B4-9467-DE627078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26C0E-4185-446C-BB50-DB04223B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1777A-8D87-430E-9B77-EC084F66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E71A7-F1A3-4D34-82B1-A2BD90BEF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1C6D-15E9-4428-A5B7-7A681D3F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A13F6-EE55-4716-9F12-CE60322C1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FC1AB-3D0A-48FF-BE9B-7166E86B2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176D5-9441-42F6-BD8F-E1E20F16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6DFF8-ECA1-4308-B7BE-6453A8C5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B70C9-B558-4E00-94B9-09A7DF8C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27529-4D12-4C02-8D36-BE84E78A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7BA7F-4156-438D-A7B9-F55BF3FC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D846D-8782-44D8-855B-EB514309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9DF03-FDC3-451A-86A4-081D02DA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B1DE1-659A-42CA-8934-3652F726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ABC3-226F-4133-8F4F-CA8C82D2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1BAC8-961F-4618-9DCE-8DF2BBB1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AFC48-2725-45EF-B793-091D695DA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1FF3E-8EEF-4C0F-B956-23EED6B5A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32CDA-DF04-494A-97AB-D9A7A16F2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85FB7-6CD5-495B-91E9-5D4978C8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AE42D-57A7-4C11-911A-A36A55B9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AD235-1161-4BB1-AB78-507F88D0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ED6F3-2B56-4824-987E-CA8491FB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B5D03-CD20-4B05-8A5E-810A3D2C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9E4A1-6546-4786-864F-5623386E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F289-CBCF-484B-9BC6-C975AA00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4F6A8-0139-4412-86BD-E0B6016D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D27C7-A2A1-4553-AD02-53416A51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D3701-7BC4-485B-B40E-C23679F5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5AC8C-F5C9-42F5-8CBB-33122597D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36933-DA2F-4BAD-8541-26233D4DD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1EE7F-882D-44DB-9CB2-77D440241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FD37D-FCF8-4531-BE84-0EEFB8B7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52E7E-B0D7-4611-A9E0-2B422AEE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DB36C-E076-4E75-B1B4-274E53AF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B864A-F99D-42CD-86BA-896AB891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ABFE-B1AF-44A9-8DF7-D2735E06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F7BF15-7B84-4611-9711-778E9221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6208B-2DCF-422C-99B5-5645CD04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3B3CA-CC26-429C-9603-4968FA7D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80DD9-9DF8-4B5E-AE38-FBD5BA27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1280B-5060-4F29-9A53-5B85BA0C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D210B-8998-470F-BEA5-3E7C89B89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FD803-161D-4ADF-8E41-F3DC38D1A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42AEC4-5D3D-4740-B0A4-7E7E42E66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734DF7-C3DE-41D8-ADF7-DE9B5833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B75B84-D991-489C-BAE5-53E5DEC1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C6E0-B220-411A-BE8B-AF25577B130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正方形/長方形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正方形/長方形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正方形/長方形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3350-4E7C-4381-90C1-5063AA41F729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正方形/長方形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正方形/長方形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2918-C12C-4049-AF2A-F80591EB0930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6AD8-3316-4450-AF51-5289FCC07BD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直線コネクタ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2B5F-C8F3-46A5-A2FD-24302D11569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線コネクタ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0775-9524-4069-8C87-75371DD7DB91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正方形/長方形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1E02-023F-47FD-9676-B3A2BE670F70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直線コネクタ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二等辺三角形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線コネクタ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3A089-2E0E-4011-9575-061A6C8B871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DC00-C9B9-4770-A46F-19879B1BA9B9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Bookman Old Style"/>
              </a:rPr>
              <a:t>モバイルネットワーク時代の情報倫理</a:t>
            </a:r>
            <a:br>
              <a:rPr sz="2900"/>
            </a:b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＜近代科学社刊＞</a:t>
            </a: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第４章　情報セキュリティ（前半）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8" name="Picture 4" descr="16"/>
          <p:cNvPicPr/>
          <p:nvPr/>
        </p:nvPicPr>
        <p:blipFill>
          <a:blip r:embed="rId1"/>
          <a:srcRect l="0" t="0" r="0" b="11831"/>
          <a:stretch/>
        </p:blipFill>
        <p:spPr>
          <a:xfrm>
            <a:off x="6429240" y="1714680"/>
            <a:ext cx="1673280" cy="1571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　バックアップとファイルの管理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2214720" y="2143080"/>
            <a:ext cx="237636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破壊、消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システム障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Text Box 6"/>
          <p:cNvGrpSpPr/>
          <p:nvPr/>
        </p:nvGrpSpPr>
        <p:grpSpPr>
          <a:xfrm>
            <a:off x="371520" y="2998800"/>
            <a:ext cx="3687840" cy="566640"/>
            <a:chOff x="371520" y="2998800"/>
            <a:chExt cx="3687840" cy="566640"/>
          </a:xfrm>
        </p:grpSpPr>
        <p:pic>
          <p:nvPicPr>
            <p:cNvPr id="504" name="Text Box 6" descr=""/>
            <p:cNvPicPr/>
            <p:nvPr/>
          </p:nvPicPr>
          <p:blipFill>
            <a:blip r:embed="rId1"/>
            <a:stretch/>
          </p:blipFill>
          <p:spPr>
            <a:xfrm>
              <a:off x="371520" y="2998800"/>
              <a:ext cx="368784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/>
            <p:nvPr/>
          </p:nvSpPr>
          <p:spPr>
            <a:xfrm>
              <a:off x="500040" y="3071880"/>
              <a:ext cx="350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大容量メディアへバックアッ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Text Box 7"/>
          <p:cNvGrpSpPr/>
          <p:nvPr/>
        </p:nvGrpSpPr>
        <p:grpSpPr>
          <a:xfrm>
            <a:off x="298440" y="1573200"/>
            <a:ext cx="4548240" cy="560520"/>
            <a:chOff x="298440" y="1573200"/>
            <a:chExt cx="4548240" cy="560520"/>
          </a:xfrm>
        </p:grpSpPr>
        <p:pic>
          <p:nvPicPr>
            <p:cNvPr id="507" name="Text Box 7" descr=""/>
            <p:cNvPicPr/>
            <p:nvPr/>
          </p:nvPicPr>
          <p:blipFill>
            <a:blip r:embed="rId2"/>
            <a:stretch/>
          </p:blipFill>
          <p:spPr>
            <a:xfrm>
              <a:off x="298440" y="1573200"/>
              <a:ext cx="45482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428760" y="1643040"/>
              <a:ext cx="435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ffffff"/>
                  </a:solidFill>
                  <a:latin typeface="Gill Sans MT"/>
                </a:rPr>
                <a:t>ハードディスクのデータ・システム全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9" name="Picture 10" descr="j0233212[1]"/>
          <p:cNvPicPr/>
          <p:nvPr/>
        </p:nvPicPr>
        <p:blipFill>
          <a:blip r:embed="rId3"/>
          <a:stretch/>
        </p:blipFill>
        <p:spPr>
          <a:xfrm>
            <a:off x="5715000" y="1357200"/>
            <a:ext cx="797040" cy="1656000"/>
          </a:xfrm>
          <a:prstGeom prst="rect">
            <a:avLst/>
          </a:prstGeom>
          <a:ln w="0">
            <a:noFill/>
          </a:ln>
        </p:spPr>
      </p:pic>
      <p:grpSp>
        <p:nvGrpSpPr>
          <p:cNvPr id="510" name="AutoShape 11"/>
          <p:cNvGrpSpPr/>
          <p:nvPr/>
        </p:nvGrpSpPr>
        <p:grpSpPr>
          <a:xfrm>
            <a:off x="6864480" y="1670040"/>
            <a:ext cx="1352520" cy="2109960"/>
            <a:chOff x="6864480" y="1670040"/>
            <a:chExt cx="1352520" cy="2109960"/>
          </a:xfrm>
        </p:grpSpPr>
        <p:pic>
          <p:nvPicPr>
            <p:cNvPr id="511" name="AutoShape 11" descr=""/>
            <p:cNvPicPr/>
            <p:nvPr/>
          </p:nvPicPr>
          <p:blipFill>
            <a:blip r:embed="rId4"/>
            <a:stretch/>
          </p:blipFill>
          <p:spPr>
            <a:xfrm>
              <a:off x="6864480" y="1670040"/>
              <a:ext cx="1352520" cy="21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"/>
            <p:cNvSpPr/>
            <p:nvPr/>
          </p:nvSpPr>
          <p:spPr>
            <a:xfrm>
              <a:off x="6929280" y="1714680"/>
              <a:ext cx="1225800" cy="20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AutoShape 12"/>
          <p:cNvGrpSpPr/>
          <p:nvPr/>
        </p:nvGrpSpPr>
        <p:grpSpPr>
          <a:xfrm>
            <a:off x="927000" y="2205000"/>
            <a:ext cx="1146240" cy="647640"/>
            <a:chOff x="927000" y="2205000"/>
            <a:chExt cx="1146240" cy="647640"/>
          </a:xfrm>
        </p:grpSpPr>
        <p:pic>
          <p:nvPicPr>
            <p:cNvPr id="514" name="AutoShape 12" descr=""/>
            <p:cNvPicPr/>
            <p:nvPr/>
          </p:nvPicPr>
          <p:blipFill>
            <a:blip r:embed="rId5"/>
            <a:stretch/>
          </p:blipFill>
          <p:spPr>
            <a:xfrm>
              <a:off x="927000" y="2205000"/>
              <a:ext cx="114624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1252440" y="2224800"/>
              <a:ext cx="50328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Text Box 13"/>
          <p:cNvSpPr/>
          <p:nvPr/>
        </p:nvSpPr>
        <p:spPr>
          <a:xfrm>
            <a:off x="785880" y="3571920"/>
            <a:ext cx="378612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ダメージを最小限にとどめ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復旧を早くする 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5"/>
          <p:cNvSpPr/>
          <p:nvPr/>
        </p:nvSpPr>
        <p:spPr>
          <a:xfrm>
            <a:off x="785880" y="5072040"/>
            <a:ext cx="705636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ファイルやフォルダをエクスプローラなどでコピ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Windows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のバックアップユーティリティの活用　（初心者向け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Text Box 16"/>
          <p:cNvGrpSpPr/>
          <p:nvPr/>
        </p:nvGrpSpPr>
        <p:grpSpPr>
          <a:xfrm>
            <a:off x="371520" y="4498920"/>
            <a:ext cx="2616120" cy="566640"/>
            <a:chOff x="371520" y="4498920"/>
            <a:chExt cx="2616120" cy="566640"/>
          </a:xfrm>
        </p:grpSpPr>
        <p:pic>
          <p:nvPicPr>
            <p:cNvPr id="519" name="Text Box 16" descr=""/>
            <p:cNvPicPr/>
            <p:nvPr/>
          </p:nvPicPr>
          <p:blipFill>
            <a:blip r:embed="rId6"/>
            <a:stretch/>
          </p:blipFill>
          <p:spPr>
            <a:xfrm>
              <a:off x="371520" y="4498920"/>
              <a:ext cx="261612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500040" y="4572000"/>
              <a:ext cx="242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バックアップの方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9AE1-ECB4-4456-8CD9-1429FE5FC774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フッター プレースホルダ 1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テキスト ボックス 16"/>
          <p:cNvSpPr/>
          <p:nvPr/>
        </p:nvSpPr>
        <p:spPr>
          <a:xfrm>
            <a:off x="571680" y="1214280"/>
            <a:ext cx="40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4.4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パーソナル機のバックアッ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1" descr="C:\Users\t-ymzm\AppData\Local\Microsoft\Windows\Temporary Internet Files\Content.IE5\IM1SPE99\MCj04260700000[1].wmf"/>
          <p:cNvPicPr/>
          <p:nvPr/>
        </p:nvPicPr>
        <p:blipFill>
          <a:blip r:embed="rId7"/>
          <a:stretch/>
        </p:blipFill>
        <p:spPr>
          <a:xfrm>
            <a:off x="5572080" y="3286080"/>
            <a:ext cx="1319400" cy="1536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4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サーバ機のバックアップ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526" name="Text Box 4"/>
          <p:cNvGrpSpPr/>
          <p:nvPr/>
        </p:nvGrpSpPr>
        <p:grpSpPr>
          <a:xfrm>
            <a:off x="341280" y="1268280"/>
            <a:ext cx="3749760" cy="639720"/>
            <a:chOff x="341280" y="1268280"/>
            <a:chExt cx="3749760" cy="639720"/>
          </a:xfrm>
        </p:grpSpPr>
        <p:pic>
          <p:nvPicPr>
            <p:cNvPr id="527" name="Text Box 4" descr=""/>
            <p:cNvPicPr/>
            <p:nvPr/>
          </p:nvPicPr>
          <p:blipFill>
            <a:blip r:embed="rId1"/>
            <a:stretch/>
          </p:blipFill>
          <p:spPr>
            <a:xfrm>
              <a:off x="341280" y="1268280"/>
              <a:ext cx="3749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"/>
            <p:cNvSpPr/>
            <p:nvPr/>
          </p:nvSpPr>
          <p:spPr>
            <a:xfrm>
              <a:off x="500040" y="1357200"/>
              <a:ext cx="35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大容量機のバックアッ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Text Box 5"/>
          <p:cNvSpPr/>
          <p:nvPr/>
        </p:nvSpPr>
        <p:spPr>
          <a:xfrm>
            <a:off x="2143080" y="1928880"/>
            <a:ext cx="187164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サーバ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データベー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Text Box 6"/>
          <p:cNvGrpSpPr/>
          <p:nvPr/>
        </p:nvGrpSpPr>
        <p:grpSpPr>
          <a:xfrm>
            <a:off x="341280" y="2981160"/>
            <a:ext cx="4159080" cy="646200"/>
            <a:chOff x="341280" y="2981160"/>
            <a:chExt cx="4159080" cy="646200"/>
          </a:xfrm>
        </p:grpSpPr>
        <p:pic>
          <p:nvPicPr>
            <p:cNvPr id="531" name="Text Box 6" descr=""/>
            <p:cNvPicPr/>
            <p:nvPr/>
          </p:nvPicPr>
          <p:blipFill>
            <a:blip r:embed="rId2"/>
            <a:stretch/>
          </p:blipFill>
          <p:spPr>
            <a:xfrm>
              <a:off x="341280" y="2981160"/>
              <a:ext cx="41590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507600" y="3071880"/>
              <a:ext cx="393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ill Sans MT"/>
                </a:rPr>
                <a:t>DAT</a:t>
              </a: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、</a:t>
              </a:r>
              <a:r>
                <a:rPr b="1" lang="en-US" sz="2400" spc="-1" strike="noStrike">
                  <a:solidFill>
                    <a:srgbClr val="000000"/>
                  </a:solidFill>
                  <a:latin typeface="Gill Sans MT"/>
                </a:rPr>
                <a:t>DVD-R</a:t>
              </a: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、磁気テー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AutoShape 7"/>
          <p:cNvSpPr/>
          <p:nvPr/>
        </p:nvSpPr>
        <p:spPr>
          <a:xfrm>
            <a:off x="857160" y="1928880"/>
            <a:ext cx="1008000" cy="1008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Text Box 8"/>
          <p:cNvGrpSpPr/>
          <p:nvPr/>
        </p:nvGrpSpPr>
        <p:grpSpPr>
          <a:xfrm>
            <a:off x="5267160" y="1268280"/>
            <a:ext cx="3065760" cy="646200"/>
            <a:chOff x="5267160" y="1268280"/>
            <a:chExt cx="3065760" cy="646200"/>
          </a:xfrm>
        </p:grpSpPr>
        <p:pic>
          <p:nvPicPr>
            <p:cNvPr id="535" name="Text Box 8" descr=""/>
            <p:cNvPicPr/>
            <p:nvPr/>
          </p:nvPicPr>
          <p:blipFill>
            <a:blip r:embed="rId3"/>
            <a:stretch/>
          </p:blipFill>
          <p:spPr>
            <a:xfrm>
              <a:off x="5267160" y="1268280"/>
              <a:ext cx="3065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6" name=""/>
            <p:cNvSpPr/>
            <p:nvPr/>
          </p:nvSpPr>
          <p:spPr>
            <a:xfrm>
              <a:off x="5429160" y="1357200"/>
              <a:ext cx="284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ill Sans MT"/>
                </a:rPr>
                <a:t>RAID</a:t>
              </a: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（ミラーリング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AutoShape 10"/>
          <p:cNvSpPr/>
          <p:nvPr/>
        </p:nvSpPr>
        <p:spPr>
          <a:xfrm>
            <a:off x="4214880" y="1214280"/>
            <a:ext cx="1008000" cy="792360"/>
          </a:xfrm>
          <a:prstGeom prst="rightArrow">
            <a:avLst>
              <a:gd name="adj1" fmla="val 50000"/>
              <a:gd name="adj2" fmla="val 31804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2"/>
          <p:cNvSpPr/>
          <p:nvPr/>
        </p:nvSpPr>
        <p:spPr>
          <a:xfrm>
            <a:off x="5214960" y="1928880"/>
            <a:ext cx="378144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ハードディスクを二重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書き込みが同時に行われ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一方が故障しても他方を使用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13"/>
          <p:cNvSpPr/>
          <p:nvPr/>
        </p:nvSpPr>
        <p:spPr>
          <a:xfrm>
            <a:off x="5423040" y="4510080"/>
            <a:ext cx="1081080" cy="934920"/>
          </a:xfrm>
          <a:prstGeom prst="can">
            <a:avLst>
              <a:gd name="adj" fmla="val 25000"/>
            </a:avLst>
          </a:prstGeom>
          <a:solidFill>
            <a:srgbClr val="66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5"/>
          <p:cNvSpPr/>
          <p:nvPr/>
        </p:nvSpPr>
        <p:spPr>
          <a:xfrm>
            <a:off x="7294680" y="4510080"/>
            <a:ext cx="1081080" cy="934920"/>
          </a:xfrm>
          <a:prstGeom prst="can">
            <a:avLst>
              <a:gd name="adj" fmla="val 25000"/>
            </a:avLst>
          </a:prstGeom>
          <a:solidFill>
            <a:srgbClr val="66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16"/>
          <p:cNvSpPr/>
          <p:nvPr/>
        </p:nvSpPr>
        <p:spPr>
          <a:xfrm>
            <a:off x="6215040" y="3429000"/>
            <a:ext cx="1295280" cy="576360"/>
          </a:xfrm>
          <a:prstGeom prst="foldedCorner">
            <a:avLst>
              <a:gd name="adj" fmla="val 125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7"/>
          <p:cNvSpPr/>
          <p:nvPr/>
        </p:nvSpPr>
        <p:spPr>
          <a:xfrm>
            <a:off x="6862680" y="4005360"/>
            <a:ext cx="0" cy="21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8"/>
          <p:cNvSpPr/>
          <p:nvPr/>
        </p:nvSpPr>
        <p:spPr>
          <a:xfrm>
            <a:off x="5999040" y="4221000"/>
            <a:ext cx="1871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9"/>
          <p:cNvSpPr/>
          <p:nvPr/>
        </p:nvSpPr>
        <p:spPr>
          <a:xfrm>
            <a:off x="5999040" y="4221000"/>
            <a:ext cx="0" cy="28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20"/>
          <p:cNvSpPr/>
          <p:nvPr/>
        </p:nvSpPr>
        <p:spPr>
          <a:xfrm>
            <a:off x="7870680" y="4221000"/>
            <a:ext cx="0" cy="28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1"/>
          <p:cNvSpPr/>
          <p:nvPr/>
        </p:nvSpPr>
        <p:spPr>
          <a:xfrm>
            <a:off x="5135400" y="5518080"/>
            <a:ext cx="1729080" cy="3988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データディス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2"/>
          <p:cNvSpPr/>
          <p:nvPr/>
        </p:nvSpPr>
        <p:spPr>
          <a:xfrm>
            <a:off x="6935760" y="5518080"/>
            <a:ext cx="1979640" cy="3988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チェックディス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24" descr="j0252147[1]"/>
          <p:cNvPicPr/>
          <p:nvPr/>
        </p:nvPicPr>
        <p:blipFill>
          <a:blip r:embed="rId4"/>
          <a:stretch/>
        </p:blipFill>
        <p:spPr>
          <a:xfrm>
            <a:off x="2928960" y="3714840"/>
            <a:ext cx="1224000" cy="8236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28" descr="MCj02910140000[1]"/>
          <p:cNvPicPr/>
          <p:nvPr/>
        </p:nvPicPr>
        <p:blipFill>
          <a:blip r:embed="rId5"/>
          <a:stretch/>
        </p:blipFill>
        <p:spPr>
          <a:xfrm rot="891000">
            <a:off x="3017520" y="4625640"/>
            <a:ext cx="1085760" cy="831960"/>
          </a:xfrm>
          <a:prstGeom prst="rect">
            <a:avLst/>
          </a:prstGeom>
          <a:ln w="0">
            <a:noFill/>
          </a:ln>
        </p:spPr>
      </p:pic>
      <p:sp>
        <p:nvSpPr>
          <p:cNvPr id="550" name="AutoShape 30"/>
          <p:cNvSpPr/>
          <p:nvPr/>
        </p:nvSpPr>
        <p:spPr>
          <a:xfrm>
            <a:off x="1785960" y="3929040"/>
            <a:ext cx="936720" cy="1440000"/>
          </a:xfrm>
          <a:custGeom>
            <a:avLst/>
            <a:gdLst>
              <a:gd name="textAreaLeft" fmla="*/ 117000 w 936720"/>
              <a:gd name="textAreaRight" fmla="*/ 819720 w 936720"/>
              <a:gd name="textAreaTop" fmla="*/ 360000 h 1440000"/>
              <a:gd name="textAreaBottom" fmla="*/ 108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スライド番号プレースホルダ 2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CBAC-E7CB-4C7D-B4EB-DE870D2CC4B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フッター プレースホルダ 2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31" descr="C:\Users\t-ymzm\AppData\Local\Microsoft\Windows\Temporary Internet Files\Low\Content.IE5\9CPLSZS2\j0434845[2].png"/>
          <p:cNvPicPr/>
          <p:nvPr/>
        </p:nvPicPr>
        <p:blipFill>
          <a:blip r:embed="rId6"/>
          <a:stretch/>
        </p:blipFill>
        <p:spPr>
          <a:xfrm>
            <a:off x="357120" y="392904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AutoShape 32"/>
          <p:cNvSpPr/>
          <p:nvPr/>
        </p:nvSpPr>
        <p:spPr>
          <a:xfrm>
            <a:off x="5286240" y="2857680"/>
            <a:ext cx="3529080" cy="27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31"/>
          <p:cNvSpPr/>
          <p:nvPr/>
        </p:nvSpPr>
        <p:spPr>
          <a:xfrm>
            <a:off x="642960" y="2928960"/>
            <a:ext cx="3529080" cy="266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4.3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通常のファイル管理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7" name="Text Box 4"/>
          <p:cNvSpPr/>
          <p:nvPr/>
        </p:nvSpPr>
        <p:spPr>
          <a:xfrm>
            <a:off x="500040" y="1285920"/>
            <a:ext cx="4214880" cy="11912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１．ファイルのコピー、移動、消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２．フォルダの作成、ファイルをまと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３．外部メディアとデータをやり取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４．フォルダのカテゴリ別分類、階層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ile"/>
          <p:cNvSpPr/>
          <p:nvPr/>
        </p:nvSpPr>
        <p:spPr>
          <a:xfrm>
            <a:off x="6005520" y="300204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ile"/>
          <p:cNvSpPr/>
          <p:nvPr/>
        </p:nvSpPr>
        <p:spPr>
          <a:xfrm>
            <a:off x="6005520" y="364968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ile"/>
          <p:cNvSpPr/>
          <p:nvPr/>
        </p:nvSpPr>
        <p:spPr>
          <a:xfrm>
            <a:off x="1476360" y="4584600"/>
            <a:ext cx="863640" cy="57492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920"/>
              <a:gd name="textAreaBottom" fmla="*/ 540360 h 574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ile"/>
          <p:cNvSpPr/>
          <p:nvPr/>
        </p:nvSpPr>
        <p:spPr>
          <a:xfrm>
            <a:off x="900000" y="465624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ile"/>
          <p:cNvSpPr/>
          <p:nvPr/>
        </p:nvSpPr>
        <p:spPr>
          <a:xfrm>
            <a:off x="2629080" y="3792600"/>
            <a:ext cx="863280" cy="574560"/>
          </a:xfrm>
          <a:custGeom>
            <a:avLst/>
            <a:gdLst>
              <a:gd name="textAreaLeft" fmla="*/ 43200 w 863280"/>
              <a:gd name="textAreaRight" fmla="*/ 824760 w 86328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ile"/>
          <p:cNvSpPr/>
          <p:nvPr/>
        </p:nvSpPr>
        <p:spPr>
          <a:xfrm>
            <a:off x="1476360" y="328788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ile"/>
          <p:cNvSpPr/>
          <p:nvPr/>
        </p:nvSpPr>
        <p:spPr>
          <a:xfrm>
            <a:off x="2484360" y="4871880"/>
            <a:ext cx="863640" cy="57492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920"/>
              <a:gd name="textAreaBottom" fmla="*/ 540360 h 574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ile"/>
          <p:cNvSpPr/>
          <p:nvPr/>
        </p:nvSpPr>
        <p:spPr>
          <a:xfrm>
            <a:off x="971640" y="357660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ile"/>
          <p:cNvSpPr/>
          <p:nvPr/>
        </p:nvSpPr>
        <p:spPr>
          <a:xfrm>
            <a:off x="7661160" y="3146400"/>
            <a:ext cx="505080" cy="28584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840"/>
              <a:gd name="textAreaBottom" fmla="*/ 268560 h 2858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ile"/>
          <p:cNvSpPr/>
          <p:nvPr/>
        </p:nvSpPr>
        <p:spPr>
          <a:xfrm>
            <a:off x="7661160" y="3506760"/>
            <a:ext cx="505080" cy="28584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840"/>
              <a:gd name="textAreaBottom" fmla="*/ 268560 h 2858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ile"/>
          <p:cNvSpPr/>
          <p:nvPr/>
        </p:nvSpPr>
        <p:spPr>
          <a:xfrm>
            <a:off x="7661160" y="4226040"/>
            <a:ext cx="505080" cy="28548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480"/>
              <a:gd name="textAreaBottom" fmla="*/ 268200 h 285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ile"/>
          <p:cNvSpPr/>
          <p:nvPr/>
        </p:nvSpPr>
        <p:spPr>
          <a:xfrm>
            <a:off x="7661160" y="3865680"/>
            <a:ext cx="505080" cy="28548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480"/>
              <a:gd name="textAreaBottom" fmla="*/ 268200 h 285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ile"/>
          <p:cNvSpPr/>
          <p:nvPr/>
        </p:nvSpPr>
        <p:spPr>
          <a:xfrm>
            <a:off x="7661160" y="4946760"/>
            <a:ext cx="505080" cy="28548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480"/>
              <a:gd name="textAreaBottom" fmla="*/ 268200 h 285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ile"/>
          <p:cNvSpPr/>
          <p:nvPr/>
        </p:nvSpPr>
        <p:spPr>
          <a:xfrm>
            <a:off x="7661160" y="4586400"/>
            <a:ext cx="505080" cy="28548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480"/>
              <a:gd name="textAreaBottom" fmla="*/ 268200 h 285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ile"/>
          <p:cNvSpPr/>
          <p:nvPr/>
        </p:nvSpPr>
        <p:spPr>
          <a:xfrm>
            <a:off x="1908000" y="451332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ile"/>
          <p:cNvSpPr/>
          <p:nvPr/>
        </p:nvSpPr>
        <p:spPr>
          <a:xfrm>
            <a:off x="2700360" y="3360600"/>
            <a:ext cx="863640" cy="57492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920"/>
              <a:gd name="textAreaBottom" fmla="*/ 540360 h 574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ile"/>
          <p:cNvSpPr/>
          <p:nvPr/>
        </p:nvSpPr>
        <p:spPr>
          <a:xfrm>
            <a:off x="2987640" y="3720960"/>
            <a:ext cx="863640" cy="57492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920"/>
              <a:gd name="textAreaBottom" fmla="*/ 540360 h 574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ile"/>
          <p:cNvSpPr/>
          <p:nvPr/>
        </p:nvSpPr>
        <p:spPr>
          <a:xfrm>
            <a:off x="2268360" y="4224240"/>
            <a:ext cx="863640" cy="57492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920"/>
              <a:gd name="textAreaBottom" fmla="*/ 540360 h 574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ile"/>
          <p:cNvSpPr/>
          <p:nvPr/>
        </p:nvSpPr>
        <p:spPr>
          <a:xfrm>
            <a:off x="1332000" y="436896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AutoShape 33"/>
          <p:cNvGrpSpPr/>
          <p:nvPr/>
        </p:nvGrpSpPr>
        <p:grpSpPr>
          <a:xfrm>
            <a:off x="4290840" y="3743280"/>
            <a:ext cx="993960" cy="1133640"/>
            <a:chOff x="4290840" y="3743280"/>
            <a:chExt cx="993960" cy="1133640"/>
          </a:xfrm>
        </p:grpSpPr>
        <p:pic>
          <p:nvPicPr>
            <p:cNvPr id="578" name="AutoShape 33" descr=""/>
            <p:cNvPicPr/>
            <p:nvPr/>
          </p:nvPicPr>
          <p:blipFill>
            <a:blip r:embed="rId1"/>
            <a:stretch/>
          </p:blipFill>
          <p:spPr>
            <a:xfrm>
              <a:off x="4290840" y="3743280"/>
              <a:ext cx="99396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4357800" y="4038480"/>
              <a:ext cx="75564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File"/>
          <p:cNvSpPr/>
          <p:nvPr/>
        </p:nvSpPr>
        <p:spPr>
          <a:xfrm>
            <a:off x="6005520" y="4730760"/>
            <a:ext cx="863640" cy="574560"/>
          </a:xfrm>
          <a:custGeom>
            <a:avLst/>
            <a:gdLst>
              <a:gd name="textAreaLeft" fmla="*/ 43200 w 863640"/>
              <a:gd name="textAreaRight" fmla="*/ 825120 w 863640"/>
              <a:gd name="textAreaTop" fmla="*/ 123120 h 574560"/>
              <a:gd name="textAreaBottom" fmla="*/ 540000 h 5745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ile"/>
          <p:cNvSpPr/>
          <p:nvPr/>
        </p:nvSpPr>
        <p:spPr>
          <a:xfrm>
            <a:off x="7661160" y="5307120"/>
            <a:ext cx="505080" cy="285480"/>
          </a:xfrm>
          <a:custGeom>
            <a:avLst/>
            <a:gdLst>
              <a:gd name="textAreaLeft" fmla="*/ 25200 w 505080"/>
              <a:gd name="textAreaRight" fmla="*/ 482760 w 505080"/>
              <a:gd name="textAreaTop" fmla="*/ 61200 h 285480"/>
              <a:gd name="textAreaBottom" fmla="*/ 268200 h 285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39"/>
          <p:cNvSpPr/>
          <p:nvPr/>
        </p:nvSpPr>
        <p:spPr>
          <a:xfrm>
            <a:off x="6942240" y="329076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40"/>
          <p:cNvSpPr/>
          <p:nvPr/>
        </p:nvSpPr>
        <p:spPr>
          <a:xfrm>
            <a:off x="6942240" y="401004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41"/>
          <p:cNvSpPr/>
          <p:nvPr/>
        </p:nvSpPr>
        <p:spPr>
          <a:xfrm>
            <a:off x="6942240" y="509112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42"/>
          <p:cNvSpPr/>
          <p:nvPr/>
        </p:nvSpPr>
        <p:spPr>
          <a:xfrm flipV="1">
            <a:off x="7302600" y="329040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43"/>
          <p:cNvSpPr/>
          <p:nvPr/>
        </p:nvSpPr>
        <p:spPr>
          <a:xfrm flipH="1">
            <a:off x="7302600" y="3649680"/>
            <a:ext cx="358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44"/>
          <p:cNvSpPr/>
          <p:nvPr/>
        </p:nvSpPr>
        <p:spPr>
          <a:xfrm flipH="1">
            <a:off x="7302600" y="4370400"/>
            <a:ext cx="358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45"/>
          <p:cNvSpPr/>
          <p:nvPr/>
        </p:nvSpPr>
        <p:spPr>
          <a:xfrm flipH="1">
            <a:off x="7302600" y="4730760"/>
            <a:ext cx="358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46"/>
          <p:cNvSpPr/>
          <p:nvPr/>
        </p:nvSpPr>
        <p:spPr>
          <a:xfrm flipH="1">
            <a:off x="7302600" y="5450040"/>
            <a:ext cx="358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47"/>
          <p:cNvSpPr/>
          <p:nvPr/>
        </p:nvSpPr>
        <p:spPr>
          <a:xfrm flipV="1">
            <a:off x="7302600" y="40100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48"/>
          <p:cNvSpPr/>
          <p:nvPr/>
        </p:nvSpPr>
        <p:spPr>
          <a:xfrm flipV="1">
            <a:off x="7302600" y="509076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cddrive"/>
          <p:cNvSpPr/>
          <p:nvPr/>
        </p:nvSpPr>
        <p:spPr>
          <a:xfrm>
            <a:off x="6786720" y="1285920"/>
            <a:ext cx="1809720" cy="904680"/>
          </a:xfrm>
          <a:custGeom>
            <a:avLst/>
            <a:gdLst>
              <a:gd name="textAreaLeft" fmla="*/ 57240 w 1809720"/>
              <a:gd name="textAreaRight" fmla="*/ 1760040 w 1809720"/>
              <a:gd name="textAreaTop" fmla="*/ 965880 h 904680"/>
              <a:gd name="textAreaBottom" fmla="*/ 1278000 h 904680"/>
            </a:gdLst>
            <a:ahLst/>
            <a:rect l="textAreaLeft" t="textAreaTop" r="textAreaRight" b="textAreaBottom"/>
            <a:pathLst>
              <a:path w="21600" h="21600">
                <a:moveTo>
                  <a:pt x="2563" y="12259"/>
                </a:moveTo>
                <a:lnTo>
                  <a:pt x="2563" y="12843"/>
                </a:lnTo>
                <a:lnTo>
                  <a:pt x="2746" y="13427"/>
                </a:lnTo>
                <a:lnTo>
                  <a:pt x="2929" y="14303"/>
                </a:lnTo>
                <a:lnTo>
                  <a:pt x="3112" y="14886"/>
                </a:lnTo>
                <a:lnTo>
                  <a:pt x="3478" y="15470"/>
                </a:lnTo>
                <a:lnTo>
                  <a:pt x="3844" y="16054"/>
                </a:lnTo>
                <a:lnTo>
                  <a:pt x="4393" y="16638"/>
                </a:lnTo>
                <a:lnTo>
                  <a:pt x="4942" y="17222"/>
                </a:lnTo>
                <a:lnTo>
                  <a:pt x="5492" y="17514"/>
                </a:lnTo>
                <a:lnTo>
                  <a:pt x="6224" y="18097"/>
                </a:lnTo>
                <a:lnTo>
                  <a:pt x="6773" y="18389"/>
                </a:lnTo>
                <a:lnTo>
                  <a:pt x="7505" y="18681"/>
                </a:lnTo>
                <a:lnTo>
                  <a:pt x="8237" y="18973"/>
                </a:lnTo>
                <a:lnTo>
                  <a:pt x="9153" y="18973"/>
                </a:lnTo>
                <a:lnTo>
                  <a:pt x="9885" y="19265"/>
                </a:lnTo>
                <a:lnTo>
                  <a:pt x="10800" y="19265"/>
                </a:lnTo>
                <a:lnTo>
                  <a:pt x="11532" y="19265"/>
                </a:lnTo>
                <a:lnTo>
                  <a:pt x="12447" y="18973"/>
                </a:lnTo>
                <a:lnTo>
                  <a:pt x="13180" y="18973"/>
                </a:lnTo>
                <a:lnTo>
                  <a:pt x="13912" y="18681"/>
                </a:lnTo>
                <a:lnTo>
                  <a:pt x="14644" y="18389"/>
                </a:lnTo>
                <a:lnTo>
                  <a:pt x="15376" y="18097"/>
                </a:lnTo>
                <a:lnTo>
                  <a:pt x="16108" y="17514"/>
                </a:lnTo>
                <a:lnTo>
                  <a:pt x="16658" y="17222"/>
                </a:lnTo>
                <a:lnTo>
                  <a:pt x="17207" y="16638"/>
                </a:lnTo>
                <a:lnTo>
                  <a:pt x="17573" y="16054"/>
                </a:lnTo>
                <a:lnTo>
                  <a:pt x="18122" y="15470"/>
                </a:lnTo>
                <a:lnTo>
                  <a:pt x="18305" y="14886"/>
                </a:lnTo>
                <a:lnTo>
                  <a:pt x="18671" y="14303"/>
                </a:lnTo>
                <a:lnTo>
                  <a:pt x="18854" y="13427"/>
                </a:lnTo>
                <a:lnTo>
                  <a:pt x="19037" y="12843"/>
                </a:lnTo>
                <a:lnTo>
                  <a:pt x="19037" y="12259"/>
                </a:lnTo>
                <a:lnTo>
                  <a:pt x="2563" y="12259"/>
                </a:lnTo>
                <a:close/>
              </a:path>
              <a:path w="21600" h="21600">
                <a:moveTo>
                  <a:pt x="2563" y="12259"/>
                </a:moveTo>
                <a:lnTo>
                  <a:pt x="9153" y="12259"/>
                </a:lnTo>
                <a:lnTo>
                  <a:pt x="9153" y="12551"/>
                </a:lnTo>
                <a:lnTo>
                  <a:pt x="9336" y="12843"/>
                </a:lnTo>
                <a:lnTo>
                  <a:pt x="9519" y="13135"/>
                </a:lnTo>
                <a:lnTo>
                  <a:pt x="9702" y="13135"/>
                </a:lnTo>
                <a:lnTo>
                  <a:pt x="9885" y="13427"/>
                </a:lnTo>
                <a:lnTo>
                  <a:pt x="10068" y="13719"/>
                </a:lnTo>
                <a:lnTo>
                  <a:pt x="10434" y="13719"/>
                </a:lnTo>
                <a:lnTo>
                  <a:pt x="10800" y="13719"/>
                </a:lnTo>
                <a:lnTo>
                  <a:pt x="10983" y="13719"/>
                </a:lnTo>
                <a:lnTo>
                  <a:pt x="11349" y="13719"/>
                </a:lnTo>
                <a:lnTo>
                  <a:pt x="11715" y="13427"/>
                </a:lnTo>
                <a:lnTo>
                  <a:pt x="11898" y="13135"/>
                </a:lnTo>
                <a:lnTo>
                  <a:pt x="12081" y="13135"/>
                </a:lnTo>
                <a:lnTo>
                  <a:pt x="12264" y="12843"/>
                </a:lnTo>
                <a:lnTo>
                  <a:pt x="12264" y="12551"/>
                </a:lnTo>
                <a:lnTo>
                  <a:pt x="12264" y="12259"/>
                </a:lnTo>
                <a:lnTo>
                  <a:pt x="9153" y="12259"/>
                </a:lnTo>
                <a:close/>
              </a:path>
              <a:path w="21600" h="21600">
                <a:moveTo>
                  <a:pt x="21600" y="7589"/>
                </a:moveTo>
                <a:lnTo>
                  <a:pt x="17756" y="0"/>
                </a:lnTo>
                <a:lnTo>
                  <a:pt x="10800" y="0"/>
                </a:lnTo>
                <a:lnTo>
                  <a:pt x="3844" y="0"/>
                </a:lnTo>
                <a:lnTo>
                  <a:pt x="0" y="7589"/>
                </a:lnTo>
                <a:lnTo>
                  <a:pt x="0" y="10800"/>
                </a:lnTo>
                <a:lnTo>
                  <a:pt x="0" y="18097"/>
                </a:lnTo>
                <a:lnTo>
                  <a:pt x="1464" y="18097"/>
                </a:lnTo>
                <a:lnTo>
                  <a:pt x="1464" y="21600"/>
                </a:lnTo>
                <a:lnTo>
                  <a:pt x="10800" y="21600"/>
                </a:lnTo>
                <a:lnTo>
                  <a:pt x="19953" y="21600"/>
                </a:lnTo>
                <a:lnTo>
                  <a:pt x="19953" y="18097"/>
                </a:lnTo>
                <a:lnTo>
                  <a:pt x="21600" y="18097"/>
                </a:lnTo>
                <a:lnTo>
                  <a:pt x="21600" y="11092"/>
                </a:lnTo>
                <a:lnTo>
                  <a:pt x="21600" y="7589"/>
                </a:lnTo>
              </a:path>
              <a:path w="21600" h="21600">
                <a:moveTo>
                  <a:pt x="1647" y="18097"/>
                </a:moveTo>
                <a:lnTo>
                  <a:pt x="6407" y="18097"/>
                </a:lnTo>
                <a:moveTo>
                  <a:pt x="19953" y="18097"/>
                </a:moveTo>
                <a:lnTo>
                  <a:pt x="15010" y="18097"/>
                </a:lnTo>
                <a:moveTo>
                  <a:pt x="0" y="7589"/>
                </a:moveTo>
                <a:lnTo>
                  <a:pt x="21417" y="7589"/>
                </a:lnTo>
                <a:lnTo>
                  <a:pt x="21600" y="7589"/>
                </a:lnTo>
              </a:path>
            </a:pathLst>
          </a:custGeom>
          <a:solidFill>
            <a:srgbClr val="fada7a"/>
          </a:solidFill>
          <a:ln w="19080">
            <a:solidFill>
              <a:srgbClr val="b8a0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50"/>
          <p:cNvSpPr/>
          <p:nvPr/>
        </p:nvSpPr>
        <p:spPr>
          <a:xfrm>
            <a:off x="6000840" y="1857240"/>
            <a:ext cx="647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51"/>
          <p:cNvSpPr/>
          <p:nvPr/>
        </p:nvSpPr>
        <p:spPr>
          <a:xfrm flipV="1">
            <a:off x="3571920" y="2714400"/>
            <a:ext cx="0" cy="5000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53"/>
          <p:cNvSpPr/>
          <p:nvPr/>
        </p:nvSpPr>
        <p:spPr>
          <a:xfrm flipH="1">
            <a:off x="3571920" y="2714760"/>
            <a:ext cx="2448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54"/>
          <p:cNvSpPr/>
          <p:nvPr/>
        </p:nvSpPr>
        <p:spPr>
          <a:xfrm flipV="1">
            <a:off x="6000840" y="1857240"/>
            <a:ext cx="0" cy="857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Text Box 55"/>
          <p:cNvGrpSpPr/>
          <p:nvPr/>
        </p:nvGrpSpPr>
        <p:grpSpPr>
          <a:xfrm>
            <a:off x="298440" y="5645160"/>
            <a:ext cx="4260960" cy="560520"/>
            <a:chOff x="298440" y="5645160"/>
            <a:chExt cx="4260960" cy="560520"/>
          </a:xfrm>
        </p:grpSpPr>
        <p:pic>
          <p:nvPicPr>
            <p:cNvPr id="598" name="Text Box 55" descr=""/>
            <p:cNvPicPr/>
            <p:nvPr/>
          </p:nvPicPr>
          <p:blipFill>
            <a:blip r:embed="rId2"/>
            <a:stretch/>
          </p:blipFill>
          <p:spPr>
            <a:xfrm>
              <a:off x="298440" y="5645160"/>
              <a:ext cx="426096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"/>
            <p:cNvSpPr/>
            <p:nvPr/>
          </p:nvSpPr>
          <p:spPr>
            <a:xfrm>
              <a:off x="428760" y="5715000"/>
              <a:ext cx="40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フォルダの整理ができていない状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Text Box 56"/>
          <p:cNvGrpSpPr/>
          <p:nvPr/>
        </p:nvGrpSpPr>
        <p:grpSpPr>
          <a:xfrm>
            <a:off x="5492880" y="5645160"/>
            <a:ext cx="2955960" cy="554040"/>
            <a:chOff x="5492880" y="5645160"/>
            <a:chExt cx="2955960" cy="554040"/>
          </a:xfrm>
        </p:grpSpPr>
        <p:pic>
          <p:nvPicPr>
            <p:cNvPr id="601" name="Text Box 56" descr=""/>
            <p:cNvPicPr/>
            <p:nvPr/>
          </p:nvPicPr>
          <p:blipFill>
            <a:blip r:embed="rId3"/>
            <a:stretch/>
          </p:blipFill>
          <p:spPr>
            <a:xfrm>
              <a:off x="5492880" y="5645160"/>
              <a:ext cx="295596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5624640" y="5713560"/>
              <a:ext cx="273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カテゴリ別分類・階層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Text Box 57"/>
          <p:cNvSpPr/>
          <p:nvPr/>
        </p:nvSpPr>
        <p:spPr>
          <a:xfrm>
            <a:off x="6929280" y="228600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外部メディ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スライド番号プレースホルダ 47"/>
          <p:cNvSpPr/>
          <p:nvPr/>
        </p:nvSpPr>
        <p:spPr>
          <a:xfrm>
            <a:off x="642960" y="635796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5F3F-0795-4A0D-8CB3-71E00008EBF9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フッター プレースホルダ 4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１　情報セキュリティとは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71320" y="2071800"/>
            <a:ext cx="714348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不正アクセス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メールの盗聴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Sniffering)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・改ざん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Falsificatio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01" name="Text Box 5"/>
          <p:cNvGrpSpPr/>
          <p:nvPr/>
        </p:nvGrpSpPr>
        <p:grpSpPr>
          <a:xfrm>
            <a:off x="341280" y="5126040"/>
            <a:ext cx="8321760" cy="646200"/>
            <a:chOff x="341280" y="5126040"/>
            <a:chExt cx="8321760" cy="646200"/>
          </a:xfrm>
        </p:grpSpPr>
        <p:pic>
          <p:nvPicPr>
            <p:cNvPr id="402" name="Text Box 5" descr=""/>
            <p:cNvPicPr/>
            <p:nvPr/>
          </p:nvPicPr>
          <p:blipFill>
            <a:blip r:embed="rId1"/>
            <a:stretch/>
          </p:blipFill>
          <p:spPr>
            <a:xfrm>
              <a:off x="341280" y="5126040"/>
              <a:ext cx="8321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500040" y="5214960"/>
              <a:ext cx="810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ＭＳ Ｐゴシック"/>
                </a:rPr>
                <a:t>コンピュータやネットワークにおける安全性や信頼性の確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AutoShape 7"/>
          <p:cNvGrpSpPr/>
          <p:nvPr/>
        </p:nvGrpSpPr>
        <p:grpSpPr>
          <a:xfrm>
            <a:off x="933480" y="3316320"/>
            <a:ext cx="3436920" cy="1859040"/>
            <a:chOff x="933480" y="3316320"/>
            <a:chExt cx="3436920" cy="1859040"/>
          </a:xfrm>
        </p:grpSpPr>
        <p:pic>
          <p:nvPicPr>
            <p:cNvPr id="405" name="AutoShape 7" descr=""/>
            <p:cNvPicPr/>
            <p:nvPr/>
          </p:nvPicPr>
          <p:blipFill>
            <a:blip r:embed="rId2"/>
            <a:stretch/>
          </p:blipFill>
          <p:spPr>
            <a:xfrm>
              <a:off x="933480" y="3316320"/>
              <a:ext cx="343692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1827360" y="3357720"/>
              <a:ext cx="16556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Text Box 8"/>
          <p:cNvSpPr/>
          <p:nvPr/>
        </p:nvSpPr>
        <p:spPr>
          <a:xfrm>
            <a:off x="4857840" y="4000680"/>
            <a:ext cx="2881080" cy="101592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　１．被害の防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　２．事態の収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Text Box 9"/>
          <p:cNvGrpSpPr/>
          <p:nvPr/>
        </p:nvGrpSpPr>
        <p:grpSpPr>
          <a:xfrm>
            <a:off x="4840200" y="3340080"/>
            <a:ext cx="2651040" cy="641520"/>
            <a:chOff x="4840200" y="3340080"/>
            <a:chExt cx="2651040" cy="641520"/>
          </a:xfrm>
        </p:grpSpPr>
        <p:pic>
          <p:nvPicPr>
            <p:cNvPr id="409" name="Text Box 9" descr=""/>
            <p:cNvPicPr/>
            <p:nvPr/>
          </p:nvPicPr>
          <p:blipFill>
            <a:blip r:embed="rId3"/>
            <a:stretch/>
          </p:blipFill>
          <p:spPr>
            <a:xfrm>
              <a:off x="4840200" y="3340080"/>
              <a:ext cx="2651040" cy="6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>
              <a:off x="5000760" y="3429000"/>
              <a:ext cx="242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情報セキュリテ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スライド番号プレースホルダ 1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08E0-FC9D-4397-A1FD-44FA9E6A847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フッター プレースホルダ 1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Text Box 5"/>
          <p:cNvGrpSpPr/>
          <p:nvPr/>
        </p:nvGrpSpPr>
        <p:grpSpPr>
          <a:xfrm>
            <a:off x="250920" y="1341360"/>
            <a:ext cx="5616000" cy="639720"/>
            <a:chOff x="250920" y="1341360"/>
            <a:chExt cx="5616000" cy="639720"/>
          </a:xfrm>
        </p:grpSpPr>
        <p:pic>
          <p:nvPicPr>
            <p:cNvPr id="414" name="Text Box 5" descr=""/>
            <p:cNvPicPr/>
            <p:nvPr/>
          </p:nvPicPr>
          <p:blipFill>
            <a:blip r:embed="rId4"/>
            <a:stretch/>
          </p:blipFill>
          <p:spPr>
            <a:xfrm>
              <a:off x="250920" y="1341360"/>
              <a:ext cx="56160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457560" y="1432080"/>
              <a:ext cx="530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ネットワーク上の脅威（</a:t>
              </a:r>
              <a:r>
                <a:rPr b="0" lang="en-US" sz="2400" spc="-1" strike="noStrike">
                  <a:solidFill>
                    <a:srgbClr val="ffffff"/>
                  </a:solidFill>
                  <a:latin typeface="Gill Sans MT"/>
                </a:rPr>
                <a:t>Threat</a:t>
              </a: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）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1.1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情報セキュリティに求められるもの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17" name="Text Box 4"/>
          <p:cNvGrpSpPr/>
          <p:nvPr/>
        </p:nvGrpSpPr>
        <p:grpSpPr>
          <a:xfrm>
            <a:off x="347760" y="1450800"/>
            <a:ext cx="3163680" cy="792360"/>
            <a:chOff x="347760" y="1450800"/>
            <a:chExt cx="3163680" cy="792360"/>
          </a:xfrm>
        </p:grpSpPr>
        <p:pic>
          <p:nvPicPr>
            <p:cNvPr id="418" name="Text Box 4" descr=""/>
            <p:cNvPicPr/>
            <p:nvPr/>
          </p:nvPicPr>
          <p:blipFill>
            <a:blip r:embed="rId1"/>
            <a:stretch/>
          </p:blipFill>
          <p:spPr>
            <a:xfrm>
              <a:off x="347760" y="1450800"/>
              <a:ext cx="316368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571680" y="1571760"/>
              <a:ext cx="28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200" spc="-1" strike="noStrike">
                  <a:solidFill>
                    <a:srgbClr val="ffffff"/>
                  </a:solidFill>
                  <a:latin typeface="Gill Sans MT"/>
                </a:rPr>
                <a:t>情報の機密性</a:t>
              </a: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Text Box 5"/>
          <p:cNvGrpSpPr/>
          <p:nvPr/>
        </p:nvGrpSpPr>
        <p:grpSpPr>
          <a:xfrm>
            <a:off x="347760" y="3664080"/>
            <a:ext cx="6261120" cy="792000"/>
            <a:chOff x="347760" y="3664080"/>
            <a:chExt cx="6261120" cy="792000"/>
          </a:xfrm>
        </p:grpSpPr>
        <p:pic>
          <p:nvPicPr>
            <p:cNvPr id="421" name="Text Box 5" descr=""/>
            <p:cNvPicPr/>
            <p:nvPr/>
          </p:nvPicPr>
          <p:blipFill>
            <a:blip r:embed="rId2"/>
            <a:stretch/>
          </p:blipFill>
          <p:spPr>
            <a:xfrm>
              <a:off x="347760" y="3664080"/>
              <a:ext cx="626112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571680" y="3786120"/>
              <a:ext cx="590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3200" spc="-1" strike="noStrike">
                  <a:solidFill>
                    <a:srgbClr val="ffffff"/>
                  </a:solidFill>
                  <a:latin typeface="Gill Sans MT"/>
                </a:rPr>
                <a:t>情報の保存および伝達の安全性</a:t>
              </a: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Text Box 8"/>
          <p:cNvSpPr/>
          <p:nvPr/>
        </p:nvSpPr>
        <p:spPr>
          <a:xfrm>
            <a:off x="1143000" y="2357280"/>
            <a:ext cx="7201080" cy="101592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・「ユーザ認証」で不正アクセスを防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・「アクセス権」を設定し、一般ユーザと管理者を区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9"/>
          <p:cNvSpPr/>
          <p:nvPr/>
        </p:nvSpPr>
        <p:spPr>
          <a:xfrm>
            <a:off x="1143000" y="4572000"/>
            <a:ext cx="7632720" cy="101592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・不正アクセスされても、データを破壊や消去からブロ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・通信の過程において、データの改ざんや盗聴から守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スライド番号プレースホルダ 8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EF80-8DF3-4C7F-A559-59BE8CD76D8E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フッター プレースホルダ 9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1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セキュリティの運用について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28" name="Text Box 5"/>
          <p:cNvGrpSpPr/>
          <p:nvPr/>
        </p:nvGrpSpPr>
        <p:grpSpPr>
          <a:xfrm>
            <a:off x="92160" y="1901880"/>
            <a:ext cx="2468520" cy="639720"/>
            <a:chOff x="92160" y="1901880"/>
            <a:chExt cx="2468520" cy="639720"/>
          </a:xfrm>
        </p:grpSpPr>
        <p:pic>
          <p:nvPicPr>
            <p:cNvPr id="429" name="Text Box 5" descr=""/>
            <p:cNvPicPr/>
            <p:nvPr/>
          </p:nvPicPr>
          <p:blipFill>
            <a:blip r:embed="rId1"/>
            <a:stretch/>
          </p:blipFill>
          <p:spPr>
            <a:xfrm>
              <a:off x="92160" y="1901880"/>
              <a:ext cx="24685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250920" y="1989000"/>
              <a:ext cx="224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技術的な対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Text Box 6"/>
          <p:cNvGrpSpPr/>
          <p:nvPr/>
        </p:nvGrpSpPr>
        <p:grpSpPr>
          <a:xfrm>
            <a:off x="55440" y="3981600"/>
            <a:ext cx="2522520" cy="645840"/>
            <a:chOff x="55440" y="3981600"/>
            <a:chExt cx="2522520" cy="645840"/>
          </a:xfrm>
        </p:grpSpPr>
        <p:pic>
          <p:nvPicPr>
            <p:cNvPr id="432" name="Text Box 6" descr=""/>
            <p:cNvPicPr/>
            <p:nvPr/>
          </p:nvPicPr>
          <p:blipFill>
            <a:blip r:embed="rId2"/>
            <a:stretch/>
          </p:blipFill>
          <p:spPr>
            <a:xfrm>
              <a:off x="55440" y="3981600"/>
              <a:ext cx="252252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214200" y="4071960"/>
              <a:ext cx="23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ＭＳ Ｐゴシック"/>
                </a:rPr>
                <a:t>運用の管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Text Box 7"/>
          <p:cNvSpPr/>
          <p:nvPr/>
        </p:nvSpPr>
        <p:spPr>
          <a:xfrm>
            <a:off x="1643040" y="2643120"/>
            <a:ext cx="5689800" cy="86256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・ウィルスチェック（ネットワーク全体、個々の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PC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・ファイアウォールの設置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8"/>
          <p:cNvSpPr/>
          <p:nvPr/>
        </p:nvSpPr>
        <p:spPr>
          <a:xfrm>
            <a:off x="1643040" y="4786200"/>
            <a:ext cx="5689800" cy="86256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・セキュリティポリシーの確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・使用者の立場にあった教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0"/>
          <p:cNvSpPr/>
          <p:nvPr/>
        </p:nvSpPr>
        <p:spPr>
          <a:xfrm>
            <a:off x="2571840" y="2000160"/>
            <a:ext cx="597672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外部からの有害プログラムや不正侵入を防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1"/>
          <p:cNvSpPr/>
          <p:nvPr/>
        </p:nvSpPr>
        <p:spPr>
          <a:xfrm>
            <a:off x="2643120" y="4143240"/>
            <a:ext cx="554508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運用規則をユーザ全員が理解し遵守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スライド番号プレースホルダ 10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6652-49F9-45C6-8084-8249B2EA4F4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フッター プレースホルダ 1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　ユーザ認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428760" y="3857760"/>
          <a:ext cx="8229600" cy="2176200"/>
        </p:xfrm>
        <a:graphic>
          <a:graphicData uri="http://schemas.openxmlformats.org/drawingml/2006/table">
            <a:tbl>
              <a:tblPr/>
              <a:tblGrid>
                <a:gridCol w="2695320"/>
                <a:gridCol w="2838600"/>
                <a:gridCol w="2695680"/>
              </a:tblGrid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認証方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利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9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欠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e9a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ID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・パスワー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c7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発行や認証の仕組み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簡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パスワードの漏え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カード等の所持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c7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操作がやさしい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紛失、盗難、偽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生体認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c7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偽造されにくい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entury"/>
                          <a:ea typeface="Times New Roman"/>
                        </a:rPr>
                        <a:t>システムが高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42" name="Text Box 4"/>
          <p:cNvSpPr/>
          <p:nvPr/>
        </p:nvSpPr>
        <p:spPr>
          <a:xfrm>
            <a:off x="571680" y="1857240"/>
            <a:ext cx="5329080" cy="70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「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正規ユーザ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」の識別（不正アクセスでないか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「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一般ユーザ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」と「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管理者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」の区別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Text Box 105"/>
          <p:cNvGrpSpPr/>
          <p:nvPr/>
        </p:nvGrpSpPr>
        <p:grpSpPr>
          <a:xfrm>
            <a:off x="195120" y="1195560"/>
            <a:ext cx="3651480" cy="645840"/>
            <a:chOff x="195120" y="1195560"/>
            <a:chExt cx="3651480" cy="645840"/>
          </a:xfrm>
        </p:grpSpPr>
        <p:pic>
          <p:nvPicPr>
            <p:cNvPr id="444" name="Text Box 105" descr=""/>
            <p:cNvPicPr/>
            <p:nvPr/>
          </p:nvPicPr>
          <p:blipFill>
            <a:blip r:embed="rId1"/>
            <a:stretch/>
          </p:blipFill>
          <p:spPr>
            <a:xfrm>
              <a:off x="195120" y="1195560"/>
              <a:ext cx="365148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357120" y="128592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ユーザ認証＝本人確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AutoShape 106"/>
          <p:cNvGrpSpPr/>
          <p:nvPr/>
        </p:nvGrpSpPr>
        <p:grpSpPr>
          <a:xfrm>
            <a:off x="1073160" y="2882880"/>
            <a:ext cx="1498680" cy="641520"/>
            <a:chOff x="1073160" y="2882880"/>
            <a:chExt cx="1498680" cy="641520"/>
          </a:xfrm>
        </p:grpSpPr>
        <p:pic>
          <p:nvPicPr>
            <p:cNvPr id="447" name="AutoShape 106" descr=""/>
            <p:cNvPicPr/>
            <p:nvPr/>
          </p:nvPicPr>
          <p:blipFill>
            <a:blip r:embed="rId2"/>
            <a:stretch/>
          </p:blipFill>
          <p:spPr>
            <a:xfrm>
              <a:off x="1073160" y="2882880"/>
              <a:ext cx="1498680" cy="6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1484280" y="2928960"/>
              <a:ext cx="68436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Text Box 107"/>
          <p:cNvSpPr/>
          <p:nvPr/>
        </p:nvSpPr>
        <p:spPr>
          <a:xfrm>
            <a:off x="3500280" y="335772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認証方式と特徴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スライド番号プレースホルダ 31"/>
          <p:cNvSpPr/>
          <p:nvPr/>
        </p:nvSpPr>
        <p:spPr>
          <a:xfrm>
            <a:off x="64296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B513-E731-42E5-921C-585BF0F7B342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フッター プレースホルダ 32"/>
          <p:cNvSpPr/>
          <p:nvPr/>
        </p:nvSpPr>
        <p:spPr>
          <a:xfrm>
            <a:off x="3143160" y="6400800"/>
            <a:ext cx="323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2.1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パスワード管理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53" name="Text Box 5"/>
          <p:cNvGrpSpPr/>
          <p:nvPr/>
        </p:nvGrpSpPr>
        <p:grpSpPr>
          <a:xfrm>
            <a:off x="128520" y="3267000"/>
            <a:ext cx="4272120" cy="639720"/>
            <a:chOff x="128520" y="3267000"/>
            <a:chExt cx="4272120" cy="639720"/>
          </a:xfrm>
        </p:grpSpPr>
        <p:pic>
          <p:nvPicPr>
            <p:cNvPr id="454" name="Text Box 5" descr=""/>
            <p:cNvPicPr/>
            <p:nvPr/>
          </p:nvPicPr>
          <p:blipFill>
            <a:blip r:embed="rId1"/>
            <a:stretch/>
          </p:blipFill>
          <p:spPr>
            <a:xfrm>
              <a:off x="128520" y="3267000"/>
              <a:ext cx="42721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"/>
            <p:cNvSpPr/>
            <p:nvPr/>
          </p:nvSpPr>
          <p:spPr>
            <a:xfrm>
              <a:off x="285840" y="3357720"/>
              <a:ext cx="40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パスワードに対する推定攻撃</a:t>
              </a: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Text Box 6"/>
          <p:cNvSpPr/>
          <p:nvPr/>
        </p:nvSpPr>
        <p:spPr>
          <a:xfrm>
            <a:off x="357120" y="3929040"/>
            <a:ext cx="3889440" cy="178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１）総当たり攻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　単純で短いパスワードは危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２）辞書攻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　辞書単語をそのまま使わ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8"/>
          <p:cNvSpPr/>
          <p:nvPr/>
        </p:nvSpPr>
        <p:spPr>
          <a:xfrm>
            <a:off x="4857840" y="3929040"/>
            <a:ext cx="3816360" cy="178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１）のぞき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２）ログイン後の放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３）トラッシング（ゴミあさり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４）なりすま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Text Box 7"/>
          <p:cNvGrpSpPr/>
          <p:nvPr/>
        </p:nvGrpSpPr>
        <p:grpSpPr>
          <a:xfrm>
            <a:off x="4627440" y="3267000"/>
            <a:ext cx="4181760" cy="639720"/>
            <a:chOff x="4627440" y="3267000"/>
            <a:chExt cx="4181760" cy="639720"/>
          </a:xfrm>
        </p:grpSpPr>
        <p:pic>
          <p:nvPicPr>
            <p:cNvPr id="459" name="Text Box 7" descr=""/>
            <p:cNvPicPr/>
            <p:nvPr/>
          </p:nvPicPr>
          <p:blipFill>
            <a:blip r:embed="rId2"/>
            <a:stretch/>
          </p:blipFill>
          <p:spPr>
            <a:xfrm>
              <a:off x="4627440" y="3267000"/>
              <a:ext cx="4181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4786200" y="3357720"/>
              <a:ext cx="395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ソーシャル・エンジニアリング</a:t>
              </a: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Text Box 11"/>
          <p:cNvSpPr/>
          <p:nvPr/>
        </p:nvSpPr>
        <p:spPr>
          <a:xfrm>
            <a:off x="642960" y="1285920"/>
            <a:ext cx="514332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D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とパスワードによる認証は仕組みが単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→ 推定されにくいパスワードを持つ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→ 盗み見やなりすましに要注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Text Box 12"/>
          <p:cNvGrpSpPr/>
          <p:nvPr/>
        </p:nvGrpSpPr>
        <p:grpSpPr>
          <a:xfrm>
            <a:off x="2981160" y="2627280"/>
            <a:ext cx="3316320" cy="646200"/>
            <a:chOff x="2981160" y="2627280"/>
            <a:chExt cx="3316320" cy="646200"/>
          </a:xfrm>
        </p:grpSpPr>
        <p:pic>
          <p:nvPicPr>
            <p:cNvPr id="463" name="Text Box 12" descr=""/>
            <p:cNvPicPr/>
            <p:nvPr/>
          </p:nvPicPr>
          <p:blipFill>
            <a:blip r:embed="rId3"/>
            <a:stretch/>
          </p:blipFill>
          <p:spPr>
            <a:xfrm>
              <a:off x="2981160" y="2627280"/>
              <a:ext cx="331632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3143160" y="271476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パスワードを破る手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スライド番号プレースホルダ 1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D81A-55BC-46BC-A9E8-9CCBF087E2FE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フッター プレースホルダ 1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2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カードによる認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68" name="Text Box 4"/>
          <p:cNvGrpSpPr/>
          <p:nvPr/>
        </p:nvGrpSpPr>
        <p:grpSpPr>
          <a:xfrm>
            <a:off x="907920" y="1268280"/>
            <a:ext cx="4651560" cy="639720"/>
            <a:chOff x="907920" y="1268280"/>
            <a:chExt cx="4651560" cy="639720"/>
          </a:xfrm>
        </p:grpSpPr>
        <p:pic>
          <p:nvPicPr>
            <p:cNvPr id="469" name="Text Box 4" descr=""/>
            <p:cNvPicPr/>
            <p:nvPr/>
          </p:nvPicPr>
          <p:blipFill>
            <a:blip r:embed="rId1"/>
            <a:stretch/>
          </p:blipFill>
          <p:spPr>
            <a:xfrm>
              <a:off x="907920" y="1268280"/>
              <a:ext cx="46515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1071720" y="1357200"/>
              <a:ext cx="44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ユーザの所持品による認証方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Text Box 5"/>
          <p:cNvSpPr/>
          <p:nvPr/>
        </p:nvSpPr>
        <p:spPr>
          <a:xfrm>
            <a:off x="2428920" y="2714760"/>
            <a:ext cx="640872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スキミング（磁気カードの不正な読み取り）しカードを偽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テレフォンカードやハイウェイカード等でも多数の被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7"/>
          <p:cNvSpPr/>
          <p:nvPr/>
        </p:nvSpPr>
        <p:spPr>
          <a:xfrm>
            <a:off x="1071720" y="3857760"/>
            <a:ext cx="2000160" cy="398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IC</a:t>
            </a: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カードの開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8"/>
          <p:cNvSpPr/>
          <p:nvPr/>
        </p:nvSpPr>
        <p:spPr>
          <a:xfrm>
            <a:off x="2428920" y="4357800"/>
            <a:ext cx="554508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磁気カードよりも偽造が困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暗証番号との組み合わせで認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総当たり攻撃に対してはカードを無効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Text Box 9"/>
          <p:cNvGrpSpPr/>
          <p:nvPr/>
        </p:nvGrpSpPr>
        <p:grpSpPr>
          <a:xfrm>
            <a:off x="1011240" y="1859040"/>
            <a:ext cx="2475000" cy="560160"/>
            <a:chOff x="1011240" y="1859040"/>
            <a:chExt cx="2475000" cy="560160"/>
          </a:xfrm>
        </p:grpSpPr>
        <p:pic>
          <p:nvPicPr>
            <p:cNvPr id="475" name="Text Box 9" descr=""/>
            <p:cNvPicPr/>
            <p:nvPr/>
          </p:nvPicPr>
          <p:blipFill>
            <a:blip r:embed="rId2"/>
            <a:stretch/>
          </p:blipFill>
          <p:spPr>
            <a:xfrm>
              <a:off x="1011240" y="1859040"/>
              <a:ext cx="24750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1143000" y="1928880"/>
              <a:ext cx="228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磁気カードの被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AutoShape 10"/>
          <p:cNvGrpSpPr/>
          <p:nvPr/>
        </p:nvGrpSpPr>
        <p:grpSpPr>
          <a:xfrm>
            <a:off x="1219320" y="2530440"/>
            <a:ext cx="1139760" cy="1285920"/>
            <a:chOff x="1219320" y="2530440"/>
            <a:chExt cx="1139760" cy="1285920"/>
          </a:xfrm>
        </p:grpSpPr>
        <p:pic>
          <p:nvPicPr>
            <p:cNvPr id="478" name="AutoShape 10" descr=""/>
            <p:cNvPicPr/>
            <p:nvPr/>
          </p:nvPicPr>
          <p:blipFill>
            <a:blip r:embed="rId3"/>
            <a:stretch/>
          </p:blipFill>
          <p:spPr>
            <a:xfrm>
              <a:off x="1219320" y="2530440"/>
              <a:ext cx="1139760" cy="128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1538280" y="2571840"/>
              <a:ext cx="5047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スライド番号プレースホルダ 10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C19F-F21A-49AB-A004-E2246A220E1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フッター プレースホルダ 1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2.3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生体認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1071360" y="3214440"/>
            <a:ext cx="1439640" cy="2592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指紋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虹彩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顔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筆跡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声紋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静脈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714240" y="1285920"/>
            <a:ext cx="511200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ユーザ本人の身体の一部（生体情報）を使った認証方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（＝バイオメトリックス認証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Text Box 6"/>
          <p:cNvGrpSpPr/>
          <p:nvPr/>
        </p:nvGrpSpPr>
        <p:grpSpPr>
          <a:xfrm>
            <a:off x="554040" y="2554200"/>
            <a:ext cx="2633760" cy="646200"/>
            <a:chOff x="554040" y="2554200"/>
            <a:chExt cx="2633760" cy="646200"/>
          </a:xfrm>
        </p:grpSpPr>
        <p:pic>
          <p:nvPicPr>
            <p:cNvPr id="486" name="Text Box 6" descr=""/>
            <p:cNvPicPr/>
            <p:nvPr/>
          </p:nvPicPr>
          <p:blipFill>
            <a:blip r:embed="rId1"/>
            <a:stretch/>
          </p:blipFill>
          <p:spPr>
            <a:xfrm>
              <a:off x="554040" y="2554200"/>
              <a:ext cx="26337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714240" y="2643120"/>
              <a:ext cx="23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生体認証の種類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Text Box 7"/>
          <p:cNvSpPr/>
          <p:nvPr/>
        </p:nvSpPr>
        <p:spPr>
          <a:xfrm>
            <a:off x="3714840" y="4429080"/>
            <a:ext cx="504036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不正コピーが困難で、より確実な認証方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コンピュータ以外に特殊な装置が必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認証方式によっては高額（虹彩、静脈など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Text Box 8"/>
          <p:cNvGrpSpPr/>
          <p:nvPr/>
        </p:nvGrpSpPr>
        <p:grpSpPr>
          <a:xfrm>
            <a:off x="3554280" y="3767040"/>
            <a:ext cx="2633760" cy="639720"/>
            <a:chOff x="3554280" y="3767040"/>
            <a:chExt cx="2633760" cy="639720"/>
          </a:xfrm>
        </p:grpSpPr>
        <p:pic>
          <p:nvPicPr>
            <p:cNvPr id="490" name="Text Box 8" descr=""/>
            <p:cNvPicPr/>
            <p:nvPr/>
          </p:nvPicPr>
          <p:blipFill>
            <a:blip r:embed="rId2"/>
            <a:stretch/>
          </p:blipFill>
          <p:spPr>
            <a:xfrm>
              <a:off x="3554280" y="3767040"/>
              <a:ext cx="26337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3714840" y="385776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生体認証の特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スライド番号プレースホルダ 10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5DA2-7DD0-47A0-A543-D4050187BEC7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フッター プレースホルダ 1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12" descr="C:\Users\t-ymzm\AppData\Local\Microsoft\Windows\Temporary Internet Files\Content.IE5\7PTL4EXT\MPj04317020000[1].jpg"/>
          <p:cNvPicPr/>
          <p:nvPr/>
        </p:nvPicPr>
        <p:blipFill>
          <a:blip r:embed="rId3"/>
          <a:stretch/>
        </p:blipFill>
        <p:spPr>
          <a:xfrm>
            <a:off x="6000840" y="1643040"/>
            <a:ext cx="2787480" cy="1857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３　ファイアウォール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500040" y="2857680"/>
          <a:ext cx="8229600" cy="3381120"/>
        </p:xfrm>
        <a:graphic>
          <a:graphicData uri="http://schemas.openxmlformats.org/drawingml/2006/table">
            <a:tbl>
              <a:tblPr/>
              <a:tblGrid>
                <a:gridCol w="2278080"/>
                <a:gridCol w="5951520"/>
              </a:tblGrid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主な機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3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概　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e3eb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アクセス制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インターネットからの接続を制限す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アドレス変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プライベートアドレスをグローバルアドレスに変換す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ユーザ認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接続できるユーザであるか認証す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ログ収集／解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ファイアウォールを通過したパケットをすべて記録す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フィルタリン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通過できないデータを判別し遮断する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ルーティン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d4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組織内の通信経路を決める役割を果たす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7" name="Text Box 91"/>
          <p:cNvSpPr/>
          <p:nvPr/>
        </p:nvSpPr>
        <p:spPr>
          <a:xfrm>
            <a:off x="2928960" y="242892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ファイアウォールの主な機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92"/>
          <p:cNvSpPr/>
          <p:nvPr/>
        </p:nvSpPr>
        <p:spPr>
          <a:xfrm>
            <a:off x="1143000" y="1285920"/>
            <a:ext cx="7128000" cy="9842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ファイアウォール（防火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→インターネット接続したコンピュータを外敵から守るシステ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スライド番号プレースホルダ 32"/>
          <p:cNvSpPr/>
          <p:nvPr/>
        </p:nvSpPr>
        <p:spPr>
          <a:xfrm>
            <a:off x="57168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55D3-C068-4B32-8187-041E5461F9A8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フッター プレースホルダ 33"/>
          <p:cNvSpPr/>
          <p:nvPr/>
        </p:nvSpPr>
        <p:spPr>
          <a:xfrm>
            <a:off x="3071880" y="6400800"/>
            <a:ext cx="33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05:10:53Z</dcterms:created>
  <dc:creator>図書情報センター</dc:creator>
  <dc:description/>
  <dc:language>en-US</dc:language>
  <cp:lastModifiedBy>T.Yamazumi</cp:lastModifiedBy>
  <dcterms:modified xsi:type="dcterms:W3CDTF">2009-11-02T05:13:46Z</dcterms:modified>
  <cp:revision>60</cp:revision>
  <dc:subject/>
  <dc:title>ネットワーク社会の 情報倫理</dc:title>
</cp:coreProperties>
</file>