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EE468-2ABD-4A90-B6FD-B277C325D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0DFBC-2AAA-4580-949D-DAB99516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0147F-2B7F-4247-BFEF-607D4B0B5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DFB6C-A7FB-4549-9499-B543587ED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7729D-04AF-4067-AC39-3B1810275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39B44-7602-4D3F-874A-FA5B77D12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CD8D4-089A-45F3-84BB-2E5E14F69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8C93C-C602-4B82-AA75-EAFC8B4F3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A72E1-3537-45B8-9B73-EA7BFEFED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1419A-FE56-4169-9FCC-BC0637AB0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E8F0F-6A20-4C04-8CFB-3BE181670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AB69-CE63-415E-B0A3-E0381A54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1BA3-6C87-4D65-B468-D098A6EE1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7E19C-751D-42AB-B69C-438A50CF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17B02-2A9E-44DB-BD13-6BB47FF2D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F2199-F8F7-41C8-AFB2-1A5D0C419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B8791-7670-4CF6-AA49-0C641515B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0459B-E1A9-462B-BB74-157FBD6FC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9E771-AA1C-41DE-996F-C405713C5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EC631-3CE9-444C-8500-60BF09541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6EA05-473D-48F9-B0DC-C502C16DD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E9795-862C-4EB1-9739-AE537171B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F2D5B-88AE-451A-A7F6-6C2F4E4C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43232-EEEE-48D5-B0EC-C7180DEB3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5B3C1-1BF6-4D12-948E-00DAD35BC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74594-B5BD-4DF1-AF71-E73D52409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17386-0DFD-4475-81BF-EFC1F0827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FF7D6-CDF5-442E-8775-11535FDDC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893CCA-02FE-41C1-9C0B-2C5B2ED72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DE4FB4-F3C8-4494-96FD-F46064BD1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CF1891-7842-4C75-986D-37B8E88278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D0D4C-F6EA-453D-AC05-E6EC814FE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28AC0-AE8B-45FC-939D-81EB3CAB37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D5B5-22BD-480F-B54E-903C36C6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22602-F1AD-420D-951F-7C44FC8F1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FDA5E-88E1-46DB-8CB3-D3DCDAC05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D0D1B-7C7F-482C-BF2F-9F584F126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D5009-DB0E-46B9-84CF-F26BFB820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F0A1E-9700-4186-A261-EB0A80D5E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BC1ED-3158-4ADB-9175-8CE45D4AB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F5874-6096-4C4F-B369-16ADEE349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EC4D4-A43B-4865-BD57-542AA2DB6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BEA18-D644-449C-BAE1-73377213DC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B88B1D-1C93-46A7-BC23-8E4442736B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2175B-FCB8-4111-9BCA-D2BF639F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8A0A1C-3693-413B-B502-06A00F677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918EA-2428-475B-B85B-88C2BA74B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DD36E0-7DE1-41FC-8AA5-F5FCA453F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DAEDB-C84C-4A1E-82E5-8B0707730D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B5911-3207-470A-84AA-34D269B86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A4A18-E4D8-4501-922D-49DD5F859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114A1-943E-4971-BC73-032BE8BE7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8D67C-9EBC-4465-B799-E6C093A3C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18161-6117-465D-B0D8-9467EACEE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5036A-A6F2-4F30-835A-E5D69835E7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0326-1E3C-450B-8133-67674660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7AFF85-0CE0-40CC-994A-7E849224FD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ADC70-D131-460E-B635-9DDA8AE11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2FB35-99F9-4F1C-A1AA-2BE23EAB3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075E9-329C-44C2-9047-79D2B55CE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1572D-43B2-4824-815A-35A5E4747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BF3B1-F0EB-418F-956F-4A0E9E8F6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E405B-5232-4A59-A4DF-EA241429C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946EC-109A-4FE3-B1CC-58525F98B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B8A1C-D750-4E3A-A780-5E3F4E628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F7E23-FC5C-4AAD-9A22-94962E097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32A4-CD63-43AA-9FAC-03B3D4BF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2AFDD-96EC-4A99-9758-C40280EA3C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7F844-F204-4EF7-930B-DED48039FE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52D553-05B2-463A-9350-3CF4DBFFD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CFD5C3-7A60-47C1-BEA2-626FB6DA7D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07932-CA93-4649-84BD-407892629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4D97A-02E7-472A-941A-909AF151A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23FB6-C5E6-45BF-B77C-8BAE4A5E1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C4513-F32E-425F-A199-C31D423BB6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6EBB44-B0AE-4313-9A1B-98FB002EDD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16BAE-C7B9-45CC-B80E-D52352725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8122-CD37-466D-865F-F85D5222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3C9AD-DA0A-41E9-A4E0-AC30942EC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8DF11-D510-4EEA-BDDB-D3F8851B4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220FE-A293-4AC9-88D8-A8B025E0B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17AAD-26F3-4F30-B7C5-3B67964F0C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BD079A-4681-4C52-AE70-CCC30F721C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27C2C6-3302-4190-A4EE-DE3D225EAA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C8520F-D01E-4521-8C01-CE3C0751C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FCB843-6A8D-4627-9D2C-54861982D5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CF29EF-6244-46DC-B1F9-9BE238311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9273E-EAFF-4073-B798-3931BCE72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AAD1-89ED-44FD-93F2-7AD8859E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D3816-BEDD-4DFD-AAC5-ACA51E28C3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7E595-922C-44A9-BB55-40F1AA52C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294E0-36B7-4F36-8F73-0ED6A39E7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963BD-A32A-4252-BDD9-DED496AA5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629724-D7BD-4FAA-B7BF-9EA69257F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08DB01-6E83-40F8-8AD6-B3959FF14C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F3983A-1517-44EA-BA9E-6F2BF98E16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B445-8D7C-4D72-8CAD-20648EA8A6EF}"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4457-D3FF-49C8-B7C5-38998552A48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9C28-0226-46B6-AD97-53D21A97B64A}"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5D88-966F-4A52-8FA5-91438B1D9EA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6CAC-E8B6-44CA-BF0A-E2161E37BD69}"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B548-5E76-40E7-B6E6-E4379FB61309}"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B944-305A-4C70-8959-8659100FD7F5}"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5578-55ED-41B7-874E-87294B9E73E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0522-E9A0-4212-A367-5E61F65BF49D}"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EADA-8124-4F80-B108-913ED7A55C6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776B-B959-48F8-91B0-6F9D0A1CBF8E}"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4EA5-6E02-4ACB-A8BD-90C8F950892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B378-827A-4875-9E92-846E75DDD519}" type="datetime">
              <a:rPr b="0" lang="ja-JP" sz="1400" spc="-1" strike="noStrike">
                <a:solidFill>
                  <a:srgbClr val="dde9ec"/>
                </a:solidFill>
                <a:latin typeface="Times New Roman"/>
              </a:rPr>
              <a:t>26/07/3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64E2-316B-4ABC-A008-073F188A326F}"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2E45-CEF1-4D56-A5DC-B20EEB8860C2}" type="datetime">
              <a:rPr b="0" lang="ja-JP" sz="1400" spc="-1" strike="noStrike">
                <a:solidFill>
                  <a:srgbClr val="464653"/>
                </a:solidFill>
                <a:latin typeface="Times New Roman"/>
              </a:rPr>
              <a:t>26/07/31</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3301-A72A-499F-8A4B-41B78C4800F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5560-078C-46AB-BF1B-BDA8806D199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C9A3-19F7-4D16-876E-57EEF54DF3E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941F-9011-4B58-92D1-D8A28C9620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90EA-1DDF-42A9-B53F-D5DE4C8D5D7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FF28-6D61-4FE2-BF6A-BB7AE2A59D6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7EB1-4694-4295-A9E1-529A6084E85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0E10-6746-454E-971E-82ECAE6B936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1E08-DD6E-4153-8C82-1E441E81C47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4C07-D704-496C-8CBC-6950C1A0D27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B0C6-0BAD-40F8-B343-516744FAB5B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98B3-0933-4B37-ACFF-87952DD9AB0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65F7-37BB-48AE-AFA9-903DDDB2617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21E9-BE4E-4179-AB0F-C18A2438200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1071-BED2-4A1E-BF1A-1C1216D95E6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C2A2-DAC2-46A8-A748-D4E6D2ACF7A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E72C-7AF0-4583-BD52-B452CB9906C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5ECE-B02A-48D0-B0C3-5EA3A3E8B97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2491-EF99-4DA3-A530-F18FB301F40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2F0F-1EEA-403B-A97B-E5B842CD74C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