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28.png" ContentType="image/png"/>
  <Override PartName="/ppt/media/image9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20.png" ContentType="image/png"/>
  <Override PartName="/ppt/media/image19.png" ContentType="image/png"/>
  <Override PartName="/ppt/media/image18.wmf" ContentType="image/x-wmf"/>
  <Override PartName="/ppt/media/image15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26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EE79-FB96-4327-A9A2-EB69622C2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3CA8-1BB4-42B5-99CD-BC84CFF9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1106-4513-4B1F-A23E-4F5B2F7C9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06CB-302A-4FBE-AC1C-C6C6033C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C470-1E30-49A8-869C-1F36D75B8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6AF0-EAE9-4B27-9DD3-45AC885A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60E7-8F34-4974-9ABA-3BA60207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3D43-154E-4749-A610-8093AEE8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68C3-525F-4E1D-A287-EF31FB3C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7B05-3128-4331-A901-A1CC7C97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6CA2-1494-4E95-BFA4-CB993E2E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63FE-842F-4E96-BC77-577E9998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71F5-38B1-4230-A442-49F0039E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5AF7-8B92-486C-A880-9A57C487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8F42-FC78-4FD3-AA69-9AF4209A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C54A-10D9-49FD-B0BE-660B62BAD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AC1D-2FB7-4E5E-B59F-FD3C3CBB2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31FE0-845A-4E72-918E-AF8F1C8B6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B9705-BDC2-462A-8B35-8EA9BAA1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58C97-E1DC-4510-A26D-140012FA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CC266-CA0A-4A77-9F00-2AF6F223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E5BC8-D3F2-4E50-9EFB-2D8949CD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9962-BD5C-4281-8881-631F5CC1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DC240-1307-4750-8E9E-9A90A35F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C937C-E73E-4144-B865-BD608906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06DD9-EC1C-4B95-8925-6C357D0D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E94DA-DD15-420B-8AD0-64979280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B08B2-1ADC-40BE-99FE-E2062CB8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ED510-469B-4447-B0EF-4E4F5664B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26F9D-D137-4F09-9870-8D74621A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97A70-9606-4A1D-8135-D64F23BB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2402C-FDA8-46B0-9905-16738673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D305A-D4CC-4985-8784-60F3CF1E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DD36-320B-46B4-8DC6-A6C8FC21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94C84-A9B3-4505-A6A9-48E7FC3C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6106E-4229-4C09-B448-31DA9108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2C3CD-100E-40B4-A878-19F0C64A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585D1-BEB6-4117-A312-8723B6B5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C9ADE-684C-42C5-943B-1EB668F6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6E21B-86A3-471A-9ACE-4ABEEEDB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37DEF-6C40-4364-A4FC-A5B7F323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FB6A8-864A-429D-8E5C-A4F740F45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09D19-5D08-48EF-9EAF-8C13D674F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985D8-5B2B-43A0-BDD5-66896080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1A38-91FB-404C-A37B-51DD9ACB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C305E-22A0-4CD3-B4FE-B56107AD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C9606-0AFC-49A8-B0AF-264486B0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D1C25-0A90-425C-9E76-F6D21287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63DA2-3A4D-4C4E-9D32-CA42E038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0ACED-74C1-43B5-ACF4-8B383E92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E07C9-A96D-48ED-86BB-D77D26A3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9DB6C-6933-4F5E-8BC3-589427BE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C2A22-DFAB-4056-ADED-8EDD26AF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0CAF6-49DD-46EC-843C-5740CA29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86630-DFA9-45D6-B252-18DC15B4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4A27-E56D-43E4-974B-4DB40D65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CFE49-B7D0-4BD0-BF57-A8B72EBF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1243D-E402-4CD7-965B-350A81BF5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913E9-B9DA-4050-BC9F-1154C3E6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0368E-BFC5-4CB2-BE54-DE706C8A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BD450-2C5E-4F50-8CF5-6F5E10CD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94741-5F29-4391-A101-E24E57D9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D7F34-4CB3-496B-B5D5-2B6D316F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BA8BA-6486-46E5-945D-2C3A061A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EDCB6-5F72-45F9-BC62-72782127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BD804-14E1-4F3C-80AA-CF550B8A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1E02-18ED-4EA0-AFAE-6FE10193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28F24-244B-43A7-831E-BFB5C7EC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EA6A8-DC8C-40EE-A2FE-1CAF1AC0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03FF6-A16A-4AF2-84B8-344BD543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58AD9-39E9-4D6F-8A28-6A8DFDC57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68D9E-75AC-408C-91F3-0AE347FB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09137-5125-4B2E-9B93-6599E636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81991-C1F9-4F4A-B143-73BED0B6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F9917-5D68-48F2-B659-3E4F72B6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7E36C-4C10-4EFC-A19C-CEFCE4D8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A193B-DB42-40C4-B382-B13FC5FF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3C02-F889-41C4-8633-DD40B416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5C779-0419-4222-AF01-10FC4317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5E69F-04FA-4742-8A93-ABBE76AD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AB207-E2F8-4129-B90A-B0B8E637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D8F7A-9497-431A-96DB-2008D8CC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5DAFE-2E5D-401F-8D7A-4AA96431E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A6595-D7C2-443D-B4D3-796052785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F9DCB-3345-4FDC-9D86-5FEAD36E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89A03-DC8C-4BE2-A24F-FC141B35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BEDED-C195-4DC3-B716-A4A79594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436DF-F3FC-45D9-ADBB-00412E1E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7F4C-2CCA-462D-9F87-D9A65A67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20112-6B2F-4CC6-A177-54764719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8A3EC-87DF-4783-A046-381DC898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88B30-1432-4762-9C0F-F7D57E44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28559-7E62-436A-A2AD-C0A72642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5EBEC-625E-4C4E-AA3B-72EE3608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74763-8C27-4790-BB33-C32ACA8AF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0EE40-D964-42E3-AAB6-788C07024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7DCC-D7AF-419A-BA87-745C6FA5C5B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FE8A-CE6D-4D2C-9FB6-191A5381657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1215-E9CE-42F4-9818-65D0C23EBA25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8037-C562-4A3E-867A-E1D2FCAC7E1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B34C-A801-4CDB-A83C-E52A528C22E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F95F-1864-46D4-ADAA-F4000E08727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5952-9F27-4BE1-95A2-BEF320BCC452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182F-F4E9-4108-9FBB-B4076EEF7CD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jpeg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6.wmf"/><Relationship Id="rId3" Type="http://schemas.openxmlformats.org/officeDocument/2006/relationships/image" Target="../media/image13.wmf"/><Relationship Id="rId4" Type="http://schemas.openxmlformats.org/officeDocument/2006/relationships/image" Target="../media/image19.png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Bookman Old Style"/>
              </a:rPr>
              <a:t>モバイルネットワーク時代の情報倫理</a:t>
            </a:r>
            <a:br>
              <a:rPr sz="2900"/>
            </a:b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＜近代科学社刊＞</a:t>
            </a: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85920" y="514332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第</a:t>
            </a:r>
            <a:r>
              <a:rPr b="0" lang="en-US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2</a:t>
            </a: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章　ネットワーク犯罪（前半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2" descr="5"/>
          <p:cNvPicPr/>
          <p:nvPr/>
        </p:nvPicPr>
        <p:blipFill>
          <a:blip r:embed="rId1"/>
          <a:srcRect l="4642" t="6698" r="4642" b="6698"/>
          <a:stretch/>
        </p:blipFill>
        <p:spPr>
          <a:xfrm>
            <a:off x="6210360" y="1857240"/>
            <a:ext cx="2174760" cy="14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3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今後の対策と新しい傾向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9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テキスト ボックス 3"/>
          <p:cNvSpPr/>
          <p:nvPr/>
        </p:nvSpPr>
        <p:spPr>
          <a:xfrm>
            <a:off x="571680" y="1285920"/>
            <a:ext cx="4143240" cy="459720"/>
          </a:xfrm>
          <a:prstGeom prst="rect">
            <a:avLst/>
          </a:prstGeom>
          <a:solidFill>
            <a:srgbClr val="727ca3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出会い系サイト規制法の改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テキスト ボックス 4"/>
          <p:cNvSpPr/>
          <p:nvPr/>
        </p:nvSpPr>
        <p:spPr>
          <a:xfrm>
            <a:off x="928800" y="1857240"/>
            <a:ext cx="5286240" cy="161856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インターネット異性紹介事業者は届け出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利用者が児童でないことを確認する義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不適切な書き込みを削除する義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パトロール活動や自主的な規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各プロバイダのフィルタリング機能強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テキスト ボックス 5"/>
          <p:cNvGrpSpPr/>
          <p:nvPr/>
        </p:nvGrpSpPr>
        <p:grpSpPr>
          <a:xfrm>
            <a:off x="1085760" y="4516560"/>
            <a:ext cx="6126120" cy="873000"/>
            <a:chOff x="1085760" y="4516560"/>
            <a:chExt cx="6126120" cy="873000"/>
          </a:xfrm>
        </p:grpSpPr>
        <p:pic>
          <p:nvPicPr>
            <p:cNvPr id="483" name="テキスト ボックス 5" descr=""/>
            <p:cNvPicPr/>
            <p:nvPr/>
          </p:nvPicPr>
          <p:blipFill>
            <a:blip r:embed="rId1"/>
            <a:stretch/>
          </p:blipFill>
          <p:spPr>
            <a:xfrm>
              <a:off x="1085760" y="4516560"/>
              <a:ext cx="612612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1214280" y="4572000"/>
              <a:ext cx="592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Gill Sans MT"/>
                </a:rPr>
                <a:t>SNS</a:t>
              </a: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など他のサービスを使った不正誘引が増加傾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家出掲示板などの新たな問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テキスト ボックス 6"/>
          <p:cNvSpPr/>
          <p:nvPr/>
        </p:nvSpPr>
        <p:spPr>
          <a:xfrm>
            <a:off x="3714840" y="3857760"/>
            <a:ext cx="4214880" cy="3988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携帯電話のフィルタリングが強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下矢印 7"/>
          <p:cNvSpPr/>
          <p:nvPr/>
        </p:nvSpPr>
        <p:spPr>
          <a:xfrm>
            <a:off x="1928880" y="3643200"/>
            <a:ext cx="1500120" cy="7858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2" descr="7"/>
          <p:cNvPicPr/>
          <p:nvPr/>
        </p:nvPicPr>
        <p:blipFill>
          <a:blip r:embed="rId2"/>
          <a:srcRect l="0" t="0" r="0" b="3269"/>
          <a:stretch/>
        </p:blipFill>
        <p:spPr>
          <a:xfrm>
            <a:off x="6858000" y="1500120"/>
            <a:ext cx="1735200" cy="2301840"/>
          </a:xfrm>
          <a:prstGeom prst="rect">
            <a:avLst/>
          </a:prstGeom>
          <a:ln w="0">
            <a:noFill/>
          </a:ln>
        </p:spPr>
      </p:pic>
      <p:sp>
        <p:nvSpPr>
          <p:cNvPr id="488" name="テキスト ボックス 9"/>
          <p:cNvSpPr/>
          <p:nvPr/>
        </p:nvSpPr>
        <p:spPr>
          <a:xfrm>
            <a:off x="1357200" y="5572080"/>
            <a:ext cx="5857920" cy="3682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サイバーパトロールやプロバイダによる監視体制が重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22EE-BB36-4CA7-8062-27F73CA5F87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　架空請求・不正請求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350B-5D2D-4F3D-8517-77BF5904AF8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テキスト ボックス 4"/>
          <p:cNvSpPr/>
          <p:nvPr/>
        </p:nvSpPr>
        <p:spPr>
          <a:xfrm>
            <a:off x="428760" y="1285920"/>
            <a:ext cx="8072280" cy="12524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架空請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一度も利用したことのないサイトの利用料金を求めるこ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不正請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無料サイトの利用料金や、契約と異なる有料サイトの利用料金を求めるこ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テキスト ボックス 5"/>
          <p:cNvSpPr/>
          <p:nvPr/>
        </p:nvSpPr>
        <p:spPr>
          <a:xfrm>
            <a:off x="428760" y="3071880"/>
            <a:ext cx="8072280" cy="1252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ワンクリック詐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突然「会員登録されました。」というメッセージが表示され、会費を請求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迷惑メールに記載された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有料サイトに接続（誘導）されて会費を請求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テキスト ボックス 6"/>
          <p:cNvSpPr/>
          <p:nvPr/>
        </p:nvSpPr>
        <p:spPr>
          <a:xfrm>
            <a:off x="428760" y="2643120"/>
            <a:ext cx="2357280" cy="3988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不正請求の典型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角丸四角形 7"/>
          <p:cNvGrpSpPr/>
          <p:nvPr/>
        </p:nvGrpSpPr>
        <p:grpSpPr>
          <a:xfrm>
            <a:off x="933480" y="4286160"/>
            <a:ext cx="7199280" cy="803520"/>
            <a:chOff x="933480" y="4286160"/>
            <a:chExt cx="7199280" cy="803520"/>
          </a:xfrm>
        </p:grpSpPr>
        <p:pic>
          <p:nvPicPr>
            <p:cNvPr id="497" name="角丸四角形 7" descr=""/>
            <p:cNvPicPr/>
            <p:nvPr/>
          </p:nvPicPr>
          <p:blipFill>
            <a:blip r:embed="rId1"/>
            <a:stretch/>
          </p:blipFill>
          <p:spPr>
            <a:xfrm>
              <a:off x="933480" y="4286160"/>
              <a:ext cx="7199280" cy="8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1031760" y="4389480"/>
              <a:ext cx="7008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契約や会員登録が完了したような表示し、会費をだまし取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心理的な圧迫で代金をだまし取ろうと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テキスト ボックス 9"/>
          <p:cNvSpPr/>
          <p:nvPr/>
        </p:nvSpPr>
        <p:spPr>
          <a:xfrm>
            <a:off x="2500200" y="5214960"/>
            <a:ext cx="514368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怪しいサイト、メールは無視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本人の了承なしに会員登録することは違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不正請求には一切応じな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右矢印 10"/>
          <p:cNvSpPr/>
          <p:nvPr/>
        </p:nvSpPr>
        <p:spPr>
          <a:xfrm>
            <a:off x="1428840" y="5357880"/>
            <a:ext cx="928440" cy="714240"/>
          </a:xfrm>
          <a:prstGeom prst="rightArrow">
            <a:avLst>
              <a:gd name="adj1" fmla="val 50000"/>
              <a:gd name="adj2" fmla="val 49998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4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ワン切り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392A-DA3A-416C-8FEC-68EFD6A8CF6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テキスト ボックス 5"/>
          <p:cNvSpPr/>
          <p:nvPr/>
        </p:nvSpPr>
        <p:spPr>
          <a:xfrm>
            <a:off x="1285920" y="1714680"/>
            <a:ext cx="47862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一度だけコールし、すぐに電話を切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相手は番号を通知で電話をしてく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テキスト ボックス 6"/>
          <p:cNvSpPr/>
          <p:nvPr/>
        </p:nvSpPr>
        <p:spPr>
          <a:xfrm>
            <a:off x="3071880" y="2571840"/>
            <a:ext cx="31431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ワン切り」に掛け直しをする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テキスト ボックス 7"/>
          <p:cNvSpPr/>
          <p:nvPr/>
        </p:nvSpPr>
        <p:spPr>
          <a:xfrm>
            <a:off x="1285920" y="3143160"/>
            <a:ext cx="4929120" cy="642600"/>
          </a:xfrm>
          <a:prstGeom prst="rect">
            <a:avLst/>
          </a:prstGeom>
          <a:gradFill rotWithShape="0">
            <a:gsLst>
              <a:gs pos="0">
                <a:srgbClr val="dacdca"/>
              </a:gs>
              <a:gs pos="100000">
                <a:srgbClr val="dacdca"/>
              </a:gs>
            </a:gsLst>
            <a:lin ang="900000"/>
          </a:gradFill>
          <a:ln w="9360">
            <a:solidFill>
              <a:srgbClr val="8e736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自分の携帯番号が知ら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架空の有料サイト使用料を請求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テキスト ボックス 8"/>
          <p:cNvGrpSpPr/>
          <p:nvPr/>
        </p:nvGrpSpPr>
        <p:grpSpPr>
          <a:xfrm>
            <a:off x="1957320" y="3998880"/>
            <a:ext cx="6948720" cy="1487520"/>
            <a:chOff x="1957320" y="3998880"/>
            <a:chExt cx="6948720" cy="1487520"/>
          </a:xfrm>
        </p:grpSpPr>
        <p:pic>
          <p:nvPicPr>
            <p:cNvPr id="508" name="テキスト ボックス 8" descr=""/>
            <p:cNvPicPr/>
            <p:nvPr/>
          </p:nvPicPr>
          <p:blipFill>
            <a:blip r:embed="rId1"/>
            <a:stretch/>
          </p:blipFill>
          <p:spPr>
            <a:xfrm>
              <a:off x="1957320" y="3998880"/>
              <a:ext cx="69487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2071800" y="4071960"/>
              <a:ext cx="67150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ワン切りに対しては一切応答しな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不正請求はすべて無視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応じると住所等を聞き出されたりして、さらに被害が広が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相談窓口：国民生活センター（消費生活センター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テキスト ボックス 9"/>
          <p:cNvSpPr/>
          <p:nvPr/>
        </p:nvSpPr>
        <p:spPr>
          <a:xfrm>
            <a:off x="857160" y="1285920"/>
            <a:ext cx="1571760" cy="3988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ワン切りと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下矢印 10"/>
          <p:cNvSpPr/>
          <p:nvPr/>
        </p:nvSpPr>
        <p:spPr>
          <a:xfrm>
            <a:off x="1785960" y="2428920"/>
            <a:ext cx="1143000" cy="6429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右矢印 11"/>
          <p:cNvGrpSpPr/>
          <p:nvPr/>
        </p:nvGrpSpPr>
        <p:grpSpPr>
          <a:xfrm>
            <a:off x="639720" y="4114800"/>
            <a:ext cx="1354320" cy="1139760"/>
            <a:chOff x="639720" y="4114800"/>
            <a:chExt cx="1354320" cy="1139760"/>
          </a:xfrm>
        </p:grpSpPr>
        <p:pic>
          <p:nvPicPr>
            <p:cNvPr id="513" name="右矢印 11" descr=""/>
            <p:cNvPicPr/>
            <p:nvPr/>
          </p:nvPicPr>
          <p:blipFill>
            <a:blip r:embed="rId2"/>
            <a:stretch/>
          </p:blipFill>
          <p:spPr>
            <a:xfrm>
              <a:off x="639720" y="4114800"/>
              <a:ext cx="135432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714240" y="4394160"/>
              <a:ext cx="963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5" name="Picture 2" descr="8"/>
          <p:cNvPicPr/>
          <p:nvPr/>
        </p:nvPicPr>
        <p:blipFill>
          <a:blip r:embed="rId3"/>
          <a:srcRect l="0" t="10299" r="0" b="10299"/>
          <a:stretch/>
        </p:blipFill>
        <p:spPr>
          <a:xfrm>
            <a:off x="6572160" y="1714680"/>
            <a:ext cx="2158920" cy="197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５　ネット詐欺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Text Box 8"/>
          <p:cNvSpPr/>
          <p:nvPr/>
        </p:nvSpPr>
        <p:spPr>
          <a:xfrm>
            <a:off x="2714760" y="2857680"/>
            <a:ext cx="321444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代金の支払い（振り込み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0"/>
          <p:cNvSpPr/>
          <p:nvPr/>
        </p:nvSpPr>
        <p:spPr>
          <a:xfrm>
            <a:off x="2500200" y="36432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ff0000"/>
                </a:solidFill>
                <a:uFillTx/>
                <a:latin typeface="Arial"/>
              </a:rPr>
              <a:t>品物が送られてこな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3"/>
          <p:cNvSpPr/>
          <p:nvPr/>
        </p:nvSpPr>
        <p:spPr>
          <a:xfrm>
            <a:off x="1785960" y="4714920"/>
            <a:ext cx="6072120" cy="157176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店舗の実績を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掲載期間（十分に長期間か）、連絡先の明示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できるだけ先払いは避け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取り引きの証拠を残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画面やメールを印刷・保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フッター プレースホルダ 1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DC54-FAD1-4346-AE3B-6C08B67AAEF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テキスト ボックス 12"/>
          <p:cNvSpPr/>
          <p:nvPr/>
        </p:nvSpPr>
        <p:spPr>
          <a:xfrm>
            <a:off x="1285920" y="1571760"/>
            <a:ext cx="678636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商品の取り引きをネットワーク上で行う無店舗型の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販売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785960" y="2000160"/>
            <a:ext cx="710712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ユーザ個人が実際に商品を手に取り、確認することが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5"/>
          <p:cNvSpPr/>
          <p:nvPr/>
        </p:nvSpPr>
        <p:spPr>
          <a:xfrm>
            <a:off x="3643200" y="2500200"/>
            <a:ext cx="1000080" cy="2858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5"/>
          <p:cNvSpPr/>
          <p:nvPr/>
        </p:nvSpPr>
        <p:spPr>
          <a:xfrm>
            <a:off x="3571920" y="3286080"/>
            <a:ext cx="1143000" cy="3571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テキスト ボックス 16"/>
          <p:cNvGrpSpPr/>
          <p:nvPr/>
        </p:nvGrpSpPr>
        <p:grpSpPr>
          <a:xfrm>
            <a:off x="585720" y="4164120"/>
            <a:ext cx="3052800" cy="560160"/>
            <a:chOff x="585720" y="4164120"/>
            <a:chExt cx="3052800" cy="560160"/>
          </a:xfrm>
        </p:grpSpPr>
        <p:pic>
          <p:nvPicPr>
            <p:cNvPr id="527" name="テキスト ボックス 16" descr=""/>
            <p:cNvPicPr/>
            <p:nvPr/>
          </p:nvPicPr>
          <p:blipFill>
            <a:blip r:embed="rId1"/>
            <a:stretch/>
          </p:blipFill>
          <p:spPr>
            <a:xfrm>
              <a:off x="585720" y="4164120"/>
              <a:ext cx="30528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714240" y="4214880"/>
              <a:ext cx="285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取引に当たっての注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テキスト ボックス 17"/>
          <p:cNvSpPr/>
          <p:nvPr/>
        </p:nvSpPr>
        <p:spPr>
          <a:xfrm>
            <a:off x="428760" y="1143000"/>
            <a:ext cx="30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.4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ネットショッピン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5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ネットオークション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500040" y="1360800"/>
            <a:ext cx="4357800" cy="459720"/>
          </a:xfrm>
          <a:prstGeom prst="rect">
            <a:avLst/>
          </a:prstGeom>
          <a:solidFill>
            <a:srgbClr val="d2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中古品を出品　→　落札</a:t>
            </a: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2214720" y="2571840"/>
            <a:ext cx="655128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高額なもの（宝石・貴金属や自動車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2214720" y="3071880"/>
            <a:ext cx="655128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個人の趣味で収集した入手困難なも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1279440" y="1932120"/>
            <a:ext cx="2800440" cy="459720"/>
          </a:xfrm>
          <a:prstGeom prst="rect">
            <a:avLst/>
          </a:prstGeom>
          <a:solidFill>
            <a:srgbClr val="d2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最終的にユーザ同士の取り引き</a:t>
            </a: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2214720" y="4071960"/>
            <a:ext cx="655128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Gill Sans MT"/>
              </a:rPr>
              <a:t>盗品、毒薬、銃刀類　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犯罪に巻き込まれる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9"/>
          <p:cNvSpPr/>
          <p:nvPr/>
        </p:nvSpPr>
        <p:spPr>
          <a:xfrm>
            <a:off x="2071800" y="2643120"/>
            <a:ext cx="71280" cy="1714680"/>
          </a:xfrm>
          <a:custGeom>
            <a:avLst/>
            <a:gdLst>
              <a:gd name="textAreaLeft" fmla="*/ 20880 w 71280"/>
              <a:gd name="textAreaRight" fmla="*/ 71640 w 71280"/>
              <a:gd name="textAreaTop" fmla="*/ 82080 h 1714680"/>
              <a:gd name="textAreaBottom" fmla="*/ 1632600 h 171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36"/>
                  <a:pt x="0" y="2071"/>
                </a:cubicBezTo>
                <a:lnTo>
                  <a:pt x="0" y="19529"/>
                </a:lnTo>
                <a:cubicBezTo>
                  <a:pt x="0" y="20565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Rectangle 10"/>
          <p:cNvGrpSpPr/>
          <p:nvPr/>
        </p:nvGrpSpPr>
        <p:grpSpPr>
          <a:xfrm>
            <a:off x="1957320" y="4668840"/>
            <a:ext cx="6821640" cy="1639800"/>
            <a:chOff x="1957320" y="4668840"/>
            <a:chExt cx="6821640" cy="1639800"/>
          </a:xfrm>
        </p:grpSpPr>
        <p:pic>
          <p:nvPicPr>
            <p:cNvPr id="538" name="Rectangle 10" descr=""/>
            <p:cNvPicPr/>
            <p:nvPr/>
          </p:nvPicPr>
          <p:blipFill>
            <a:blip r:embed="rId1"/>
            <a:stretch/>
          </p:blipFill>
          <p:spPr>
            <a:xfrm>
              <a:off x="1957320" y="4668840"/>
              <a:ext cx="682164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071800" y="4714920"/>
              <a:ext cx="664344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取り引きすると犯罪になるものに注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詐欺に備え、取り引きの証拠を残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取り引きと関係ないメールには注意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犯罪者にメールアドレスやパスワードのヒントを与えな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Text Box 12"/>
          <p:cNvSpPr/>
          <p:nvPr/>
        </p:nvSpPr>
        <p:spPr>
          <a:xfrm>
            <a:off x="5500800" y="1428840"/>
            <a:ext cx="316692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中古品＝古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古物営業法（第５章）も参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4"/>
          <p:cNvSpPr/>
          <p:nvPr/>
        </p:nvSpPr>
        <p:spPr>
          <a:xfrm>
            <a:off x="785880" y="3286080"/>
            <a:ext cx="1224000" cy="45972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中古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6"/>
          <p:cNvSpPr/>
          <p:nvPr/>
        </p:nvSpPr>
        <p:spPr>
          <a:xfrm>
            <a:off x="2214720" y="3571920"/>
            <a:ext cx="655128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家電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VD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、本、ゲーム、衣類、食品、チケット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2FEC-0C65-402A-9A28-97E858AA341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右矢印 15"/>
          <p:cNvGrpSpPr/>
          <p:nvPr/>
        </p:nvGrpSpPr>
        <p:grpSpPr>
          <a:xfrm>
            <a:off x="853920" y="4968720"/>
            <a:ext cx="1140120" cy="1140120"/>
            <a:chOff x="853920" y="4968720"/>
            <a:chExt cx="1140120" cy="1140120"/>
          </a:xfrm>
        </p:grpSpPr>
        <p:pic>
          <p:nvPicPr>
            <p:cNvPr id="546" name="右矢印 15" descr=""/>
            <p:cNvPicPr/>
            <p:nvPr/>
          </p:nvPicPr>
          <p:blipFill>
            <a:blip r:embed="rId2"/>
            <a:stretch/>
          </p:blipFill>
          <p:spPr>
            <a:xfrm>
              <a:off x="853920" y="4968720"/>
              <a:ext cx="1140120" cy="11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928800" y="5251320"/>
              <a:ext cx="7491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１　不正アクセス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71720" y="3142800"/>
            <a:ext cx="7643520" cy="17859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本人に送信されたメールを盗み見る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盗用したユーザ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D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を利用して、サーバを破壊する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そのプロバイダが提供するさまざまなサービスを不正に利用する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本人になりすまして、詐欺をはたらく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サーバを踏み台にして、別のサーバを攻撃する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714240" y="1214280"/>
            <a:ext cx="2928960" cy="35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1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不正アクセスと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>
            <a:off x="571680" y="2714760"/>
            <a:ext cx="3457440" cy="428400"/>
          </a:xfrm>
          <a:prstGeom prst="roundRect">
            <a:avLst>
              <a:gd name="adj" fmla="val 16667"/>
            </a:avLst>
          </a:prstGeom>
          <a:solidFill>
            <a:srgbClr val="b88472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Gill Sans MT"/>
              </a:rPr>
              <a:t>不正アクセスによる被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Text Box 6"/>
          <p:cNvGrpSpPr/>
          <p:nvPr/>
        </p:nvGrpSpPr>
        <p:grpSpPr>
          <a:xfrm>
            <a:off x="480960" y="4913280"/>
            <a:ext cx="3249720" cy="646200"/>
            <a:chOff x="480960" y="4913280"/>
            <a:chExt cx="3249720" cy="646200"/>
          </a:xfrm>
        </p:grpSpPr>
        <p:pic>
          <p:nvPicPr>
            <p:cNvPr id="360" name="Text Box 6" descr=""/>
            <p:cNvPicPr/>
            <p:nvPr/>
          </p:nvPicPr>
          <p:blipFill>
            <a:blip r:embed="rId1"/>
            <a:stretch/>
          </p:blipFill>
          <p:spPr>
            <a:xfrm>
              <a:off x="480960" y="4913280"/>
              <a:ext cx="32497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642960" y="5000760"/>
              <a:ext cx="30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不正アクセス禁止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Text Box 7"/>
          <p:cNvGrpSpPr/>
          <p:nvPr/>
        </p:nvGrpSpPr>
        <p:grpSpPr>
          <a:xfrm>
            <a:off x="1225440" y="5430960"/>
            <a:ext cx="6315120" cy="561960"/>
            <a:chOff x="1225440" y="5430960"/>
            <a:chExt cx="6315120" cy="561960"/>
          </a:xfrm>
        </p:grpSpPr>
        <p:pic>
          <p:nvPicPr>
            <p:cNvPr id="363" name="Text Box 7" descr=""/>
            <p:cNvPicPr/>
            <p:nvPr/>
          </p:nvPicPr>
          <p:blipFill>
            <a:blip r:embed="rId2"/>
            <a:stretch/>
          </p:blipFill>
          <p:spPr>
            <a:xfrm>
              <a:off x="1225440" y="5430960"/>
              <a:ext cx="63151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1357200" y="5500800"/>
              <a:ext cx="612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他人のアカウントによるアクセスはすべて犯罪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Text Box 8"/>
          <p:cNvGrpSpPr/>
          <p:nvPr/>
        </p:nvGrpSpPr>
        <p:grpSpPr>
          <a:xfrm>
            <a:off x="1225440" y="5877000"/>
            <a:ext cx="6321600" cy="560160"/>
            <a:chOff x="1225440" y="5877000"/>
            <a:chExt cx="6321600" cy="560160"/>
          </a:xfrm>
        </p:grpSpPr>
        <p:pic>
          <p:nvPicPr>
            <p:cNvPr id="366" name="Text Box 8" descr=""/>
            <p:cNvPicPr/>
            <p:nvPr/>
          </p:nvPicPr>
          <p:blipFill>
            <a:blip r:embed="rId3"/>
            <a:stretch/>
          </p:blipFill>
          <p:spPr>
            <a:xfrm>
              <a:off x="1225440" y="5877000"/>
              <a:ext cx="63216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357200" y="5929200"/>
              <a:ext cx="612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いたずら目的でも処罰対象にな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AutoShape 10"/>
          <p:cNvSpPr/>
          <p:nvPr/>
        </p:nvSpPr>
        <p:spPr>
          <a:xfrm>
            <a:off x="1214280" y="5500800"/>
            <a:ext cx="71640" cy="863640"/>
          </a:xfrm>
          <a:custGeom>
            <a:avLst/>
            <a:gdLst>
              <a:gd name="textAreaLeft" fmla="*/ 20880 w 71640"/>
              <a:gd name="textAreaRight" fmla="*/ 72000 w 71640"/>
              <a:gd name="textAreaTop" fmla="*/ 38880 h 863640"/>
              <a:gd name="textAreaBottom" fmla="*/ 82476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75"/>
                  <a:pt x="0" y="1949"/>
                </a:cubicBezTo>
                <a:lnTo>
                  <a:pt x="0" y="19651"/>
                </a:lnTo>
                <a:cubicBezTo>
                  <a:pt x="0" y="20626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テキスト ボックス 9"/>
          <p:cNvSpPr/>
          <p:nvPr/>
        </p:nvSpPr>
        <p:spPr>
          <a:xfrm>
            <a:off x="1285920" y="2000160"/>
            <a:ext cx="68580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なりすまし：盗用などで知った他人のアカウントでアクセスする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助長行為：正規のユーザに無断で、アカウントを提供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フッター プレースホルダ 1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CE56-7DE2-4F66-982F-A56A06CA97A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テキスト ボックス 12"/>
          <p:cNvSpPr/>
          <p:nvPr/>
        </p:nvSpPr>
        <p:spPr>
          <a:xfrm>
            <a:off x="1285920" y="157176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本来アクセス権のないコンピュータへのアクセ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llegal Ac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1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アカウント盗用の防止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28440" y="1356840"/>
            <a:ext cx="7000920" cy="785880"/>
          </a:xfrm>
          <a:prstGeom prst="rect">
            <a:avLst/>
          </a:prstGeom>
          <a:solidFill>
            <a:srgbClr val="d2da7a"/>
          </a:solidFill>
          <a:ln w="19080">
            <a:solidFill>
              <a:srgbClr val="9aa05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アカウントはユーザー自身が厳重に管理を！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１人の不注意から他人（システム全体）も危険に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5715000" y="2357280"/>
            <a:ext cx="30970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各運用団体での禁止行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Text Box 5"/>
          <p:cNvGrpSpPr/>
          <p:nvPr/>
        </p:nvGrpSpPr>
        <p:grpSpPr>
          <a:xfrm>
            <a:off x="55440" y="2359080"/>
            <a:ext cx="4980240" cy="633240"/>
            <a:chOff x="55440" y="2359080"/>
            <a:chExt cx="4980240" cy="633240"/>
          </a:xfrm>
        </p:grpSpPr>
        <p:pic>
          <p:nvPicPr>
            <p:cNvPr id="377" name="Text Box 5" descr=""/>
            <p:cNvPicPr/>
            <p:nvPr/>
          </p:nvPicPr>
          <p:blipFill>
            <a:blip r:embed="rId1"/>
            <a:stretch/>
          </p:blipFill>
          <p:spPr>
            <a:xfrm>
              <a:off x="55440" y="2359080"/>
              <a:ext cx="498024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214200" y="2428920"/>
              <a:ext cx="475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ＭＳ Ｐゴシック"/>
                </a:rPr>
                <a:t>ID</a:t>
              </a: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・</a:t>
              </a: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パスワードなどを故意に漏ら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Text Box 6"/>
          <p:cNvGrpSpPr/>
          <p:nvPr/>
        </p:nvGrpSpPr>
        <p:grpSpPr>
          <a:xfrm>
            <a:off x="55440" y="2925720"/>
            <a:ext cx="4980240" cy="646200"/>
            <a:chOff x="55440" y="2925720"/>
            <a:chExt cx="4980240" cy="646200"/>
          </a:xfrm>
        </p:grpSpPr>
        <p:pic>
          <p:nvPicPr>
            <p:cNvPr id="380" name="Text Box 6" descr=""/>
            <p:cNvPicPr/>
            <p:nvPr/>
          </p:nvPicPr>
          <p:blipFill>
            <a:blip r:embed="rId2"/>
            <a:stretch/>
          </p:blipFill>
          <p:spPr>
            <a:xfrm>
              <a:off x="55440" y="2925720"/>
              <a:ext cx="49802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214200" y="3000240"/>
              <a:ext cx="475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アカウントを本人に無断で貸し出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AutoShape 7"/>
          <p:cNvSpPr/>
          <p:nvPr/>
        </p:nvSpPr>
        <p:spPr>
          <a:xfrm>
            <a:off x="5000760" y="2714760"/>
            <a:ext cx="574560" cy="431640"/>
          </a:xfrm>
          <a:custGeom>
            <a:avLst/>
            <a:gdLst>
              <a:gd name="textAreaLeft" fmla="*/ 0 w 574560"/>
              <a:gd name="textAreaRight" fmla="*/ 574920 w 5745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Text Box 8"/>
          <p:cNvGrpSpPr/>
          <p:nvPr/>
        </p:nvGrpSpPr>
        <p:grpSpPr>
          <a:xfrm>
            <a:off x="55440" y="3481560"/>
            <a:ext cx="5052960" cy="1004760"/>
            <a:chOff x="55440" y="3481560"/>
            <a:chExt cx="5052960" cy="1004760"/>
          </a:xfrm>
        </p:grpSpPr>
        <p:pic>
          <p:nvPicPr>
            <p:cNvPr id="384" name="Text Box 8" descr=""/>
            <p:cNvPicPr/>
            <p:nvPr/>
          </p:nvPicPr>
          <p:blipFill>
            <a:blip r:embed="rId3"/>
            <a:stretch/>
          </p:blipFill>
          <p:spPr>
            <a:xfrm>
              <a:off x="55440" y="3481560"/>
              <a:ext cx="50529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214200" y="3571920"/>
              <a:ext cx="47530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管理者を装いパスワードを聞き出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（ソーシャルエンジニアリング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AutoShape 9"/>
          <p:cNvSpPr/>
          <p:nvPr/>
        </p:nvSpPr>
        <p:spPr>
          <a:xfrm>
            <a:off x="5000760" y="3714840"/>
            <a:ext cx="574560" cy="431640"/>
          </a:xfrm>
          <a:custGeom>
            <a:avLst/>
            <a:gdLst>
              <a:gd name="textAreaLeft" fmla="*/ 0 w 574560"/>
              <a:gd name="textAreaRight" fmla="*/ 574920 w 5745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5715000" y="3571920"/>
            <a:ext cx="30970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一切応じず、プロバイダに届け出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Rectangle 13"/>
          <p:cNvGrpSpPr/>
          <p:nvPr/>
        </p:nvGrpSpPr>
        <p:grpSpPr>
          <a:xfrm>
            <a:off x="2560680" y="4784760"/>
            <a:ext cx="6364080" cy="1414440"/>
            <a:chOff x="2560680" y="4784760"/>
            <a:chExt cx="6364080" cy="1414440"/>
          </a:xfrm>
        </p:grpSpPr>
        <p:pic>
          <p:nvPicPr>
            <p:cNvPr id="389" name="Rectangle 13" descr=""/>
            <p:cNvPicPr/>
            <p:nvPr/>
          </p:nvPicPr>
          <p:blipFill>
            <a:blip r:embed="rId4"/>
            <a:stretch/>
          </p:blipFill>
          <p:spPr>
            <a:xfrm>
              <a:off x="2560680" y="4784760"/>
              <a:ext cx="63640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643120" y="4857840"/>
              <a:ext cx="6193080" cy="12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大文字と小文字に数字や記号を混ぜた長い文字列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単語、地名、人名などをそのまま単独で使わな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個人情報（誕生日など）と無関係なものに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AutoShape 14"/>
          <p:cNvSpPr/>
          <p:nvPr/>
        </p:nvSpPr>
        <p:spPr>
          <a:xfrm>
            <a:off x="428760" y="4857840"/>
            <a:ext cx="2160360" cy="12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推測されにく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パスワードを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フッター プレースホルダ 1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スライド番号プレースホルダ 1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D307-B18E-4189-B315-14189A65596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　個人情報の漏洩（ろうえい）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395" name="Rectangle 3"/>
          <p:cNvGrpSpPr/>
          <p:nvPr/>
        </p:nvGrpSpPr>
        <p:grpSpPr>
          <a:xfrm>
            <a:off x="2670120" y="4552920"/>
            <a:ext cx="3633840" cy="1182600"/>
            <a:chOff x="2670120" y="4552920"/>
            <a:chExt cx="3633840" cy="1182600"/>
          </a:xfrm>
        </p:grpSpPr>
        <p:pic>
          <p:nvPicPr>
            <p:cNvPr id="396" name="Rectangle 3" descr=""/>
            <p:cNvPicPr/>
            <p:nvPr/>
          </p:nvPicPr>
          <p:blipFill>
            <a:blip r:embed="rId1"/>
            <a:stretch/>
          </p:blipFill>
          <p:spPr>
            <a:xfrm>
              <a:off x="2670120" y="4552920"/>
              <a:ext cx="363384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2786040" y="4643280"/>
              <a:ext cx="345744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600" spc="-1" strike="noStrike">
                  <a:solidFill>
                    <a:srgbClr val="ffffff"/>
                  </a:solidFill>
                  <a:latin typeface="Gill Sans MT"/>
                </a:rPr>
                <a:t>不正な情報流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600" spc="-1" strike="noStrike">
                  <a:solidFill>
                    <a:srgbClr val="ffffff"/>
                  </a:solidFill>
                  <a:latin typeface="Gill Sans MT"/>
                </a:rPr>
                <a:t>不正な情報収集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Rectangle 4"/>
          <p:cNvGrpSpPr/>
          <p:nvPr/>
        </p:nvGrpSpPr>
        <p:grpSpPr>
          <a:xfrm>
            <a:off x="1133640" y="1530360"/>
            <a:ext cx="6887880" cy="1859040"/>
            <a:chOff x="1133640" y="1530360"/>
            <a:chExt cx="6887880" cy="1859040"/>
          </a:xfrm>
        </p:grpSpPr>
        <p:pic>
          <p:nvPicPr>
            <p:cNvPr id="399" name="Rectangle 4" descr=""/>
            <p:cNvPicPr/>
            <p:nvPr/>
          </p:nvPicPr>
          <p:blipFill>
            <a:blip r:embed="rId2"/>
            <a:stretch/>
          </p:blipFill>
          <p:spPr>
            <a:xfrm>
              <a:off x="1133640" y="1530360"/>
              <a:ext cx="688788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357200" y="1571760"/>
              <a:ext cx="6337440" cy="17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ffffff"/>
                  </a:solidFill>
                  <a:latin typeface="Gill Sans MT"/>
                </a:rPr>
                <a:t>ネット上で個人情報を入力する機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　・カード番号やパスワード    ： 電子商取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　・メールや住所等の連絡先  ： 懸賞、アンケー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AutoShape 5"/>
          <p:cNvSpPr/>
          <p:nvPr/>
        </p:nvSpPr>
        <p:spPr>
          <a:xfrm>
            <a:off x="3571920" y="3643200"/>
            <a:ext cx="1800360" cy="6476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フッター プレースホルダ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スライド番号プレースホルダ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FE3D-64D6-4C17-B0AC-3C77849B00A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2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不正な情報流出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000760" y="1714680"/>
            <a:ext cx="3528720" cy="107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プライバシーが侵害される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流出した情報を悪用される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社会的信用が失墜する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AutoShape 4"/>
          <p:cNvSpPr/>
          <p:nvPr/>
        </p:nvSpPr>
        <p:spPr>
          <a:xfrm>
            <a:off x="357120" y="1571760"/>
            <a:ext cx="4392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個人情報を収集した側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管理責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6"/>
          <p:cNvSpPr/>
          <p:nvPr/>
        </p:nvSpPr>
        <p:spPr>
          <a:xfrm>
            <a:off x="7143840" y="714240"/>
            <a:ext cx="1730160" cy="928800"/>
          </a:xfrm>
          <a:prstGeom prst="irregularSeal1">
            <a:avLst/>
          </a:prstGeom>
          <a:solidFill>
            <a:srgbClr val="8e736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Gill Sans MT"/>
              </a:rPr>
              <a:t>流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428760" y="3214800"/>
            <a:ext cx="4103640" cy="136836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（１）内部の人間が機密情報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不正に持ち出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4786200" y="3214800"/>
            <a:ext cx="4032360" cy="136836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（２）部外者に情報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盗難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Rectangle 9"/>
          <p:cNvGrpSpPr/>
          <p:nvPr/>
        </p:nvGrpSpPr>
        <p:grpSpPr>
          <a:xfrm>
            <a:off x="360360" y="5218200"/>
            <a:ext cx="4303800" cy="1170000"/>
            <a:chOff x="360360" y="5218200"/>
            <a:chExt cx="4303800" cy="1170000"/>
          </a:xfrm>
        </p:grpSpPr>
        <p:pic>
          <p:nvPicPr>
            <p:cNvPr id="411" name="Rectangle 9" descr=""/>
            <p:cNvPicPr/>
            <p:nvPr/>
          </p:nvPicPr>
          <p:blipFill>
            <a:blip r:embed="rId1"/>
            <a:stretch/>
          </p:blipFill>
          <p:spPr>
            <a:xfrm>
              <a:off x="360360" y="5218200"/>
              <a:ext cx="43038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428760" y="5286240"/>
              <a:ext cx="417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Gill Sans MT"/>
                </a:rPr>
                <a:t>機密情報に関し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Gill Sans MT"/>
                </a:rPr>
                <a:t>組織内のルール策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Rectangle 11"/>
          <p:cNvGrpSpPr/>
          <p:nvPr/>
        </p:nvGrpSpPr>
        <p:grpSpPr>
          <a:xfrm>
            <a:off x="4718160" y="5218200"/>
            <a:ext cx="4236840" cy="1170000"/>
            <a:chOff x="4718160" y="5218200"/>
            <a:chExt cx="4236840" cy="1170000"/>
          </a:xfrm>
        </p:grpSpPr>
        <p:pic>
          <p:nvPicPr>
            <p:cNvPr id="414" name="Rectangle 11" descr=""/>
            <p:cNvPicPr/>
            <p:nvPr/>
          </p:nvPicPr>
          <p:blipFill>
            <a:blip r:embed="rId2"/>
            <a:stretch/>
          </p:blipFill>
          <p:spPr>
            <a:xfrm>
              <a:off x="4718160" y="5218200"/>
              <a:ext cx="4236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4786200" y="5286240"/>
              <a:ext cx="4105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Gill Sans MT"/>
                </a:rPr>
                <a:t>パスワードやＰＣ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Gill Sans MT"/>
                </a:rPr>
                <a:t>盗難に注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AutoShape 12"/>
          <p:cNvSpPr/>
          <p:nvPr/>
        </p:nvSpPr>
        <p:spPr>
          <a:xfrm>
            <a:off x="1714680" y="4714920"/>
            <a:ext cx="1800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3"/>
          <p:cNvSpPr/>
          <p:nvPr/>
        </p:nvSpPr>
        <p:spPr>
          <a:xfrm>
            <a:off x="5929200" y="4714920"/>
            <a:ext cx="180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スライド番号プレースホルダ 1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952E-8AAD-42A9-B717-FF3FECE4C58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2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不正な情報収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AutoShape 4"/>
          <p:cNvSpPr/>
          <p:nvPr/>
        </p:nvSpPr>
        <p:spPr>
          <a:xfrm>
            <a:off x="428760" y="1285920"/>
            <a:ext cx="2420640" cy="571320"/>
          </a:xfrm>
          <a:prstGeom prst="parallelogram">
            <a:avLst>
              <a:gd name="adj" fmla="val 14672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Gill Sans MT"/>
              </a:rPr>
              <a:t>フィッシ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9" descr="MCj02872830000[1]"/>
          <p:cNvPicPr/>
          <p:nvPr/>
        </p:nvPicPr>
        <p:blipFill>
          <a:blip r:embed="rId1"/>
          <a:stretch/>
        </p:blipFill>
        <p:spPr>
          <a:xfrm>
            <a:off x="7236000" y="1484280"/>
            <a:ext cx="1296720" cy="1068480"/>
          </a:xfrm>
          <a:prstGeom prst="rect">
            <a:avLst/>
          </a:prstGeom>
          <a:ln w="0">
            <a:noFill/>
          </a:ln>
        </p:spPr>
      </p:pic>
      <p:sp>
        <p:nvSpPr>
          <p:cNvPr id="423" name="Line 11"/>
          <p:cNvSpPr/>
          <p:nvPr/>
        </p:nvSpPr>
        <p:spPr>
          <a:xfrm flipV="1">
            <a:off x="3500280" y="3286080"/>
            <a:ext cx="928800" cy="1000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1428840" y="3643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偽装メール（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5"/>
          <p:cNvSpPr/>
          <p:nvPr/>
        </p:nvSpPr>
        <p:spPr>
          <a:xfrm flipV="1">
            <a:off x="5867280" y="2276640"/>
            <a:ext cx="1297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6"/>
          <p:cNvSpPr/>
          <p:nvPr/>
        </p:nvSpPr>
        <p:spPr>
          <a:xfrm>
            <a:off x="5867280" y="2997360"/>
            <a:ext cx="108108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7"/>
          <p:cNvSpPr/>
          <p:nvPr/>
        </p:nvSpPr>
        <p:spPr>
          <a:xfrm>
            <a:off x="7488360" y="263700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本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9"/>
          <p:cNvSpPr/>
          <p:nvPr/>
        </p:nvSpPr>
        <p:spPr>
          <a:xfrm>
            <a:off x="6948360" y="350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偽装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0" descr="MCj02320470000[1]"/>
          <p:cNvPicPr/>
          <p:nvPr/>
        </p:nvPicPr>
        <p:blipFill>
          <a:blip r:embed="rId2"/>
          <a:stretch/>
        </p:blipFill>
        <p:spPr>
          <a:xfrm>
            <a:off x="4433760" y="2071800"/>
            <a:ext cx="1656000" cy="1282680"/>
          </a:xfrm>
          <a:prstGeom prst="rect">
            <a:avLst/>
          </a:prstGeom>
          <a:ln w="0">
            <a:noFill/>
          </a:ln>
        </p:spPr>
      </p:pic>
      <p:sp>
        <p:nvSpPr>
          <p:cNvPr id="430" name="Line 21"/>
          <p:cNvSpPr/>
          <p:nvPr/>
        </p:nvSpPr>
        <p:spPr>
          <a:xfrm flipH="1">
            <a:off x="6300360" y="2492280"/>
            <a:ext cx="360360" cy="432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22"/>
          <p:cNvSpPr/>
          <p:nvPr/>
        </p:nvSpPr>
        <p:spPr>
          <a:xfrm>
            <a:off x="6300720" y="2492280"/>
            <a:ext cx="358920" cy="3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3"/>
          <p:cNvSpPr/>
          <p:nvPr/>
        </p:nvSpPr>
        <p:spPr>
          <a:xfrm>
            <a:off x="4932360" y="335772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リ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Text Box 24"/>
          <p:cNvGrpSpPr/>
          <p:nvPr/>
        </p:nvGrpSpPr>
        <p:grpSpPr>
          <a:xfrm>
            <a:off x="3584520" y="4286160"/>
            <a:ext cx="3144960" cy="876240"/>
            <a:chOff x="3584520" y="4286160"/>
            <a:chExt cx="3144960" cy="876240"/>
          </a:xfrm>
        </p:grpSpPr>
        <p:pic>
          <p:nvPicPr>
            <p:cNvPr id="434" name="Text Box 24" descr=""/>
            <p:cNvPicPr/>
            <p:nvPr/>
          </p:nvPicPr>
          <p:blipFill>
            <a:blip r:embed="rId3"/>
            <a:stretch/>
          </p:blipFill>
          <p:spPr>
            <a:xfrm>
              <a:off x="3584520" y="4286160"/>
              <a:ext cx="314496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3714840" y="4357800"/>
              <a:ext cx="295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ffff"/>
                  </a:solidFill>
                  <a:latin typeface="Gill Sans MT"/>
                </a:rPr>
                <a:t>アンケートフォームなどで個人情報を釣り上げ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6" name="Picture 14" descr="MCBD06551_0000[1]"/>
          <p:cNvPicPr/>
          <p:nvPr/>
        </p:nvPicPr>
        <p:blipFill>
          <a:blip r:embed="rId4"/>
          <a:stretch/>
        </p:blipFill>
        <p:spPr>
          <a:xfrm>
            <a:off x="6732720" y="3933720"/>
            <a:ext cx="2089080" cy="170820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25"/>
          <p:cNvSpPr/>
          <p:nvPr/>
        </p:nvSpPr>
        <p:spPr>
          <a:xfrm>
            <a:off x="1643040" y="5715000"/>
            <a:ext cx="61200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本サイトと偽装サイトの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URL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をチェック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フッター プレースホルダ 1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スライド番号プレースホルダ 1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9698-D2AA-414E-8DD2-B292C8B59D9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6-2"/>
          <p:cNvPicPr/>
          <p:nvPr/>
        </p:nvPicPr>
        <p:blipFill>
          <a:blip r:embed="rId5"/>
          <a:stretch/>
        </p:blipFill>
        <p:spPr>
          <a:xfrm>
            <a:off x="428760" y="1949400"/>
            <a:ext cx="2286000" cy="14749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8" descr="MCj03429990000[1]"/>
          <p:cNvPicPr/>
          <p:nvPr/>
        </p:nvPicPr>
        <p:blipFill>
          <a:blip r:embed="rId6"/>
          <a:stretch/>
        </p:blipFill>
        <p:spPr>
          <a:xfrm>
            <a:off x="1785960" y="4143240"/>
            <a:ext cx="1800360" cy="1252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2.2.3</a:t>
            </a:r>
            <a:r>
              <a:rPr b="0" lang="ja-JP" sz="3600" spc="-1" strike="noStrike">
                <a:solidFill>
                  <a:srgbClr val="464653"/>
                </a:solidFill>
                <a:latin typeface="Bookman Old Style"/>
              </a:rPr>
              <a:t>　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クロスサイト・スクリプティング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43" name="Picture 5" descr="MCj02320470000[1]"/>
          <p:cNvPicPr/>
          <p:nvPr/>
        </p:nvPicPr>
        <p:blipFill>
          <a:blip r:embed="rId1"/>
          <a:stretch/>
        </p:blipFill>
        <p:spPr>
          <a:xfrm>
            <a:off x="1071720" y="1714680"/>
            <a:ext cx="1949400" cy="15094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MCBD06551_0000[1]"/>
          <p:cNvPicPr/>
          <p:nvPr/>
        </p:nvPicPr>
        <p:blipFill>
          <a:blip r:embed="rId2"/>
          <a:stretch/>
        </p:blipFill>
        <p:spPr>
          <a:xfrm>
            <a:off x="5940360" y="2205000"/>
            <a:ext cx="2089080" cy="17082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7" descr="MCj02872830000[1]"/>
          <p:cNvPicPr/>
          <p:nvPr/>
        </p:nvPicPr>
        <p:blipFill>
          <a:blip r:embed="rId3"/>
          <a:stretch/>
        </p:blipFill>
        <p:spPr>
          <a:xfrm>
            <a:off x="3995640" y="3141720"/>
            <a:ext cx="1297080" cy="1068480"/>
          </a:xfrm>
          <a:prstGeom prst="rect">
            <a:avLst/>
          </a:prstGeom>
          <a:ln w="0">
            <a:noFill/>
          </a:ln>
        </p:spPr>
      </p:pic>
      <p:sp>
        <p:nvSpPr>
          <p:cNvPr id="446" name="Line 8"/>
          <p:cNvSpPr/>
          <p:nvPr/>
        </p:nvSpPr>
        <p:spPr>
          <a:xfrm>
            <a:off x="2987640" y="2997360"/>
            <a:ext cx="1008000" cy="431640"/>
          </a:xfrm>
          <a:prstGeom prst="line">
            <a:avLst/>
          </a:prstGeom>
          <a:ln w="57240">
            <a:solidFill>
              <a:srgbClr val="4646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0"/>
          <p:cNvSpPr/>
          <p:nvPr/>
        </p:nvSpPr>
        <p:spPr>
          <a:xfrm flipV="1">
            <a:off x="4859280" y="3141720"/>
            <a:ext cx="100800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1"/>
          <p:cNvSpPr/>
          <p:nvPr/>
        </p:nvSpPr>
        <p:spPr>
          <a:xfrm flipV="1">
            <a:off x="2843280" y="3860280"/>
            <a:ext cx="115236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2928960" y="4572000"/>
            <a:ext cx="2665440" cy="3988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Gill Sans MT"/>
              </a:rPr>
              <a:t>ページ内容の書き換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Text Box 13"/>
          <p:cNvGrpSpPr/>
          <p:nvPr/>
        </p:nvGrpSpPr>
        <p:grpSpPr>
          <a:xfrm>
            <a:off x="4986360" y="3790800"/>
            <a:ext cx="2603520" cy="648000"/>
            <a:chOff x="4986360" y="3790800"/>
            <a:chExt cx="2603520" cy="648000"/>
          </a:xfrm>
        </p:grpSpPr>
        <p:pic>
          <p:nvPicPr>
            <p:cNvPr id="451" name="Text Box 13" descr=""/>
            <p:cNvPicPr/>
            <p:nvPr/>
          </p:nvPicPr>
          <p:blipFill>
            <a:blip r:embed="rId4"/>
            <a:stretch/>
          </p:blipFill>
          <p:spPr>
            <a:xfrm>
              <a:off x="4986360" y="3790800"/>
              <a:ext cx="260352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5148360" y="3860640"/>
              <a:ext cx="237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別サイトへ誘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Text Box 14"/>
          <p:cNvSpPr/>
          <p:nvPr/>
        </p:nvSpPr>
        <p:spPr>
          <a:xfrm>
            <a:off x="3132000" y="2421000"/>
            <a:ext cx="1366920" cy="459720"/>
          </a:xfrm>
          <a:prstGeom prst="rect">
            <a:avLst/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5"/>
          <p:cNvSpPr/>
          <p:nvPr/>
        </p:nvSpPr>
        <p:spPr>
          <a:xfrm>
            <a:off x="1500120" y="5214960"/>
            <a:ext cx="612000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ブラウザでスクリプトの実行を許可すると危険がともな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oki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の情報を持ち出されないように削除してお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4" descr="MCj03429990000[1]"/>
          <p:cNvPicPr/>
          <p:nvPr/>
        </p:nvPicPr>
        <p:blipFill>
          <a:blip r:embed="rId5"/>
          <a:stretch/>
        </p:blipFill>
        <p:spPr>
          <a:xfrm>
            <a:off x="1071720" y="3643200"/>
            <a:ext cx="1800000" cy="1252800"/>
          </a:xfrm>
          <a:prstGeom prst="rect">
            <a:avLst/>
          </a:prstGeom>
          <a:ln w="0">
            <a:noFill/>
          </a:ln>
        </p:spPr>
      </p:pic>
      <p:sp>
        <p:nvSpPr>
          <p:cNvPr id="457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A942-2285-4A10-BBE9-E7D4A05B651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AutoShape 15"/>
          <p:cNvSpPr/>
          <p:nvPr/>
        </p:nvSpPr>
        <p:spPr>
          <a:xfrm>
            <a:off x="1785960" y="3571920"/>
            <a:ext cx="5904000" cy="129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e7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３　出会い系サイト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928800" y="1428840"/>
            <a:ext cx="271440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新しい友人を作るための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928800" y="2571840"/>
            <a:ext cx="2665440" cy="82548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金銭目的の少女と大人が児童買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7"/>
          <p:cNvSpPr/>
          <p:nvPr/>
        </p:nvSpPr>
        <p:spPr>
          <a:xfrm>
            <a:off x="4857840" y="1428840"/>
            <a:ext cx="338436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アクセスのほぼ１００％が携帯電話か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4857840" y="2571840"/>
            <a:ext cx="3384360" cy="45972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携帯電話の番号通知で本人を認証させ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2214720" y="37148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男性の被害：金品を強奪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0"/>
          <p:cNvSpPr/>
          <p:nvPr/>
        </p:nvSpPr>
        <p:spPr>
          <a:xfrm>
            <a:off x="1928880" y="42861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女性の被害：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18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歳未満の少女が児童買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1"/>
          <p:cNvSpPr/>
          <p:nvPr/>
        </p:nvSpPr>
        <p:spPr>
          <a:xfrm>
            <a:off x="2214720" y="228600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2"/>
          <p:cNvSpPr/>
          <p:nvPr/>
        </p:nvSpPr>
        <p:spPr>
          <a:xfrm>
            <a:off x="6429240" y="228600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3"/>
          <p:cNvSpPr/>
          <p:nvPr/>
        </p:nvSpPr>
        <p:spPr>
          <a:xfrm>
            <a:off x="357120" y="5072040"/>
            <a:ext cx="3960720" cy="1008000"/>
          </a:xfrm>
          <a:prstGeom prst="rect">
            <a:avLst/>
          </a:prstGeom>
          <a:solidFill>
            <a:srgbClr val="fada7a"/>
          </a:solidFill>
          <a:ln w="19080">
            <a:solidFill>
              <a:srgbClr val="b8a0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知り合って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軽い気持ちで会わない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4"/>
          <p:cNvSpPr/>
          <p:nvPr/>
        </p:nvSpPr>
        <p:spPr>
          <a:xfrm>
            <a:off x="4714920" y="5072040"/>
            <a:ext cx="3887640" cy="1008000"/>
          </a:xfrm>
          <a:prstGeom prst="rect">
            <a:avLst/>
          </a:prstGeom>
          <a:solidFill>
            <a:srgbClr val="fada7a"/>
          </a:solidFill>
          <a:ln w="19080">
            <a:solidFill>
              <a:srgbClr val="b8a0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犯罪の温床とならないよ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慎重かつ分別ある行動を！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83A4-60FD-4883-8B2A-AD4B4EF3E19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3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出会い系サイトに関係した事件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57120" y="1285920"/>
          <a:ext cx="8429760" cy="2293920"/>
        </p:xfrm>
        <a:graphic>
          <a:graphicData uri="http://schemas.openxmlformats.org/drawingml/2006/table">
            <a:tbl>
              <a:tblPr/>
              <a:tblGrid>
                <a:gridCol w="3470400"/>
                <a:gridCol w="995400"/>
                <a:gridCol w="992160"/>
                <a:gridCol w="992160"/>
                <a:gridCol w="992160"/>
                <a:gridCol w="987480"/>
              </a:tblGrid>
              <a:tr h="28548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検挙内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4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5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6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7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8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児童買春・児童ポルノ規制法違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8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6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青少年保護育成条例違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4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5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4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児童福祉法違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出会い系サイト規制法違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4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重要犯罪（殺人・強盗・放火・他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粗暴犯（暴行・傷害・脅迫・他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その他（窃盗・詐欺・その他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合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5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9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7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7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" name="テキスト ボックス 4"/>
          <p:cNvSpPr/>
          <p:nvPr/>
        </p:nvSpPr>
        <p:spPr>
          <a:xfrm>
            <a:off x="500040" y="4071960"/>
            <a:ext cx="8143920" cy="180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児童買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出会い系サイトを連絡掲示板として使った違法行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児童の側が金銭目当てに買春を誘う不正誘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児童ポル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児童を携帯電話で撮影し、わいせつ画像をインターネット上に掲載、販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写真をばらまくと脅迫され、お金を恐喝されるケース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爆発 2 5"/>
          <p:cNvSpPr/>
          <p:nvPr/>
        </p:nvSpPr>
        <p:spPr>
          <a:xfrm>
            <a:off x="6357960" y="3643200"/>
            <a:ext cx="2500200" cy="1428840"/>
          </a:xfrm>
          <a:prstGeom prst="irregularSeal2">
            <a:avLst/>
          </a:prstGeom>
          <a:solidFill>
            <a:srgbClr val="b88472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最も顕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スライド番号プレースホルダ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C22B-D943-4463-834D-B1A25A27A72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0T04:13:02Z</dcterms:created>
  <dc:creator>T.Yamazumi</dc:creator>
  <dc:description/>
  <dc:language>en-US</dc:language>
  <cp:lastModifiedBy>T.Yamazumi</cp:lastModifiedBy>
  <dcterms:modified xsi:type="dcterms:W3CDTF">2009-11-02T05:03:30Z</dcterms:modified>
  <cp:revision>111</cp:revision>
  <dc:subject/>
  <dc:title>ネットワーク社会の情報倫理</dc:title>
</cp:coreProperties>
</file>