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385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6744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781440" y="0"/>
            <a:ext cx="2892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861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9407520"/>
            <a:ext cx="2892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CE87-8EDB-4D9D-9366-ADF8F28A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BBC1-19E5-4E49-8539-535596DB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D289-6191-488F-9C6F-B2D8AE66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7E8-9E20-4CEB-A546-C496E384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F96-A1FC-46ED-B61E-E8C24E9F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F22-9667-4B52-BAE2-8592BD2D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CAB3-D644-48E5-9F2D-A6CAE897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88B-8FFF-495E-8C89-85B6B7900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6220-02FE-4448-87DD-0485DCF15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303D-6F64-4340-A9F6-AAAAEE167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EA5-47B9-442F-8BCE-AB9F466E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D5F0-0E15-408E-B0D6-5007D8496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7800" y="4704840"/>
            <a:ext cx="5340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スライド番号プレースホルダ 3"/>
          <p:cNvSpPr/>
          <p:nvPr/>
        </p:nvSpPr>
        <p:spPr>
          <a:xfrm>
            <a:off x="3781440" y="9407520"/>
            <a:ext cx="289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1BFC-C0A6-4A2F-8771-31258877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47A-D11A-4603-AD5F-17E5528E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0E3-49AE-49AA-B259-90439D2A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5E2-501B-4AF9-9BE4-5E08287C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EC4-F7AF-4931-930E-5C5A60DD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0437-A6FE-4774-8D7D-AF79307C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288B-4534-4AC7-8A60-176D082F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16D8-2F43-4DAA-B3A2-3DDD71BD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6EDD-E53E-4F29-952F-94A4DDA1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052-332C-45AA-9C36-91D6891D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9C37-91CB-4C3B-8094-C3B37464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A8A-EDC2-4F4E-8AF2-8807946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C9F-BD1F-4490-B032-EBEDA4E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2BB-58E2-4706-90CB-910BA75C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91C3-9F8F-49F5-9613-40009E3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A708-DDCE-4F07-AD2E-9F52848A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D71-3FC2-4842-B433-3DBC8E97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23BD-0AE5-499B-969B-BB1D8B08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9D4-1302-48D0-96B1-7E4A6846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595-C96A-4325-86B2-145BB06C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261-47FA-49A8-84D6-8063F84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F76-07AB-42BC-969E-1D2961E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CBE-8661-4FC7-80F3-362B545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3F6-852E-4714-B634-1464720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E8E-C9E2-41C6-8D6C-0B46A60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994-9284-4A42-B1B6-3FCBDBB8BAA8}" type="datetime">
              <a:rPr b="0" lang="ja-JP" sz="1400" spc="-1" strike="noStrike">
                <a:solidFill>
                  <a:srgbClr val="000000"/>
                </a:solidFill>
                <a:latin typeface="Tahoma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22E-40C9-4AF7-8AEA-6F363D827A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図 13" descr="書名.wmf"/>
          <p:cNvPicPr/>
          <p:nvPr/>
        </p:nvPicPr>
        <p:blipFill>
          <a:blip r:embed="rId2"/>
          <a:stretch/>
        </p:blipFill>
        <p:spPr>
          <a:xfrm>
            <a:off x="6086520" y="214200"/>
            <a:ext cx="2843280" cy="54000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14"/>
          <p:cNvGrpSpPr/>
          <p:nvPr/>
        </p:nvGrpSpPr>
        <p:grpSpPr>
          <a:xfrm>
            <a:off x="3714840" y="6429240"/>
            <a:ext cx="2786040" cy="276480"/>
            <a:chOff x="3714840" y="6429240"/>
            <a:chExt cx="2786040" cy="276480"/>
          </a:xfrm>
        </p:grpSpPr>
        <p:pic>
          <p:nvPicPr>
            <p:cNvPr id="14" name="図 15" descr="社名.wmf"/>
            <p:cNvPicPr/>
            <p:nvPr/>
          </p:nvPicPr>
          <p:blipFill>
            <a:blip r:embed="rId3"/>
            <a:stretch/>
          </p:blipFill>
          <p:spPr>
            <a:xfrm>
              <a:off x="3714840" y="6500880"/>
              <a:ext cx="825480" cy="1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テキスト ボックス 16"/>
            <p:cNvSpPr/>
            <p:nvPr/>
          </p:nvSpPr>
          <p:spPr>
            <a:xfrm>
              <a:off x="4572000" y="64292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©2008 Ikuo Taha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3896-D00D-43AB-A0A2-5AD1FCA9FC70}" type="datetime">
              <a:rPr b="0" lang="ja-JP" sz="1400" spc="-1" strike="noStrike">
                <a:solidFill>
                  <a:srgbClr val="969696"/>
                </a:solidFill>
                <a:latin typeface="Tahoma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AE25-3B6A-4125-AD85-CCCF156FB717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7946-A5C3-4476-B768-3EDB30EBA9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（１）序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人工知能と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歴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方法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人工知能の基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問題解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探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推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知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BCD-D7EA-4B46-A160-07C9F5026E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6443640" y="5084640"/>
            <a:ext cx="2449440" cy="1368720"/>
          </a:xfrm>
          <a:prstGeom prst="rect">
            <a:avLst/>
          </a:prstGeom>
          <a:solidFill>
            <a:srgbClr val="f6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証明による解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推論（演繹推論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1692360" y="2708280"/>
            <a:ext cx="2663640" cy="1297080"/>
          </a:xfrm>
          <a:prstGeom prst="foldedCorner">
            <a:avLst>
              <a:gd name="adj" fmla="val 23879"/>
            </a:avLst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763640" y="2852640"/>
            <a:ext cx="259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初期状態の論理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オペレータの論理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4572000" y="3213000"/>
            <a:ext cx="1512720" cy="289080"/>
          </a:xfrm>
          <a:prstGeom prst="pie">
            <a:avLst/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227640" y="3141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標状態の論理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5003640" y="3573360"/>
            <a:ext cx="57636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4643280" y="4076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推論規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Object 10"/>
          <p:cNvGraphicFramePr/>
          <p:nvPr/>
        </p:nvGraphicFramePr>
        <p:xfrm>
          <a:off x="1763640" y="5589720"/>
          <a:ext cx="143532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589720"/>
                    <a:ext cx="1435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1"/>
          <p:cNvGraphicFramePr/>
          <p:nvPr/>
        </p:nvGraphicFramePr>
        <p:xfrm>
          <a:off x="3851280" y="5589720"/>
          <a:ext cx="208296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5589720"/>
                    <a:ext cx="20829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2"/>
          <p:cNvGraphicFramePr/>
          <p:nvPr/>
        </p:nvGraphicFramePr>
        <p:xfrm>
          <a:off x="6659640" y="5589720"/>
          <a:ext cx="2019240" cy="72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5589720"/>
                    <a:ext cx="20192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13"/>
          <p:cNvSpPr/>
          <p:nvPr/>
        </p:nvSpPr>
        <p:spPr>
          <a:xfrm>
            <a:off x="1908000" y="508464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肯定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4284720" y="5084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三段論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7308720" y="508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導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DE81-BB7A-4852-80A7-D3D69DAB0B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導出反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6802560" y="2205000"/>
          <a:ext cx="128268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2560" y="2205000"/>
                    <a:ext cx="1282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5"/>
          <p:cNvGraphicFramePr/>
          <p:nvPr/>
        </p:nvGraphicFramePr>
        <p:xfrm>
          <a:off x="1187280" y="2708280"/>
          <a:ext cx="52707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708280"/>
                    <a:ext cx="5270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1547640" y="3068640"/>
          <a:ext cx="407700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3068640"/>
                    <a:ext cx="4077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7"/>
          <p:cNvGraphicFramePr/>
          <p:nvPr/>
        </p:nvGraphicFramePr>
        <p:xfrm>
          <a:off x="6516720" y="3429000"/>
          <a:ext cx="166356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3429000"/>
                    <a:ext cx="1663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8"/>
          <p:cNvGraphicFramePr/>
          <p:nvPr/>
        </p:nvGraphicFramePr>
        <p:xfrm>
          <a:off x="1258920" y="3933720"/>
          <a:ext cx="515628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3933720"/>
                    <a:ext cx="51562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9"/>
          <p:cNvGraphicFramePr/>
          <p:nvPr/>
        </p:nvGraphicFramePr>
        <p:xfrm>
          <a:off x="1711440" y="4292640"/>
          <a:ext cx="32893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11440" y="4292640"/>
                    <a:ext cx="3289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10"/>
          <p:cNvGraphicFramePr/>
          <p:nvPr/>
        </p:nvGraphicFramePr>
        <p:xfrm>
          <a:off x="6516720" y="4724280"/>
          <a:ext cx="160020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4724280"/>
                    <a:ext cx="16002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1"/>
          <p:cNvGraphicFramePr/>
          <p:nvPr/>
        </p:nvGraphicFramePr>
        <p:xfrm>
          <a:off x="4859280" y="5157720"/>
          <a:ext cx="147312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9280" y="5157720"/>
                    <a:ext cx="1473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2"/>
          <p:cNvGraphicFramePr/>
          <p:nvPr/>
        </p:nvGraphicFramePr>
        <p:xfrm>
          <a:off x="5076720" y="5516640"/>
          <a:ext cx="7876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6720" y="5516640"/>
                    <a:ext cx="7876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3"/>
          <p:cNvGraphicFramePr/>
          <p:nvPr/>
        </p:nvGraphicFramePr>
        <p:xfrm>
          <a:off x="7380360" y="5805360"/>
          <a:ext cx="177840" cy="17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80360" y="5805360"/>
                    <a:ext cx="1778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Line 14"/>
          <p:cNvSpPr/>
          <p:nvPr/>
        </p:nvSpPr>
        <p:spPr>
          <a:xfrm>
            <a:off x="7451640" y="256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6012000" y="3068640"/>
            <a:ext cx="143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745164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6012000" y="4365720"/>
            <a:ext cx="1439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745164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9"/>
          <p:cNvSpPr/>
          <p:nvPr/>
        </p:nvSpPr>
        <p:spPr>
          <a:xfrm>
            <a:off x="6012000" y="5516640"/>
            <a:ext cx="1439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4" name="Object 21"/>
          <p:cNvGraphicFramePr/>
          <p:nvPr/>
        </p:nvGraphicFramePr>
        <p:xfrm>
          <a:off x="1692360" y="6165720"/>
          <a:ext cx="5172120" cy="374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5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92360" y="6165720"/>
                    <a:ext cx="51721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AC3-CE47-4D04-A14C-455F9CE4E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プログラム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1692360" y="2708280"/>
            <a:ext cx="2879640" cy="1512720"/>
          </a:xfrm>
          <a:prstGeom prst="foldedCorner">
            <a:avLst>
              <a:gd name="adj" fmla="val 12500"/>
            </a:avLst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0" name="Object 4"/>
          <p:cNvGraphicFramePr/>
          <p:nvPr/>
        </p:nvGraphicFramePr>
        <p:xfrm>
          <a:off x="1835280" y="3284640"/>
          <a:ext cx="242568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84640"/>
                    <a:ext cx="2425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8"/>
          <p:cNvGraphicFramePr/>
          <p:nvPr/>
        </p:nvGraphicFramePr>
        <p:xfrm>
          <a:off x="1835280" y="3789360"/>
          <a:ext cx="69840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89360"/>
                    <a:ext cx="6984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AutoShape 9"/>
          <p:cNvSpPr/>
          <p:nvPr/>
        </p:nvSpPr>
        <p:spPr>
          <a:xfrm>
            <a:off x="4932360" y="4508640"/>
            <a:ext cx="2952720" cy="1798560"/>
          </a:xfrm>
          <a:prstGeom prst="leftArrow">
            <a:avLst>
              <a:gd name="adj1" fmla="val 49870"/>
              <a:gd name="adj2" fmla="val 39165"/>
            </a:avLst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1403280" y="4941720"/>
            <a:ext cx="3456000" cy="93672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547640" y="51577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タプリタ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導出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2987640" y="436572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1763640" y="27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508720" y="4941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質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0" name="Object 17"/>
          <p:cNvGraphicFramePr/>
          <p:nvPr/>
        </p:nvGraphicFramePr>
        <p:xfrm>
          <a:off x="5435640" y="5373720"/>
          <a:ext cx="22478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5373720"/>
                    <a:ext cx="2247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D95-92FF-4A76-8D2C-EEAD12081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エキスパート・システム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例：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CI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診断）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PECTOR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探鉱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DR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化合物構造解析）な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1619280" y="2060640"/>
            <a:ext cx="2232000" cy="1582560"/>
          </a:xfrm>
          <a:prstGeom prst="flowChartMagneticDisk">
            <a:avLst/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2050920" y="2060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作業記憶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2124000" y="2781360"/>
            <a:ext cx="1224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事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中間結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5292720" y="2060640"/>
            <a:ext cx="2232000" cy="1582560"/>
          </a:xfrm>
          <a:prstGeom prst="flowChartMagneticDisk">
            <a:avLst/>
          </a:prstGeom>
          <a:solidFill>
            <a:srgbClr val="ccfe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724360" y="206064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知識ベー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5940360" y="27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3419640" y="3141720"/>
            <a:ext cx="2304720" cy="1008000"/>
          </a:xfrm>
          <a:prstGeom prst="rect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564000" y="3213000"/>
            <a:ext cx="208908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推論機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（推論エンジン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4211640" y="4292640"/>
            <a:ext cx="720720" cy="287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3132000" y="4653000"/>
            <a:ext cx="2880000" cy="576360"/>
          </a:xfrm>
          <a:prstGeom prst="rect">
            <a:avLst/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419640" y="4724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ユーザインタフェイ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021-7585-4425-9C78-601CE8E02C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1690560" y="2924280"/>
            <a:ext cx="4103640" cy="26654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不完全な知識の取扱い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非単調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極小限定，デフォルト推論　（常識の取扱い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908000" y="3068640"/>
            <a:ext cx="3600720" cy="187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1" name="Object 5"/>
          <p:cNvGraphicFramePr/>
          <p:nvPr/>
        </p:nvGraphicFramePr>
        <p:xfrm>
          <a:off x="2124000" y="3355920"/>
          <a:ext cx="31514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355920"/>
                    <a:ext cx="31514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6"/>
          <p:cNvGraphicFramePr/>
          <p:nvPr/>
        </p:nvGraphicFramePr>
        <p:xfrm>
          <a:off x="2195640" y="4363920"/>
          <a:ext cx="145404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363920"/>
                    <a:ext cx="14540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7"/>
          <p:cNvGraphicFramePr/>
          <p:nvPr/>
        </p:nvGraphicFramePr>
        <p:xfrm>
          <a:off x="2124000" y="3860640"/>
          <a:ext cx="272736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3860640"/>
                    <a:ext cx="2727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AutoShape 8"/>
          <p:cNvSpPr/>
          <p:nvPr/>
        </p:nvSpPr>
        <p:spPr>
          <a:xfrm>
            <a:off x="3924360" y="2276640"/>
            <a:ext cx="2087640" cy="502920"/>
          </a:xfrm>
          <a:prstGeom prst="wedgeRectCallout">
            <a:avLst>
              <a:gd name="adj1" fmla="val -48708"/>
              <a:gd name="adj2" fmla="val 161041"/>
            </a:avLst>
          </a:prstGeom>
          <a:solidFill>
            <a:srgbClr val="f6f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997440" y="23479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</a:rPr>
              <a:t>は矛盾しな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9" name="Object 11"/>
          <p:cNvGraphicFramePr/>
          <p:nvPr/>
        </p:nvGraphicFramePr>
        <p:xfrm>
          <a:off x="2124000" y="5084640"/>
          <a:ext cx="1838520" cy="3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5084640"/>
                    <a:ext cx="18385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AutoShape 12"/>
          <p:cNvSpPr/>
          <p:nvPr/>
        </p:nvSpPr>
        <p:spPr>
          <a:xfrm>
            <a:off x="5075280" y="3716280"/>
            <a:ext cx="1368360" cy="432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2" name="Object 13"/>
          <p:cNvGraphicFramePr/>
          <p:nvPr/>
        </p:nvGraphicFramePr>
        <p:xfrm>
          <a:off x="6515280" y="3789360"/>
          <a:ext cx="1312560" cy="3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5280" y="3789360"/>
                    <a:ext cx="13125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AutoShape 14"/>
          <p:cNvSpPr/>
          <p:nvPr/>
        </p:nvSpPr>
        <p:spPr>
          <a:xfrm>
            <a:off x="5867280" y="4724280"/>
            <a:ext cx="1081080" cy="50508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Object 15"/>
          <p:cNvGraphicFramePr/>
          <p:nvPr/>
        </p:nvGraphicFramePr>
        <p:xfrm>
          <a:off x="7091280" y="4797360"/>
          <a:ext cx="131292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91280" y="4797360"/>
                    <a:ext cx="1312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7" name="Group 18"/>
          <p:cNvGrpSpPr/>
          <p:nvPr/>
        </p:nvGrpSpPr>
        <p:grpSpPr>
          <a:xfrm>
            <a:off x="7019640" y="4724280"/>
            <a:ext cx="1440000" cy="503280"/>
            <a:chOff x="7019640" y="4724280"/>
            <a:chExt cx="1440000" cy="503280"/>
          </a:xfrm>
        </p:grpSpPr>
        <p:sp>
          <p:nvSpPr>
            <p:cNvPr id="358" name="Line 16"/>
            <p:cNvSpPr/>
            <p:nvPr/>
          </p:nvSpPr>
          <p:spPr>
            <a:xfrm>
              <a:off x="7020000" y="4724280"/>
              <a:ext cx="143964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17"/>
            <p:cNvSpPr/>
            <p:nvPr/>
          </p:nvSpPr>
          <p:spPr>
            <a:xfrm flipH="1">
              <a:off x="7019640" y="4724280"/>
              <a:ext cx="143964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B79F-C109-44FB-A2EB-E96239BCA4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Oval 24"/>
          <p:cNvSpPr/>
          <p:nvPr/>
        </p:nvSpPr>
        <p:spPr>
          <a:xfrm>
            <a:off x="5364000" y="3357720"/>
            <a:ext cx="1513080" cy="576000"/>
          </a:xfrm>
          <a:prstGeom prst="ellipse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矛盾した知識の取扱い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仮説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ブダクション，議論，準無矛盾推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1547640" y="2852640"/>
            <a:ext cx="2808360" cy="266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835280" y="4149720"/>
            <a:ext cx="2230200" cy="1008000"/>
          </a:xfrm>
          <a:prstGeom prst="rect">
            <a:avLst/>
          </a:prstGeom>
          <a:solidFill>
            <a:srgbClr val="f4f9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35280" y="43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事実・ルール集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Group 7"/>
          <p:cNvGrpSpPr/>
          <p:nvPr/>
        </p:nvGrpSpPr>
        <p:grpSpPr>
          <a:xfrm>
            <a:off x="1836720" y="2997360"/>
            <a:ext cx="1871640" cy="1008000"/>
            <a:chOff x="1836720" y="2997360"/>
            <a:chExt cx="1871640" cy="1008000"/>
          </a:xfrm>
        </p:grpSpPr>
        <p:sp>
          <p:nvSpPr>
            <p:cNvPr id="368" name="AutoShape 8"/>
            <p:cNvSpPr/>
            <p:nvPr/>
          </p:nvSpPr>
          <p:spPr>
            <a:xfrm>
              <a:off x="1836720" y="2997360"/>
              <a:ext cx="1871640" cy="1008000"/>
            </a:xfrm>
            <a:prstGeom prst="roundRect">
              <a:avLst>
                <a:gd name="adj" fmla="val 16667"/>
              </a:avLst>
            </a:prstGeom>
            <a:solidFill>
              <a:srgbClr val="dafb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1898280" y="3059640"/>
              <a:ext cx="1370520" cy="398880"/>
            </a:xfrm>
            <a:prstGeom prst="rect">
              <a:avLst/>
            </a:prstGeom>
            <a:solidFill>
              <a:srgbClr val="da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仮説集合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AutoShape 11"/>
          <p:cNvSpPr/>
          <p:nvPr/>
        </p:nvSpPr>
        <p:spPr>
          <a:xfrm>
            <a:off x="4572000" y="2133720"/>
            <a:ext cx="1655640" cy="1150920"/>
          </a:xfrm>
          <a:prstGeom prst="wedgeRoundRectCallout">
            <a:avLst>
              <a:gd name="adj1" fmla="val -123347"/>
              <a:gd name="adj2" fmla="val 62138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572000" y="2205000"/>
            <a:ext cx="2087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雨が降った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雨は降らなかった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散水はしなかった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4140360" y="4365720"/>
            <a:ext cx="1655640" cy="358560"/>
          </a:xfrm>
          <a:prstGeom prst="pie">
            <a:avLst/>
          </a:prstGeom>
          <a:solidFill>
            <a:srgbClr val="e1b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AutoShape 15"/>
          <p:cNvSpPr/>
          <p:nvPr/>
        </p:nvSpPr>
        <p:spPr>
          <a:xfrm>
            <a:off x="1692360" y="3716280"/>
            <a:ext cx="2519280" cy="165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1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4" name="Group 23"/>
          <p:cNvGrpSpPr/>
          <p:nvPr/>
        </p:nvGrpSpPr>
        <p:grpSpPr>
          <a:xfrm>
            <a:off x="4500720" y="4941720"/>
            <a:ext cx="3816360" cy="792360"/>
            <a:chOff x="4500720" y="4941720"/>
            <a:chExt cx="3816360" cy="792360"/>
          </a:xfrm>
        </p:grpSpPr>
        <p:sp>
          <p:nvSpPr>
            <p:cNvPr id="375" name="AutoShape 17"/>
            <p:cNvSpPr/>
            <p:nvPr/>
          </p:nvSpPr>
          <p:spPr>
            <a:xfrm>
              <a:off x="4535640" y="4941720"/>
              <a:ext cx="3638520" cy="792360"/>
            </a:xfrm>
            <a:prstGeom prst="wedgeRectCallout">
              <a:avLst>
                <a:gd name="adj1" fmla="val -80495"/>
                <a:gd name="adj2" fmla="val -53208"/>
              </a:avLst>
            </a:prstGeom>
            <a:solidFill>
              <a:srgbClr val="f6f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Text Box 18"/>
            <p:cNvSpPr/>
            <p:nvPr/>
          </p:nvSpPr>
          <p:spPr>
            <a:xfrm>
              <a:off x="4500720" y="5013360"/>
              <a:ext cx="3816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雨が降ると路面は濡れる．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雨も降らず散水もしなければ路面は濡れない．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Text Box 19"/>
          <p:cNvSpPr/>
          <p:nvPr/>
        </p:nvSpPr>
        <p:spPr>
          <a:xfrm>
            <a:off x="4427640" y="40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演繹推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0"/>
          <p:cNvSpPr/>
          <p:nvPr/>
        </p:nvSpPr>
        <p:spPr>
          <a:xfrm flipH="1">
            <a:off x="3924000" y="3645000"/>
            <a:ext cx="1655640" cy="360360"/>
          </a:xfrm>
          <a:prstGeom prst="line">
            <a:avLst/>
          </a:prstGeom>
          <a:ln w="57240">
            <a:solidFill>
              <a:srgbClr val="e1bf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508720" y="342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無矛盾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5796000" y="436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結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575-63BC-4BFF-832F-05E7235DAE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参考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太原育夫：　新 人工知能の基礎知識，近代科学社（２００８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Ｐ．マコーダック（黒川利明訳）：　コンピュータは考える［人工知能の歴史と展望］，培風館（１９８３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人工知能学会編：　人工知能学事典，共立出版（２００５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人工知能学会Ｗｅｂサイ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ai-gakkai.or.jp/jsai/whatsai/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米国人工知能学会Ｗｅｂサイ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aaai.org/AITopics/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283-0EFA-49AD-8111-93C50F69D0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人工知能とは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hines who th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（考える機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cCorduck: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「コンピュータは考え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―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人工知能の歴史と展望」 （１９７９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計算機に人間が行うような高度な「知的」情報処理を行わせる研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A448-8D13-4767-97E0-0FA7F76ED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人工知能の歴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5"/>
          <p:cNvSpPr/>
          <p:nvPr/>
        </p:nvSpPr>
        <p:spPr>
          <a:xfrm flipH="1">
            <a:off x="250200" y="2565360"/>
            <a:ext cx="936360" cy="304920"/>
          </a:xfrm>
          <a:prstGeom prst="pie">
            <a:avLst/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50920" y="220500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１６００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3068640"/>
            <a:ext cx="1297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ibniz(1685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普遍記号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771640" y="220500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１９５０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43280" y="220500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１９７０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867280" y="220500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１９８０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3348000" y="2997360"/>
            <a:ext cx="1511280" cy="792000"/>
            <a:chOff x="3348000" y="2997360"/>
            <a:chExt cx="1511280" cy="792000"/>
          </a:xfrm>
        </p:grpSpPr>
        <p:sp>
          <p:nvSpPr>
            <p:cNvPr id="127" name="AutoShape 12"/>
            <p:cNvSpPr/>
            <p:nvPr/>
          </p:nvSpPr>
          <p:spPr>
            <a:xfrm>
              <a:off x="3348000" y="2997360"/>
              <a:ext cx="1511280" cy="792000"/>
            </a:xfrm>
            <a:prstGeom prst="horizontalScrol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3464280" y="3155400"/>
              <a:ext cx="133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ダートマス会議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956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Text Box 14"/>
          <p:cNvSpPr/>
          <p:nvPr/>
        </p:nvSpPr>
        <p:spPr>
          <a:xfrm>
            <a:off x="539640" y="4653000"/>
            <a:ext cx="216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cCulloch &amp; Pitts(1943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論理ニューロン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ahoma"/>
              </a:rPr>
              <a:t>（脳のモデル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187280" y="5445000"/>
            <a:ext cx="1656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ener(1946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サイバネティク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187280" y="2205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１９４０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1403280" y="2924280"/>
            <a:ext cx="1871640" cy="1512720"/>
          </a:xfrm>
          <a:prstGeom prst="irregularSeal1">
            <a:avLst/>
          </a:prstGeom>
          <a:solidFill>
            <a:srgbClr val="fee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763640" y="335772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IAC(1946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DSAC(1949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2556000" y="4292640"/>
            <a:ext cx="1657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uring(195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チューリングテスト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59280" y="2997360"/>
            <a:ext cx="1584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ograd(197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RDL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ahoma"/>
              </a:rPr>
              <a:t>（知識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4859280" y="3789360"/>
            <a:ext cx="2087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ortliffe(1976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YCI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ahoma"/>
              </a:rPr>
              <a:t>（エキスパート・システム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5580000" y="4724280"/>
            <a:ext cx="12956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ter(198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デフォルト推論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5651640" y="5445000"/>
            <a:ext cx="143964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cCarthy(198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極小限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ahoma"/>
              </a:rPr>
              <a:t>（非単調推論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1332000" y="2565360"/>
            <a:ext cx="7561080" cy="287280"/>
          </a:xfrm>
          <a:prstGeom prst="rightArrow">
            <a:avLst>
              <a:gd name="adj1" fmla="val 52944"/>
              <a:gd name="adj2" fmla="val 116610"/>
            </a:avLst>
          </a:prstGeom>
          <a:solidFill>
            <a:srgbClr val="feda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3276720" y="5589720"/>
            <a:ext cx="151272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cCarthy(1958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3492360" y="4797360"/>
            <a:ext cx="158436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senblatt(196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パーセプトロン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ahoma"/>
              </a:rPr>
              <a:t>（学習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6443640" y="3284640"/>
            <a:ext cx="1655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rners-Lee(1989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8101080" y="2205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２０００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7164360" y="4005360"/>
            <a:ext cx="16556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oogle(1998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7308720" y="4581360"/>
            <a:ext cx="165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kipedia(200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ahoma"/>
              </a:rPr>
              <a:t>（インターネット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7020000" y="2205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１９９０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1F28-D324-4706-8BC6-C2CCCF254E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人工知能の方法論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i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z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夢：　普遍的科学言語の希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普遍記号学＝記号体系＋推論算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情報処理＝表現＋操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人工知能＝「</a:t>
            </a:r>
            <a:r>
              <a:rPr b="0" lang="ja-JP" sz="3200" spc="-1" strike="noStrike">
                <a:solidFill>
                  <a:srgbClr val="ff3300"/>
                </a:solidFill>
                <a:latin typeface="Tahoma"/>
              </a:rPr>
              <a:t>知的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」情報処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　　　　　　　＝知識＋推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411280" y="3213000"/>
            <a:ext cx="936720" cy="432000"/>
          </a:xfrm>
          <a:prstGeom prst="downArrow">
            <a:avLst>
              <a:gd name="adj1" fmla="val 49833"/>
              <a:gd name="adj2" fmla="val 51542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411280" y="4292640"/>
            <a:ext cx="936720" cy="431640"/>
          </a:xfrm>
          <a:prstGeom prst="downArrow">
            <a:avLst>
              <a:gd name="adj1" fmla="val 49833"/>
              <a:gd name="adj2" fmla="val 51542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E73-8FDC-4566-AB0B-736879B1D7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人工知能分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12000" y="2060640"/>
            <a:ext cx="297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認識能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理解能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推論能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学習能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記憶能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_s1028"/>
          <p:cNvSpPr/>
          <p:nvPr/>
        </p:nvSpPr>
        <p:spPr>
          <a:xfrm>
            <a:off x="1979640" y="2205000"/>
            <a:ext cx="2708280" cy="2708280"/>
          </a:xfrm>
          <a:prstGeom prst="ellipse">
            <a:avLst/>
          </a:prstGeom>
          <a:solidFill>
            <a:srgbClr val="fedaf5">
              <a:alpha val="50000"/>
            </a:srgbClr>
          </a:solidFill>
          <a:ln w="4680">
            <a:solidFill>
              <a:srgbClr val="e1b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2916360" y="3573360"/>
            <a:ext cx="2706480" cy="2708280"/>
          </a:xfrm>
          <a:prstGeom prst="ellipse">
            <a:avLst/>
          </a:prstGeom>
          <a:solidFill>
            <a:srgbClr val="99ffcc">
              <a:alpha val="50000"/>
            </a:srgbClr>
          </a:solidFill>
          <a:ln w="4680">
            <a:solidFill>
              <a:srgbClr val="b3ce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_s1032"/>
          <p:cNvSpPr/>
          <p:nvPr/>
        </p:nvSpPr>
        <p:spPr>
          <a:xfrm>
            <a:off x="1116000" y="3573360"/>
            <a:ext cx="2706840" cy="2708280"/>
          </a:xfrm>
          <a:prstGeom prst="ellipse">
            <a:avLst/>
          </a:prstGeom>
          <a:solidFill>
            <a:srgbClr val="feeeaa">
              <a:alpha val="50000"/>
            </a:srgbClr>
          </a:solidFill>
          <a:ln w="4680">
            <a:solidFill>
              <a:srgbClr val="b8ad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187280" y="4869000"/>
            <a:ext cx="16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パターン認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851280" y="486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自然言語処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71640" y="27813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知識処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C23-535F-4DC0-82DE-0017D3C37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人工知能の基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知識（知識表現，知識獲得など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探索（グラフ表現，探索アルゴリズムなど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（論理表現，推論など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記号処理（プログラミング言語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スライド番号プレースホルダ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78B4-1704-4713-AD43-A40673292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問題解決</a:t>
            </a: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―</a:t>
            </a: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積木の問題の表現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pSp>
        <p:nvGrpSpPr>
          <p:cNvPr id="166" name="Group 36"/>
          <p:cNvGrpSpPr/>
          <p:nvPr/>
        </p:nvGrpSpPr>
        <p:grpSpPr>
          <a:xfrm>
            <a:off x="1692360" y="1989000"/>
            <a:ext cx="2879640" cy="2260080"/>
            <a:chOff x="1692360" y="1989000"/>
            <a:chExt cx="2879640" cy="2260080"/>
          </a:xfrm>
        </p:grpSpPr>
        <p:sp>
          <p:nvSpPr>
            <p:cNvPr id="167" name="Line 5"/>
            <p:cNvSpPr/>
            <p:nvPr/>
          </p:nvSpPr>
          <p:spPr>
            <a:xfrm>
              <a:off x="2411280" y="198900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1692360" y="364644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2050920" y="2925720"/>
              <a:ext cx="720720" cy="647640"/>
            </a:xfrm>
            <a:prstGeom prst="bevel">
              <a:avLst>
                <a:gd name="adj" fmla="val 14218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2195640" y="292572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>
              <a:off x="3492360" y="2925720"/>
              <a:ext cx="720720" cy="647640"/>
            </a:xfrm>
            <a:prstGeom prst="bevel">
              <a:avLst>
                <a:gd name="adj" fmla="val 14218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0"/>
            <p:cNvSpPr/>
            <p:nvPr/>
          </p:nvSpPr>
          <p:spPr>
            <a:xfrm>
              <a:off x="3635280" y="29257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Line 11"/>
            <p:cNvSpPr/>
            <p:nvPr/>
          </p:nvSpPr>
          <p:spPr>
            <a:xfrm flipH="1">
              <a:off x="1907640" y="263844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>
              <a:off x="2771640" y="2638440"/>
              <a:ext cx="1447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 flipV="1">
              <a:off x="1908000" y="234900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916360" y="234936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1908000" y="2349360"/>
              <a:ext cx="1008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411280" y="378936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37"/>
          <p:cNvGrpSpPr/>
          <p:nvPr/>
        </p:nvGrpSpPr>
        <p:grpSpPr>
          <a:xfrm>
            <a:off x="5292720" y="1989000"/>
            <a:ext cx="2879640" cy="2260080"/>
            <a:chOff x="5292720" y="1989000"/>
            <a:chExt cx="2879640" cy="2260080"/>
          </a:xfrm>
        </p:grpSpPr>
        <p:sp>
          <p:nvSpPr>
            <p:cNvPr id="180" name="Line 17"/>
            <p:cNvSpPr/>
            <p:nvPr/>
          </p:nvSpPr>
          <p:spPr>
            <a:xfrm>
              <a:off x="6012000" y="198900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>
              <a:off x="5292720" y="364644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2" name="Group 19"/>
            <p:cNvGrpSpPr/>
            <p:nvPr/>
          </p:nvGrpSpPr>
          <p:grpSpPr>
            <a:xfrm>
              <a:off x="7093080" y="2278080"/>
              <a:ext cx="720720" cy="647640"/>
              <a:chOff x="7093080" y="2278080"/>
              <a:chExt cx="720720" cy="647640"/>
            </a:xfrm>
          </p:grpSpPr>
          <p:sp>
            <p:nvSpPr>
              <p:cNvPr id="183" name="AutoShape 20"/>
              <p:cNvSpPr/>
              <p:nvPr/>
            </p:nvSpPr>
            <p:spPr>
              <a:xfrm>
                <a:off x="7093080" y="2278080"/>
                <a:ext cx="720720" cy="647640"/>
              </a:xfrm>
              <a:prstGeom prst="bevel">
                <a:avLst>
                  <a:gd name="adj" fmla="val 14218"/>
                </a:avLst>
              </a:prstGeom>
              <a:solidFill>
                <a:srgbClr val="ccfe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Text Box 21"/>
              <p:cNvSpPr/>
              <p:nvPr/>
            </p:nvSpPr>
            <p:spPr>
              <a:xfrm>
                <a:off x="7237440" y="2278080"/>
                <a:ext cx="36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5" name="AutoShape 22"/>
            <p:cNvSpPr/>
            <p:nvPr/>
          </p:nvSpPr>
          <p:spPr>
            <a:xfrm>
              <a:off x="7093080" y="2925720"/>
              <a:ext cx="720720" cy="647640"/>
            </a:xfrm>
            <a:prstGeom prst="bevel">
              <a:avLst>
                <a:gd name="adj" fmla="val 14218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 Box 23"/>
            <p:cNvSpPr/>
            <p:nvPr/>
          </p:nvSpPr>
          <p:spPr>
            <a:xfrm>
              <a:off x="7236000" y="2925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 flipH="1">
              <a:off x="5508360" y="2638440"/>
              <a:ext cx="142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6372360" y="2638440"/>
              <a:ext cx="144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 flipV="1">
              <a:off x="5508720" y="234900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6516720" y="2349360"/>
              <a:ext cx="0" cy="289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5508720" y="2349360"/>
              <a:ext cx="1008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012000" y="378936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目標状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971640" y="4581360"/>
            <a:ext cx="7921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8ad48"/>
                </a:solidFill>
                <a:latin typeface="Tahoma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　　　　　　　　　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テーブルの上の積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持ち上げ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b8ad48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積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上の積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持ち上げる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b8ad48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積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テーブルの上に置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b8ad48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積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積木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上に置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Object 31"/>
          <p:cNvGraphicFramePr/>
          <p:nvPr/>
        </p:nvGraphicFramePr>
        <p:xfrm>
          <a:off x="1403280" y="4581360"/>
          <a:ext cx="165600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581360"/>
                    <a:ext cx="16560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2"/>
          <p:cNvGraphicFramePr/>
          <p:nvPr/>
        </p:nvGraphicFramePr>
        <p:xfrm>
          <a:off x="0" y="0"/>
          <a:ext cx="91440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33"/>
          <p:cNvGraphicFramePr/>
          <p:nvPr/>
        </p:nvGraphicFramePr>
        <p:xfrm>
          <a:off x="1403280" y="6021360"/>
          <a:ext cx="165600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6021360"/>
                    <a:ext cx="1656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34"/>
          <p:cNvGraphicFramePr/>
          <p:nvPr/>
        </p:nvGraphicFramePr>
        <p:xfrm>
          <a:off x="1403280" y="5060880"/>
          <a:ext cx="2089080" cy="34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Object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5060880"/>
                    <a:ext cx="20890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35"/>
          <p:cNvGraphicFramePr/>
          <p:nvPr/>
        </p:nvGraphicFramePr>
        <p:xfrm>
          <a:off x="1403280" y="5516640"/>
          <a:ext cx="20890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5516640"/>
                    <a:ext cx="2089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D70E-332B-401E-BD2E-D1C01BDEB4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探索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1261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状態空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探索アルゴリズ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縦形（深さ優先）探索，横形（幅優先）探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Group 41"/>
          <p:cNvGrpSpPr/>
          <p:nvPr/>
        </p:nvGrpSpPr>
        <p:grpSpPr>
          <a:xfrm>
            <a:off x="3851280" y="2048040"/>
            <a:ext cx="1440000" cy="444240"/>
            <a:chOff x="3851280" y="2048040"/>
            <a:chExt cx="1440000" cy="444240"/>
          </a:xfrm>
        </p:grpSpPr>
        <p:sp>
          <p:nvSpPr>
            <p:cNvPr id="208" name="Line 5"/>
            <p:cNvSpPr/>
            <p:nvPr/>
          </p:nvSpPr>
          <p:spPr>
            <a:xfrm>
              <a:off x="3851280" y="249228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AutoShape 6"/>
            <p:cNvSpPr/>
            <p:nvPr/>
          </p:nvSpPr>
          <p:spPr>
            <a:xfrm>
              <a:off x="4067280" y="2060640"/>
              <a:ext cx="431640" cy="360360"/>
            </a:xfrm>
            <a:prstGeom prst="beve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4116240" y="204804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4643280" y="2060640"/>
              <a:ext cx="432000" cy="360360"/>
            </a:xfrm>
            <a:prstGeom prst="bevel">
              <a:avLst>
                <a:gd name="adj" fmla="val 12500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4702320" y="206064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3" name="Group 42"/>
          <p:cNvGrpSpPr/>
          <p:nvPr/>
        </p:nvGrpSpPr>
        <p:grpSpPr>
          <a:xfrm>
            <a:off x="2411280" y="2911320"/>
            <a:ext cx="1440000" cy="804960"/>
            <a:chOff x="2411280" y="2911320"/>
            <a:chExt cx="1440000" cy="804960"/>
          </a:xfrm>
        </p:grpSpPr>
        <p:sp>
          <p:nvSpPr>
            <p:cNvPr id="214" name="Line 11"/>
            <p:cNvSpPr/>
            <p:nvPr/>
          </p:nvSpPr>
          <p:spPr>
            <a:xfrm>
              <a:off x="2411280" y="371628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AutoShape 12"/>
            <p:cNvSpPr/>
            <p:nvPr/>
          </p:nvSpPr>
          <p:spPr>
            <a:xfrm>
              <a:off x="2627280" y="2924280"/>
              <a:ext cx="432000" cy="360360"/>
            </a:xfrm>
            <a:prstGeom prst="beve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2676600" y="291132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AutoShape 15"/>
            <p:cNvSpPr/>
            <p:nvPr/>
          </p:nvSpPr>
          <p:spPr>
            <a:xfrm>
              <a:off x="3203640" y="3284640"/>
              <a:ext cx="431640" cy="360360"/>
            </a:xfrm>
            <a:prstGeom prst="bevel">
              <a:avLst>
                <a:gd name="adj" fmla="val 12500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Text Box 16"/>
            <p:cNvSpPr/>
            <p:nvPr/>
          </p:nvSpPr>
          <p:spPr>
            <a:xfrm>
              <a:off x="3262320" y="328464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" name="Group 43"/>
          <p:cNvGrpSpPr/>
          <p:nvPr/>
        </p:nvGrpSpPr>
        <p:grpSpPr>
          <a:xfrm>
            <a:off x="5292720" y="2908440"/>
            <a:ext cx="1440000" cy="807840"/>
            <a:chOff x="5292720" y="2908440"/>
            <a:chExt cx="1440000" cy="807840"/>
          </a:xfrm>
        </p:grpSpPr>
        <p:sp>
          <p:nvSpPr>
            <p:cNvPr id="220" name="Line 17"/>
            <p:cNvSpPr/>
            <p:nvPr/>
          </p:nvSpPr>
          <p:spPr>
            <a:xfrm>
              <a:off x="5292720" y="371628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AutoShape 18"/>
            <p:cNvSpPr/>
            <p:nvPr/>
          </p:nvSpPr>
          <p:spPr>
            <a:xfrm>
              <a:off x="5508720" y="3284640"/>
              <a:ext cx="431640" cy="360360"/>
            </a:xfrm>
            <a:prstGeom prst="beve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5556240" y="328464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AutoShape 21"/>
            <p:cNvSpPr/>
            <p:nvPr/>
          </p:nvSpPr>
          <p:spPr>
            <a:xfrm>
              <a:off x="6084720" y="2924280"/>
              <a:ext cx="432000" cy="360360"/>
            </a:xfrm>
            <a:prstGeom prst="bevel">
              <a:avLst>
                <a:gd name="adj" fmla="val 12500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6145200" y="290844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" name="Group 44"/>
          <p:cNvGrpSpPr/>
          <p:nvPr/>
        </p:nvGrpSpPr>
        <p:grpSpPr>
          <a:xfrm>
            <a:off x="1332000" y="4437000"/>
            <a:ext cx="1439640" cy="432000"/>
            <a:chOff x="1332000" y="4437000"/>
            <a:chExt cx="1439640" cy="432000"/>
          </a:xfrm>
        </p:grpSpPr>
        <p:sp>
          <p:nvSpPr>
            <p:cNvPr id="226" name="Line 24"/>
            <p:cNvSpPr/>
            <p:nvPr/>
          </p:nvSpPr>
          <p:spPr>
            <a:xfrm>
              <a:off x="1332000" y="486900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AutoShape 25"/>
            <p:cNvSpPr/>
            <p:nvPr/>
          </p:nvSpPr>
          <p:spPr>
            <a:xfrm>
              <a:off x="1547640" y="4437000"/>
              <a:ext cx="432000" cy="360360"/>
            </a:xfrm>
            <a:prstGeom prst="beve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26"/>
            <p:cNvSpPr/>
            <p:nvPr/>
          </p:nvSpPr>
          <p:spPr>
            <a:xfrm>
              <a:off x="1596960" y="443700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AutoShape 28"/>
            <p:cNvSpPr/>
            <p:nvPr/>
          </p:nvSpPr>
          <p:spPr>
            <a:xfrm>
              <a:off x="2124000" y="4437000"/>
              <a:ext cx="432000" cy="360360"/>
            </a:xfrm>
            <a:prstGeom prst="bevel">
              <a:avLst>
                <a:gd name="adj" fmla="val 12500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2171880" y="443700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1" name="Group 45"/>
          <p:cNvGrpSpPr/>
          <p:nvPr/>
        </p:nvGrpSpPr>
        <p:grpSpPr>
          <a:xfrm>
            <a:off x="3492360" y="4076640"/>
            <a:ext cx="1440000" cy="792360"/>
            <a:chOff x="3492360" y="4076640"/>
            <a:chExt cx="1440000" cy="792360"/>
          </a:xfrm>
        </p:grpSpPr>
        <p:sp>
          <p:nvSpPr>
            <p:cNvPr id="232" name="Line 30"/>
            <p:cNvSpPr/>
            <p:nvPr/>
          </p:nvSpPr>
          <p:spPr>
            <a:xfrm>
              <a:off x="3492360" y="4869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AutoShape 32"/>
            <p:cNvSpPr/>
            <p:nvPr/>
          </p:nvSpPr>
          <p:spPr>
            <a:xfrm>
              <a:off x="4284720" y="4076640"/>
              <a:ext cx="431640" cy="360360"/>
            </a:xfrm>
            <a:prstGeom prst="bevel">
              <a:avLst>
                <a:gd name="adj" fmla="val 12500"/>
              </a:avLst>
            </a:prstGeom>
            <a:solidFill>
              <a:srgbClr val="ccfe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334040" y="4076640"/>
              <a:ext cx="28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4284720" y="4437000"/>
              <a:ext cx="431640" cy="360360"/>
            </a:xfrm>
            <a:prstGeom prst="bevel">
              <a:avLst>
                <a:gd name="adj" fmla="val 12500"/>
              </a:avLst>
            </a:prstGeom>
            <a:solidFill>
              <a:srgbClr val="feee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Text Box 36"/>
            <p:cNvSpPr/>
            <p:nvPr/>
          </p:nvSpPr>
          <p:spPr>
            <a:xfrm>
              <a:off x="4334040" y="443700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7" name="Line 37"/>
          <p:cNvSpPr/>
          <p:nvPr/>
        </p:nvSpPr>
        <p:spPr>
          <a:xfrm flipH="1">
            <a:off x="3851280" y="270828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38"/>
          <p:cNvSpPr/>
          <p:nvPr/>
        </p:nvSpPr>
        <p:spPr>
          <a:xfrm>
            <a:off x="4572000" y="270828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9"/>
          <p:cNvSpPr/>
          <p:nvPr/>
        </p:nvSpPr>
        <p:spPr>
          <a:xfrm flipH="1">
            <a:off x="2411280" y="39337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40"/>
          <p:cNvSpPr/>
          <p:nvPr/>
        </p:nvSpPr>
        <p:spPr>
          <a:xfrm>
            <a:off x="313200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DBEE-11FC-4A79-9A5B-C11279A2B4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a4076"/>
                </a:solidFill>
                <a:latin typeface="Tahoma"/>
              </a:rPr>
              <a:t>論理による問題解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論理式による知識の表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初期状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目標状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Object 7"/>
          <p:cNvGraphicFramePr/>
          <p:nvPr/>
        </p:nvGraphicFramePr>
        <p:xfrm>
          <a:off x="3419640" y="2924280"/>
          <a:ext cx="37461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924280"/>
                    <a:ext cx="3746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3419640" y="3573360"/>
          <a:ext cx="16887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73360"/>
                    <a:ext cx="16887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9"/>
          <p:cNvGraphicFramePr/>
          <p:nvPr/>
        </p:nvGraphicFramePr>
        <p:xfrm>
          <a:off x="3419640" y="4221000"/>
          <a:ext cx="504180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4221000"/>
                    <a:ext cx="5041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0"/>
          <p:cNvGraphicFramePr/>
          <p:nvPr/>
        </p:nvGraphicFramePr>
        <p:xfrm>
          <a:off x="1547640" y="4221000"/>
          <a:ext cx="152424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4221000"/>
                    <a:ext cx="152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11"/>
          <p:cNvGraphicFramePr/>
          <p:nvPr/>
        </p:nvGraphicFramePr>
        <p:xfrm>
          <a:off x="1547640" y="5516640"/>
          <a:ext cx="165132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5516640"/>
                    <a:ext cx="1651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2"/>
          <p:cNvGraphicFramePr/>
          <p:nvPr/>
        </p:nvGraphicFramePr>
        <p:xfrm>
          <a:off x="3419640" y="5516640"/>
          <a:ext cx="514332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5516640"/>
                    <a:ext cx="5143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09:59:39Z</dcterms:created>
  <dc:creator>太原育夫</dc:creator>
  <dc:description/>
  <dc:language>en-US</dc:language>
  <cp:lastModifiedBy> </cp:lastModifiedBy>
  <dcterms:modified xsi:type="dcterms:W3CDTF">2008-07-22T09:22:41Z</dcterms:modified>
  <cp:revision>67</cp:revision>
  <dc:subject>(1)序論</dc:subject>
  <dc:title>人工知能の基礎知識</dc:title>
</cp:coreProperties>
</file>