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image107.wmf" ContentType="image/x-wmf"/>
  <Override PartName="/ppt/media/image10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108.wmf" ContentType="image/x-wmf"/>
  <Override PartName="/ppt/media/image11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37.wmf" ContentType="image/x-wmf"/>
  <Override PartName="/ppt/media/image109.wmf" ContentType="image/x-wmf"/>
  <Override PartName="/ppt/media/image127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38.wmf" ContentType="image/x-wmf"/>
  <Override PartName="/ppt/media/image1.wmf" ContentType="image/x-wmf"/>
  <Override PartName="/ppt/media/image81.wmf" ContentType="image/x-wmf"/>
  <Override PartName="/ppt/media/image13.wmf" ContentType="image/x-wmf"/>
  <Override PartName="/ppt/media/image39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129.wmf" ContentType="image/x-wmf"/>
  <Override PartName="/ppt/media/image32.wmf" ContentType="image/x-wmf"/>
  <Override PartName="/ppt/media/image40.wmf" ContentType="image/x-wmf"/>
  <Override PartName="/ppt/media/image137.wmf" ContentType="image/x-wmf"/>
  <Override PartName="/ppt/media/image47.wmf" ContentType="image/x-wmf"/>
  <Override PartName="/ppt/media/image133.wmf" ContentType="image/x-wmf"/>
  <Override PartName="/ppt/media/image41.wmf" ContentType="image/x-wmf"/>
  <Override PartName="/ppt/media/image138.wmf" ContentType="image/x-wmf"/>
  <Override PartName="/ppt/media/image48.wmf" ContentType="image/x-wmf"/>
  <Override PartName="/ppt/media/image134.wmf" ContentType="image/x-wmf"/>
  <Override PartName="/ppt/media/image42.wmf" ContentType="image/x-wmf"/>
  <Override PartName="/ppt/media/image139.wmf" ContentType="image/x-wmf"/>
  <Override PartName="/ppt/media/image49.wmf" ContentType="image/x-wmf"/>
  <Override PartName="/ppt/media/image100.wmf" ContentType="image/x-wmf"/>
  <Override PartName="/ppt/media/image135.wmf" ContentType="image/x-wmf"/>
  <Override PartName="/ppt/media/image43.wmf" ContentType="image/x-wmf"/>
  <Override PartName="/ppt/media/image136.wmf" ContentType="image/x-wmf"/>
  <Override PartName="/ppt/media/image130.wmf" ContentType="image/x-wmf"/>
  <Override PartName="/ppt/media/image79.wmf" ContentType="image/x-wmf"/>
  <Override PartName="/ppt/media/image44.wmf" ContentType="image/x-wmf"/>
  <Override PartName="/ppt/media/image131.wmf" ContentType="image/x-wmf"/>
  <Override PartName="/ppt/media/image45.wmf" ContentType="image/x-wmf"/>
  <Override PartName="/ppt/media/image132.wmf" ContentType="image/x-wmf"/>
  <Override PartName="/ppt/media/image46.wmf" ContentType="image/x-wmf"/>
  <Override PartName="/ppt/media/image56.wmf" ContentType="image/x-wmf"/>
  <Override PartName="/ppt/media/image141.wmf" ContentType="image/x-wmf"/>
  <Override PartName="/ppt/media/image55.wmf" ContentType="image/x-wmf"/>
  <Override PartName="/ppt/media/image140.wmf" ContentType="image/x-wmf"/>
  <Override PartName="/ppt/media/image89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33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99.wmf" ContentType="image/x-wmf"/>
  <Override PartName="/ppt/media/image101.wmf" ContentType="image/x-wmf"/>
  <Override PartName="/ppt/media/image102.wmf" ContentType="image/x-wmf"/>
  <Override PartName="/ppt/media/image103.wmf" ContentType="image/x-wmf"/>
  <Override PartName="/ppt/media/image10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3F4F-3B67-4A3B-BEC0-26FA83A91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EB32-3071-4590-8B48-B9A6BB3AB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7275-C6B5-4874-8C2A-066C3896A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DFD2-3865-42BC-A9F9-66CCECC08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F621-EFE0-48EA-B5EF-D2A6011CF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94EE-61FB-4D3D-8B0A-71D477E89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A7B2-4522-4175-8C7A-04E4A76BD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8205-522E-4A5C-9CF9-C8673F043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762A-F45B-4A8A-BC13-B5EF92DF9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C6E3-0638-423D-9493-26D4599AE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E84E-E034-4E7B-9996-D02261DED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46AB-DD97-4439-BD36-7314C89E5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2C55-BC0F-4C7A-BACB-3300E72BD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FF07-9319-44A4-BDE7-B83C29B8D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FBCF-1008-4DB1-8702-8C8CC2514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837C-3408-42BF-AFCA-022ED15E9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CED7-0695-470B-AE3E-8FFD20B5E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9E3B-0CA3-435B-972A-12E885F5B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0BB5-348A-49D6-9DD9-F21F86C21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960D-EBD0-4195-9BA5-E81627FA2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53A0-0A4A-45B8-A7DE-D9CC20678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6EE7-9D08-419F-91FD-3111B753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A87E-995F-447A-A4AF-658D8674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BB5C-30B1-4E0B-AA70-797BDD1E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250-33E9-4C1B-BE26-DD9AF5DE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3D84-4F4C-4F01-90E5-56D19A2E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6F46-19B3-48DF-B9F8-D58211AD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3910-E4F9-45D1-803F-25C2C482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0B47-D874-4B1C-ACFA-8D503F74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3D52-EDCE-4004-864D-CA955FDE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E214-BDC0-42E3-A539-8990191C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ED5D-8BB7-4AFA-8279-1F770D93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B21B-3275-475D-B964-F89ABF3A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1F81-225A-4AD8-84E5-FD01590E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8673-AE18-4FA3-85E7-81049CC2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0C81-1DB5-4712-ABF3-8AAB4C4C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84AA-6918-45F8-9BA8-FA9DA929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7796-6BD9-4BF4-9CDE-0DB92731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7D3-0EF3-45A3-9B6F-51748FEE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35F-328B-46AE-A2D8-041A32C1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035-3CC2-4FB7-9ABB-A16A246E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30B-0C0C-422C-B713-76217AE2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81A-8953-4140-9739-91EC025E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C9E-A125-4EFE-AA4B-F1CFF5D3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135B-F602-43A0-8D00-DE3D1A1B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e1bf9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b8ad4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3c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1BA3-8E65-4392-AC5B-AB6F564595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図 13" descr="書名.wmf"/>
          <p:cNvPicPr/>
          <p:nvPr/>
        </p:nvPicPr>
        <p:blipFill>
          <a:blip r:embed="rId2"/>
          <a:stretch/>
        </p:blipFill>
        <p:spPr>
          <a:xfrm>
            <a:off x="6086520" y="214200"/>
            <a:ext cx="2843280" cy="540000"/>
          </a:xfrm>
          <a:prstGeom prst="rect">
            <a:avLst/>
          </a:prstGeom>
          <a:ln w="0">
            <a:noFill/>
          </a:ln>
        </p:spPr>
      </p:pic>
      <p:grpSp>
        <p:nvGrpSpPr>
          <p:cNvPr id="13" name="グループ化 14"/>
          <p:cNvGrpSpPr/>
          <p:nvPr/>
        </p:nvGrpSpPr>
        <p:grpSpPr>
          <a:xfrm>
            <a:off x="3714840" y="6438960"/>
            <a:ext cx="2786040" cy="276480"/>
            <a:chOff x="3714840" y="6438960"/>
            <a:chExt cx="2786040" cy="276480"/>
          </a:xfrm>
        </p:grpSpPr>
        <p:pic>
          <p:nvPicPr>
            <p:cNvPr id="14" name="図 15" descr="社名.wmf"/>
            <p:cNvPicPr/>
            <p:nvPr/>
          </p:nvPicPr>
          <p:blipFill>
            <a:blip r:embed="rId3"/>
            <a:stretch/>
          </p:blipFill>
          <p:spPr>
            <a:xfrm>
              <a:off x="3714840" y="6510240"/>
              <a:ext cx="825480" cy="13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テキスト ボックス 16"/>
            <p:cNvSpPr/>
            <p:nvPr/>
          </p:nvSpPr>
          <p:spPr>
            <a:xfrm>
              <a:off x="4572000" y="643896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©2008 Ikuo Tahar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b8ad48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e1bf9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3ce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A255-DB2C-4712-8458-96164FA55802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0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9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0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0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05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0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06.wmf"/><Relationship Id="rId43" Type="http://schemas.openxmlformats.org/officeDocument/2006/relationships/slideLayout" Target="../slideLayouts/slideLayout1.xml"/><Relationship Id="rId4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17.wmf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4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4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7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7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5D4D-2B4A-4446-93A0-451EEA5B73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述語論理式の構文と意味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一階述語論理式の構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述語，限量記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自然言語文の述語論理式表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一階述語論理式の意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解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妥当，充足不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閉式の充足不能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68BE-C37B-4D87-967A-4957982881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自然言語文→述語論理式表現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なぜ 「あ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は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である」 を 「　　　　　　　　　   」と表現すべきなのか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　　　　　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5" name="Object 4"/>
          <p:cNvGraphicFramePr/>
          <p:nvPr/>
        </p:nvGraphicFramePr>
        <p:xfrm>
          <a:off x="6156360" y="2060640"/>
          <a:ext cx="244800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2060640"/>
                    <a:ext cx="24480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Text Box 5"/>
          <p:cNvSpPr/>
          <p:nvPr/>
        </p:nvSpPr>
        <p:spPr>
          <a:xfrm>
            <a:off x="971640" y="328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Tahoma"/>
              </a:rPr>
              <a:t>「あ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600" spc="-1" strike="noStrike">
                <a:solidFill>
                  <a:srgbClr val="000000"/>
                </a:solidFill>
                <a:latin typeface="Tahoma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ja-JP" sz="2600" spc="-1" strike="noStrike">
                <a:solidFill>
                  <a:srgbClr val="000000"/>
                </a:solidFill>
                <a:latin typeface="Tahoma"/>
              </a:rPr>
              <a:t>である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4211640" y="342900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5076720" y="32846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Tahoma"/>
              </a:rPr>
              <a:t>「すべての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600" spc="-1" strike="noStrike">
                <a:solidFill>
                  <a:srgbClr val="000000"/>
                </a:solidFill>
                <a:latin typeface="Tahoma"/>
              </a:rPr>
              <a:t>は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ja-JP" sz="2600" spc="-1" strike="noStrike">
                <a:solidFill>
                  <a:srgbClr val="000000"/>
                </a:solidFill>
                <a:latin typeface="Tahoma"/>
              </a:rPr>
              <a:t>でない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0" name="Object 8"/>
          <p:cNvGraphicFramePr/>
          <p:nvPr/>
        </p:nvGraphicFramePr>
        <p:xfrm>
          <a:off x="5307120" y="4149720"/>
          <a:ext cx="2851200" cy="4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7120" y="4149720"/>
                    <a:ext cx="28512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9"/>
          <p:cNvGraphicFramePr/>
          <p:nvPr/>
        </p:nvGraphicFramePr>
        <p:xfrm>
          <a:off x="985680" y="4149720"/>
          <a:ext cx="3119760" cy="47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85680" y="4149720"/>
                    <a:ext cx="311976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10"/>
          <p:cNvSpPr/>
          <p:nvPr/>
        </p:nvSpPr>
        <p:spPr>
          <a:xfrm>
            <a:off x="4211640" y="35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否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AutoShape 11"/>
          <p:cNvSpPr/>
          <p:nvPr/>
        </p:nvSpPr>
        <p:spPr>
          <a:xfrm rot="10800000">
            <a:off x="4211640" y="422100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4356000" y="4365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否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7" name="Object 13"/>
          <p:cNvGraphicFramePr/>
          <p:nvPr/>
        </p:nvGraphicFramePr>
        <p:xfrm>
          <a:off x="985680" y="4869000"/>
          <a:ext cx="3326040" cy="47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8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85680" y="4869000"/>
                    <a:ext cx="332604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14"/>
          <p:cNvGraphicFramePr/>
          <p:nvPr/>
        </p:nvGraphicFramePr>
        <p:xfrm>
          <a:off x="985680" y="5516640"/>
          <a:ext cx="2673360" cy="47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0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85680" y="5516640"/>
                    <a:ext cx="26733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C6F9-BA00-4907-8271-679CAB114E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表現の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試験が難しい科目の受験者は皆喜ばない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②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試験が難しくなければ喜ぶ受験者がいる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③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数学の受験者しか喜ばない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4356000" y="3429000"/>
            <a:ext cx="3961080" cy="1512720"/>
          </a:xfrm>
          <a:prstGeom prst="foldedCorner">
            <a:avLst>
              <a:gd name="adj" fmla="val 12500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500720" y="3500280"/>
          <a:ext cx="577800" cy="3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500280"/>
                    <a:ext cx="57780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 Box 6"/>
          <p:cNvSpPr/>
          <p:nvPr/>
        </p:nvSpPr>
        <p:spPr>
          <a:xfrm>
            <a:off x="5292720" y="3429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：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は試験が難しい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8" name="Object 7"/>
          <p:cNvGraphicFramePr/>
          <p:nvPr/>
        </p:nvGraphicFramePr>
        <p:xfrm>
          <a:off x="4500720" y="3860640"/>
          <a:ext cx="819000" cy="3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3860640"/>
                    <a:ext cx="81900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Text Box 8"/>
          <p:cNvSpPr/>
          <p:nvPr/>
        </p:nvSpPr>
        <p:spPr>
          <a:xfrm>
            <a:off x="5292720" y="3789360"/>
            <a:ext cx="31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：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は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の受験者である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1" name="Object 9"/>
          <p:cNvGraphicFramePr/>
          <p:nvPr/>
        </p:nvGraphicFramePr>
        <p:xfrm>
          <a:off x="4500720" y="4221000"/>
          <a:ext cx="53172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4221000"/>
                    <a:ext cx="531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 Box 10"/>
          <p:cNvSpPr/>
          <p:nvPr/>
        </p:nvSpPr>
        <p:spPr>
          <a:xfrm>
            <a:off x="5292720" y="414972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：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は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喜ぶ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4" name="Object 11"/>
          <p:cNvGraphicFramePr/>
          <p:nvPr/>
        </p:nvGraphicFramePr>
        <p:xfrm>
          <a:off x="4572000" y="4581360"/>
          <a:ext cx="289080" cy="24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5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81360"/>
                    <a:ext cx="289080" cy="2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Text Box 12"/>
          <p:cNvSpPr/>
          <p:nvPr/>
        </p:nvSpPr>
        <p:spPr>
          <a:xfrm>
            <a:off x="5292720" y="4508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： 数学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7" name="Object 13"/>
          <p:cNvGraphicFramePr/>
          <p:nvPr/>
        </p:nvGraphicFramePr>
        <p:xfrm>
          <a:off x="1738440" y="5157720"/>
          <a:ext cx="444492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8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38440" y="5157720"/>
                    <a:ext cx="44449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14"/>
          <p:cNvGraphicFramePr/>
          <p:nvPr/>
        </p:nvGraphicFramePr>
        <p:xfrm>
          <a:off x="1763640" y="5589720"/>
          <a:ext cx="4208400" cy="41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0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63640" y="5589720"/>
                    <a:ext cx="4208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15"/>
          <p:cNvGraphicFramePr/>
          <p:nvPr/>
        </p:nvGraphicFramePr>
        <p:xfrm>
          <a:off x="1763640" y="6021360"/>
          <a:ext cx="2589120" cy="419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63640" y="6021360"/>
                    <a:ext cx="25891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AutoShape 16"/>
          <p:cNvSpPr/>
          <p:nvPr/>
        </p:nvSpPr>
        <p:spPr>
          <a:xfrm>
            <a:off x="2771640" y="3716280"/>
            <a:ext cx="648000" cy="936720"/>
          </a:xfrm>
          <a:prstGeom prst="downArrow">
            <a:avLst>
              <a:gd name="adj1" fmla="val 50000"/>
              <a:gd name="adj2" fmla="val 36139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AutoShape 17"/>
          <p:cNvSpPr/>
          <p:nvPr/>
        </p:nvSpPr>
        <p:spPr>
          <a:xfrm>
            <a:off x="3492360" y="4005360"/>
            <a:ext cx="719280" cy="215640"/>
          </a:xfrm>
          <a:prstGeom prst="leftArrow">
            <a:avLst>
              <a:gd name="adj1" fmla="val 50000"/>
              <a:gd name="adj2" fmla="val 83389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E710-1C98-4D1F-9AA7-8140087020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一階述語論理式の意味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解釈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ation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領域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）：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割り当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１）個体定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２）関数記号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３）述語記号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変数割り当て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個体変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 　　　　を割り当て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以外には　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　　　　　 による割り当てをする変数割り当て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0" y="3500280"/>
          <a:ext cx="905040" cy="4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500280"/>
                    <a:ext cx="905040" cy="4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5"/>
          <p:cNvGraphicFramePr/>
          <p:nvPr/>
        </p:nvGraphicFramePr>
        <p:xfrm>
          <a:off x="4500720" y="3933720"/>
          <a:ext cx="165564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3933720"/>
                    <a:ext cx="16556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6"/>
          <p:cNvGraphicFramePr/>
          <p:nvPr/>
        </p:nvGraphicFramePr>
        <p:xfrm>
          <a:off x="4549680" y="4340160"/>
          <a:ext cx="2136960" cy="46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49680" y="4340160"/>
                    <a:ext cx="213696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7"/>
          <p:cNvGraphicFramePr/>
          <p:nvPr/>
        </p:nvGraphicFramePr>
        <p:xfrm>
          <a:off x="3098880" y="2679840"/>
          <a:ext cx="914400" cy="19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8880" y="26798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8"/>
          <p:cNvGraphicFramePr/>
          <p:nvPr/>
        </p:nvGraphicFramePr>
        <p:xfrm>
          <a:off x="4211640" y="4941720"/>
          <a:ext cx="360360" cy="31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11640" y="4941720"/>
                    <a:ext cx="36036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9"/>
          <p:cNvGraphicFramePr/>
          <p:nvPr/>
        </p:nvGraphicFramePr>
        <p:xfrm>
          <a:off x="4788000" y="5300640"/>
          <a:ext cx="1023840" cy="44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88000" y="5300640"/>
                    <a:ext cx="1023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10"/>
          <p:cNvGraphicFramePr/>
          <p:nvPr/>
        </p:nvGraphicFramePr>
        <p:xfrm>
          <a:off x="2050920" y="5734080"/>
          <a:ext cx="1081080" cy="433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0920" y="5734080"/>
                    <a:ext cx="10810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11"/>
          <p:cNvGraphicFramePr/>
          <p:nvPr/>
        </p:nvGraphicFramePr>
        <p:xfrm>
          <a:off x="3276720" y="6237360"/>
          <a:ext cx="323640" cy="298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5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76720" y="6237360"/>
                    <a:ext cx="3236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12"/>
          <p:cNvGraphicFramePr/>
          <p:nvPr/>
        </p:nvGraphicFramePr>
        <p:xfrm>
          <a:off x="5292720" y="2060640"/>
          <a:ext cx="2062080" cy="568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5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292720" y="2060640"/>
                    <a:ext cx="20620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13"/>
          <p:cNvGraphicFramePr/>
          <p:nvPr/>
        </p:nvGraphicFramePr>
        <p:xfrm>
          <a:off x="3564000" y="3141720"/>
          <a:ext cx="360360" cy="374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5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64000" y="3141720"/>
                    <a:ext cx="36036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14"/>
          <p:cNvGraphicFramePr/>
          <p:nvPr/>
        </p:nvGraphicFramePr>
        <p:xfrm>
          <a:off x="3889440" y="5770440"/>
          <a:ext cx="804960" cy="352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5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89440" y="5770440"/>
                    <a:ext cx="8049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C2F8-CC2A-4E4D-B81B-8F09CE9836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一階述語論理式の意味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728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　　 による意味評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3" name="Object 4"/>
          <p:cNvGraphicFramePr/>
          <p:nvPr/>
        </p:nvGraphicFramePr>
        <p:xfrm>
          <a:off x="1523880" y="1940040"/>
          <a:ext cx="1152720" cy="49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40040"/>
                    <a:ext cx="115272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5"/>
          <p:cNvGraphicFramePr/>
          <p:nvPr/>
        </p:nvGraphicFramePr>
        <p:xfrm>
          <a:off x="2076480" y="2421000"/>
          <a:ext cx="1281240" cy="42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76480" y="2421000"/>
                    <a:ext cx="128124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6"/>
          <p:cNvGraphicFramePr/>
          <p:nvPr/>
        </p:nvGraphicFramePr>
        <p:xfrm>
          <a:off x="2050920" y="2781360"/>
          <a:ext cx="1306800" cy="4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2781360"/>
                    <a:ext cx="13068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7"/>
          <p:cNvGraphicFramePr/>
          <p:nvPr/>
        </p:nvGraphicFramePr>
        <p:xfrm>
          <a:off x="2019240" y="3106800"/>
          <a:ext cx="4640400" cy="50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9240" y="3106800"/>
                    <a:ext cx="46404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Object 8"/>
          <p:cNvGraphicFramePr/>
          <p:nvPr/>
        </p:nvGraphicFramePr>
        <p:xfrm>
          <a:off x="2019240" y="3500280"/>
          <a:ext cx="46134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2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19240" y="3500280"/>
                    <a:ext cx="46134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9"/>
          <p:cNvGraphicFramePr/>
          <p:nvPr/>
        </p:nvGraphicFramePr>
        <p:xfrm>
          <a:off x="1979640" y="3860640"/>
          <a:ext cx="2347920" cy="47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4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79640" y="3860640"/>
                    <a:ext cx="234792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10"/>
          <p:cNvGraphicFramePr/>
          <p:nvPr/>
        </p:nvGraphicFramePr>
        <p:xfrm>
          <a:off x="1979640" y="4724280"/>
          <a:ext cx="5678640" cy="852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6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79640" y="4724280"/>
                    <a:ext cx="567864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12"/>
          <p:cNvGraphicFramePr/>
          <p:nvPr/>
        </p:nvGraphicFramePr>
        <p:xfrm>
          <a:off x="1979640" y="4221000"/>
          <a:ext cx="3629160" cy="47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8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79640" y="4221000"/>
                    <a:ext cx="3629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13"/>
          <p:cNvGraphicFramePr/>
          <p:nvPr/>
        </p:nvGraphicFramePr>
        <p:xfrm>
          <a:off x="1979640" y="5516640"/>
          <a:ext cx="5602320" cy="852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0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79640" y="5516640"/>
                    <a:ext cx="56023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1D5D-329E-4D27-BE53-FAF33B55BA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1619280" y="2708280"/>
            <a:ext cx="7273800" cy="3024360"/>
          </a:xfrm>
          <a:prstGeom prst="rect">
            <a:avLst/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1908000" y="5156280"/>
            <a:ext cx="6840720" cy="431640"/>
          </a:xfrm>
          <a:prstGeom prst="rect">
            <a:avLst/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1908000" y="3211560"/>
            <a:ext cx="6840720" cy="1800000"/>
          </a:xfrm>
          <a:prstGeom prst="rect">
            <a:avLst/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述語論理式を解釈してみよう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7" name="Object 4"/>
          <p:cNvGraphicFramePr/>
          <p:nvPr/>
        </p:nvGraphicFramePr>
        <p:xfrm>
          <a:off x="755640" y="2060640"/>
          <a:ext cx="359100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060640"/>
                    <a:ext cx="35910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5"/>
          <p:cNvGraphicFramePr/>
          <p:nvPr/>
        </p:nvGraphicFramePr>
        <p:xfrm>
          <a:off x="2050920" y="3284640"/>
          <a:ext cx="6561360" cy="17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284640"/>
                    <a:ext cx="656136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6"/>
          <p:cNvGraphicFramePr/>
          <p:nvPr/>
        </p:nvGraphicFramePr>
        <p:xfrm>
          <a:off x="2050920" y="5156280"/>
          <a:ext cx="227988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5156280"/>
                    <a:ext cx="22798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7"/>
          <p:cNvGraphicFramePr/>
          <p:nvPr/>
        </p:nvGraphicFramePr>
        <p:xfrm>
          <a:off x="1692360" y="2779560"/>
          <a:ext cx="1008000" cy="43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2360" y="2779560"/>
                    <a:ext cx="10080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Line 11"/>
          <p:cNvSpPr/>
          <p:nvPr/>
        </p:nvSpPr>
        <p:spPr>
          <a:xfrm>
            <a:off x="1042920" y="2708280"/>
            <a:ext cx="0" cy="302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AutoShape 12"/>
          <p:cNvSpPr/>
          <p:nvPr/>
        </p:nvSpPr>
        <p:spPr>
          <a:xfrm>
            <a:off x="1187280" y="4005360"/>
            <a:ext cx="28908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7" name="Object 13"/>
          <p:cNvGraphicFramePr/>
          <p:nvPr/>
        </p:nvGraphicFramePr>
        <p:xfrm>
          <a:off x="900000" y="5877000"/>
          <a:ext cx="34632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8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00000" y="5877000"/>
                    <a:ext cx="3463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88CF-B5CB-4E5E-838B-BA230F51C6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28"/>
          <p:cNvSpPr/>
          <p:nvPr/>
        </p:nvSpPr>
        <p:spPr>
          <a:xfrm>
            <a:off x="1116000" y="1989000"/>
            <a:ext cx="6769080" cy="648000"/>
          </a:xfrm>
          <a:prstGeom prst="rect">
            <a:avLst/>
          </a:prstGeom>
          <a:solidFill>
            <a:srgbClr val="dff8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充足可能性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：論理式　　　：解釈　　　：変数割り当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　　　　　　　　　　　は　　を充足する（　　　　　）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 を充足する          が存在する（しない）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　　　　　は充足可能（不能）であ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任意の　　につい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　　　　　は　　を充足する（　　　　）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 が閉式　　（またはその集合　　）を充足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るとき，　　を　　（または　　）のモデルという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3" name="Object 4"/>
          <p:cNvGraphicFramePr/>
          <p:nvPr/>
        </p:nvGraphicFramePr>
        <p:xfrm>
          <a:off x="1332000" y="2133720"/>
          <a:ext cx="36504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133720"/>
                    <a:ext cx="3650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5"/>
          <p:cNvGraphicFramePr/>
          <p:nvPr/>
        </p:nvGraphicFramePr>
        <p:xfrm>
          <a:off x="3276720" y="2084400"/>
          <a:ext cx="50472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084400"/>
                    <a:ext cx="5047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6"/>
          <p:cNvGraphicFramePr/>
          <p:nvPr/>
        </p:nvGraphicFramePr>
        <p:xfrm>
          <a:off x="4932360" y="2168640"/>
          <a:ext cx="379440" cy="34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2168640"/>
                    <a:ext cx="37944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7"/>
          <p:cNvGraphicFramePr/>
          <p:nvPr/>
        </p:nvGraphicFramePr>
        <p:xfrm>
          <a:off x="1547640" y="2852640"/>
          <a:ext cx="1368720" cy="53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2852640"/>
                    <a:ext cx="1368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AutoShape 8"/>
          <p:cNvSpPr/>
          <p:nvPr/>
        </p:nvSpPr>
        <p:spPr>
          <a:xfrm>
            <a:off x="3132000" y="2997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2" name="Object 9"/>
          <p:cNvGraphicFramePr/>
          <p:nvPr/>
        </p:nvGraphicFramePr>
        <p:xfrm>
          <a:off x="3625920" y="2881440"/>
          <a:ext cx="110016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3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25920" y="2881440"/>
                    <a:ext cx="11001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Object 10"/>
          <p:cNvGraphicFramePr/>
          <p:nvPr/>
        </p:nvGraphicFramePr>
        <p:xfrm>
          <a:off x="5137200" y="2935440"/>
          <a:ext cx="326880" cy="387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5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37200" y="2935440"/>
                    <a:ext cx="3268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11"/>
          <p:cNvGraphicFramePr/>
          <p:nvPr/>
        </p:nvGraphicFramePr>
        <p:xfrm>
          <a:off x="7480440" y="2879640"/>
          <a:ext cx="1041120" cy="567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7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80440" y="2879640"/>
                    <a:ext cx="104112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12"/>
          <p:cNvGraphicFramePr/>
          <p:nvPr/>
        </p:nvGraphicFramePr>
        <p:xfrm>
          <a:off x="1560600" y="3478320"/>
          <a:ext cx="326880" cy="387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9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60600" y="3478320"/>
                    <a:ext cx="3268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Object 13"/>
          <p:cNvGraphicFramePr/>
          <p:nvPr/>
        </p:nvGraphicFramePr>
        <p:xfrm>
          <a:off x="3635280" y="3357720"/>
          <a:ext cx="1100160" cy="475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21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35280" y="3357720"/>
                    <a:ext cx="1100160" cy="47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Object 14"/>
          <p:cNvGraphicFramePr/>
          <p:nvPr/>
        </p:nvGraphicFramePr>
        <p:xfrm>
          <a:off x="2627280" y="3933720"/>
          <a:ext cx="326880" cy="387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23" name="Object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627280" y="3933720"/>
                    <a:ext cx="3268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AutoShape 15"/>
          <p:cNvSpPr/>
          <p:nvPr/>
        </p:nvSpPr>
        <p:spPr>
          <a:xfrm>
            <a:off x="219564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25" name="Object 16"/>
          <p:cNvGraphicFramePr/>
          <p:nvPr/>
        </p:nvGraphicFramePr>
        <p:xfrm>
          <a:off x="2733840" y="4491000"/>
          <a:ext cx="355320" cy="327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26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733840" y="4491000"/>
                    <a:ext cx="355320" cy="3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17"/>
          <p:cNvGraphicFramePr/>
          <p:nvPr/>
        </p:nvGraphicFramePr>
        <p:xfrm>
          <a:off x="4572000" y="4365720"/>
          <a:ext cx="1368360" cy="534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28" name="Object 1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0" y="4365720"/>
                    <a:ext cx="13683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18"/>
          <p:cNvGraphicFramePr/>
          <p:nvPr/>
        </p:nvGraphicFramePr>
        <p:xfrm>
          <a:off x="2521080" y="4952880"/>
          <a:ext cx="473040" cy="387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30" name="Object 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521080" y="4952880"/>
                    <a:ext cx="4730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19"/>
          <p:cNvGraphicFramePr/>
          <p:nvPr/>
        </p:nvGraphicFramePr>
        <p:xfrm>
          <a:off x="3360600" y="5000760"/>
          <a:ext cx="327240" cy="387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32" name="Object 1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360600" y="5000760"/>
                    <a:ext cx="3272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AutoShape 20"/>
          <p:cNvSpPr/>
          <p:nvPr/>
        </p:nvSpPr>
        <p:spPr>
          <a:xfrm>
            <a:off x="2195640" y="5084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4" name="Object 21"/>
          <p:cNvGraphicFramePr/>
          <p:nvPr/>
        </p:nvGraphicFramePr>
        <p:xfrm>
          <a:off x="5640480" y="4919760"/>
          <a:ext cx="803160" cy="5364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35" name="Object 2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640480" y="4919760"/>
                    <a:ext cx="80316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22"/>
          <p:cNvGraphicFramePr/>
          <p:nvPr/>
        </p:nvGraphicFramePr>
        <p:xfrm>
          <a:off x="1558800" y="5445000"/>
          <a:ext cx="473040" cy="3873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37" name="Object 22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558800" y="5445000"/>
                    <a:ext cx="4730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23"/>
          <p:cNvGraphicFramePr/>
          <p:nvPr/>
        </p:nvGraphicFramePr>
        <p:xfrm>
          <a:off x="3132000" y="5516640"/>
          <a:ext cx="327240" cy="3873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39" name="Object 23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132000" y="5516640"/>
                    <a:ext cx="3272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24"/>
          <p:cNvGraphicFramePr/>
          <p:nvPr/>
        </p:nvGraphicFramePr>
        <p:xfrm>
          <a:off x="6156360" y="5494320"/>
          <a:ext cx="326880" cy="3571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41" name="Object 24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56360" y="5494320"/>
                    <a:ext cx="3268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25"/>
          <p:cNvGraphicFramePr/>
          <p:nvPr/>
        </p:nvGraphicFramePr>
        <p:xfrm>
          <a:off x="2579760" y="5925960"/>
          <a:ext cx="473040" cy="3873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443" name="Object 25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579760" y="5925960"/>
                    <a:ext cx="4730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26"/>
          <p:cNvGraphicFramePr/>
          <p:nvPr/>
        </p:nvGraphicFramePr>
        <p:xfrm>
          <a:off x="3516480" y="5983200"/>
          <a:ext cx="326880" cy="3873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445" name="Object 2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516480" y="5983200"/>
                    <a:ext cx="3268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27"/>
          <p:cNvGraphicFramePr/>
          <p:nvPr/>
        </p:nvGraphicFramePr>
        <p:xfrm>
          <a:off x="5219640" y="5950080"/>
          <a:ext cx="327240" cy="3571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447" name="Object 27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219640" y="5950080"/>
                    <a:ext cx="3272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E0D7-B404-49E3-B6AB-5AE984089C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1258920" y="1989000"/>
            <a:ext cx="7416720" cy="1008360"/>
          </a:xfrm>
          <a:prstGeom prst="rect">
            <a:avLst/>
          </a:prstGeom>
          <a:solidFill>
            <a:srgbClr val="dff8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妥当性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42176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任意の解釈と任意の変数割り当てが論理式　 を充足するとき，　は妥当であるという（　　　）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は妥当である．　　　　　は充足不能であ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　　 任意の　　　  　につい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　　　　任意の　　　   ，　　　  につい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　　　　任意の　　　　  につい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2" name="Object 4"/>
          <p:cNvGraphicFramePr/>
          <p:nvPr/>
        </p:nvGraphicFramePr>
        <p:xfrm>
          <a:off x="8196120" y="2108160"/>
          <a:ext cx="32724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6120" y="2108160"/>
                    <a:ext cx="3272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Object 5"/>
          <p:cNvGraphicFramePr/>
          <p:nvPr/>
        </p:nvGraphicFramePr>
        <p:xfrm>
          <a:off x="4006800" y="2492280"/>
          <a:ext cx="327240" cy="3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6800" y="2492280"/>
                    <a:ext cx="3272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6"/>
          <p:cNvGraphicFramePr/>
          <p:nvPr/>
        </p:nvGraphicFramePr>
        <p:xfrm>
          <a:off x="7464600" y="2422440"/>
          <a:ext cx="595080" cy="47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4600" y="2422440"/>
                    <a:ext cx="59508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Object 8"/>
          <p:cNvGraphicFramePr/>
          <p:nvPr/>
        </p:nvGraphicFramePr>
        <p:xfrm>
          <a:off x="1547640" y="3429000"/>
          <a:ext cx="327240" cy="387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3429000"/>
                    <a:ext cx="3272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9"/>
          <p:cNvGraphicFramePr/>
          <p:nvPr/>
        </p:nvGraphicFramePr>
        <p:xfrm>
          <a:off x="4643280" y="3429000"/>
          <a:ext cx="594000" cy="38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3280" y="3429000"/>
                    <a:ext cx="5940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AutoShape 10"/>
          <p:cNvSpPr/>
          <p:nvPr/>
        </p:nvSpPr>
        <p:spPr>
          <a:xfrm>
            <a:off x="2124000" y="4437000"/>
            <a:ext cx="433440" cy="216000"/>
          </a:xfrm>
          <a:prstGeom prst="leftRightArrow">
            <a:avLst>
              <a:gd name="adj1" fmla="val 50000"/>
              <a:gd name="adj2" fmla="val 39947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3" name="Object 11"/>
          <p:cNvGraphicFramePr/>
          <p:nvPr/>
        </p:nvGraphicFramePr>
        <p:xfrm>
          <a:off x="1476360" y="4292640"/>
          <a:ext cx="593640" cy="47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4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76360" y="4292640"/>
                    <a:ext cx="5936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AutoShape 12"/>
          <p:cNvSpPr/>
          <p:nvPr/>
        </p:nvSpPr>
        <p:spPr>
          <a:xfrm>
            <a:off x="4067280" y="3500280"/>
            <a:ext cx="433440" cy="216000"/>
          </a:xfrm>
          <a:prstGeom prst="leftRightArrow">
            <a:avLst>
              <a:gd name="adj1" fmla="val 50000"/>
              <a:gd name="adj2" fmla="val 39947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6" name="Object 13"/>
          <p:cNvGraphicFramePr/>
          <p:nvPr/>
        </p:nvGraphicFramePr>
        <p:xfrm>
          <a:off x="3792600" y="4773600"/>
          <a:ext cx="1098360" cy="477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7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92600" y="4773600"/>
                    <a:ext cx="10983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14"/>
          <p:cNvGraphicFramePr/>
          <p:nvPr/>
        </p:nvGraphicFramePr>
        <p:xfrm>
          <a:off x="3780000" y="4292640"/>
          <a:ext cx="1099800" cy="477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9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80000" y="4292640"/>
                    <a:ext cx="109980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15"/>
          <p:cNvGraphicFramePr/>
          <p:nvPr/>
        </p:nvGraphicFramePr>
        <p:xfrm>
          <a:off x="4992840" y="4786200"/>
          <a:ext cx="950760" cy="417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1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92840" y="4786200"/>
                    <a:ext cx="95076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16"/>
          <p:cNvGraphicFramePr/>
          <p:nvPr/>
        </p:nvGraphicFramePr>
        <p:xfrm>
          <a:off x="6300720" y="4292640"/>
          <a:ext cx="1040040" cy="566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3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00720" y="4292640"/>
                    <a:ext cx="10400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17"/>
          <p:cNvGraphicFramePr/>
          <p:nvPr/>
        </p:nvGraphicFramePr>
        <p:xfrm>
          <a:off x="3780000" y="5229360"/>
          <a:ext cx="1098360" cy="477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5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80000" y="5229360"/>
                    <a:ext cx="10983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Object 18"/>
          <p:cNvGraphicFramePr/>
          <p:nvPr/>
        </p:nvGraphicFramePr>
        <p:xfrm>
          <a:off x="7380360" y="4724280"/>
          <a:ext cx="1515960" cy="567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7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380360" y="4724280"/>
                    <a:ext cx="151596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Object 19"/>
          <p:cNvGraphicFramePr/>
          <p:nvPr/>
        </p:nvGraphicFramePr>
        <p:xfrm>
          <a:off x="2671920" y="5734080"/>
          <a:ext cx="1068120" cy="476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79" name="Object 1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71920" y="5734080"/>
                    <a:ext cx="1068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20"/>
          <p:cNvGraphicFramePr/>
          <p:nvPr/>
        </p:nvGraphicFramePr>
        <p:xfrm>
          <a:off x="6372360" y="5229360"/>
          <a:ext cx="1485720" cy="564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81" name="Object 2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372360" y="5229360"/>
                    <a:ext cx="148572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AutoShape 21"/>
          <p:cNvSpPr/>
          <p:nvPr/>
        </p:nvSpPr>
        <p:spPr>
          <a:xfrm>
            <a:off x="2124000" y="4869000"/>
            <a:ext cx="433440" cy="215640"/>
          </a:xfrm>
          <a:prstGeom prst="leftRightArrow">
            <a:avLst>
              <a:gd name="adj1" fmla="val 50000"/>
              <a:gd name="adj2" fmla="val 40014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AutoShape 22"/>
          <p:cNvSpPr/>
          <p:nvPr/>
        </p:nvSpPr>
        <p:spPr>
          <a:xfrm>
            <a:off x="2124000" y="5300640"/>
            <a:ext cx="433440" cy="216000"/>
          </a:xfrm>
          <a:prstGeom prst="leftRightArrow">
            <a:avLst>
              <a:gd name="adj1" fmla="val 50000"/>
              <a:gd name="adj2" fmla="val 39947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AutoShape 23"/>
          <p:cNvSpPr/>
          <p:nvPr/>
        </p:nvSpPr>
        <p:spPr>
          <a:xfrm>
            <a:off x="2124000" y="5805360"/>
            <a:ext cx="433440" cy="216000"/>
          </a:xfrm>
          <a:prstGeom prst="leftRightArrow">
            <a:avLst>
              <a:gd name="adj1" fmla="val 50000"/>
              <a:gd name="adj2" fmla="val 39947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AutoShape 24"/>
          <p:cNvSpPr/>
          <p:nvPr/>
        </p:nvSpPr>
        <p:spPr>
          <a:xfrm>
            <a:off x="4211640" y="5805360"/>
            <a:ext cx="1297080" cy="792360"/>
          </a:xfrm>
          <a:prstGeom prst="cloudCallout">
            <a:avLst>
              <a:gd name="adj1" fmla="val -84273"/>
              <a:gd name="adj2" fmla="val -29560"/>
            </a:avLst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25"/>
          <p:cNvSpPr/>
          <p:nvPr/>
        </p:nvSpPr>
        <p:spPr>
          <a:xfrm>
            <a:off x="4427640" y="5950080"/>
            <a:ext cx="172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閉式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49A4-47EF-4710-812C-A51ACD7427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17"/>
          <p:cNvSpPr/>
          <p:nvPr/>
        </p:nvSpPr>
        <p:spPr>
          <a:xfrm>
            <a:off x="1187280" y="1989000"/>
            <a:ext cx="5185080" cy="648000"/>
          </a:xfrm>
          <a:prstGeom prst="rect">
            <a:avLst/>
          </a:prstGeom>
          <a:solidFill>
            <a:srgbClr val="dff8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論理的帰結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：論理式の集合　　　：論理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　　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を充足する任意の解釈と任意の変数割り当てが必ず　　を充足するとき，　 は　　の論理的帰結であるという（　　　　　）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Object 4"/>
          <p:cNvGraphicFramePr/>
          <p:nvPr/>
        </p:nvGraphicFramePr>
        <p:xfrm>
          <a:off x="1355760" y="2097000"/>
          <a:ext cx="39528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2097000"/>
                    <a:ext cx="3952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Object 5"/>
          <p:cNvGraphicFramePr/>
          <p:nvPr/>
        </p:nvGraphicFramePr>
        <p:xfrm>
          <a:off x="4379760" y="2157480"/>
          <a:ext cx="325440" cy="3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79760" y="2157480"/>
                    <a:ext cx="32544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Object 6"/>
          <p:cNvGraphicFramePr/>
          <p:nvPr/>
        </p:nvGraphicFramePr>
        <p:xfrm>
          <a:off x="1704960" y="2959200"/>
          <a:ext cx="374760" cy="40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04960" y="2959200"/>
                    <a:ext cx="3747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Object 7"/>
          <p:cNvGraphicFramePr/>
          <p:nvPr/>
        </p:nvGraphicFramePr>
        <p:xfrm>
          <a:off x="3059280" y="3429000"/>
          <a:ext cx="36504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9280" y="3429000"/>
                    <a:ext cx="3650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Object 8"/>
          <p:cNvGraphicFramePr/>
          <p:nvPr/>
        </p:nvGraphicFramePr>
        <p:xfrm>
          <a:off x="5940360" y="3429000"/>
          <a:ext cx="32220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0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0360" y="3429000"/>
                    <a:ext cx="322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Object 9"/>
          <p:cNvGraphicFramePr/>
          <p:nvPr/>
        </p:nvGraphicFramePr>
        <p:xfrm>
          <a:off x="6743880" y="3392640"/>
          <a:ext cx="372960" cy="40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2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43880" y="3392640"/>
                    <a:ext cx="37296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Object 10"/>
          <p:cNvGraphicFramePr/>
          <p:nvPr/>
        </p:nvGraphicFramePr>
        <p:xfrm>
          <a:off x="4427640" y="3789360"/>
          <a:ext cx="936360" cy="500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04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27640" y="3789360"/>
                    <a:ext cx="936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Object 11"/>
          <p:cNvGraphicFramePr/>
          <p:nvPr/>
        </p:nvGraphicFramePr>
        <p:xfrm>
          <a:off x="1547640" y="4437000"/>
          <a:ext cx="2374920" cy="56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06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47640" y="4437000"/>
                    <a:ext cx="23749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12"/>
          <p:cNvGraphicFramePr/>
          <p:nvPr/>
        </p:nvGraphicFramePr>
        <p:xfrm>
          <a:off x="4643280" y="4437000"/>
          <a:ext cx="3189600" cy="557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08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43280" y="4437000"/>
                    <a:ext cx="31896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13"/>
          <p:cNvGraphicFramePr/>
          <p:nvPr/>
        </p:nvGraphicFramePr>
        <p:xfrm>
          <a:off x="3132000" y="5589720"/>
          <a:ext cx="3902040" cy="556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10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32000" y="5589720"/>
                    <a:ext cx="390204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Text Box 14"/>
          <p:cNvSpPr/>
          <p:nvPr/>
        </p:nvSpPr>
        <p:spPr>
          <a:xfrm>
            <a:off x="2268360" y="609300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は充足不能であ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AutoShape 15"/>
          <p:cNvSpPr/>
          <p:nvPr/>
        </p:nvSpPr>
        <p:spPr>
          <a:xfrm>
            <a:off x="4067280" y="4581360"/>
            <a:ext cx="433440" cy="216000"/>
          </a:xfrm>
          <a:prstGeom prst="leftRightArrow">
            <a:avLst>
              <a:gd name="adj1" fmla="val 50000"/>
              <a:gd name="adj2" fmla="val 39947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AutoShape 16"/>
          <p:cNvSpPr/>
          <p:nvPr/>
        </p:nvSpPr>
        <p:spPr>
          <a:xfrm>
            <a:off x="1692360" y="5734080"/>
            <a:ext cx="433440" cy="216000"/>
          </a:xfrm>
          <a:prstGeom prst="leftRightArrow">
            <a:avLst>
              <a:gd name="adj1" fmla="val 50000"/>
              <a:gd name="adj2" fmla="val 39947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14" name="Object 18"/>
          <p:cNvGraphicFramePr/>
          <p:nvPr/>
        </p:nvGraphicFramePr>
        <p:xfrm>
          <a:off x="4627440" y="5013360"/>
          <a:ext cx="3902040" cy="557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15" name="Object 1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27440" y="5013360"/>
                    <a:ext cx="39020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Text Box 19"/>
          <p:cNvSpPr/>
          <p:nvPr/>
        </p:nvSpPr>
        <p:spPr>
          <a:xfrm>
            <a:off x="2268360" y="558972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閉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AutoShape 20"/>
          <p:cNvSpPr/>
          <p:nvPr/>
        </p:nvSpPr>
        <p:spPr>
          <a:xfrm>
            <a:off x="4067280" y="5157720"/>
            <a:ext cx="433440" cy="216000"/>
          </a:xfrm>
          <a:prstGeom prst="leftRightArrow">
            <a:avLst>
              <a:gd name="adj1" fmla="val 50000"/>
              <a:gd name="adj2" fmla="val 39947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CEB2-BC81-4562-AE7F-79D01318BB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17"/>
          <p:cNvSpPr/>
          <p:nvPr/>
        </p:nvSpPr>
        <p:spPr>
          <a:xfrm>
            <a:off x="6324480" y="4027320"/>
            <a:ext cx="648000" cy="505080"/>
          </a:xfrm>
          <a:prstGeom prst="rect">
            <a:avLst/>
          </a:prstGeom>
          <a:solidFill>
            <a:srgbClr val="dff8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20" name="Object 11"/>
          <p:cNvGraphicFramePr/>
          <p:nvPr/>
        </p:nvGraphicFramePr>
        <p:xfrm>
          <a:off x="3790800" y="4029120"/>
          <a:ext cx="441180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4029120"/>
                    <a:ext cx="4411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Rectangle 27"/>
          <p:cNvSpPr/>
          <p:nvPr/>
        </p:nvSpPr>
        <p:spPr>
          <a:xfrm>
            <a:off x="1258920" y="5445000"/>
            <a:ext cx="4465440" cy="1152720"/>
          </a:xfrm>
          <a:prstGeom prst="rect">
            <a:avLst/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閉式の充足不能性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閉式　　　　　　の充足不能性を考え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25" name="Object 4"/>
          <p:cNvGraphicFramePr/>
          <p:nvPr/>
        </p:nvGraphicFramePr>
        <p:xfrm>
          <a:off x="2411280" y="2060640"/>
          <a:ext cx="128772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2060640"/>
                    <a:ext cx="1287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5"/>
          <p:cNvGraphicFramePr/>
          <p:nvPr/>
        </p:nvGraphicFramePr>
        <p:xfrm>
          <a:off x="971640" y="2781360"/>
          <a:ext cx="2419200" cy="45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2781360"/>
                    <a:ext cx="24192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6"/>
          <p:cNvGraphicFramePr/>
          <p:nvPr/>
        </p:nvGraphicFramePr>
        <p:xfrm>
          <a:off x="1069920" y="3429000"/>
          <a:ext cx="1838520" cy="49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9920" y="3429000"/>
                    <a:ext cx="183852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Object 7"/>
          <p:cNvGraphicFramePr/>
          <p:nvPr/>
        </p:nvGraphicFramePr>
        <p:xfrm>
          <a:off x="1085760" y="4076640"/>
          <a:ext cx="1806840" cy="49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5760" y="4076640"/>
                    <a:ext cx="180684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AutoShape 8"/>
          <p:cNvSpPr/>
          <p:nvPr/>
        </p:nvSpPr>
        <p:spPr>
          <a:xfrm>
            <a:off x="3035160" y="4173480"/>
            <a:ext cx="503280" cy="216000"/>
          </a:xfrm>
          <a:prstGeom prst="leftRightArrow">
            <a:avLst>
              <a:gd name="adj1" fmla="val 50000"/>
              <a:gd name="adj2" fmla="val 46384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AutoShape 9"/>
          <p:cNvSpPr/>
          <p:nvPr/>
        </p:nvSpPr>
        <p:spPr>
          <a:xfrm>
            <a:off x="3035160" y="3573360"/>
            <a:ext cx="503280" cy="216000"/>
          </a:xfrm>
          <a:prstGeom prst="leftRightArrow">
            <a:avLst>
              <a:gd name="adj1" fmla="val 50000"/>
              <a:gd name="adj2" fmla="val 46384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5" name="Object 10"/>
          <p:cNvGraphicFramePr/>
          <p:nvPr/>
        </p:nvGraphicFramePr>
        <p:xfrm>
          <a:off x="3780000" y="3429000"/>
          <a:ext cx="4443120" cy="490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6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80000" y="3429000"/>
                    <a:ext cx="444312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AutoShape 12"/>
          <p:cNvSpPr/>
          <p:nvPr/>
        </p:nvSpPr>
        <p:spPr>
          <a:xfrm>
            <a:off x="4356000" y="2708280"/>
            <a:ext cx="2737080" cy="504720"/>
          </a:xfrm>
          <a:prstGeom prst="wedgeRoundRectCallout">
            <a:avLst>
              <a:gd name="adj1" fmla="val 76449"/>
              <a:gd name="adj2" fmla="val 99685"/>
              <a:gd name="adj3" fmla="val 16667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4416480" y="27446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一般には決定でき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AutoShape 14"/>
          <p:cNvSpPr/>
          <p:nvPr/>
        </p:nvSpPr>
        <p:spPr>
          <a:xfrm>
            <a:off x="2340000" y="4653000"/>
            <a:ext cx="3744720" cy="576360"/>
          </a:xfrm>
          <a:prstGeom prst="wedgeRoundRectCallout">
            <a:avLst>
              <a:gd name="adj1" fmla="val 55212"/>
              <a:gd name="adj2" fmla="val -75069"/>
              <a:gd name="adj3" fmla="val 16667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2411280" y="4724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ある　　 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であれば決定でき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1" name="Object 16"/>
          <p:cNvGraphicFramePr/>
          <p:nvPr/>
        </p:nvGraphicFramePr>
        <p:xfrm>
          <a:off x="2905200" y="4748040"/>
          <a:ext cx="503280" cy="365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2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05200" y="4748040"/>
                    <a:ext cx="50328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AutoShape 18"/>
          <p:cNvSpPr/>
          <p:nvPr/>
        </p:nvSpPr>
        <p:spPr>
          <a:xfrm>
            <a:off x="6588000" y="4653000"/>
            <a:ext cx="216000" cy="504720"/>
          </a:xfrm>
          <a:prstGeom prst="downArrow">
            <a:avLst>
              <a:gd name="adj1" fmla="val 38231"/>
              <a:gd name="adj2" fmla="val 39117"/>
            </a:avLst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Text Box 19"/>
          <p:cNvSpPr/>
          <p:nvPr/>
        </p:nvSpPr>
        <p:spPr>
          <a:xfrm>
            <a:off x="5940360" y="5157720"/>
            <a:ext cx="165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命題論理式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5" name="Object 20"/>
          <p:cNvGraphicFramePr/>
          <p:nvPr/>
        </p:nvGraphicFramePr>
        <p:xfrm>
          <a:off x="1403280" y="5589720"/>
          <a:ext cx="579600" cy="422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46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03280" y="5589720"/>
                    <a:ext cx="5796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Text Box 21"/>
          <p:cNvSpPr/>
          <p:nvPr/>
        </p:nvSpPr>
        <p:spPr>
          <a:xfrm>
            <a:off x="1835280" y="5589720"/>
            <a:ext cx="396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が</a:t>
            </a:r>
            <a:r>
              <a:rPr b="0" lang="ja-JP" sz="2200" spc="-1" strike="noStrike">
                <a:solidFill>
                  <a:srgbClr val="ff3300"/>
                </a:solidFill>
                <a:latin typeface="Tahoma"/>
              </a:rPr>
              <a:t>恒偽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な命題論理式であれ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1332000" y="6093000"/>
            <a:ext cx="36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3300"/>
                </a:solidFill>
                <a:latin typeface="Tahoma"/>
              </a:rPr>
              <a:t>任意の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解釈</a:t>
            </a:r>
            <a:r>
              <a:rPr b="0" i="1" lang="ja-JP" sz="22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0" lang="ja-JP" sz="22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9" name="Object 25"/>
          <p:cNvGraphicFramePr/>
          <p:nvPr/>
        </p:nvGraphicFramePr>
        <p:xfrm>
          <a:off x="2860560" y="6116760"/>
          <a:ext cx="500040" cy="34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50" name="Object 2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60560" y="6116760"/>
                    <a:ext cx="5000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Object 26"/>
          <p:cNvGraphicFramePr/>
          <p:nvPr/>
        </p:nvGraphicFramePr>
        <p:xfrm>
          <a:off x="3710160" y="6093000"/>
          <a:ext cx="1133280" cy="422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52" name="Object 2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10160" y="6093000"/>
                    <a:ext cx="11332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AutoShape 29"/>
          <p:cNvSpPr/>
          <p:nvPr/>
        </p:nvSpPr>
        <p:spPr>
          <a:xfrm flipV="1" rot="5400000">
            <a:off x="6191280" y="5626080"/>
            <a:ext cx="504720" cy="574560"/>
          </a:xfrm>
          <a:prstGeom prst="pie">
            <a:avLst/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CA84-E6E0-4821-B6A6-DD9E2FA1CF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Rectangle 11"/>
          <p:cNvSpPr/>
          <p:nvPr/>
        </p:nvSpPr>
        <p:spPr>
          <a:xfrm>
            <a:off x="2195640" y="4365720"/>
            <a:ext cx="1728720" cy="358560"/>
          </a:xfrm>
          <a:prstGeom prst="rect">
            <a:avLst/>
          </a:prstGeom>
          <a:solidFill>
            <a:srgbClr val="f8b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Rectangle 12"/>
          <p:cNvSpPr/>
          <p:nvPr/>
        </p:nvSpPr>
        <p:spPr>
          <a:xfrm>
            <a:off x="4594320" y="4365720"/>
            <a:ext cx="1849320" cy="358560"/>
          </a:xfrm>
          <a:prstGeom prst="rect">
            <a:avLst/>
          </a:prstGeom>
          <a:solidFill>
            <a:srgbClr val="f8b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閉式の充足不能性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9" name="Object 4"/>
          <p:cNvGraphicFramePr/>
          <p:nvPr/>
        </p:nvGraphicFramePr>
        <p:xfrm>
          <a:off x="925560" y="2060640"/>
          <a:ext cx="281952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5560" y="2060640"/>
                    <a:ext cx="28195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Rectangle 5"/>
          <p:cNvSpPr/>
          <p:nvPr/>
        </p:nvSpPr>
        <p:spPr>
          <a:xfrm>
            <a:off x="971640" y="2708280"/>
            <a:ext cx="2663640" cy="1441440"/>
          </a:xfrm>
          <a:prstGeom prst="rect">
            <a:avLst/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2" name="Object 6"/>
          <p:cNvGraphicFramePr/>
          <p:nvPr/>
        </p:nvGraphicFramePr>
        <p:xfrm>
          <a:off x="1042920" y="2781360"/>
          <a:ext cx="2144880" cy="12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781360"/>
                    <a:ext cx="214488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Rectangle 8"/>
          <p:cNvSpPr/>
          <p:nvPr/>
        </p:nvSpPr>
        <p:spPr>
          <a:xfrm>
            <a:off x="5292720" y="2708280"/>
            <a:ext cx="2664000" cy="1441440"/>
          </a:xfrm>
          <a:prstGeom prst="rect">
            <a:avLst/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5" name="Object 9"/>
          <p:cNvGraphicFramePr/>
          <p:nvPr/>
        </p:nvGraphicFramePr>
        <p:xfrm>
          <a:off x="5364000" y="2781360"/>
          <a:ext cx="2254320" cy="12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781360"/>
                    <a:ext cx="225432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Text Box 13"/>
          <p:cNvSpPr/>
          <p:nvPr/>
        </p:nvSpPr>
        <p:spPr>
          <a:xfrm>
            <a:off x="2627280" y="4724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恒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 Box 14"/>
          <p:cNvSpPr/>
          <p:nvPr/>
        </p:nvSpPr>
        <p:spPr>
          <a:xfrm>
            <a:off x="5292720" y="4724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恒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15"/>
          <p:cNvSpPr/>
          <p:nvPr/>
        </p:nvSpPr>
        <p:spPr>
          <a:xfrm>
            <a:off x="3406680" y="5135400"/>
            <a:ext cx="2102040" cy="1441440"/>
          </a:xfrm>
          <a:prstGeom prst="rect">
            <a:avLst/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0" name="Object 16"/>
          <p:cNvGraphicFramePr/>
          <p:nvPr/>
        </p:nvGraphicFramePr>
        <p:xfrm>
          <a:off x="3492360" y="5229360"/>
          <a:ext cx="1947960" cy="120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1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360" y="5229360"/>
                    <a:ext cx="194796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Object 17"/>
          <p:cNvGraphicFramePr/>
          <p:nvPr/>
        </p:nvGraphicFramePr>
        <p:xfrm>
          <a:off x="5724360" y="6165720"/>
          <a:ext cx="2144880" cy="39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3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24360" y="6165720"/>
                    <a:ext cx="21448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AutoShape 18"/>
          <p:cNvSpPr/>
          <p:nvPr/>
        </p:nvSpPr>
        <p:spPr>
          <a:xfrm flipV="1">
            <a:off x="2629080" y="5229360"/>
            <a:ext cx="576000" cy="576000"/>
          </a:xfrm>
          <a:prstGeom prst="pie">
            <a:avLst/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AutoShape 19"/>
          <p:cNvSpPr/>
          <p:nvPr/>
        </p:nvSpPr>
        <p:spPr>
          <a:xfrm flipH="1" flipV="1">
            <a:off x="5723640" y="5229360"/>
            <a:ext cx="576360" cy="576000"/>
          </a:xfrm>
          <a:prstGeom prst="pie">
            <a:avLst/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AutoShape 20"/>
          <p:cNvSpPr/>
          <p:nvPr/>
        </p:nvSpPr>
        <p:spPr>
          <a:xfrm>
            <a:off x="539640" y="5661000"/>
            <a:ext cx="2087640" cy="934920"/>
          </a:xfrm>
          <a:prstGeom prst="cloudCallout">
            <a:avLst>
              <a:gd name="adj1" fmla="val 87111"/>
              <a:gd name="adj2" fmla="val 18083"/>
            </a:avLst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Text Box 21"/>
          <p:cNvSpPr/>
          <p:nvPr/>
        </p:nvSpPr>
        <p:spPr>
          <a:xfrm>
            <a:off x="684360" y="587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標準的解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8" name="Object 10"/>
          <p:cNvGraphicFramePr/>
          <p:nvPr/>
        </p:nvGraphicFramePr>
        <p:xfrm>
          <a:off x="4572000" y="4365720"/>
          <a:ext cx="4362480" cy="357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9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365720"/>
                    <a:ext cx="43624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0" name="Object 7"/>
          <p:cNvGraphicFramePr/>
          <p:nvPr/>
        </p:nvGraphicFramePr>
        <p:xfrm>
          <a:off x="250920" y="4365720"/>
          <a:ext cx="4132080" cy="355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1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0920" y="4365720"/>
                    <a:ext cx="41320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BCA7-8426-4681-8335-66934BE5E7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6732720" y="3141720"/>
            <a:ext cx="2016000" cy="1800000"/>
          </a:xfrm>
          <a:prstGeom prst="rect">
            <a:avLst/>
          </a:prstGeom>
          <a:solidFill>
            <a:srgbClr val="bad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4788000" y="3141720"/>
            <a:ext cx="720720" cy="180000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述語論理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述語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ate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）の導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太郎は人間である」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花子は人間である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4140360" y="3500280"/>
            <a:ext cx="502920" cy="144720"/>
          </a:xfrm>
          <a:prstGeom prst="rightArrow">
            <a:avLst>
              <a:gd name="adj1" fmla="val 50000"/>
              <a:gd name="adj2" fmla="val 86878"/>
            </a:avLst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4932360" y="3429000"/>
          <a:ext cx="353880" cy="3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3429000"/>
                    <a:ext cx="35388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AutoShape 10"/>
          <p:cNvSpPr/>
          <p:nvPr/>
        </p:nvSpPr>
        <p:spPr>
          <a:xfrm>
            <a:off x="4140360" y="4365720"/>
            <a:ext cx="502920" cy="144360"/>
          </a:xfrm>
          <a:prstGeom prst="rightArrow">
            <a:avLst>
              <a:gd name="adj1" fmla="val 50000"/>
              <a:gd name="adj2" fmla="val 87095"/>
            </a:avLst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Object 11"/>
          <p:cNvGraphicFramePr/>
          <p:nvPr/>
        </p:nvGraphicFramePr>
        <p:xfrm>
          <a:off x="4932360" y="4221000"/>
          <a:ext cx="3603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4221000"/>
                    <a:ext cx="3603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13"/>
          <p:cNvSpPr/>
          <p:nvPr/>
        </p:nvSpPr>
        <p:spPr>
          <a:xfrm>
            <a:off x="3851280" y="2637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命題論理による表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2700360" y="5084640"/>
            <a:ext cx="2592360" cy="432000"/>
          </a:xfrm>
          <a:custGeom>
            <a:avLst/>
            <a:gdLst>
              <a:gd name="textAreaLeft" fmla="*/ 554040 w 2592360"/>
              <a:gd name="textAreaRight" fmla="*/ 1779120 w 259236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235" hR="21600" stAng="10800000" swAng="-5400000"/>
                <a:lnTo>
                  <a:pt x="10206" y="21600"/>
                </a:lnTo>
                <a:arcTo wR="9235" hR="21600" stAng="5400000" swAng="-3024595"/>
                <a:lnTo>
                  <a:pt x="21072" y="7200"/>
                </a:lnTo>
                <a:lnTo>
                  <a:pt x="18955" y="0"/>
                </a:lnTo>
                <a:lnTo>
                  <a:pt x="15781" y="7200"/>
                </a:lnTo>
                <a:lnTo>
                  <a:pt x="17941" y="7200"/>
                </a:lnTo>
                <a:arcTo wR="9235" hR="21600" stAng="2375405" swAng="2947231"/>
                <a:lnTo>
                  <a:pt x="9720" y="21570"/>
                </a:lnTo>
                <a:arcTo wR="9235" hR="21600" stAng="5477364" swAng="5322636"/>
                <a:close/>
              </a:path>
              <a:path fill="darkenLess" w="21600" h="21600">
                <a:moveTo>
                  <a:pt x="0" y="0"/>
                </a:moveTo>
                <a:arcTo wR="9235" hR="21600" stAng="10800000" swAng="-5400000"/>
                <a:lnTo>
                  <a:pt x="10206" y="21600"/>
                </a:lnTo>
                <a:arcTo wR="9235" hR="21600" stAng="5400000" swAng="77364"/>
                <a:lnTo>
                  <a:pt x="9720" y="21570"/>
                </a:lnTo>
                <a:arcTo wR="9235" hR="21600" stAng="5477364" swAng="5322636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971640" y="5661000"/>
            <a:ext cx="59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「・・・人間である」という共通する情報が欠落してしま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5651640" y="3645000"/>
            <a:ext cx="86508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8b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Object 17"/>
          <p:cNvGraphicFramePr/>
          <p:nvPr/>
        </p:nvGraphicFramePr>
        <p:xfrm>
          <a:off x="7004160" y="3429000"/>
          <a:ext cx="1073160" cy="4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4160" y="3429000"/>
                    <a:ext cx="107316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8"/>
          <p:cNvGraphicFramePr/>
          <p:nvPr/>
        </p:nvGraphicFramePr>
        <p:xfrm>
          <a:off x="7021440" y="4221000"/>
          <a:ext cx="1519200" cy="43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21440" y="4221000"/>
                    <a:ext cx="151920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19"/>
          <p:cNvSpPr/>
          <p:nvPr/>
        </p:nvSpPr>
        <p:spPr>
          <a:xfrm>
            <a:off x="5651640" y="3905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述語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6551640" y="2637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述語論理による表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6F3E-BC43-4F2F-A8F8-CBFD532278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まとめると</a:t>
            </a:r>
            <a:r>
              <a:rPr b="0" lang="en-US" sz="4400" spc="-1" strike="noStrike">
                <a:solidFill>
                  <a:srgbClr val="6a4076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一階述語論理式の充足不能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　　　　　　　　閉式の充足不能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　　　 の充足不能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充足不能であれば決定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　　　　　　　　 標準的な解釈の存在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AutoShape 4"/>
          <p:cNvSpPr/>
          <p:nvPr/>
        </p:nvSpPr>
        <p:spPr>
          <a:xfrm>
            <a:off x="3132000" y="4221000"/>
            <a:ext cx="360360" cy="287640"/>
          </a:xfrm>
          <a:prstGeom prst="rightArrow">
            <a:avLst>
              <a:gd name="adj1" fmla="val 50000"/>
              <a:gd name="adj2" fmla="val 31320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86" name="Object 5"/>
          <p:cNvGraphicFramePr/>
          <p:nvPr/>
        </p:nvGraphicFramePr>
        <p:xfrm>
          <a:off x="1619280" y="3573360"/>
          <a:ext cx="1287360" cy="5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573360"/>
                    <a:ext cx="12873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AutoShape 6"/>
          <p:cNvSpPr/>
          <p:nvPr/>
        </p:nvSpPr>
        <p:spPr>
          <a:xfrm>
            <a:off x="3132000" y="472428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AutoShape 7"/>
          <p:cNvSpPr/>
          <p:nvPr/>
        </p:nvSpPr>
        <p:spPr>
          <a:xfrm>
            <a:off x="3132000" y="270828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070A-3405-4918-BA0E-8BDF32F3E6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述語論理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限量記号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fier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導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は     であ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ＭＳ Ｐゴシック"/>
              </a:rPr>
              <a:t>すべて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　　は　　である：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ＭＳ Ｐゴシック"/>
              </a:rPr>
              <a:t>ある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　　は　　であ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2027160" y="3330720"/>
          <a:ext cx="36216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3330720"/>
                    <a:ext cx="362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2843280" y="3284640"/>
          <a:ext cx="50472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3284640"/>
                    <a:ext cx="504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0" y="0"/>
          <a:ext cx="914400" cy="19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7"/>
          <p:cNvGraphicFramePr/>
          <p:nvPr/>
        </p:nvGraphicFramePr>
        <p:xfrm>
          <a:off x="6012000" y="3213000"/>
          <a:ext cx="88884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2000" y="3213000"/>
                    <a:ext cx="8888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8"/>
          <p:cNvGraphicFramePr/>
          <p:nvPr/>
        </p:nvGraphicFramePr>
        <p:xfrm>
          <a:off x="3481560" y="5349960"/>
          <a:ext cx="50292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1560" y="5349960"/>
                    <a:ext cx="5029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9"/>
          <p:cNvGraphicFramePr/>
          <p:nvPr/>
        </p:nvGraphicFramePr>
        <p:xfrm>
          <a:off x="2689200" y="5311800"/>
          <a:ext cx="39996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89200" y="5311800"/>
                    <a:ext cx="399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0"/>
          <p:cNvGraphicFramePr/>
          <p:nvPr/>
        </p:nvGraphicFramePr>
        <p:xfrm>
          <a:off x="3411360" y="4292640"/>
          <a:ext cx="401760" cy="446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11360" y="4292640"/>
                    <a:ext cx="4017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1"/>
          <p:cNvGraphicFramePr/>
          <p:nvPr/>
        </p:nvGraphicFramePr>
        <p:xfrm>
          <a:off x="4222800" y="4336920"/>
          <a:ext cx="50472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2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22800" y="4336920"/>
                    <a:ext cx="5047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2"/>
          <p:cNvGraphicFramePr/>
          <p:nvPr/>
        </p:nvGraphicFramePr>
        <p:xfrm>
          <a:off x="5956200" y="4265640"/>
          <a:ext cx="1481400" cy="571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4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56200" y="4265640"/>
                    <a:ext cx="14814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3"/>
          <p:cNvGraphicFramePr/>
          <p:nvPr/>
        </p:nvGraphicFramePr>
        <p:xfrm>
          <a:off x="6012000" y="5229360"/>
          <a:ext cx="1388880" cy="561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6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12000" y="5229360"/>
                    <a:ext cx="1388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AutoShape 14"/>
          <p:cNvSpPr/>
          <p:nvPr/>
        </p:nvSpPr>
        <p:spPr>
          <a:xfrm>
            <a:off x="6804000" y="3716280"/>
            <a:ext cx="1366920" cy="433440"/>
          </a:xfrm>
          <a:prstGeom prst="wedgeRectCallout">
            <a:avLst>
              <a:gd name="adj1" fmla="val -94018"/>
              <a:gd name="adj2" fmla="val 75273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6877080" y="3716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全称記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AutoShape 16"/>
          <p:cNvSpPr/>
          <p:nvPr/>
        </p:nvSpPr>
        <p:spPr>
          <a:xfrm>
            <a:off x="6730920" y="5877000"/>
            <a:ext cx="1366920" cy="433440"/>
          </a:xfrm>
          <a:prstGeom prst="wedgeRectCallout">
            <a:avLst>
              <a:gd name="adj1" fmla="val -88212"/>
              <a:gd name="adj2" fmla="val -82967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6804000" y="5877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存在記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6F6F-577E-46BD-B606-28EAC58A2B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一階述語論理の構文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語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個体定数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個体変数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関数記号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ymbo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述語記号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ate symbo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論理記号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ve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限量記号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fier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補助記号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ctuation symbo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Object 4"/>
          <p:cNvGraphicFramePr/>
          <p:nvPr/>
        </p:nvGraphicFramePr>
        <p:xfrm>
          <a:off x="5292720" y="2565360"/>
          <a:ext cx="1511280" cy="5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2565360"/>
                    <a:ext cx="15112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5"/>
          <p:cNvGraphicFramePr/>
          <p:nvPr/>
        </p:nvGraphicFramePr>
        <p:xfrm>
          <a:off x="5292720" y="3068640"/>
          <a:ext cx="151128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3068640"/>
                    <a:ext cx="15112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6"/>
          <p:cNvGraphicFramePr/>
          <p:nvPr/>
        </p:nvGraphicFramePr>
        <p:xfrm>
          <a:off x="6443640" y="3500280"/>
          <a:ext cx="1081080" cy="46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3500280"/>
                    <a:ext cx="108108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7"/>
          <p:cNvGraphicFramePr/>
          <p:nvPr/>
        </p:nvGraphicFramePr>
        <p:xfrm>
          <a:off x="6516720" y="4005360"/>
          <a:ext cx="1162080" cy="40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4005360"/>
                    <a:ext cx="116208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8"/>
          <p:cNvGraphicFramePr/>
          <p:nvPr/>
        </p:nvGraphicFramePr>
        <p:xfrm>
          <a:off x="5651640" y="4508640"/>
          <a:ext cx="1604880" cy="40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51640" y="4508640"/>
                    <a:ext cx="160488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9"/>
          <p:cNvGraphicFramePr/>
          <p:nvPr/>
        </p:nvGraphicFramePr>
        <p:xfrm>
          <a:off x="5580000" y="4941720"/>
          <a:ext cx="576360" cy="40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5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80000" y="4941720"/>
                    <a:ext cx="576360" cy="4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"/>
          <p:cNvGraphicFramePr/>
          <p:nvPr/>
        </p:nvGraphicFramePr>
        <p:xfrm>
          <a:off x="6877080" y="5373720"/>
          <a:ext cx="503280" cy="471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7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77080" y="5373720"/>
                    <a:ext cx="503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CA04-F380-4F4A-8027-3AF0621AC1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一階述語論理の構文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項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）の帰納的定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１）個体定数は</a:t>
            </a:r>
            <a:r>
              <a:rPr b="0" lang="ja-JP" sz="2400" spc="-1" strike="noStrike">
                <a:solidFill>
                  <a:srgbClr val="ff3300"/>
                </a:solidFill>
                <a:latin typeface="Tahoma"/>
              </a:rPr>
              <a:t>項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である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２）個体変数は</a:t>
            </a:r>
            <a:r>
              <a:rPr b="0" lang="ja-JP" sz="2400" spc="-1" strike="noStrike">
                <a:solidFill>
                  <a:srgbClr val="ff3300"/>
                </a:solidFill>
                <a:latin typeface="Tahoma"/>
              </a:rPr>
              <a:t>項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である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３）　 が　  引数の関数記号，　　　　 が</a:t>
            </a:r>
            <a:r>
              <a:rPr b="0" lang="ja-JP" sz="2400" spc="-1" strike="noStrike">
                <a:solidFill>
                  <a:srgbClr val="ff3300"/>
                </a:solidFill>
                <a:latin typeface="Tahoma"/>
              </a:rPr>
              <a:t>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⇒　　　　　　　　は</a:t>
            </a:r>
            <a:r>
              <a:rPr b="0" lang="ja-JP" sz="2400" spc="-1" strike="noStrike">
                <a:solidFill>
                  <a:srgbClr val="ff3300"/>
                </a:solidFill>
                <a:latin typeface="Tahoma"/>
              </a:rPr>
              <a:t>項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である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４）項とは（１），（２），（３）を有限回繰り返し適用して得られる記号列のみである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2211480" y="3429000"/>
          <a:ext cx="34452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1480" y="3429000"/>
                    <a:ext cx="3445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5"/>
          <p:cNvGraphicFramePr/>
          <p:nvPr/>
        </p:nvGraphicFramePr>
        <p:xfrm>
          <a:off x="2905200" y="3475080"/>
          <a:ext cx="32364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5200" y="3475080"/>
                    <a:ext cx="3236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7"/>
          <p:cNvGraphicFramePr/>
          <p:nvPr/>
        </p:nvGraphicFramePr>
        <p:xfrm>
          <a:off x="2556000" y="3849840"/>
          <a:ext cx="1511280" cy="47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3849840"/>
                    <a:ext cx="1511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8"/>
          <p:cNvGraphicFramePr/>
          <p:nvPr/>
        </p:nvGraphicFramePr>
        <p:xfrm>
          <a:off x="5508720" y="3357720"/>
          <a:ext cx="1008000" cy="47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08720" y="3357720"/>
                    <a:ext cx="10080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9CB2-7B01-429E-9A85-5DEE2C0F83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一階述語論理の構文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整式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ff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）の帰納的定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１）　　が　　引数の述語記号，　　　　　が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⇒　　　　　　　　は</a:t>
            </a:r>
            <a:r>
              <a:rPr b="0" lang="ja-JP" sz="2400" spc="-1" strike="noStrike">
                <a:solidFill>
                  <a:srgbClr val="ff3300"/>
                </a:solidFill>
                <a:latin typeface="Tahoma"/>
              </a:rPr>
              <a:t>整式（素式）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である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２）　　　　が</a:t>
            </a:r>
            <a:r>
              <a:rPr b="0" lang="ja-JP" sz="2400" spc="-1" strike="noStrike">
                <a:solidFill>
                  <a:srgbClr val="ff3300"/>
                </a:solidFill>
                <a:latin typeface="Tahoma"/>
              </a:rPr>
              <a:t>整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⇒　　　　　　　　　　　　　　　　　　　は</a:t>
            </a:r>
            <a:r>
              <a:rPr b="0" lang="ja-JP" sz="2400" spc="-1" strike="noStrike">
                <a:solidFill>
                  <a:srgbClr val="ff3300"/>
                </a:solidFill>
                <a:latin typeface="Tahoma"/>
              </a:rPr>
              <a:t>整式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である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３）　　が</a:t>
            </a:r>
            <a:r>
              <a:rPr b="0" lang="ja-JP" sz="2400" spc="-1" strike="noStrike">
                <a:solidFill>
                  <a:srgbClr val="ff3300"/>
                </a:solidFill>
                <a:latin typeface="Tahoma"/>
              </a:rPr>
              <a:t>整式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，　 が個体変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⇒　　　　　　    は</a:t>
            </a:r>
            <a:r>
              <a:rPr b="0" lang="ja-JP" sz="2400" spc="-1" strike="noStrike">
                <a:solidFill>
                  <a:srgbClr val="ff3300"/>
                </a:solidFill>
                <a:latin typeface="Tahoma"/>
              </a:rPr>
              <a:t>整式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である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４）整式とは（１），（２），（３）を有限回繰り返し適用して得られる記号列のみである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Object 4"/>
          <p:cNvGraphicFramePr/>
          <p:nvPr/>
        </p:nvGraphicFramePr>
        <p:xfrm>
          <a:off x="2268360" y="2637000"/>
          <a:ext cx="328680" cy="35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637000"/>
                    <a:ext cx="32868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5"/>
          <p:cNvGraphicFramePr/>
          <p:nvPr/>
        </p:nvGraphicFramePr>
        <p:xfrm>
          <a:off x="2987640" y="2637000"/>
          <a:ext cx="32544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637000"/>
                    <a:ext cx="3254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8"/>
          <p:cNvGraphicFramePr/>
          <p:nvPr/>
        </p:nvGraphicFramePr>
        <p:xfrm>
          <a:off x="5724360" y="2565360"/>
          <a:ext cx="935280" cy="439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2565360"/>
                    <a:ext cx="93528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9"/>
          <p:cNvGraphicFramePr/>
          <p:nvPr/>
        </p:nvGraphicFramePr>
        <p:xfrm>
          <a:off x="2484360" y="2997360"/>
          <a:ext cx="1481040" cy="47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2997360"/>
                    <a:ext cx="14810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10"/>
          <p:cNvGraphicFramePr/>
          <p:nvPr/>
        </p:nvGraphicFramePr>
        <p:xfrm>
          <a:off x="2340000" y="3500280"/>
          <a:ext cx="677880" cy="382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1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40000" y="3500280"/>
                    <a:ext cx="67788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11"/>
          <p:cNvGraphicFramePr/>
          <p:nvPr/>
        </p:nvGraphicFramePr>
        <p:xfrm>
          <a:off x="2556000" y="3933720"/>
          <a:ext cx="3686040" cy="42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56000" y="3933720"/>
                    <a:ext cx="36860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12"/>
          <p:cNvGraphicFramePr/>
          <p:nvPr/>
        </p:nvGraphicFramePr>
        <p:xfrm>
          <a:off x="2268360" y="4365720"/>
          <a:ext cx="301680" cy="392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5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68360" y="4365720"/>
                    <a:ext cx="3016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3"/>
          <p:cNvGraphicFramePr/>
          <p:nvPr/>
        </p:nvGraphicFramePr>
        <p:xfrm>
          <a:off x="3708360" y="4365720"/>
          <a:ext cx="336600" cy="372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7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08360" y="4365720"/>
                    <a:ext cx="336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4"/>
          <p:cNvGraphicFramePr/>
          <p:nvPr/>
        </p:nvGraphicFramePr>
        <p:xfrm>
          <a:off x="2484360" y="4724280"/>
          <a:ext cx="1511280" cy="462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9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84360" y="4724280"/>
                    <a:ext cx="151128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C43B-401A-43FC-8B0E-D4F3304587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限量記号の作用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作用域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pe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    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　　（ただし　　　　　　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束縛変数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d variable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）：　　　の　 に現れ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自由変数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variable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）： 束縛変数以外の変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2482920" y="4869000"/>
            <a:ext cx="4105080" cy="93492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5364000" y="5011560"/>
            <a:ext cx="1079640" cy="649440"/>
          </a:xfrm>
          <a:prstGeom prst="rect">
            <a:avLst/>
          </a:prstGeom>
          <a:solidFill>
            <a:srgbClr val="f4f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1663560" y="4940280"/>
          <a:ext cx="495144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3560" y="4940280"/>
                    <a:ext cx="49514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Text Box 10"/>
          <p:cNvSpPr/>
          <p:nvPr/>
        </p:nvSpPr>
        <p:spPr>
          <a:xfrm>
            <a:off x="4067280" y="39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束縛変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4572000" y="5877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</a:rPr>
              <a:t>自由変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12"/>
          <p:cNvSpPr/>
          <p:nvPr/>
        </p:nvSpPr>
        <p:spPr>
          <a:xfrm flipH="1" flipV="1">
            <a:off x="3922560" y="5587560"/>
            <a:ext cx="720720" cy="505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13"/>
          <p:cNvSpPr/>
          <p:nvPr/>
        </p:nvSpPr>
        <p:spPr>
          <a:xfrm flipH="1">
            <a:off x="6084720" y="443700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3419280" y="4437000"/>
            <a:ext cx="122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6588000" y="4148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束縛変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3" name="Object 18"/>
          <p:cNvGraphicFramePr/>
          <p:nvPr/>
        </p:nvGraphicFramePr>
        <p:xfrm>
          <a:off x="5619600" y="2565360"/>
          <a:ext cx="79560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19600" y="2565360"/>
                    <a:ext cx="79560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19"/>
          <p:cNvGraphicFramePr/>
          <p:nvPr/>
        </p:nvGraphicFramePr>
        <p:xfrm>
          <a:off x="5110200" y="2111400"/>
          <a:ext cx="33192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10200" y="2111400"/>
                    <a:ext cx="3319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20"/>
          <p:cNvGraphicFramePr/>
          <p:nvPr/>
        </p:nvGraphicFramePr>
        <p:xfrm>
          <a:off x="3995640" y="2060640"/>
          <a:ext cx="795600" cy="4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5640" y="2060640"/>
                    <a:ext cx="79560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21"/>
          <p:cNvGraphicFramePr/>
          <p:nvPr/>
        </p:nvGraphicFramePr>
        <p:xfrm>
          <a:off x="6732720" y="2060640"/>
          <a:ext cx="1382760" cy="45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32720" y="2060640"/>
                    <a:ext cx="138276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22"/>
          <p:cNvGraphicFramePr/>
          <p:nvPr/>
        </p:nvGraphicFramePr>
        <p:xfrm>
          <a:off x="6804000" y="2637000"/>
          <a:ext cx="33192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04000" y="2637000"/>
                    <a:ext cx="3319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23"/>
          <p:cNvGraphicFramePr/>
          <p:nvPr/>
        </p:nvGraphicFramePr>
        <p:xfrm>
          <a:off x="8459640" y="2637000"/>
          <a:ext cx="336600" cy="372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4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459640" y="2637000"/>
                    <a:ext cx="336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Line 24"/>
          <p:cNvSpPr/>
          <p:nvPr/>
        </p:nvSpPr>
        <p:spPr>
          <a:xfrm>
            <a:off x="4643280" y="4437000"/>
            <a:ext cx="136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3A73-1433-4E02-B7DF-48E686345B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1692360" y="3716280"/>
            <a:ext cx="4103640" cy="93672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29"/>
          <p:cNvSpPr/>
          <p:nvPr/>
        </p:nvSpPr>
        <p:spPr>
          <a:xfrm>
            <a:off x="4643280" y="3789360"/>
            <a:ext cx="1008360" cy="792000"/>
          </a:xfrm>
          <a:prstGeom prst="rect">
            <a:avLst/>
          </a:prstGeom>
          <a:solidFill>
            <a:srgbClr val="f4f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限量記号の作用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束縛関係：　　　 の　 と部分式　 の自由変数    　は　　に束縛されるという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閉式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formula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すべての変数が束縛されている整式で，文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）ともいう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1" name="Object 4"/>
          <p:cNvGraphicFramePr/>
          <p:nvPr/>
        </p:nvGraphicFramePr>
        <p:xfrm>
          <a:off x="3203640" y="2016000"/>
          <a:ext cx="792000" cy="4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016000"/>
                    <a:ext cx="7920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5"/>
          <p:cNvGraphicFramePr/>
          <p:nvPr/>
        </p:nvGraphicFramePr>
        <p:xfrm>
          <a:off x="6097680" y="2097000"/>
          <a:ext cx="30168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7680" y="2097000"/>
                    <a:ext cx="3016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6"/>
          <p:cNvGraphicFramePr/>
          <p:nvPr/>
        </p:nvGraphicFramePr>
        <p:xfrm>
          <a:off x="4368960" y="2075040"/>
          <a:ext cx="336240" cy="37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8960" y="2075040"/>
                    <a:ext cx="33624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7"/>
          <p:cNvGraphicFramePr/>
          <p:nvPr/>
        </p:nvGraphicFramePr>
        <p:xfrm>
          <a:off x="8256600" y="2085840"/>
          <a:ext cx="336600" cy="37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56600" y="2085840"/>
                    <a:ext cx="33660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8"/>
          <p:cNvGraphicFramePr/>
          <p:nvPr/>
        </p:nvGraphicFramePr>
        <p:xfrm>
          <a:off x="1979640" y="2382840"/>
          <a:ext cx="433440" cy="541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0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79640" y="2382840"/>
                    <a:ext cx="4334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0"/>
          <p:cNvGraphicFramePr/>
          <p:nvPr/>
        </p:nvGraphicFramePr>
        <p:xfrm>
          <a:off x="6156360" y="2852640"/>
          <a:ext cx="267156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56360" y="2852640"/>
                    <a:ext cx="26715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AutoShape 25"/>
          <p:cNvSpPr/>
          <p:nvPr/>
        </p:nvSpPr>
        <p:spPr>
          <a:xfrm rot="19878000">
            <a:off x="5363640" y="3212640"/>
            <a:ext cx="792360" cy="216000"/>
          </a:xfrm>
          <a:prstGeom prst="rightArrow">
            <a:avLst>
              <a:gd name="adj1" fmla="val 50000"/>
              <a:gd name="adj2" fmla="val 91708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Oval 27"/>
          <p:cNvSpPr/>
          <p:nvPr/>
        </p:nvSpPr>
        <p:spPr>
          <a:xfrm>
            <a:off x="6554880" y="2924280"/>
            <a:ext cx="288720" cy="4334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Oval 28"/>
          <p:cNvSpPr/>
          <p:nvPr/>
        </p:nvSpPr>
        <p:spPr>
          <a:xfrm>
            <a:off x="6948360" y="2924280"/>
            <a:ext cx="287640" cy="4334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6" name="Object 30"/>
          <p:cNvGraphicFramePr/>
          <p:nvPr/>
        </p:nvGraphicFramePr>
        <p:xfrm>
          <a:off x="6732720" y="4221000"/>
          <a:ext cx="863640" cy="563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7" name="Object 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32720" y="4221000"/>
                    <a:ext cx="86364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AutoShape 31"/>
          <p:cNvSpPr/>
          <p:nvPr/>
        </p:nvSpPr>
        <p:spPr>
          <a:xfrm rot="867600">
            <a:off x="5867280" y="436572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Oval 32"/>
          <p:cNvSpPr/>
          <p:nvPr/>
        </p:nvSpPr>
        <p:spPr>
          <a:xfrm>
            <a:off x="7130880" y="4303800"/>
            <a:ext cx="287640" cy="3603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0" name="Group 45"/>
          <p:cNvGrpSpPr/>
          <p:nvPr/>
        </p:nvGrpSpPr>
        <p:grpSpPr>
          <a:xfrm>
            <a:off x="4067280" y="3222360"/>
            <a:ext cx="1079640" cy="639360"/>
            <a:chOff x="4067280" y="3222360"/>
            <a:chExt cx="1079640" cy="639360"/>
          </a:xfrm>
        </p:grpSpPr>
        <p:cxnSp>
          <p:nvCxnSpPr>
            <p:cNvPr id="261" name="AutoShape 36"/>
            <p:cNvCxnSpPr/>
            <p:nvPr/>
          </p:nvCxnSpPr>
          <p:spPr>
            <a:xfrm flipH="1" rot="16200000">
              <a:off x="4246200" y="3680280"/>
              <a:ext cx="2520" cy="360720"/>
            </a:xfrm>
            <a:prstGeom prst="curvedConnector5">
              <a:avLst>
                <a:gd name="adj1" fmla="val -14400000"/>
                <a:gd name="adj2" fmla="val 4995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AutoShape 37"/>
            <p:cNvCxnSpPr/>
            <p:nvPr/>
          </p:nvCxnSpPr>
          <p:spPr>
            <a:xfrm flipH="1" rot="16200000">
              <a:off x="4605840" y="3320640"/>
              <a:ext cx="2520" cy="1080000"/>
            </a:xfrm>
            <a:prstGeom prst="curvedConnector5">
              <a:avLst>
                <a:gd name="adj1" fmla="val -29500000"/>
                <a:gd name="adj2" fmla="val 49983"/>
                <a:gd name="adj3" fmla="val -29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263" name="AutoShape 42"/>
          <p:cNvCxnSpPr/>
          <p:nvPr/>
        </p:nvCxnSpPr>
        <p:spPr>
          <a:xfrm flipH="1" rot="16200000">
            <a:off x="1384560" y="3698640"/>
            <a:ext cx="2520" cy="3243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43"/>
          <p:cNvCxnSpPr/>
          <p:nvPr/>
        </p:nvCxnSpPr>
        <p:spPr>
          <a:xfrm flipH="1" rot="16200000">
            <a:off x="1853280" y="3229920"/>
            <a:ext cx="73800" cy="1332720"/>
          </a:xfrm>
          <a:prstGeom prst="curvedConnector5">
            <a:avLst>
              <a:gd name="adj1" fmla="val -656372"/>
              <a:gd name="adj2" fmla="val 49986"/>
              <a:gd name="adj3" fmla="val -6563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265" name="Object 9"/>
          <p:cNvGraphicFramePr/>
          <p:nvPr/>
        </p:nvGraphicFramePr>
        <p:xfrm>
          <a:off x="900000" y="3789360"/>
          <a:ext cx="4953240" cy="74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6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00000" y="3789360"/>
                    <a:ext cx="49532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Text Box 46"/>
          <p:cNvSpPr/>
          <p:nvPr/>
        </p:nvSpPr>
        <p:spPr>
          <a:xfrm>
            <a:off x="6300720" y="3429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自由変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47"/>
          <p:cNvSpPr/>
          <p:nvPr/>
        </p:nvSpPr>
        <p:spPr>
          <a:xfrm>
            <a:off x="6732720" y="4724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自由変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D063-A28E-4C61-A62C-66F6EAFCFF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自然言語文→述語論理式表現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翻訳の基本パター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すべてのものが　　 である．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thing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　　　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なものが存在する．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hing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        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すべての　　は　　である．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　　　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ある　　は　　である．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　　　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4140360" y="2637000"/>
          <a:ext cx="33012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637000"/>
                    <a:ext cx="330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5"/>
          <p:cNvGraphicFramePr/>
          <p:nvPr/>
        </p:nvGraphicFramePr>
        <p:xfrm>
          <a:off x="2050920" y="3560760"/>
          <a:ext cx="3304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560760"/>
                    <a:ext cx="3304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6"/>
          <p:cNvGraphicFramePr/>
          <p:nvPr/>
        </p:nvGraphicFramePr>
        <p:xfrm>
          <a:off x="3276720" y="4437000"/>
          <a:ext cx="328320" cy="35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437000"/>
                    <a:ext cx="32832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7"/>
          <p:cNvGraphicFramePr/>
          <p:nvPr/>
        </p:nvGraphicFramePr>
        <p:xfrm>
          <a:off x="2627280" y="5321160"/>
          <a:ext cx="33012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5321160"/>
                    <a:ext cx="330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8"/>
          <p:cNvGraphicFramePr/>
          <p:nvPr/>
        </p:nvGraphicFramePr>
        <p:xfrm>
          <a:off x="3997440" y="4405320"/>
          <a:ext cx="32688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97440" y="4405320"/>
                    <a:ext cx="3268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9"/>
          <p:cNvGraphicFramePr/>
          <p:nvPr/>
        </p:nvGraphicFramePr>
        <p:xfrm>
          <a:off x="3348000" y="5300640"/>
          <a:ext cx="330120" cy="396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3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48000" y="5300640"/>
                    <a:ext cx="33012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10"/>
          <p:cNvGraphicFramePr/>
          <p:nvPr/>
        </p:nvGraphicFramePr>
        <p:xfrm>
          <a:off x="3159000" y="3030480"/>
          <a:ext cx="1170000" cy="451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5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59000" y="3030480"/>
                    <a:ext cx="117000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11"/>
          <p:cNvGraphicFramePr/>
          <p:nvPr/>
        </p:nvGraphicFramePr>
        <p:xfrm>
          <a:off x="3173400" y="3933720"/>
          <a:ext cx="1143000" cy="463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7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73400" y="3933720"/>
                    <a:ext cx="114300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12"/>
          <p:cNvGraphicFramePr/>
          <p:nvPr/>
        </p:nvGraphicFramePr>
        <p:xfrm>
          <a:off x="3203640" y="4797360"/>
          <a:ext cx="2397240" cy="444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9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03640" y="4797360"/>
                    <a:ext cx="23972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13"/>
          <p:cNvGraphicFramePr/>
          <p:nvPr/>
        </p:nvGraphicFramePr>
        <p:xfrm>
          <a:off x="3265560" y="5711760"/>
          <a:ext cx="2214360" cy="442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1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65560" y="5711760"/>
                    <a:ext cx="22143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09:03:16Z</dcterms:created>
  <dc:creator>太原育夫</dc:creator>
  <dc:description/>
  <dc:language>en-US</dc:language>
  <cp:lastModifiedBy> </cp:lastModifiedBy>
  <dcterms:modified xsi:type="dcterms:W3CDTF">2008-07-22T09:19:41Z</dcterms:modified>
  <cp:revision>71</cp:revision>
  <dc:subject>(5)述語論理式の構文と意味</dc:subject>
  <dc:title>人工知能の基礎知識</dc:title>
</cp:coreProperties>
</file>