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106.wmf" ContentType="image/x-wmf"/>
  <Override PartName="/ppt/media/image99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B823-9E64-4939-AB3D-9E900ED5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50EB-9C21-445F-ADC8-9CF3AC561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F34F-B55D-4B48-8E34-1A629F07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CAB1-3218-474F-9685-41FEBE8D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F413-AB18-4689-AB41-6B4E15A78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07E-3F4A-4F82-B384-555D9F69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0342-EA71-4F2E-AC93-4F43C3017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CA1A-7E35-40C0-B209-565A9CCC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1919-ECB9-4AE5-B564-6B1FA351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5FC4-AEFE-4B1F-8C7F-8CF7959F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C1FD-F979-44F0-AB02-14B1C7192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40EC-5381-49C0-8BB7-4BC2D097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86B-1BFA-4C5F-AD2D-722CA6DF7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2A5C-AFCC-403B-A5FD-3418CC2A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6CB-54B1-4B9D-A7AD-D1CAFC84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F628-625E-4EDF-B956-531B6F739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2849-81F6-4AE2-91EA-9A44F267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ED99-5C40-4B85-9C22-8A97CBBDF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5001-3452-4CC0-8C9B-CFD5B1094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F53C-EE02-493C-8BC8-DCDD475CC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A3D2-D459-4BA8-9400-342EE6784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722A-3776-4314-AFA0-7C5746BF6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EBC-9820-488A-94E2-EF341CC0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D69-5364-4F10-A5A5-E47E4722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76E-BA08-485C-88A1-808F905A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071-FF84-49D4-8A4F-55FFFA21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F6B1-ECD4-4777-9E63-9E46E3D0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8ACD-9ECF-4B13-92C0-A49FC15E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D009-72B9-417A-814C-DC0E15BE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BA07-AF89-41FB-B9D9-F397B20C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2BC2-4BD2-4F5C-80EC-AB431CA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EEA4-9627-47E4-B45D-DE4CFB4E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FEA4-DC28-4514-A900-641031F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43C-F6AD-4CAA-891B-0C1CC69F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34DE-3F79-4C0C-A8E4-83FF24C3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33A1-B6FA-464E-B822-F62A873E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6D8D-2326-47A0-8557-DAA7508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02AC-7CE2-45FB-AA2C-9E4137AE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2829-2CF4-4895-B0C7-D3A9286F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776-B6E4-4F89-91DC-161D441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905-65D6-4AF6-BA93-E806D259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C01-53FB-4F6E-B7BE-2A7CAD96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985-6A44-46CF-A951-7DD8A748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2E6-8D53-473F-8E0F-1DA3F65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CCF-3650-4254-98EA-1B61F95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8E9-C359-4227-8D73-02B9FEA8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9CDB-E074-4340-B529-3B8FDBA1E6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38960"/>
            <a:ext cx="2786040" cy="276480"/>
            <a:chOff x="3714840" y="643896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10240"/>
              <a:ext cx="825480" cy="1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3896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96DA-9097-4406-8C4F-0C7ABB4A713E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9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3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9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8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7DF7-3BC0-40F1-9112-76FB898C7C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充足不能性と導出原理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充足不能性の証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コーレム標準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エルブラン解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導出原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基礎節に対する導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導出原理の完全性と健全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2CA6-CC02-478E-8FA1-866FC5E9B6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963720" y="2062080"/>
          <a:ext cx="678960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2062080"/>
                    <a:ext cx="67896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968400" y="3009960"/>
          <a:ext cx="619596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8400" y="3009960"/>
                    <a:ext cx="61959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6"/>
          <p:cNvGraphicFramePr/>
          <p:nvPr/>
        </p:nvGraphicFramePr>
        <p:xfrm>
          <a:off x="995400" y="4068720"/>
          <a:ext cx="627372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5400" y="4068720"/>
                    <a:ext cx="62737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7"/>
          <p:cNvGraphicFramePr/>
          <p:nvPr/>
        </p:nvGraphicFramePr>
        <p:xfrm>
          <a:off x="3132000" y="4910040"/>
          <a:ext cx="5570640" cy="15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910040"/>
                    <a:ext cx="557064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971640" y="488304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基礎節の集合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7CF4-8413-4CD7-9DD6-9EFD8BF4AD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エルブラン解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エルブラン解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個体定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関数記号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述語記号：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4286160" y="2049480"/>
          <a:ext cx="271800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6160" y="2049480"/>
                    <a:ext cx="27180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5"/>
          <p:cNvGraphicFramePr/>
          <p:nvPr/>
        </p:nvGraphicFramePr>
        <p:xfrm>
          <a:off x="4173480" y="2587680"/>
          <a:ext cx="105588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3480" y="2587680"/>
                    <a:ext cx="10558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6"/>
          <p:cNvGraphicFramePr/>
          <p:nvPr/>
        </p:nvGraphicFramePr>
        <p:xfrm>
          <a:off x="4160880" y="3102120"/>
          <a:ext cx="39495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0880" y="3102120"/>
                    <a:ext cx="39495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7"/>
          <p:cNvGraphicFramePr/>
          <p:nvPr/>
        </p:nvGraphicFramePr>
        <p:xfrm>
          <a:off x="1528920" y="4292640"/>
          <a:ext cx="282096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8920" y="4292640"/>
                    <a:ext cx="28209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9"/>
          <p:cNvSpPr/>
          <p:nvPr/>
        </p:nvSpPr>
        <p:spPr>
          <a:xfrm>
            <a:off x="6303960" y="4121280"/>
            <a:ext cx="73080" cy="72720"/>
          </a:xfrm>
          <a:prstGeom prst="rect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5259240" y="6226200"/>
            <a:ext cx="73080" cy="73080"/>
          </a:xfrm>
          <a:prstGeom prst="rect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5970600" y="6253200"/>
            <a:ext cx="71280" cy="73080"/>
          </a:xfrm>
          <a:prstGeom prst="rect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7385040" y="6249960"/>
            <a:ext cx="73080" cy="71640"/>
          </a:xfrm>
          <a:prstGeom prst="rect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5618160" y="5194440"/>
            <a:ext cx="73080" cy="72720"/>
          </a:xfrm>
          <a:prstGeom prst="rect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7051680" y="5207040"/>
            <a:ext cx="73080" cy="73080"/>
          </a:xfrm>
          <a:prstGeom prst="rect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6700680" y="6261120"/>
            <a:ext cx="71640" cy="71280"/>
          </a:xfrm>
          <a:prstGeom prst="rect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20"/>
          <p:cNvSpPr/>
          <p:nvPr/>
        </p:nvSpPr>
        <p:spPr>
          <a:xfrm flipH="1">
            <a:off x="5675040" y="4186080"/>
            <a:ext cx="654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21"/>
          <p:cNvSpPr/>
          <p:nvPr/>
        </p:nvSpPr>
        <p:spPr>
          <a:xfrm flipH="1">
            <a:off x="5283000" y="5275440"/>
            <a:ext cx="363240" cy="9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5643720" y="5254560"/>
            <a:ext cx="355320" cy="9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6340320" y="4200480"/>
            <a:ext cx="73044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Line 24"/>
          <p:cNvSpPr/>
          <p:nvPr/>
        </p:nvSpPr>
        <p:spPr>
          <a:xfrm flipH="1">
            <a:off x="6738840" y="5286240"/>
            <a:ext cx="3556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7088040" y="5273640"/>
            <a:ext cx="33192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6" name="Object 28"/>
          <p:cNvGraphicFramePr/>
          <p:nvPr/>
        </p:nvGraphicFramePr>
        <p:xfrm>
          <a:off x="4587840" y="4440240"/>
          <a:ext cx="58428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7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87840" y="4440240"/>
                    <a:ext cx="584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29"/>
          <p:cNvGraphicFramePr/>
          <p:nvPr/>
        </p:nvGraphicFramePr>
        <p:xfrm>
          <a:off x="6846840" y="4508640"/>
          <a:ext cx="260280" cy="314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9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6840" y="4508640"/>
                    <a:ext cx="260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30"/>
          <p:cNvGraphicFramePr/>
          <p:nvPr/>
        </p:nvGraphicFramePr>
        <p:xfrm>
          <a:off x="4578480" y="5450040"/>
          <a:ext cx="60156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8480" y="5450040"/>
                    <a:ext cx="601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31"/>
          <p:cNvGraphicFramePr/>
          <p:nvPr/>
        </p:nvGraphicFramePr>
        <p:xfrm>
          <a:off x="5172120" y="5545080"/>
          <a:ext cx="282600" cy="309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3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72120" y="5545080"/>
                    <a:ext cx="282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32"/>
          <p:cNvGraphicFramePr/>
          <p:nvPr/>
        </p:nvGraphicFramePr>
        <p:xfrm>
          <a:off x="5562720" y="4521240"/>
          <a:ext cx="282600" cy="309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5" name="Object 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62720" y="4521240"/>
                    <a:ext cx="282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33"/>
          <p:cNvGraphicFramePr/>
          <p:nvPr/>
        </p:nvGraphicFramePr>
        <p:xfrm>
          <a:off x="6531120" y="5545080"/>
          <a:ext cx="282600" cy="309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7" name="Object 3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31120" y="5545080"/>
                    <a:ext cx="282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34"/>
          <p:cNvGraphicFramePr/>
          <p:nvPr/>
        </p:nvGraphicFramePr>
        <p:xfrm>
          <a:off x="6000840" y="5540400"/>
          <a:ext cx="260280" cy="314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9" name="Object 3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00840" y="5540400"/>
                    <a:ext cx="260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35"/>
          <p:cNvGraphicFramePr/>
          <p:nvPr/>
        </p:nvGraphicFramePr>
        <p:xfrm>
          <a:off x="7342200" y="5524560"/>
          <a:ext cx="260280" cy="314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1" name="Object 3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42200" y="5524560"/>
                    <a:ext cx="260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Oval 36"/>
          <p:cNvSpPr/>
          <p:nvPr/>
        </p:nvSpPr>
        <p:spPr>
          <a:xfrm rot="1641000">
            <a:off x="5490720" y="3862080"/>
            <a:ext cx="459000" cy="2976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37"/>
          <p:cNvSpPr/>
          <p:nvPr/>
        </p:nvSpPr>
        <p:spPr>
          <a:xfrm>
            <a:off x="1122480" y="6143760"/>
            <a:ext cx="283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一つのエルブラン解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38"/>
          <p:cNvSpPr/>
          <p:nvPr/>
        </p:nvSpPr>
        <p:spPr>
          <a:xfrm flipV="1">
            <a:off x="3998880" y="6367320"/>
            <a:ext cx="95580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utoShape 39"/>
          <p:cNvSpPr/>
          <p:nvPr/>
        </p:nvSpPr>
        <p:spPr>
          <a:xfrm>
            <a:off x="297000" y="4846680"/>
            <a:ext cx="3371760" cy="1008000"/>
          </a:xfrm>
          <a:prstGeom prst="cloudCallout">
            <a:avLst>
              <a:gd name="adj1" fmla="val 37949"/>
              <a:gd name="adj2" fmla="val 75828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40"/>
          <p:cNvSpPr/>
          <p:nvPr/>
        </p:nvSpPr>
        <p:spPr>
          <a:xfrm>
            <a:off x="474840" y="5083200"/>
            <a:ext cx="324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の部分集合に対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Freeform 41"/>
          <p:cNvSpPr/>
          <p:nvPr/>
        </p:nvSpPr>
        <p:spPr>
          <a:xfrm>
            <a:off x="3135240" y="4200480"/>
            <a:ext cx="1627200" cy="26532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Freeform 42"/>
          <p:cNvSpPr/>
          <p:nvPr/>
        </p:nvSpPr>
        <p:spPr>
          <a:xfrm>
            <a:off x="3514680" y="4762440"/>
            <a:ext cx="1295280" cy="66528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43"/>
          <p:cNvSpPr/>
          <p:nvPr/>
        </p:nvSpPr>
        <p:spPr>
          <a:xfrm>
            <a:off x="3919680" y="3633840"/>
            <a:ext cx="44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基礎例に真偽を割当てる．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A213-7CFE-4CB2-9160-CE68B0638F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1441440" y="3382920"/>
            <a:ext cx="6707160" cy="2778120"/>
          </a:xfrm>
          <a:prstGeom prst="wedgeRectCallout">
            <a:avLst>
              <a:gd name="adj1" fmla="val -3347"/>
              <a:gd name="adj2" fmla="val -64513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エルブラン解釈の充足可能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節集合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が充足可能ならば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充足するエルブラン解釈が存在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ある解釈　　　　　　　　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充足するとき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基礎例　　　　　　  の真理値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すれば，このエルブラン解釈は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充足す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2894040" y="3490920"/>
          <a:ext cx="1596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3490920"/>
                    <a:ext cx="1596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5"/>
          <p:cNvGraphicFramePr/>
          <p:nvPr/>
        </p:nvGraphicFramePr>
        <p:xfrm>
          <a:off x="2649600" y="3884760"/>
          <a:ext cx="144288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9600" y="3884760"/>
                    <a:ext cx="14428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6"/>
          <p:cNvGraphicFramePr/>
          <p:nvPr/>
        </p:nvGraphicFramePr>
        <p:xfrm>
          <a:off x="1981080" y="4414680"/>
          <a:ext cx="3745080" cy="109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14680"/>
                    <a:ext cx="3745080" cy="10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5871-8DBF-4DA4-BA9B-8468353447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5173560" y="2665440"/>
            <a:ext cx="3341880" cy="3133800"/>
          </a:xfrm>
          <a:prstGeom prst="rect">
            <a:avLst/>
          </a:prstGeom>
          <a:solidFill>
            <a:srgbClr val="f5f3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836640" y="2665440"/>
            <a:ext cx="3289320" cy="228924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996840" y="2017800"/>
          <a:ext cx="311148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2017800"/>
                    <a:ext cx="31114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927000" y="2684520"/>
          <a:ext cx="2819520" cy="22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7000" y="2684520"/>
                    <a:ext cx="28195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6"/>
          <p:cNvGraphicFramePr/>
          <p:nvPr/>
        </p:nvGraphicFramePr>
        <p:xfrm>
          <a:off x="797040" y="5033880"/>
          <a:ext cx="289872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7040" y="5033880"/>
                    <a:ext cx="28987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8"/>
          <p:cNvGraphicFramePr/>
          <p:nvPr/>
        </p:nvGraphicFramePr>
        <p:xfrm>
          <a:off x="785880" y="5877000"/>
          <a:ext cx="298620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80" y="5877000"/>
                    <a:ext cx="29862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9"/>
          <p:cNvGraphicFramePr/>
          <p:nvPr/>
        </p:nvGraphicFramePr>
        <p:xfrm>
          <a:off x="5243400" y="2687760"/>
          <a:ext cx="1884600" cy="83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43400" y="2687760"/>
                    <a:ext cx="188460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0"/>
          <p:cNvGraphicFramePr/>
          <p:nvPr/>
        </p:nvGraphicFramePr>
        <p:xfrm>
          <a:off x="5268960" y="3484440"/>
          <a:ext cx="1077840" cy="49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68960" y="3484440"/>
                    <a:ext cx="10778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11"/>
          <p:cNvGraphicFramePr/>
          <p:nvPr/>
        </p:nvGraphicFramePr>
        <p:xfrm>
          <a:off x="5265720" y="3922560"/>
          <a:ext cx="3130560" cy="90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65720" y="3922560"/>
                    <a:ext cx="31305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12"/>
          <p:cNvGraphicFramePr/>
          <p:nvPr/>
        </p:nvGraphicFramePr>
        <p:xfrm>
          <a:off x="5278320" y="4842000"/>
          <a:ext cx="3029040" cy="90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78320" y="4842000"/>
                    <a:ext cx="302904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5"/>
          <p:cNvGraphicFramePr/>
          <p:nvPr/>
        </p:nvGraphicFramePr>
        <p:xfrm>
          <a:off x="5143680" y="5884920"/>
          <a:ext cx="2922480" cy="77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2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43680" y="5884920"/>
                    <a:ext cx="2922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AutoShape 16"/>
          <p:cNvSpPr/>
          <p:nvPr/>
        </p:nvSpPr>
        <p:spPr>
          <a:xfrm>
            <a:off x="4336920" y="3435480"/>
            <a:ext cx="592200" cy="768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2248-F8CF-4AB7-A880-DE87920331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エルブランの定理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節集合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充足不能ならば，　　　　　　そのときに限り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充足するエルブラン解釈は存在しない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58"/>
          <p:cNvGrpSpPr/>
          <p:nvPr/>
        </p:nvGrpSpPr>
        <p:grpSpPr>
          <a:xfrm>
            <a:off x="5178600" y="3359160"/>
            <a:ext cx="2136600" cy="2295360"/>
            <a:chOff x="5178600" y="3359160"/>
            <a:chExt cx="2136600" cy="2295360"/>
          </a:xfrm>
        </p:grpSpPr>
        <p:sp>
          <p:nvSpPr>
            <p:cNvPr id="388" name="Rectangle 5"/>
            <p:cNvSpPr/>
            <p:nvPr/>
          </p:nvSpPr>
          <p:spPr>
            <a:xfrm>
              <a:off x="5992920" y="3359160"/>
              <a:ext cx="9036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6"/>
            <p:cNvSpPr/>
            <p:nvPr/>
          </p:nvSpPr>
          <p:spPr>
            <a:xfrm>
              <a:off x="5586480" y="4095720"/>
              <a:ext cx="9036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7"/>
            <p:cNvSpPr/>
            <p:nvPr/>
          </p:nvSpPr>
          <p:spPr>
            <a:xfrm>
              <a:off x="6399360" y="4084560"/>
              <a:ext cx="90360" cy="8748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 flipH="1">
              <a:off x="5619240" y="3448080"/>
              <a:ext cx="41940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>
              <a:off x="6039000" y="3448080"/>
              <a:ext cx="3952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21"/>
            <p:cNvSpPr/>
            <p:nvPr/>
          </p:nvSpPr>
          <p:spPr>
            <a:xfrm>
              <a:off x="5178600" y="4830840"/>
              <a:ext cx="9036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22"/>
            <p:cNvSpPr/>
            <p:nvPr/>
          </p:nvSpPr>
          <p:spPr>
            <a:xfrm>
              <a:off x="6330960" y="4819680"/>
              <a:ext cx="9036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 flipH="1">
              <a:off x="5223960" y="4182840"/>
              <a:ext cx="4064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5630760" y="4182840"/>
              <a:ext cx="10188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27"/>
            <p:cNvSpPr/>
            <p:nvPr/>
          </p:nvSpPr>
          <p:spPr>
            <a:xfrm>
              <a:off x="5688000" y="4797360"/>
              <a:ext cx="8892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28"/>
            <p:cNvSpPr/>
            <p:nvPr/>
          </p:nvSpPr>
          <p:spPr>
            <a:xfrm>
              <a:off x="6807240" y="4819680"/>
              <a:ext cx="9036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29"/>
            <p:cNvSpPr/>
            <p:nvPr/>
          </p:nvSpPr>
          <p:spPr>
            <a:xfrm flipH="1">
              <a:off x="6375600" y="4182840"/>
              <a:ext cx="6984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Line 30"/>
            <p:cNvSpPr/>
            <p:nvPr/>
          </p:nvSpPr>
          <p:spPr>
            <a:xfrm>
              <a:off x="6445440" y="4182840"/>
              <a:ext cx="39528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33"/>
            <p:cNvSpPr/>
            <p:nvPr/>
          </p:nvSpPr>
          <p:spPr>
            <a:xfrm>
              <a:off x="5473800" y="5567400"/>
              <a:ext cx="8892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38"/>
            <p:cNvSpPr/>
            <p:nvPr/>
          </p:nvSpPr>
          <p:spPr>
            <a:xfrm>
              <a:off x="5829480" y="5567400"/>
              <a:ext cx="9036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42"/>
            <p:cNvSpPr/>
            <p:nvPr/>
          </p:nvSpPr>
          <p:spPr>
            <a:xfrm>
              <a:off x="6865920" y="5567400"/>
              <a:ext cx="9036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43"/>
            <p:cNvSpPr/>
            <p:nvPr/>
          </p:nvSpPr>
          <p:spPr>
            <a:xfrm>
              <a:off x="7224840" y="5567400"/>
              <a:ext cx="90360" cy="871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44"/>
            <p:cNvSpPr/>
            <p:nvPr/>
          </p:nvSpPr>
          <p:spPr>
            <a:xfrm>
              <a:off x="6840720" y="4929120"/>
              <a:ext cx="6480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Line 45"/>
            <p:cNvSpPr/>
            <p:nvPr/>
          </p:nvSpPr>
          <p:spPr>
            <a:xfrm>
              <a:off x="6851520" y="4916520"/>
              <a:ext cx="40824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Line 49"/>
            <p:cNvSpPr/>
            <p:nvPr/>
          </p:nvSpPr>
          <p:spPr>
            <a:xfrm flipH="1">
              <a:off x="5494320" y="4884480"/>
              <a:ext cx="23976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50"/>
            <p:cNvSpPr/>
            <p:nvPr/>
          </p:nvSpPr>
          <p:spPr>
            <a:xfrm>
              <a:off x="5722920" y="4884480"/>
              <a:ext cx="13356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" name="Text Box 54"/>
          <p:cNvSpPr/>
          <p:nvPr/>
        </p:nvSpPr>
        <p:spPr>
          <a:xfrm>
            <a:off x="2336760" y="5789520"/>
            <a:ext cx="25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ある基礎節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になるとこのエルブラン解釈は節集合を充足できな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55"/>
          <p:cNvSpPr/>
          <p:nvPr/>
        </p:nvSpPr>
        <p:spPr>
          <a:xfrm flipV="1">
            <a:off x="4740120" y="5598720"/>
            <a:ext cx="66996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6567480" y="35686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基礎例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割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57"/>
          <p:cNvSpPr/>
          <p:nvPr/>
        </p:nvSpPr>
        <p:spPr>
          <a:xfrm flipH="1">
            <a:off x="5920920" y="3738600"/>
            <a:ext cx="66852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59"/>
          <p:cNvSpPr/>
          <p:nvPr/>
        </p:nvSpPr>
        <p:spPr>
          <a:xfrm>
            <a:off x="274680" y="4002120"/>
            <a:ext cx="4416480" cy="1828800"/>
          </a:xfrm>
          <a:prstGeom prst="cloudCallout">
            <a:avLst>
              <a:gd name="adj1" fmla="val 31129"/>
              <a:gd name="adj2" fmla="val -1000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60"/>
          <p:cNvSpPr/>
          <p:nvPr/>
        </p:nvSpPr>
        <p:spPr>
          <a:xfrm>
            <a:off x="677880" y="4240080"/>
            <a:ext cx="36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充足可能なエルブラン解釈が存在しなければ，その節集合は充足不能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Freeform 66"/>
          <p:cNvSpPr/>
          <p:nvPr/>
        </p:nvSpPr>
        <p:spPr>
          <a:xfrm>
            <a:off x="4911840" y="4619520"/>
            <a:ext cx="2719440" cy="122400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67"/>
          <p:cNvSpPr/>
          <p:nvPr/>
        </p:nvSpPr>
        <p:spPr>
          <a:xfrm flipH="1" flipV="1">
            <a:off x="6044760" y="5818320"/>
            <a:ext cx="476280" cy="428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68"/>
          <p:cNvSpPr/>
          <p:nvPr/>
        </p:nvSpPr>
        <p:spPr>
          <a:xfrm>
            <a:off x="5319720" y="6265800"/>
            <a:ext cx="27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充足不能な基礎節の集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Freeform 69"/>
          <p:cNvSpPr/>
          <p:nvPr/>
        </p:nvSpPr>
        <p:spPr>
          <a:xfrm>
            <a:off x="5083200" y="3313080"/>
            <a:ext cx="758880" cy="2825640"/>
          </a:xfrm>
          <a:prstGeom prst="pie">
            <a:avLst/>
          </a:prstGeom>
          <a:noFill/>
          <a:ln w="9360">
            <a:solidFill>
              <a:srgbClr val="e1bf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70"/>
          <p:cNvSpPr/>
          <p:nvPr/>
        </p:nvSpPr>
        <p:spPr>
          <a:xfrm>
            <a:off x="1668600" y="3006720"/>
            <a:ext cx="2492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7DA3-C865-41DF-8447-F132727DE7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1504800" y="4203720"/>
            <a:ext cx="7115400" cy="169560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エルブランの定理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10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節集合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充足不能ならば，　　　　　　そのときに限り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充足するエルブラン解釈は存在しない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エルブランの定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節集合の基礎節全体の集合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と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充足不能ならば，そのときに限り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有限部分集合で充足不能な集合が存在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B412-3016-4975-9A8C-024FB19604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23"/>
          <p:cNvSpPr/>
          <p:nvPr/>
        </p:nvSpPr>
        <p:spPr>
          <a:xfrm>
            <a:off x="6500880" y="3646440"/>
            <a:ext cx="1371600" cy="4795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導出（</a:t>
            </a: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resolution</a:t>
            </a: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基礎節　  がリテラル　を含み，基礎節　　がその相補的リテラル　　 を含むとき，　　から　を除去した節と　　 から　　 を除去した節の選言をとってできる節を　　と　　の導出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n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）といい，この操作を導出という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導出は妥当な推論である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8" name="Object 4"/>
          <p:cNvGraphicFramePr/>
          <p:nvPr/>
        </p:nvGraphicFramePr>
        <p:xfrm>
          <a:off x="2538360" y="2022480"/>
          <a:ext cx="37800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2022480"/>
                    <a:ext cx="3780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5"/>
          <p:cNvGraphicFramePr/>
          <p:nvPr/>
        </p:nvGraphicFramePr>
        <p:xfrm>
          <a:off x="4294080" y="2043000"/>
          <a:ext cx="22248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4080" y="2043000"/>
                    <a:ext cx="222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6438960" y="2011320"/>
          <a:ext cx="406440" cy="4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38960" y="2011320"/>
                    <a:ext cx="4064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7"/>
          <p:cNvGraphicFramePr/>
          <p:nvPr/>
        </p:nvGraphicFramePr>
        <p:xfrm>
          <a:off x="2649600" y="2411280"/>
          <a:ext cx="47628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9600" y="2411280"/>
                    <a:ext cx="476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8"/>
          <p:cNvGraphicFramePr/>
          <p:nvPr/>
        </p:nvGraphicFramePr>
        <p:xfrm>
          <a:off x="4713120" y="2379600"/>
          <a:ext cx="378000" cy="4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3120" y="2379600"/>
                    <a:ext cx="3780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9"/>
          <p:cNvGraphicFramePr/>
          <p:nvPr/>
        </p:nvGraphicFramePr>
        <p:xfrm>
          <a:off x="5665680" y="2444760"/>
          <a:ext cx="222480" cy="41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5680" y="2444760"/>
                    <a:ext cx="222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10"/>
          <p:cNvGraphicFramePr/>
          <p:nvPr/>
        </p:nvGraphicFramePr>
        <p:xfrm>
          <a:off x="7819920" y="2390760"/>
          <a:ext cx="406440" cy="465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19920" y="2390760"/>
                    <a:ext cx="4064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1"/>
          <p:cNvGraphicFramePr/>
          <p:nvPr/>
        </p:nvGraphicFramePr>
        <p:xfrm>
          <a:off x="1859040" y="2778120"/>
          <a:ext cx="47628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59040" y="2778120"/>
                    <a:ext cx="476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12"/>
          <p:cNvGraphicFramePr/>
          <p:nvPr/>
        </p:nvGraphicFramePr>
        <p:xfrm>
          <a:off x="7343640" y="2770200"/>
          <a:ext cx="378000" cy="465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43640" y="2770200"/>
                    <a:ext cx="3780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3"/>
          <p:cNvGraphicFramePr/>
          <p:nvPr/>
        </p:nvGraphicFramePr>
        <p:xfrm>
          <a:off x="8021520" y="2747880"/>
          <a:ext cx="406440" cy="465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021520" y="2747880"/>
                    <a:ext cx="4064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17"/>
          <p:cNvGraphicFramePr/>
          <p:nvPr/>
        </p:nvGraphicFramePr>
        <p:xfrm>
          <a:off x="4286160" y="3613320"/>
          <a:ext cx="3565440" cy="502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4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6160" y="3613320"/>
                    <a:ext cx="356544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Line 21"/>
          <p:cNvSpPr/>
          <p:nvPr/>
        </p:nvSpPr>
        <p:spPr>
          <a:xfrm flipV="1">
            <a:off x="4549680" y="4727160"/>
            <a:ext cx="363564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22"/>
          <p:cNvSpPr/>
          <p:nvPr/>
        </p:nvSpPr>
        <p:spPr>
          <a:xfrm>
            <a:off x="1494000" y="3613320"/>
            <a:ext cx="2587320" cy="177300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2" name="Object 14"/>
          <p:cNvGraphicFramePr/>
          <p:nvPr/>
        </p:nvGraphicFramePr>
        <p:xfrm>
          <a:off x="1689120" y="4135320"/>
          <a:ext cx="1882800" cy="544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3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89120" y="4135320"/>
                    <a:ext cx="1882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15"/>
          <p:cNvGraphicFramePr/>
          <p:nvPr/>
        </p:nvGraphicFramePr>
        <p:xfrm>
          <a:off x="1695600" y="3589200"/>
          <a:ext cx="1647720" cy="544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55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695600" y="3589200"/>
                    <a:ext cx="164772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6"/>
          <p:cNvGraphicFramePr/>
          <p:nvPr/>
        </p:nvGraphicFramePr>
        <p:xfrm>
          <a:off x="2409840" y="4938840"/>
          <a:ext cx="839880" cy="407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57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09840" y="4938840"/>
                    <a:ext cx="8398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Line 20"/>
          <p:cNvSpPr/>
          <p:nvPr/>
        </p:nvSpPr>
        <p:spPr>
          <a:xfrm>
            <a:off x="1695600" y="4772160"/>
            <a:ext cx="213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6434280" y="4917960"/>
            <a:ext cx="1393560" cy="4795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0" name="Object 19"/>
          <p:cNvGraphicFramePr/>
          <p:nvPr/>
        </p:nvGraphicFramePr>
        <p:xfrm>
          <a:off x="4311720" y="4881600"/>
          <a:ext cx="3395520" cy="506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61" name="Object 1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11720" y="4881600"/>
                    <a:ext cx="33955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24"/>
          <p:cNvSpPr/>
          <p:nvPr/>
        </p:nvSpPr>
        <p:spPr>
          <a:xfrm>
            <a:off x="4549680" y="4203720"/>
            <a:ext cx="1123920" cy="44604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3" name="Object 18"/>
          <p:cNvGraphicFramePr/>
          <p:nvPr/>
        </p:nvGraphicFramePr>
        <p:xfrm>
          <a:off x="4286160" y="4226040"/>
          <a:ext cx="1346400" cy="436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64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286160" y="4226040"/>
                    <a:ext cx="134640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B4D6-69A3-48BC-9307-E8B6EB297B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AutoShape 15"/>
          <p:cNvSpPr/>
          <p:nvPr/>
        </p:nvSpPr>
        <p:spPr>
          <a:xfrm>
            <a:off x="5264280" y="3233880"/>
            <a:ext cx="3389040" cy="1784160"/>
          </a:xfrm>
          <a:prstGeom prst="wedgeRoundRectCallout">
            <a:avLst>
              <a:gd name="adj1" fmla="val -141148"/>
              <a:gd name="adj2" fmla="val -22421"/>
              <a:gd name="adj3" fmla="val 16667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030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導出原理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節集合　 の充足不能性の証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9" name="Object 4"/>
          <p:cNvGraphicFramePr/>
          <p:nvPr/>
        </p:nvGraphicFramePr>
        <p:xfrm>
          <a:off x="2835360" y="2100240"/>
          <a:ext cx="37152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5360" y="2100240"/>
                    <a:ext cx="3715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5"/>
          <p:cNvGraphicFramePr/>
          <p:nvPr/>
        </p:nvGraphicFramePr>
        <p:xfrm>
          <a:off x="1682640" y="2725560"/>
          <a:ext cx="436896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2640" y="2725560"/>
                    <a:ext cx="43689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5334120" y="3427560"/>
          <a:ext cx="137160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3427560"/>
                    <a:ext cx="13716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7"/>
          <p:cNvGraphicFramePr/>
          <p:nvPr/>
        </p:nvGraphicFramePr>
        <p:xfrm>
          <a:off x="6999120" y="3422520"/>
          <a:ext cx="161136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99120" y="3422520"/>
                    <a:ext cx="1611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8"/>
          <p:cNvGraphicFramePr/>
          <p:nvPr/>
        </p:nvGraphicFramePr>
        <p:xfrm>
          <a:off x="5483160" y="4370400"/>
          <a:ext cx="15350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3160" y="4370400"/>
                    <a:ext cx="1535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Line 9"/>
          <p:cNvSpPr/>
          <p:nvPr/>
        </p:nvSpPr>
        <p:spPr>
          <a:xfrm>
            <a:off x="5497560" y="3892680"/>
            <a:ext cx="21096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10"/>
          <p:cNvSpPr/>
          <p:nvPr/>
        </p:nvSpPr>
        <p:spPr>
          <a:xfrm flipV="1">
            <a:off x="5708520" y="3868200"/>
            <a:ext cx="145116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1" name="Object 11"/>
          <p:cNvGraphicFramePr/>
          <p:nvPr/>
        </p:nvGraphicFramePr>
        <p:xfrm>
          <a:off x="1685880" y="4168800"/>
          <a:ext cx="2443320" cy="65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85880" y="4168800"/>
                    <a:ext cx="24433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12"/>
          <p:cNvGraphicFramePr/>
          <p:nvPr/>
        </p:nvGraphicFramePr>
        <p:xfrm>
          <a:off x="1690560" y="5584680"/>
          <a:ext cx="2098800" cy="586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0560" y="5584680"/>
                    <a:ext cx="20988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AutoShape 13"/>
          <p:cNvSpPr/>
          <p:nvPr/>
        </p:nvSpPr>
        <p:spPr>
          <a:xfrm>
            <a:off x="1906560" y="3422520"/>
            <a:ext cx="223920" cy="714600"/>
          </a:xfrm>
          <a:prstGeom prst="downArrow">
            <a:avLst>
              <a:gd name="adj1" fmla="val 50000"/>
              <a:gd name="adj2" fmla="val 79783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AutoShape 14"/>
          <p:cNvSpPr/>
          <p:nvPr/>
        </p:nvSpPr>
        <p:spPr>
          <a:xfrm rot="5400000">
            <a:off x="1637640" y="5062320"/>
            <a:ext cx="758880" cy="266760"/>
          </a:xfrm>
          <a:prstGeom prst="pi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3BF-F712-43D7-8AB3-9899653DF8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導出原理の完全性と健全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完全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節集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充足不能　⇒　空節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2306520" y="322416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意味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2620800" y="5541840"/>
            <a:ext cx="100080" cy="100080"/>
          </a:xfrm>
          <a:prstGeom prst="rect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3513240" y="5530680"/>
            <a:ext cx="100080" cy="100080"/>
          </a:xfrm>
          <a:prstGeom prst="rect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3" name="Object 11"/>
          <p:cNvGraphicFramePr/>
          <p:nvPr/>
        </p:nvGraphicFramePr>
        <p:xfrm>
          <a:off x="1279440" y="5759280"/>
          <a:ext cx="1736640" cy="3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5759280"/>
                    <a:ext cx="1736640" cy="3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Line 12"/>
          <p:cNvSpPr/>
          <p:nvPr/>
        </p:nvSpPr>
        <p:spPr>
          <a:xfrm flipH="1">
            <a:off x="2676240" y="4906800"/>
            <a:ext cx="46836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13"/>
          <p:cNvSpPr/>
          <p:nvPr/>
        </p:nvSpPr>
        <p:spPr>
          <a:xfrm>
            <a:off x="3133800" y="4917960"/>
            <a:ext cx="43488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7" name="Object 14"/>
          <p:cNvGraphicFramePr/>
          <p:nvPr/>
        </p:nvGraphicFramePr>
        <p:xfrm>
          <a:off x="3322800" y="5746680"/>
          <a:ext cx="1596960" cy="4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22800" y="5746680"/>
                    <a:ext cx="15969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15"/>
          <p:cNvGraphicFramePr/>
          <p:nvPr/>
        </p:nvGraphicFramePr>
        <p:xfrm>
          <a:off x="2158920" y="5018040"/>
          <a:ext cx="68112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8920" y="5018040"/>
                    <a:ext cx="6811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16"/>
          <p:cNvGraphicFramePr/>
          <p:nvPr/>
        </p:nvGraphicFramePr>
        <p:xfrm>
          <a:off x="3417840" y="4984920"/>
          <a:ext cx="657360" cy="35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7840" y="4984920"/>
                    <a:ext cx="657360" cy="35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3" name="Group 32"/>
          <p:cNvGrpSpPr/>
          <p:nvPr/>
        </p:nvGrpSpPr>
        <p:grpSpPr>
          <a:xfrm>
            <a:off x="3078000" y="3735360"/>
            <a:ext cx="111240" cy="1171440"/>
            <a:chOff x="3078000" y="3735360"/>
            <a:chExt cx="111240" cy="1171440"/>
          </a:xfrm>
        </p:grpSpPr>
        <p:sp>
          <p:nvSpPr>
            <p:cNvPr id="504" name="Rectangle 9"/>
            <p:cNvSpPr/>
            <p:nvPr/>
          </p:nvSpPr>
          <p:spPr>
            <a:xfrm>
              <a:off x="3078000" y="3735360"/>
              <a:ext cx="100080" cy="10008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Rectangle 10"/>
            <p:cNvSpPr/>
            <p:nvPr/>
          </p:nvSpPr>
          <p:spPr>
            <a:xfrm>
              <a:off x="3089160" y="4807080"/>
              <a:ext cx="100080" cy="997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17"/>
            <p:cNvSpPr/>
            <p:nvPr/>
          </p:nvSpPr>
          <p:spPr>
            <a:xfrm>
              <a:off x="3122640" y="3835440"/>
              <a:ext cx="11160" cy="98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AutoShape 18"/>
          <p:cNvSpPr/>
          <p:nvPr/>
        </p:nvSpPr>
        <p:spPr>
          <a:xfrm rot="16200000">
            <a:off x="3000240" y="4525920"/>
            <a:ext cx="200160" cy="2162160"/>
          </a:xfrm>
          <a:custGeom>
            <a:avLst/>
            <a:gdLst>
              <a:gd name="textAreaLeft" fmla="*/ 58680 w 200160"/>
              <a:gd name="textAreaRight" fmla="*/ 200520 w 200160"/>
              <a:gd name="textAreaTop" fmla="*/ 90360 h 2162160"/>
              <a:gd name="textAreaBottom" fmla="*/ 2071800 h 21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4"/>
                  <a:pt x="0" y="1807"/>
                </a:cubicBezTo>
                <a:lnTo>
                  <a:pt x="0" y="19793"/>
                </a:lnTo>
                <a:cubicBezTo>
                  <a:pt x="0" y="2069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AutoShape 19"/>
          <p:cNvSpPr/>
          <p:nvPr/>
        </p:nvSpPr>
        <p:spPr>
          <a:xfrm>
            <a:off x="2611440" y="3846600"/>
            <a:ext cx="243000" cy="947520"/>
          </a:xfrm>
          <a:custGeom>
            <a:avLst/>
            <a:gdLst>
              <a:gd name="textAreaLeft" fmla="*/ 155160 w 243000"/>
              <a:gd name="textAreaRight" fmla="*/ 243360 w 243000"/>
              <a:gd name="textAreaTop" fmla="*/ 24480 h 947520"/>
              <a:gd name="textAreaBottom" fmla="*/ 923040 h 94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067"/>
                </a:lnTo>
                <a:cubicBezTo>
                  <a:pt x="10800" y="10967"/>
                  <a:pt x="5400" y="11867"/>
                  <a:pt x="0" y="11867"/>
                </a:cubicBezTo>
                <a:cubicBezTo>
                  <a:pt x="5400" y="11867"/>
                  <a:pt x="10800" y="12767"/>
                  <a:pt x="10800" y="1366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Object 20"/>
          <p:cNvGraphicFramePr/>
          <p:nvPr/>
        </p:nvGraphicFramePr>
        <p:xfrm>
          <a:off x="1835280" y="4183200"/>
          <a:ext cx="717480" cy="36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0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5280" y="4183200"/>
                    <a:ext cx="7174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AutoShape 21"/>
          <p:cNvSpPr/>
          <p:nvPr/>
        </p:nvSpPr>
        <p:spPr>
          <a:xfrm flipH="1">
            <a:off x="3369600" y="3868560"/>
            <a:ext cx="243000" cy="947880"/>
          </a:xfrm>
          <a:custGeom>
            <a:avLst/>
            <a:gdLst>
              <a:gd name="textAreaLeft" fmla="*/ 155160 w 243000"/>
              <a:gd name="textAreaRight" fmla="*/ 243360 w 243000"/>
              <a:gd name="textAreaTop" fmla="*/ 24480 h 947880"/>
              <a:gd name="textAreaBottom" fmla="*/ 923400 h 9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98"/>
                </a:lnTo>
                <a:cubicBezTo>
                  <a:pt x="10800" y="10098"/>
                  <a:pt x="5400" y="10998"/>
                  <a:pt x="0" y="10998"/>
                </a:cubicBezTo>
                <a:cubicBezTo>
                  <a:pt x="5400" y="10998"/>
                  <a:pt x="10800" y="11898"/>
                  <a:pt x="10800" y="127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2" name="Object 22"/>
          <p:cNvGraphicFramePr/>
          <p:nvPr/>
        </p:nvGraphicFramePr>
        <p:xfrm>
          <a:off x="3703680" y="4191120"/>
          <a:ext cx="722160" cy="30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3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03680" y="4191120"/>
                    <a:ext cx="7221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23"/>
          <p:cNvGraphicFramePr/>
          <p:nvPr/>
        </p:nvGraphicFramePr>
        <p:xfrm>
          <a:off x="6004080" y="3259080"/>
          <a:ext cx="1104840" cy="463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5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04080" y="3259080"/>
                    <a:ext cx="11048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24"/>
          <p:cNvGraphicFramePr/>
          <p:nvPr/>
        </p:nvGraphicFramePr>
        <p:xfrm>
          <a:off x="4849920" y="4888080"/>
          <a:ext cx="126684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7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49920" y="4888080"/>
                    <a:ext cx="12668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Line 25"/>
          <p:cNvSpPr/>
          <p:nvPr/>
        </p:nvSpPr>
        <p:spPr>
          <a:xfrm>
            <a:off x="1405080" y="6189840"/>
            <a:ext cx="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Line 26"/>
          <p:cNvSpPr/>
          <p:nvPr/>
        </p:nvSpPr>
        <p:spPr>
          <a:xfrm>
            <a:off x="3435480" y="61657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Line 27"/>
          <p:cNvSpPr/>
          <p:nvPr/>
        </p:nvSpPr>
        <p:spPr>
          <a:xfrm>
            <a:off x="1393920" y="6445080"/>
            <a:ext cx="3701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Line 28"/>
          <p:cNvSpPr/>
          <p:nvPr/>
        </p:nvSpPr>
        <p:spPr>
          <a:xfrm flipH="1" flipV="1">
            <a:off x="5073120" y="5374800"/>
            <a:ext cx="11160" cy="108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Line 29"/>
          <p:cNvSpPr/>
          <p:nvPr/>
        </p:nvSpPr>
        <p:spPr>
          <a:xfrm flipH="1" flipV="1">
            <a:off x="5073120" y="3468600"/>
            <a:ext cx="11160" cy="13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6958080" y="3211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意味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31"/>
          <p:cNvSpPr/>
          <p:nvPr/>
        </p:nvSpPr>
        <p:spPr>
          <a:xfrm>
            <a:off x="5073480" y="3468600"/>
            <a:ext cx="89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5" name="Group 33"/>
          <p:cNvGrpSpPr/>
          <p:nvPr/>
        </p:nvGrpSpPr>
        <p:grpSpPr>
          <a:xfrm>
            <a:off x="6657840" y="3735360"/>
            <a:ext cx="111240" cy="1171440"/>
            <a:chOff x="6657840" y="3735360"/>
            <a:chExt cx="111240" cy="1171440"/>
          </a:xfrm>
        </p:grpSpPr>
        <p:sp>
          <p:nvSpPr>
            <p:cNvPr id="526" name="Rectangle 34"/>
            <p:cNvSpPr/>
            <p:nvPr/>
          </p:nvSpPr>
          <p:spPr>
            <a:xfrm>
              <a:off x="6657840" y="3735360"/>
              <a:ext cx="100080" cy="10008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35"/>
            <p:cNvSpPr/>
            <p:nvPr/>
          </p:nvSpPr>
          <p:spPr>
            <a:xfrm>
              <a:off x="6669000" y="4807080"/>
              <a:ext cx="100080" cy="99720"/>
            </a:xfrm>
            <a:prstGeom prst="rect">
              <a:avLst/>
            </a:prstGeom>
            <a:solidFill>
              <a:srgbClr val="f8b2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36"/>
            <p:cNvSpPr/>
            <p:nvPr/>
          </p:nvSpPr>
          <p:spPr>
            <a:xfrm>
              <a:off x="6702480" y="3835440"/>
              <a:ext cx="11160" cy="98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529" name="Object 37"/>
          <p:cNvGraphicFramePr/>
          <p:nvPr/>
        </p:nvGraphicFramePr>
        <p:xfrm>
          <a:off x="6540480" y="5067360"/>
          <a:ext cx="1673280" cy="43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0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40480" y="5067360"/>
                    <a:ext cx="1673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AutoShape 38"/>
          <p:cNvSpPr/>
          <p:nvPr/>
        </p:nvSpPr>
        <p:spPr>
          <a:xfrm rot="16200000">
            <a:off x="6680160" y="4291920"/>
            <a:ext cx="177480" cy="1314720"/>
          </a:xfrm>
          <a:custGeom>
            <a:avLst/>
            <a:gdLst>
              <a:gd name="textAreaLeft" fmla="*/ 52200 w 177480"/>
              <a:gd name="textAreaRight" fmla="*/ 177840 w 177480"/>
              <a:gd name="textAreaTop" fmla="*/ 54720 h 1314720"/>
              <a:gd name="textAreaBottom" fmla="*/ 1260000 h 131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4"/>
                  <a:pt x="0" y="1807"/>
                </a:cubicBezTo>
                <a:lnTo>
                  <a:pt x="0" y="19793"/>
                </a:lnTo>
                <a:cubicBezTo>
                  <a:pt x="0" y="2069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28F9-02B8-48F6-ABD7-7A1D352779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導出原理の完全性と健全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健全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空節□　⇒　節集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充足不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352600" y="344484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節集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5529240" y="34336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充足可能と仮定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2854440" y="4003560"/>
            <a:ext cx="190440" cy="601920"/>
          </a:xfrm>
          <a:prstGeom prst="downArrow">
            <a:avLst>
              <a:gd name="adj1" fmla="val 50000"/>
              <a:gd name="adj2" fmla="val 7901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2830680" y="4673520"/>
            <a:ext cx="15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導出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9" name="Object 8"/>
          <p:cNvGraphicFramePr/>
          <p:nvPr/>
        </p:nvGraphicFramePr>
        <p:xfrm>
          <a:off x="2387520" y="4730760"/>
          <a:ext cx="608040" cy="3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4730760"/>
                    <a:ext cx="608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AutoShape 9"/>
          <p:cNvSpPr/>
          <p:nvPr/>
        </p:nvSpPr>
        <p:spPr>
          <a:xfrm>
            <a:off x="3446640" y="4048200"/>
            <a:ext cx="1993680" cy="579240"/>
          </a:xfrm>
          <a:prstGeom prst="leftArrowCallout">
            <a:avLst>
              <a:gd name="adj1" fmla="val 19456"/>
              <a:gd name="adj2" fmla="val 25000"/>
              <a:gd name="adj3" fmla="val 37271"/>
              <a:gd name="adj4" fmla="val 55417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62560" y="410364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導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5564160" y="4091040"/>
            <a:ext cx="22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妥当な推論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5573880" y="47052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充足可能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AutoShape 14"/>
          <p:cNvSpPr/>
          <p:nvPr/>
        </p:nvSpPr>
        <p:spPr>
          <a:xfrm rot="5400000">
            <a:off x="2560320" y="5491080"/>
            <a:ext cx="792360" cy="188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862280" y="6033960"/>
            <a:ext cx="31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空節□を含む節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5583240" y="596592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充足不能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AutoShape 17"/>
          <p:cNvSpPr/>
          <p:nvPr/>
        </p:nvSpPr>
        <p:spPr>
          <a:xfrm>
            <a:off x="7104240" y="5464080"/>
            <a:ext cx="1427040" cy="1059120"/>
          </a:xfrm>
          <a:prstGeom prst="irregularSeal1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7426440" y="569736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矛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AFC1-19B9-4642-B074-D766A9C7CE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一階述語論理式の充足不能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任意の閉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 （全称記号のみで限量された閉式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標準的な解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1628640" y="3624120"/>
          <a:ext cx="1271880" cy="5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3624120"/>
                    <a:ext cx="127188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AutoShape 8"/>
          <p:cNvSpPr/>
          <p:nvPr/>
        </p:nvSpPr>
        <p:spPr>
          <a:xfrm>
            <a:off x="2397240" y="2776680"/>
            <a:ext cx="379440" cy="669960"/>
          </a:xfrm>
          <a:prstGeom prst="downArrow">
            <a:avLst>
              <a:gd name="adj1" fmla="val 50000"/>
              <a:gd name="adj2" fmla="val 44141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2397240" y="4336920"/>
            <a:ext cx="390240" cy="671760"/>
          </a:xfrm>
          <a:prstGeom prst="upArrow">
            <a:avLst>
              <a:gd name="adj1" fmla="val 50000"/>
              <a:gd name="adj2" fmla="val 43035"/>
            </a:avLst>
          </a:prstGeom>
          <a:solidFill>
            <a:srgbClr val="f5f3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11480" y="286560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スコーレム標準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89160" y="4427640"/>
            <a:ext cx="22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エルブラン解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C3EE-DC48-40E2-BCE2-641D70C5D0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4984920" y="4125960"/>
            <a:ext cx="1193760" cy="45720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125360" y="2075040"/>
            <a:ext cx="1784520" cy="143820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5" name="Object 4"/>
          <p:cNvGraphicFramePr/>
          <p:nvPr/>
        </p:nvGraphicFramePr>
        <p:xfrm>
          <a:off x="1235160" y="2098800"/>
          <a:ext cx="150156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2098800"/>
                    <a:ext cx="150156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5"/>
          <p:cNvGraphicFramePr/>
          <p:nvPr/>
        </p:nvGraphicFramePr>
        <p:xfrm>
          <a:off x="3543480" y="2584440"/>
          <a:ext cx="763560" cy="3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3480" y="2584440"/>
                    <a:ext cx="76356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Line 7"/>
          <p:cNvSpPr/>
          <p:nvPr/>
        </p:nvSpPr>
        <p:spPr>
          <a:xfrm>
            <a:off x="3022560" y="278748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4348080" y="2463840"/>
            <a:ext cx="6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6469200" y="4081320"/>
            <a:ext cx="18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充足不能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2" name="Object 11"/>
          <p:cNvGraphicFramePr/>
          <p:nvPr/>
        </p:nvGraphicFramePr>
        <p:xfrm>
          <a:off x="969840" y="4851360"/>
          <a:ext cx="581976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69840" y="4851360"/>
                    <a:ext cx="58197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13"/>
          <p:cNvGraphicFramePr/>
          <p:nvPr/>
        </p:nvGraphicFramePr>
        <p:xfrm>
          <a:off x="946080" y="5676840"/>
          <a:ext cx="486432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46080" y="5676840"/>
                    <a:ext cx="48643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14"/>
          <p:cNvSpPr/>
          <p:nvPr/>
        </p:nvSpPr>
        <p:spPr>
          <a:xfrm>
            <a:off x="6445080" y="5608800"/>
            <a:ext cx="17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節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7" name="Object 9"/>
          <p:cNvGraphicFramePr/>
          <p:nvPr/>
        </p:nvGraphicFramePr>
        <p:xfrm>
          <a:off x="950760" y="4125960"/>
          <a:ext cx="524196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0760" y="4125960"/>
                    <a:ext cx="5241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1534-CC55-4C22-A605-251804BFCC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3936960" y="3400560"/>
            <a:ext cx="333360" cy="40140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1" name="Object 18"/>
          <p:cNvGraphicFramePr/>
          <p:nvPr/>
        </p:nvGraphicFramePr>
        <p:xfrm>
          <a:off x="3940200" y="3419640"/>
          <a:ext cx="352440" cy="4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3419640"/>
                    <a:ext cx="35244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5062680" y="2152800"/>
            <a:ext cx="1282680" cy="4237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4505400" y="2163600"/>
            <a:ext cx="299880" cy="4240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3244680" y="2152800"/>
            <a:ext cx="1036800" cy="4237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1160640" y="2152800"/>
            <a:ext cx="1828800" cy="4237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10"/>
          <p:cNvSpPr/>
          <p:nvPr/>
        </p:nvSpPr>
        <p:spPr>
          <a:xfrm>
            <a:off x="1984320" y="2163600"/>
            <a:ext cx="512640" cy="41292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11"/>
          <p:cNvSpPr/>
          <p:nvPr/>
        </p:nvSpPr>
        <p:spPr>
          <a:xfrm>
            <a:off x="4070520" y="2163600"/>
            <a:ext cx="244440" cy="41292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1" name="Object 12"/>
          <p:cNvGraphicFramePr/>
          <p:nvPr/>
        </p:nvGraphicFramePr>
        <p:xfrm>
          <a:off x="1176480" y="3398760"/>
          <a:ext cx="197640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6480" y="3398760"/>
                    <a:ext cx="19764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Line 14"/>
          <p:cNvSpPr/>
          <p:nvPr/>
        </p:nvSpPr>
        <p:spPr>
          <a:xfrm>
            <a:off x="1415880" y="2698920"/>
            <a:ext cx="166680" cy="67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15"/>
          <p:cNvSpPr/>
          <p:nvPr/>
        </p:nvSpPr>
        <p:spPr>
          <a:xfrm flipV="1">
            <a:off x="1582560" y="2720880"/>
            <a:ext cx="193068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5" name="Object 16"/>
          <p:cNvGraphicFramePr/>
          <p:nvPr/>
        </p:nvGraphicFramePr>
        <p:xfrm>
          <a:off x="2073240" y="4878360"/>
          <a:ext cx="32724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3240" y="4878360"/>
                    <a:ext cx="3272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Rectangle 17"/>
          <p:cNvSpPr/>
          <p:nvPr/>
        </p:nvSpPr>
        <p:spPr>
          <a:xfrm>
            <a:off x="1449360" y="3925800"/>
            <a:ext cx="523800" cy="38916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8" name="Object 13"/>
          <p:cNvGraphicFramePr/>
          <p:nvPr/>
        </p:nvGraphicFramePr>
        <p:xfrm>
          <a:off x="1127160" y="3922560"/>
          <a:ext cx="1440000" cy="41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27160" y="3922560"/>
                    <a:ext cx="144000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Line 19"/>
          <p:cNvSpPr/>
          <p:nvPr/>
        </p:nvSpPr>
        <p:spPr>
          <a:xfrm>
            <a:off x="3757680" y="2709720"/>
            <a:ext cx="368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Line 20"/>
          <p:cNvSpPr/>
          <p:nvPr/>
        </p:nvSpPr>
        <p:spPr>
          <a:xfrm flipV="1">
            <a:off x="4114800" y="2720520"/>
            <a:ext cx="5014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Rectangle 21"/>
          <p:cNvSpPr/>
          <p:nvPr/>
        </p:nvSpPr>
        <p:spPr>
          <a:xfrm>
            <a:off x="3233880" y="2163600"/>
            <a:ext cx="534960" cy="41292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Rectangle 22"/>
          <p:cNvSpPr/>
          <p:nvPr/>
        </p:nvSpPr>
        <p:spPr>
          <a:xfrm>
            <a:off x="4505400" y="2163600"/>
            <a:ext cx="311040" cy="43524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Line 23"/>
          <p:cNvSpPr/>
          <p:nvPr/>
        </p:nvSpPr>
        <p:spPr>
          <a:xfrm>
            <a:off x="1917720" y="4336920"/>
            <a:ext cx="32400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24"/>
          <p:cNvSpPr/>
          <p:nvPr/>
        </p:nvSpPr>
        <p:spPr>
          <a:xfrm flipV="1">
            <a:off x="2241720" y="2698560"/>
            <a:ext cx="2352600" cy="21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5051520" y="2152800"/>
            <a:ext cx="512640" cy="41256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7" name="Object 27"/>
          <p:cNvGraphicFramePr/>
          <p:nvPr/>
        </p:nvGraphicFramePr>
        <p:xfrm>
          <a:off x="4552920" y="4498920"/>
          <a:ext cx="638280" cy="3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52920" y="4498920"/>
                    <a:ext cx="63828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Line 28"/>
          <p:cNvSpPr/>
          <p:nvPr/>
        </p:nvSpPr>
        <p:spPr>
          <a:xfrm>
            <a:off x="4103640" y="3824280"/>
            <a:ext cx="7254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Line 29"/>
          <p:cNvSpPr/>
          <p:nvPr/>
        </p:nvSpPr>
        <p:spPr>
          <a:xfrm flipV="1">
            <a:off x="4829040" y="2698920"/>
            <a:ext cx="61308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2274840" y="5275440"/>
            <a:ext cx="1515960" cy="7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Line 31"/>
          <p:cNvSpPr/>
          <p:nvPr/>
        </p:nvSpPr>
        <p:spPr>
          <a:xfrm flipV="1">
            <a:off x="3790800" y="4962600"/>
            <a:ext cx="914400" cy="10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32"/>
          <p:cNvSpPr/>
          <p:nvPr/>
        </p:nvSpPr>
        <p:spPr>
          <a:xfrm>
            <a:off x="3724200" y="6154560"/>
            <a:ext cx="154080" cy="1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04" name="Object 4"/>
          <p:cNvGraphicFramePr/>
          <p:nvPr/>
        </p:nvGraphicFramePr>
        <p:xfrm>
          <a:off x="963720" y="2106720"/>
          <a:ext cx="555624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5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63720" y="2106720"/>
                    <a:ext cx="55562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E855-5071-4414-A3AA-6111912CBB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標準形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コーレム標準形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lem normal form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1914480" y="5794200"/>
            <a:ext cx="2376360" cy="64800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979560" y="4281480"/>
            <a:ext cx="4319640" cy="7207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3138480" y="2841480"/>
            <a:ext cx="2376360" cy="6778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Object 19"/>
          <p:cNvGraphicFramePr/>
          <p:nvPr/>
        </p:nvGraphicFramePr>
        <p:xfrm>
          <a:off x="992160" y="2773440"/>
          <a:ext cx="45259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773440"/>
                    <a:ext cx="45259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21"/>
          <p:cNvSpPr/>
          <p:nvPr/>
        </p:nvSpPr>
        <p:spPr>
          <a:xfrm>
            <a:off x="5554800" y="2828880"/>
            <a:ext cx="323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：全称束縛冠頭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5543640" y="4257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：節形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25"/>
          <p:cNvSpPr/>
          <p:nvPr/>
        </p:nvSpPr>
        <p:spPr>
          <a:xfrm flipH="1">
            <a:off x="979560" y="3530520"/>
            <a:ext cx="2170080" cy="750960"/>
          </a:xfrm>
          <a:prstGeom prst="line">
            <a:avLst/>
          </a:prstGeom>
          <a:ln w="28440">
            <a:solidFill>
              <a:srgbClr val="bcf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26"/>
          <p:cNvSpPr/>
          <p:nvPr/>
        </p:nvSpPr>
        <p:spPr>
          <a:xfrm flipH="1">
            <a:off x="5298840" y="3506760"/>
            <a:ext cx="191880" cy="774720"/>
          </a:xfrm>
          <a:prstGeom prst="line">
            <a:avLst/>
          </a:prstGeom>
          <a:ln w="28440">
            <a:solidFill>
              <a:srgbClr val="bcf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Object 27"/>
          <p:cNvGraphicFramePr/>
          <p:nvPr/>
        </p:nvGraphicFramePr>
        <p:xfrm>
          <a:off x="1987560" y="5722920"/>
          <a:ext cx="230508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7560" y="5722920"/>
                    <a:ext cx="23050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0"/>
          <p:cNvSpPr/>
          <p:nvPr/>
        </p:nvSpPr>
        <p:spPr>
          <a:xfrm>
            <a:off x="2851200" y="4281480"/>
            <a:ext cx="576360" cy="72072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5602320" y="5734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：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Object 20"/>
          <p:cNvGraphicFramePr/>
          <p:nvPr/>
        </p:nvGraphicFramePr>
        <p:xfrm>
          <a:off x="1050840" y="4281480"/>
          <a:ext cx="42292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50840" y="4281480"/>
                    <a:ext cx="4229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1"/>
          <p:cNvSpPr/>
          <p:nvPr/>
        </p:nvSpPr>
        <p:spPr>
          <a:xfrm flipH="1">
            <a:off x="1914480" y="5002200"/>
            <a:ext cx="936720" cy="792000"/>
          </a:xfrm>
          <a:prstGeom prst="line">
            <a:avLst/>
          </a:prstGeom>
          <a:ln w="28440">
            <a:solidFill>
              <a:srgbClr val="f5f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32"/>
          <p:cNvSpPr/>
          <p:nvPr/>
        </p:nvSpPr>
        <p:spPr>
          <a:xfrm>
            <a:off x="3427560" y="5002200"/>
            <a:ext cx="863280" cy="792000"/>
          </a:xfrm>
          <a:prstGeom prst="line">
            <a:avLst/>
          </a:prstGeom>
          <a:ln w="28440">
            <a:solidFill>
              <a:srgbClr val="f5f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EC48-7328-47A7-AFB2-9E212F3D63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スコーレム標準形への変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１）　　　　　 のみからなる論理式にして　　を原子式の直前に移動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２）束縛変数の標準化を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３）スコーレム関数を導入して　　を除去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４）冠頭形に変換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５）母式を節形式に変換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908000" y="2133720"/>
          <a:ext cx="129708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133720"/>
                    <a:ext cx="12970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"/>
          <p:cNvGraphicFramePr/>
          <p:nvPr/>
        </p:nvGraphicFramePr>
        <p:xfrm>
          <a:off x="7164360" y="2133720"/>
          <a:ext cx="43200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133720"/>
                    <a:ext cx="4320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"/>
          <p:cNvGraphicFramePr/>
          <p:nvPr/>
        </p:nvGraphicFramePr>
        <p:xfrm>
          <a:off x="5867280" y="3500280"/>
          <a:ext cx="32400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3500280"/>
                    <a:ext cx="324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1"/>
          <p:cNvGraphicFramePr/>
          <p:nvPr/>
        </p:nvGraphicFramePr>
        <p:xfrm>
          <a:off x="4835520" y="4076640"/>
          <a:ext cx="1928880" cy="45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35520" y="4076640"/>
                    <a:ext cx="1928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2"/>
          <p:cNvGraphicFramePr/>
          <p:nvPr/>
        </p:nvGraphicFramePr>
        <p:xfrm>
          <a:off x="1957320" y="4076640"/>
          <a:ext cx="174312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57320" y="4076640"/>
                    <a:ext cx="1743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1957320" y="4508640"/>
          <a:ext cx="1743120" cy="436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57320" y="4508640"/>
                    <a:ext cx="174312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4849920" y="4508640"/>
          <a:ext cx="1446120" cy="452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49920" y="4508640"/>
                    <a:ext cx="14461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AutoShape 15"/>
          <p:cNvSpPr/>
          <p:nvPr/>
        </p:nvSpPr>
        <p:spPr>
          <a:xfrm>
            <a:off x="3943440" y="4221000"/>
            <a:ext cx="576000" cy="144720"/>
          </a:xfrm>
          <a:prstGeom prst="rightArrow">
            <a:avLst>
              <a:gd name="adj1" fmla="val 50000"/>
              <a:gd name="adj2" fmla="val 99502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16"/>
          <p:cNvSpPr/>
          <p:nvPr/>
        </p:nvSpPr>
        <p:spPr>
          <a:xfrm>
            <a:off x="3943440" y="4653000"/>
            <a:ext cx="576000" cy="144360"/>
          </a:xfrm>
          <a:prstGeom prst="rightArrow">
            <a:avLst>
              <a:gd name="adj1" fmla="val 50000"/>
              <a:gd name="adj2" fmla="val 99751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87C4-B5F8-43BE-A671-4A13777DC5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382760" y="2722680"/>
            <a:ext cx="2711520" cy="2536560"/>
          </a:xfrm>
          <a:prstGeom prst="rect">
            <a:avLst/>
          </a:prstGeom>
          <a:solidFill>
            <a:srgbClr val="f5f3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スコーレム関数の導入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627200" y="2003400"/>
          <a:ext cx="21733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2003400"/>
                    <a:ext cx="21733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Oval 5"/>
          <p:cNvSpPr/>
          <p:nvPr/>
        </p:nvSpPr>
        <p:spPr>
          <a:xfrm>
            <a:off x="1589040" y="2928960"/>
            <a:ext cx="959040" cy="1862280"/>
          </a:xfrm>
          <a:prstGeom prst="ellipse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2884320" y="2917800"/>
            <a:ext cx="959040" cy="1862280"/>
          </a:xfrm>
          <a:prstGeom prst="ellipse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2025720" y="3201840"/>
            <a:ext cx="11088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2038320" y="3592440"/>
            <a:ext cx="11124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2038320" y="3973680"/>
            <a:ext cx="111240" cy="11880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2028960" y="4321080"/>
            <a:ext cx="11088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3332160" y="3211560"/>
            <a:ext cx="11124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3344760" y="3602160"/>
            <a:ext cx="111240" cy="11880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7"/>
          <p:cNvSpPr/>
          <p:nvPr/>
        </p:nvSpPr>
        <p:spPr>
          <a:xfrm>
            <a:off x="3344760" y="3983040"/>
            <a:ext cx="11124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Oval 18"/>
          <p:cNvSpPr/>
          <p:nvPr/>
        </p:nvSpPr>
        <p:spPr>
          <a:xfrm>
            <a:off x="3335400" y="4330800"/>
            <a:ext cx="111240" cy="11880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Object 19"/>
          <p:cNvGraphicFramePr/>
          <p:nvPr/>
        </p:nvGraphicFramePr>
        <p:xfrm>
          <a:off x="1884240" y="4862520"/>
          <a:ext cx="36684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4240" y="4862520"/>
                    <a:ext cx="366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0"/>
          <p:cNvGraphicFramePr/>
          <p:nvPr/>
        </p:nvGraphicFramePr>
        <p:xfrm>
          <a:off x="3137040" y="4843440"/>
          <a:ext cx="36324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7040" y="4843440"/>
                    <a:ext cx="3632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21"/>
          <p:cNvSpPr/>
          <p:nvPr/>
        </p:nvSpPr>
        <p:spPr>
          <a:xfrm>
            <a:off x="2198520" y="3265560"/>
            <a:ext cx="1078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 flipV="1">
            <a:off x="2220840" y="328788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198520" y="3668760"/>
            <a:ext cx="105588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 flipV="1">
            <a:off x="2198520" y="3657240"/>
            <a:ext cx="10782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>
            <a:off x="2187720" y="4376880"/>
            <a:ext cx="106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2416320" y="538812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Object 27"/>
          <p:cNvGraphicFramePr/>
          <p:nvPr/>
        </p:nvGraphicFramePr>
        <p:xfrm>
          <a:off x="1549440" y="5880240"/>
          <a:ext cx="230652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9440" y="5880240"/>
                    <a:ext cx="2306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28"/>
          <p:cNvGraphicFramePr/>
          <p:nvPr/>
        </p:nvGraphicFramePr>
        <p:xfrm>
          <a:off x="2535120" y="4581360"/>
          <a:ext cx="360360" cy="48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35120" y="4581360"/>
                    <a:ext cx="36036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29"/>
          <p:cNvSpPr/>
          <p:nvPr/>
        </p:nvSpPr>
        <p:spPr>
          <a:xfrm>
            <a:off x="5291280" y="2712960"/>
            <a:ext cx="2711160" cy="2536920"/>
          </a:xfrm>
          <a:prstGeom prst="rect">
            <a:avLst/>
          </a:prstGeom>
          <a:solidFill>
            <a:srgbClr val="f5f3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Object 30"/>
          <p:cNvGraphicFramePr/>
          <p:nvPr/>
        </p:nvGraphicFramePr>
        <p:xfrm>
          <a:off x="5535720" y="1960560"/>
          <a:ext cx="217332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3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35720" y="1960560"/>
                    <a:ext cx="21733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Oval 31"/>
          <p:cNvSpPr/>
          <p:nvPr/>
        </p:nvSpPr>
        <p:spPr>
          <a:xfrm>
            <a:off x="5497560" y="2886120"/>
            <a:ext cx="958680" cy="1861920"/>
          </a:xfrm>
          <a:prstGeom prst="ellipse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Oval 32"/>
          <p:cNvSpPr/>
          <p:nvPr/>
        </p:nvSpPr>
        <p:spPr>
          <a:xfrm>
            <a:off x="6792840" y="2874960"/>
            <a:ext cx="959040" cy="1862280"/>
          </a:xfrm>
          <a:prstGeom prst="ellipse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Oval 33"/>
          <p:cNvSpPr/>
          <p:nvPr/>
        </p:nvSpPr>
        <p:spPr>
          <a:xfrm>
            <a:off x="5934240" y="3159000"/>
            <a:ext cx="11088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34"/>
          <p:cNvSpPr/>
          <p:nvPr/>
        </p:nvSpPr>
        <p:spPr>
          <a:xfrm>
            <a:off x="5946840" y="3549600"/>
            <a:ext cx="11124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35"/>
          <p:cNvSpPr/>
          <p:nvPr/>
        </p:nvSpPr>
        <p:spPr>
          <a:xfrm>
            <a:off x="5946840" y="3930480"/>
            <a:ext cx="11124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36"/>
          <p:cNvSpPr/>
          <p:nvPr/>
        </p:nvSpPr>
        <p:spPr>
          <a:xfrm>
            <a:off x="5937120" y="4278240"/>
            <a:ext cx="11124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37"/>
          <p:cNvSpPr/>
          <p:nvPr/>
        </p:nvSpPr>
        <p:spPr>
          <a:xfrm>
            <a:off x="7240680" y="3168720"/>
            <a:ext cx="11088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38"/>
          <p:cNvSpPr/>
          <p:nvPr/>
        </p:nvSpPr>
        <p:spPr>
          <a:xfrm>
            <a:off x="7253280" y="3559320"/>
            <a:ext cx="111240" cy="11880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Oval 39"/>
          <p:cNvSpPr/>
          <p:nvPr/>
        </p:nvSpPr>
        <p:spPr>
          <a:xfrm>
            <a:off x="7253280" y="3940200"/>
            <a:ext cx="111240" cy="11916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40"/>
          <p:cNvSpPr/>
          <p:nvPr/>
        </p:nvSpPr>
        <p:spPr>
          <a:xfrm>
            <a:off x="7243920" y="4287960"/>
            <a:ext cx="110880" cy="118800"/>
          </a:xfrm>
          <a:prstGeom prst="ellips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4" name="Object 41"/>
          <p:cNvGraphicFramePr/>
          <p:nvPr/>
        </p:nvGraphicFramePr>
        <p:xfrm>
          <a:off x="5792760" y="4819680"/>
          <a:ext cx="36684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" name="Object 4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2760" y="4819680"/>
                    <a:ext cx="366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42"/>
          <p:cNvGraphicFramePr/>
          <p:nvPr/>
        </p:nvGraphicFramePr>
        <p:xfrm>
          <a:off x="7045200" y="4800600"/>
          <a:ext cx="363600" cy="428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7" name="Object 4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45200" y="4800600"/>
                    <a:ext cx="363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43"/>
          <p:cNvSpPr/>
          <p:nvPr/>
        </p:nvSpPr>
        <p:spPr>
          <a:xfrm>
            <a:off x="6107040" y="3222720"/>
            <a:ext cx="11206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44"/>
          <p:cNvSpPr/>
          <p:nvPr/>
        </p:nvSpPr>
        <p:spPr>
          <a:xfrm flipV="1">
            <a:off x="6129360" y="3571920"/>
            <a:ext cx="110016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46"/>
          <p:cNvSpPr/>
          <p:nvPr/>
        </p:nvSpPr>
        <p:spPr>
          <a:xfrm flipV="1">
            <a:off x="6107040" y="3625920"/>
            <a:ext cx="11206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47"/>
          <p:cNvSpPr/>
          <p:nvPr/>
        </p:nvSpPr>
        <p:spPr>
          <a:xfrm flipV="1">
            <a:off x="6095880" y="3691080"/>
            <a:ext cx="11336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48"/>
          <p:cNvSpPr/>
          <p:nvPr/>
        </p:nvSpPr>
        <p:spPr>
          <a:xfrm>
            <a:off x="6324480" y="534528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3" name="Object 49"/>
          <p:cNvGraphicFramePr/>
          <p:nvPr/>
        </p:nvGraphicFramePr>
        <p:xfrm>
          <a:off x="5726160" y="5837400"/>
          <a:ext cx="1771560" cy="53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4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26160" y="5837400"/>
                    <a:ext cx="17715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Oval 51"/>
          <p:cNvSpPr/>
          <p:nvPr/>
        </p:nvSpPr>
        <p:spPr>
          <a:xfrm>
            <a:off x="2590920" y="3243240"/>
            <a:ext cx="239760" cy="13064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Object 52"/>
          <p:cNvGraphicFramePr/>
          <p:nvPr/>
        </p:nvGraphicFramePr>
        <p:xfrm>
          <a:off x="7370640" y="3425760"/>
          <a:ext cx="366840" cy="403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7" name="Object 5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70640" y="3425760"/>
                    <a:ext cx="366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4CF9-EBC7-4054-AA33-BCE808F6A2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変換に役立つ同値関係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１）変数名の付け替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２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３）論理式　　が変数　　を含まないと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４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Object 4"/>
          <p:cNvGraphicFramePr/>
          <p:nvPr/>
        </p:nvGraphicFramePr>
        <p:xfrm>
          <a:off x="1782720" y="2525760"/>
          <a:ext cx="509904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2525760"/>
                    <a:ext cx="50990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5"/>
          <p:cNvGraphicFramePr/>
          <p:nvPr/>
        </p:nvGraphicFramePr>
        <p:xfrm>
          <a:off x="1825560" y="3197160"/>
          <a:ext cx="60930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5560" y="3197160"/>
                    <a:ext cx="6093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1782720" y="4280040"/>
          <a:ext cx="3908520" cy="95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82720" y="4280040"/>
                    <a:ext cx="39085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7"/>
          <p:cNvGraphicFramePr/>
          <p:nvPr/>
        </p:nvGraphicFramePr>
        <p:xfrm>
          <a:off x="1789200" y="5384880"/>
          <a:ext cx="5140080" cy="96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5384880"/>
                    <a:ext cx="51400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8"/>
          <p:cNvGraphicFramePr/>
          <p:nvPr/>
        </p:nvGraphicFramePr>
        <p:xfrm>
          <a:off x="2711520" y="3827520"/>
          <a:ext cx="387360" cy="42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1520" y="3827520"/>
                    <a:ext cx="3873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9"/>
          <p:cNvGraphicFramePr/>
          <p:nvPr/>
        </p:nvGraphicFramePr>
        <p:xfrm>
          <a:off x="4046400" y="3868560"/>
          <a:ext cx="31608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46400" y="3868560"/>
                    <a:ext cx="31608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"/>
          <p:cNvGraphicFramePr/>
          <p:nvPr/>
        </p:nvGraphicFramePr>
        <p:xfrm>
          <a:off x="6353280" y="3825720"/>
          <a:ext cx="1477800" cy="40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4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53280" y="3825720"/>
                    <a:ext cx="147780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971F-62EF-4A7E-B55E-D34A83BE8B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952560" y="2139840"/>
          <a:ext cx="693900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139840"/>
                    <a:ext cx="69390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5"/>
          <p:cNvGraphicFramePr/>
          <p:nvPr/>
        </p:nvGraphicFramePr>
        <p:xfrm>
          <a:off x="976320" y="2975040"/>
          <a:ext cx="640548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6320" y="2975040"/>
                    <a:ext cx="6405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0" y="0"/>
          <a:ext cx="914400" cy="1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968400" y="3691080"/>
          <a:ext cx="5818320" cy="43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68400" y="3691080"/>
                    <a:ext cx="5818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946080" y="4386240"/>
          <a:ext cx="7443720" cy="4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46080" y="4386240"/>
                    <a:ext cx="7443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9"/>
          <p:cNvGraphicFramePr/>
          <p:nvPr/>
        </p:nvGraphicFramePr>
        <p:xfrm>
          <a:off x="963720" y="5100480"/>
          <a:ext cx="7021440" cy="462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63720" y="5100480"/>
                    <a:ext cx="702144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0"/>
          <p:cNvGraphicFramePr/>
          <p:nvPr/>
        </p:nvGraphicFramePr>
        <p:xfrm>
          <a:off x="966960" y="5859360"/>
          <a:ext cx="7991280" cy="43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66960" y="5859360"/>
                    <a:ext cx="79912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AutoShape 14"/>
          <p:cNvSpPr/>
          <p:nvPr/>
        </p:nvSpPr>
        <p:spPr>
          <a:xfrm>
            <a:off x="871560" y="5716440"/>
            <a:ext cx="2166840" cy="1000440"/>
          </a:xfrm>
          <a:prstGeom prst="cloudCallout">
            <a:avLst>
              <a:gd name="adj1" fmla="val -40254"/>
              <a:gd name="adj2" fmla="val -71902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131840" y="5835600"/>
            <a:ext cx="168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同値な変換ではない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C543-EDDD-40CF-A1A8-FCA0E4495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1619280" y="5445000"/>
            <a:ext cx="5761080" cy="792360"/>
          </a:xfrm>
          <a:prstGeom prst="rect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節集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閉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コーレム標準形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節集合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：充足不能　　　　　：充足不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2684520" y="2111400"/>
          <a:ext cx="41256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4520" y="2111400"/>
                    <a:ext cx="4125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3132000" y="4437000"/>
          <a:ext cx="24829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437000"/>
                    <a:ext cx="2482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2" name="Group 12"/>
          <p:cNvGrpSpPr/>
          <p:nvPr/>
        </p:nvGrpSpPr>
        <p:grpSpPr>
          <a:xfrm>
            <a:off x="2409840" y="2708280"/>
            <a:ext cx="360360" cy="433440"/>
            <a:chOff x="2409840" y="2708280"/>
            <a:chExt cx="360360" cy="433440"/>
          </a:xfrm>
        </p:grpSpPr>
        <p:sp>
          <p:nvSpPr>
            <p:cNvPr id="263" name="Line 7"/>
            <p:cNvSpPr/>
            <p:nvPr/>
          </p:nvSpPr>
          <p:spPr>
            <a:xfrm>
              <a:off x="2543040" y="2708280"/>
              <a:ext cx="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>
              <a:off x="2631960" y="2708280"/>
              <a:ext cx="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Line 9"/>
            <p:cNvSpPr/>
            <p:nvPr/>
          </p:nvSpPr>
          <p:spPr>
            <a:xfrm>
              <a:off x="2409840" y="2830680"/>
              <a:ext cx="3603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66" name="Object 5"/>
          <p:cNvGraphicFramePr/>
          <p:nvPr/>
        </p:nvGraphicFramePr>
        <p:xfrm>
          <a:off x="4968720" y="3270240"/>
          <a:ext cx="388620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720" y="3270240"/>
                    <a:ext cx="3886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6"/>
          <p:cNvSpPr/>
          <p:nvPr/>
        </p:nvSpPr>
        <p:spPr>
          <a:xfrm>
            <a:off x="5003640" y="347760"/>
            <a:ext cx="3313440" cy="2504880"/>
          </a:xfrm>
          <a:prstGeom prst="wedgeRoundRectCallout">
            <a:avLst>
              <a:gd name="adj1" fmla="val -110467"/>
              <a:gd name="adj2" fmla="val 51902"/>
              <a:gd name="adj3" fmla="val 16667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Object 13"/>
          <p:cNvGraphicFramePr/>
          <p:nvPr/>
        </p:nvGraphicFramePr>
        <p:xfrm>
          <a:off x="5321160" y="552600"/>
          <a:ext cx="2460600" cy="42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21160" y="552600"/>
                    <a:ext cx="24606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15"/>
          <p:cNvSpPr/>
          <p:nvPr/>
        </p:nvSpPr>
        <p:spPr>
          <a:xfrm>
            <a:off x="5292720" y="1116000"/>
            <a:ext cx="2808360" cy="1592280"/>
          </a:xfrm>
          <a:prstGeom prst="rect">
            <a:avLst/>
          </a:prstGeom>
          <a:solidFill>
            <a:srgbClr val="f5f3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Object 14"/>
          <p:cNvGraphicFramePr/>
          <p:nvPr/>
        </p:nvGraphicFramePr>
        <p:xfrm>
          <a:off x="5340240" y="1127160"/>
          <a:ext cx="2529000" cy="156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40240" y="1127160"/>
                    <a:ext cx="252900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19"/>
          <p:cNvGraphicFramePr/>
          <p:nvPr/>
        </p:nvGraphicFramePr>
        <p:xfrm>
          <a:off x="1692360" y="5589720"/>
          <a:ext cx="41256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5589720"/>
                    <a:ext cx="4125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20"/>
          <p:cNvGraphicFramePr/>
          <p:nvPr/>
        </p:nvGraphicFramePr>
        <p:xfrm>
          <a:off x="4859280" y="5589720"/>
          <a:ext cx="412920" cy="53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9280" y="5589720"/>
                    <a:ext cx="4129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AutoShape 21"/>
          <p:cNvSpPr/>
          <p:nvPr/>
        </p:nvSpPr>
        <p:spPr>
          <a:xfrm>
            <a:off x="4211640" y="5734080"/>
            <a:ext cx="504720" cy="287280"/>
          </a:xfrm>
          <a:prstGeom prst="leftRightArrow">
            <a:avLst>
              <a:gd name="adj1" fmla="val 50000"/>
              <a:gd name="adj2" fmla="val 34975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844D-8CDC-4835-A0BD-078E0C2CD5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エルブラン領域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エルブラン領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節集合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現れる個体定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関数記号を用いて作られる項（基礎項）全体の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エルブラン基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節集合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現れる原子式の変数に　　    の要素を代入して作られる原子式（基礎例）全体の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基礎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節集合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現れる節の変数に　　　　の要素を代入して作られる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3995640" y="2038320"/>
          <a:ext cx="86364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383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5"/>
          <p:cNvGraphicFramePr/>
          <p:nvPr/>
        </p:nvGraphicFramePr>
        <p:xfrm>
          <a:off x="3995640" y="3467160"/>
          <a:ext cx="10810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467160"/>
                    <a:ext cx="10810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6"/>
          <p:cNvGraphicFramePr/>
          <p:nvPr/>
        </p:nvGraphicFramePr>
        <p:xfrm>
          <a:off x="6550200" y="3875040"/>
          <a:ext cx="7189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0200" y="3875040"/>
                    <a:ext cx="7189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7"/>
          <p:cNvGraphicFramePr/>
          <p:nvPr/>
        </p:nvGraphicFramePr>
        <p:xfrm>
          <a:off x="5929200" y="5326200"/>
          <a:ext cx="71928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9200" y="5326200"/>
                    <a:ext cx="7192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03:16Z</dcterms:created>
  <dc:creator>太原育夫</dc:creator>
  <dc:description/>
  <dc:language>en-US</dc:language>
  <cp:lastModifiedBy> </cp:lastModifiedBy>
  <dcterms:modified xsi:type="dcterms:W3CDTF">2008-07-22T09:19:54Z</dcterms:modified>
  <cp:revision>64</cp:revision>
  <dc:subject>(6)充足不能性と導出原理</dc:subject>
  <dc:title>人工知能の基礎知識</dc:title>
</cp:coreProperties>
</file>