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7906-EB93-4D7D-BD24-A308BB2B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A4E-6F19-4F5A-B240-DF0A8D33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B2F-3EC0-4C83-B28F-EB22B1E7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374-3EA3-4F60-8FA0-742E33C7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1DB-E56C-455C-80A8-74551CD9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775B-C9A8-4AC1-AF17-CAF65CFF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EB55-4615-4DB0-9A73-D3D5A4CCE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0A53-C984-496E-AD30-B56FC18B2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991-23A6-430F-80F7-B7BAB211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14FC-A10F-417E-B2B3-AC7B0049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5E5-348D-434A-8B72-FDC89B5A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325E-FD9E-4AA8-AEF9-E687AA00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773-E277-4242-98A0-6C5AE1B0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A9D-F2E5-4464-B076-1AF29BE2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CE9-2C96-43A6-80D2-2A4FC420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C43-C5B4-4A14-BCAE-A5EC8AE5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552-E6C5-469A-B2FE-E888B2FC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7CFC-C962-4C93-A0A6-C47FE427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B09-02DC-4854-829A-3407EA7C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C02-06CE-4A5D-BE63-6F2018CB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D36-CA96-4896-9202-53DCEAAB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72EA-C73B-4836-B759-C0861539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F16-91D9-41A8-A303-7EEEFC16C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29BF-2987-4062-AD41-C5D7C9D5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DAB-B6B3-469D-B5BC-14D428A5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B16-A2DC-4D1F-AAD4-E5FB3BAB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271-E88C-4765-AC94-D4D5B5C5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A39-8051-4A28-BAD9-678CF8C4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A7C-FE2E-40FF-BAF6-E2B55D4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ECC-8329-4E2A-8022-1EEDD844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C43-16EE-4DB2-97DD-B18A71AD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EEB1-23A1-4408-A05D-790F02A8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C7C-9226-4888-BDCB-E86FA14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CD79-D8C7-4396-A90B-87AB3512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07B-74E2-4767-A620-125FADD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0839-2818-494C-9DCF-D90DD08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91A9-AF16-46F4-BBA7-57ED562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0CB-0355-4EE9-A7EC-AEC2C25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08B-B109-43DE-B823-3521CAB7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255-2BE2-4108-A59F-9081285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5063-4BBC-4538-A189-044B726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F94-2E6E-49BE-966D-9287B350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F8E-BE7D-4A0D-8861-8CDB489D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DF8-E880-4727-9DEC-68D83E5C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6BC5-AD1E-47B4-9FB2-0DA309AD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4BA1-E27C-472E-ADFB-D7750702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D06D-2AAC-4F69-A60C-7A369B7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DF80-9666-4BFC-98C0-74BC735B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D4A3-CE28-4C42-AFE4-08281A0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74B-0110-4D06-AC20-B7573E82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54CB-1F99-49AF-8569-A717979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8ECB-6652-4B22-9B33-D0D24FC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AECB-3C56-4545-B6DA-97B36CA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9E67-0EDA-4517-ADD9-8BFFF74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C06D-925C-493E-AB56-BC6959F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2168-B86F-4FD6-8AE2-97FB9145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3BFF-523E-41B3-9839-BD56647B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16A-9570-4EB4-B891-32AB6CC8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608-832B-4776-BC40-F2A41000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9C4-9965-4DCD-8678-1BE4590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15A-9156-4129-886C-0E97386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42A-C5DB-47D5-86F8-0CFF639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2A2-AC4B-4D03-87F5-3D851C4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0EB-71F8-4006-9C03-4F1520373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8723-D5BB-4E57-AB32-ECACFE03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EC6-F739-474B-80E2-0995A9320FE4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5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3.wmf"/><Relationship Id="rId29" Type="http://schemas.openxmlformats.org/officeDocument/2006/relationships/slideLayout" Target="../slideLayouts/slideLayout13.xml"/><Relationship Id="rId3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C4B-3A6C-4052-9A3B-8362298AA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原理と導出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導出原理の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般の節集合に対する導出原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汎単一化置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による問題解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導出の制御戦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横形優先戦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線形導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A06-FA74-4D6B-80BB-3641FE7C9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971640" y="2421000"/>
          <a:ext cx="33163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163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AutoShape 7"/>
          <p:cNvSpPr/>
          <p:nvPr/>
        </p:nvSpPr>
        <p:spPr>
          <a:xfrm>
            <a:off x="320364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3564000" y="35002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Object 9"/>
          <p:cNvGraphicFramePr/>
          <p:nvPr/>
        </p:nvGraphicFramePr>
        <p:xfrm>
          <a:off x="5651640" y="3213000"/>
          <a:ext cx="23191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213000"/>
                    <a:ext cx="23191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0"/>
          <p:cNvGraphicFramePr/>
          <p:nvPr/>
        </p:nvGraphicFramePr>
        <p:xfrm>
          <a:off x="5580000" y="4869000"/>
          <a:ext cx="170676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869000"/>
                    <a:ext cx="17067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Line 11"/>
          <p:cNvSpPr/>
          <p:nvPr/>
        </p:nvSpPr>
        <p:spPr>
          <a:xfrm>
            <a:off x="3348000" y="50846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 flipV="1">
            <a:off x="334800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F1E-96E9-41C0-8B09-A8BD2CEB3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971640" y="2421000"/>
          <a:ext cx="33163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163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AutoShape 7"/>
          <p:cNvSpPr/>
          <p:nvPr/>
        </p:nvSpPr>
        <p:spPr>
          <a:xfrm>
            <a:off x="399564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4356000" y="3500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9" name="Object 9"/>
          <p:cNvGraphicFramePr/>
          <p:nvPr/>
        </p:nvGraphicFramePr>
        <p:xfrm>
          <a:off x="5651640" y="3213000"/>
          <a:ext cx="116028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213000"/>
                    <a:ext cx="1160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4"/>
          <p:cNvGraphicFramePr/>
          <p:nvPr/>
        </p:nvGraphicFramePr>
        <p:xfrm>
          <a:off x="971640" y="5084640"/>
          <a:ext cx="186516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084640"/>
                    <a:ext cx="18651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5"/>
          <p:cNvGraphicFramePr/>
          <p:nvPr/>
        </p:nvGraphicFramePr>
        <p:xfrm>
          <a:off x="2700360" y="5084640"/>
          <a:ext cx="151128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5084640"/>
                    <a:ext cx="1511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6"/>
          <p:cNvGraphicFramePr/>
          <p:nvPr/>
        </p:nvGraphicFramePr>
        <p:xfrm>
          <a:off x="4067280" y="5084640"/>
          <a:ext cx="208908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5084640"/>
                    <a:ext cx="20890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7"/>
          <p:cNvGraphicFramePr/>
          <p:nvPr/>
        </p:nvGraphicFramePr>
        <p:xfrm>
          <a:off x="971640" y="5805360"/>
          <a:ext cx="5205240" cy="52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5805360"/>
                    <a:ext cx="5205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065-9AEF-4A3F-ADC4-79F6CC97C4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971640" y="1989000"/>
            <a:ext cx="3744360" cy="1657440"/>
            <a:chOff x="971640" y="1989000"/>
            <a:chExt cx="3744360" cy="1657440"/>
          </a:xfrm>
        </p:grpSpPr>
        <p:sp>
          <p:nvSpPr>
            <p:cNvPr id="323" name="AutoShape 5"/>
            <p:cNvSpPr/>
            <p:nvPr/>
          </p:nvSpPr>
          <p:spPr>
            <a:xfrm>
              <a:off x="971640" y="1989000"/>
              <a:ext cx="3024000" cy="1657440"/>
            </a:xfrm>
            <a:prstGeom prst="foldedCorner">
              <a:avLst>
                <a:gd name="adj" fmla="val 12500"/>
              </a:avLst>
            </a:prstGeom>
            <a:solidFill>
              <a:srgbClr val="f4f2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1042920" y="2133720"/>
              <a:ext cx="367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太郎は花子の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次郎は太郎の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父の父は祖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" name="Group 7"/>
          <p:cNvGrpSpPr/>
          <p:nvPr/>
        </p:nvGrpSpPr>
        <p:grpSpPr>
          <a:xfrm>
            <a:off x="971640" y="4149720"/>
            <a:ext cx="4825800" cy="2016000"/>
            <a:chOff x="971640" y="4149720"/>
            <a:chExt cx="4825800" cy="2016000"/>
          </a:xfrm>
        </p:grpSpPr>
        <p:sp>
          <p:nvSpPr>
            <p:cNvPr id="326" name="AutoShape 8"/>
            <p:cNvSpPr/>
            <p:nvPr/>
          </p:nvSpPr>
          <p:spPr>
            <a:xfrm>
              <a:off x="971640" y="4149720"/>
              <a:ext cx="4825800" cy="201600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27" name="Object 9"/>
            <p:cNvGraphicFramePr/>
            <p:nvPr/>
          </p:nvGraphicFramePr>
          <p:xfrm>
            <a:off x="1149480" y="4508640"/>
            <a:ext cx="4546440" cy="125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9480" y="4508640"/>
                      <a:ext cx="4546440" cy="12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9" name="AutoShape 10"/>
          <p:cNvSpPr/>
          <p:nvPr/>
        </p:nvSpPr>
        <p:spPr>
          <a:xfrm>
            <a:off x="1692360" y="371628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Object 11"/>
          <p:cNvGraphicFramePr/>
          <p:nvPr/>
        </p:nvGraphicFramePr>
        <p:xfrm>
          <a:off x="6502320" y="4941720"/>
          <a:ext cx="22608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2320" y="4941720"/>
                    <a:ext cx="2260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AutoShape 12"/>
          <p:cNvSpPr/>
          <p:nvPr/>
        </p:nvSpPr>
        <p:spPr>
          <a:xfrm>
            <a:off x="5867280" y="4941720"/>
            <a:ext cx="576360" cy="360360"/>
          </a:xfrm>
          <a:prstGeom prst="pi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15"/>
          <p:cNvSpPr/>
          <p:nvPr/>
        </p:nvSpPr>
        <p:spPr>
          <a:xfrm>
            <a:off x="4211640" y="2565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076720" y="2492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花子の祖父は誰か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D56C-A59A-4743-948A-0E292F362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8" name="Object 10"/>
          <p:cNvGraphicFramePr/>
          <p:nvPr/>
        </p:nvGraphicFramePr>
        <p:xfrm>
          <a:off x="971640" y="1989000"/>
          <a:ext cx="512424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51242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Line 11"/>
          <p:cNvSpPr/>
          <p:nvPr/>
        </p:nvSpPr>
        <p:spPr>
          <a:xfrm>
            <a:off x="971640" y="3429000"/>
            <a:ext cx="51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1" name="Object 12"/>
          <p:cNvGraphicFramePr/>
          <p:nvPr/>
        </p:nvGraphicFramePr>
        <p:xfrm>
          <a:off x="971640" y="3500280"/>
          <a:ext cx="2692440" cy="4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2692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3"/>
          <p:cNvGraphicFramePr/>
          <p:nvPr/>
        </p:nvGraphicFramePr>
        <p:xfrm>
          <a:off x="944640" y="4724280"/>
          <a:ext cx="4629240" cy="18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4640" y="4724280"/>
                    <a:ext cx="462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AutoShape 14"/>
          <p:cNvSpPr/>
          <p:nvPr/>
        </p:nvSpPr>
        <p:spPr>
          <a:xfrm>
            <a:off x="2268360" y="4149720"/>
            <a:ext cx="863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utoShape 15"/>
          <p:cNvSpPr/>
          <p:nvPr/>
        </p:nvSpPr>
        <p:spPr>
          <a:xfrm>
            <a:off x="3276720" y="4221000"/>
            <a:ext cx="574560" cy="216000"/>
          </a:xfrm>
          <a:prstGeom prst="leftArrow">
            <a:avLst>
              <a:gd name="adj1" fmla="val 50000"/>
              <a:gd name="adj2" fmla="val 66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7" name="Object 16"/>
          <p:cNvGraphicFramePr/>
          <p:nvPr/>
        </p:nvGraphicFramePr>
        <p:xfrm>
          <a:off x="3995640" y="4076640"/>
          <a:ext cx="272268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4076640"/>
                    <a:ext cx="27226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A02-0A3D-44CF-B1FB-E3F4980771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22"/>
          <p:cNvSpPr/>
          <p:nvPr/>
        </p:nvSpPr>
        <p:spPr>
          <a:xfrm>
            <a:off x="395280" y="4724280"/>
            <a:ext cx="1081080" cy="433440"/>
          </a:xfrm>
          <a:prstGeom prst="wedgeRoundRectCallout">
            <a:avLst>
              <a:gd name="adj1" fmla="val 59689"/>
              <a:gd name="adj2" fmla="val -180037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19"/>
          <p:cNvSpPr/>
          <p:nvPr/>
        </p:nvSpPr>
        <p:spPr>
          <a:xfrm>
            <a:off x="4356000" y="4797360"/>
            <a:ext cx="1079640" cy="432000"/>
          </a:xfrm>
          <a:prstGeom prst="wedgeRoundRectCallout">
            <a:avLst>
              <a:gd name="adj1" fmla="val -113824"/>
              <a:gd name="adj2" fmla="val -25365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AutoShape 17"/>
          <p:cNvSpPr/>
          <p:nvPr/>
        </p:nvSpPr>
        <p:spPr>
          <a:xfrm>
            <a:off x="6804000" y="3645000"/>
            <a:ext cx="1440000" cy="792000"/>
          </a:xfrm>
          <a:prstGeom prst="wedgeRoundRectCallout">
            <a:avLst>
              <a:gd name="adj1" fmla="val -111962"/>
              <a:gd name="adj2" fmla="val -19740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971640" y="1989000"/>
            <a:ext cx="7777080" cy="1511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1116000" y="2060640"/>
          <a:ext cx="741672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74167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Line 6"/>
          <p:cNvSpPr/>
          <p:nvPr/>
        </p:nvSpPr>
        <p:spPr>
          <a:xfrm>
            <a:off x="3851280" y="3429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9" name="Object 7"/>
          <p:cNvGraphicFramePr/>
          <p:nvPr/>
        </p:nvGraphicFramePr>
        <p:xfrm>
          <a:off x="3132000" y="4221000"/>
          <a:ext cx="323388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32338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8"/>
          <p:cNvGraphicFramePr/>
          <p:nvPr/>
        </p:nvGraphicFramePr>
        <p:xfrm>
          <a:off x="2268360" y="5084640"/>
          <a:ext cx="158436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5084640"/>
                    <a:ext cx="1584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9"/>
          <p:cNvGraphicFramePr/>
          <p:nvPr/>
        </p:nvGraphicFramePr>
        <p:xfrm>
          <a:off x="1835280" y="6021360"/>
          <a:ext cx="284040" cy="28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6021360"/>
                    <a:ext cx="2840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Line 10"/>
          <p:cNvSpPr/>
          <p:nvPr/>
        </p:nvSpPr>
        <p:spPr>
          <a:xfrm flipV="1">
            <a:off x="4572000" y="3429000"/>
            <a:ext cx="266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2411280" y="2997360"/>
            <a:ext cx="576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2"/>
          <p:cNvSpPr/>
          <p:nvPr/>
        </p:nvSpPr>
        <p:spPr>
          <a:xfrm flipV="1">
            <a:off x="2987640" y="472392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1403280" y="2637000"/>
            <a:ext cx="57636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4"/>
          <p:cNvSpPr/>
          <p:nvPr/>
        </p:nvSpPr>
        <p:spPr>
          <a:xfrm flipV="1">
            <a:off x="1979640" y="5589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Object 16"/>
          <p:cNvGraphicFramePr/>
          <p:nvPr/>
        </p:nvGraphicFramePr>
        <p:xfrm>
          <a:off x="6877080" y="3716280"/>
          <a:ext cx="13269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3716280"/>
                    <a:ext cx="1326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8"/>
          <p:cNvGraphicFramePr/>
          <p:nvPr/>
        </p:nvGraphicFramePr>
        <p:xfrm>
          <a:off x="4356000" y="4869000"/>
          <a:ext cx="10224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3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4869000"/>
                    <a:ext cx="10224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0"/>
          <p:cNvGraphicFramePr/>
          <p:nvPr/>
        </p:nvGraphicFramePr>
        <p:xfrm>
          <a:off x="395280" y="4797360"/>
          <a:ext cx="1003320" cy="30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4797360"/>
                    <a:ext cx="10033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4572000" y="5589720"/>
          <a:ext cx="115236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589720"/>
                    <a:ext cx="1152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4"/>
          <p:cNvGraphicFramePr/>
          <p:nvPr/>
        </p:nvGraphicFramePr>
        <p:xfrm>
          <a:off x="5651640" y="5589720"/>
          <a:ext cx="1512720" cy="419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1640" y="5589720"/>
                    <a:ext cx="1512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25"/>
          <p:cNvGraphicFramePr/>
          <p:nvPr/>
        </p:nvGraphicFramePr>
        <p:xfrm>
          <a:off x="4572000" y="6021360"/>
          <a:ext cx="310680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6021360"/>
                    <a:ext cx="31068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DC6-ECDC-408E-8A6D-F5B3313F36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の制御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基本的な制御戦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横形優先戦略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th-first strategy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線形導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resoluti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意味に基づく制御戦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支持集合戦略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-of-support strategy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意味導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resoluti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3A1-AE0C-466B-8CC6-51A761101B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横形優先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2268360" y="2492280"/>
            <a:ext cx="2951280" cy="1008000"/>
          </a:xfrm>
          <a:prstGeom prst="ellipse">
            <a:avLst/>
          </a:prstGeom>
          <a:solidFill>
            <a:srgbClr val="b2e6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132000" y="2781360"/>
            <a:ext cx="1152720" cy="459720"/>
          </a:xfrm>
          <a:prstGeom prst="rect">
            <a:avLst/>
          </a:prstGeom>
          <a:solidFill>
            <a:srgbClr val="b2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1836720" y="2421000"/>
            <a:ext cx="3816360" cy="2016000"/>
          </a:xfrm>
          <a:prstGeom prst="ellipse">
            <a:avLst/>
          </a:prstGeom>
          <a:solidFill>
            <a:srgbClr val="2ed2ce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629080" y="364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第１段階の導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971640" y="2349360"/>
            <a:ext cx="5616360" cy="3095640"/>
          </a:xfrm>
          <a:prstGeom prst="ellipse">
            <a:avLst/>
          </a:prstGeom>
          <a:gradFill rotWithShape="0">
            <a:gsLst>
              <a:gs pos="0">
                <a:srgbClr val="bcf0fa">
                  <a:alpha val="17254"/>
                </a:srgbClr>
              </a:gs>
              <a:gs pos="100000">
                <a:srgbClr val="576f74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262728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第２段階の導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ABE-9279-4E99-A456-1C282A779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826920" y="2133720"/>
            <a:ext cx="7777440" cy="2087280"/>
          </a:xfrm>
          <a:prstGeom prst="rect">
            <a:avLst/>
          </a:prstGeom>
          <a:gradFill rotWithShape="0">
            <a:gsLst>
              <a:gs pos="0">
                <a:srgbClr val="bcf0fa">
                  <a:alpha val="22352"/>
                </a:srgbClr>
              </a:gs>
              <a:gs pos="100000">
                <a:srgbClr val="a1ced7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900000" y="2205000"/>
            <a:ext cx="7632720" cy="647640"/>
          </a:xfrm>
          <a:prstGeom prst="rect">
            <a:avLst/>
          </a:prstGeom>
          <a:solidFill>
            <a:srgbClr val="b2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9" name="Object 4"/>
          <p:cNvGraphicFramePr/>
          <p:nvPr/>
        </p:nvGraphicFramePr>
        <p:xfrm>
          <a:off x="971640" y="2276640"/>
          <a:ext cx="75070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750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Line 7"/>
          <p:cNvSpPr/>
          <p:nvPr/>
        </p:nvSpPr>
        <p:spPr>
          <a:xfrm flipH="1">
            <a:off x="1547280" y="2781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8"/>
          <p:cNvSpPr/>
          <p:nvPr/>
        </p:nvSpPr>
        <p:spPr>
          <a:xfrm flipV="1">
            <a:off x="1547640" y="2781000"/>
            <a:ext cx="576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3" name="Object 9"/>
          <p:cNvGraphicFramePr/>
          <p:nvPr/>
        </p:nvGraphicFramePr>
        <p:xfrm>
          <a:off x="1258920" y="3716280"/>
          <a:ext cx="649080" cy="4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716280"/>
                    <a:ext cx="6490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10"/>
          <p:cNvGraphicFramePr/>
          <p:nvPr/>
        </p:nvGraphicFramePr>
        <p:xfrm>
          <a:off x="2411280" y="3716280"/>
          <a:ext cx="208944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716280"/>
                    <a:ext cx="2089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11"/>
          <p:cNvGraphicFramePr/>
          <p:nvPr/>
        </p:nvGraphicFramePr>
        <p:xfrm>
          <a:off x="5003640" y="3716280"/>
          <a:ext cx="2095560" cy="4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716280"/>
                    <a:ext cx="2095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2"/>
          <p:cNvGraphicFramePr/>
          <p:nvPr/>
        </p:nvGraphicFramePr>
        <p:xfrm>
          <a:off x="7596360" y="3716280"/>
          <a:ext cx="647640" cy="44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6360" y="3716280"/>
                    <a:ext cx="6476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Line 13"/>
          <p:cNvSpPr/>
          <p:nvPr/>
        </p:nvSpPr>
        <p:spPr>
          <a:xfrm>
            <a:off x="1908000" y="2781360"/>
            <a:ext cx="151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14"/>
          <p:cNvSpPr/>
          <p:nvPr/>
        </p:nvSpPr>
        <p:spPr>
          <a:xfrm flipV="1">
            <a:off x="3419640" y="278100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15"/>
          <p:cNvSpPr/>
          <p:nvPr/>
        </p:nvSpPr>
        <p:spPr>
          <a:xfrm>
            <a:off x="3924360" y="2781360"/>
            <a:ext cx="208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796000" y="278136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5796000" y="278136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18"/>
          <p:cNvSpPr/>
          <p:nvPr/>
        </p:nvSpPr>
        <p:spPr>
          <a:xfrm flipH="1">
            <a:off x="7811640" y="2781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7" name="Object 20"/>
          <p:cNvGraphicFramePr/>
          <p:nvPr/>
        </p:nvGraphicFramePr>
        <p:xfrm>
          <a:off x="1116000" y="5013360"/>
          <a:ext cx="86364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8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5013360"/>
                    <a:ext cx="863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1"/>
          <p:cNvGraphicFramePr/>
          <p:nvPr/>
        </p:nvGraphicFramePr>
        <p:xfrm>
          <a:off x="2411280" y="5013360"/>
          <a:ext cx="84960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5013360"/>
                    <a:ext cx="8496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22"/>
          <p:cNvGraphicFramePr/>
          <p:nvPr/>
        </p:nvGraphicFramePr>
        <p:xfrm>
          <a:off x="3780000" y="5013360"/>
          <a:ext cx="208908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5013360"/>
                    <a:ext cx="2089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23"/>
          <p:cNvGraphicFramePr/>
          <p:nvPr/>
        </p:nvGraphicFramePr>
        <p:xfrm>
          <a:off x="6372360" y="5013360"/>
          <a:ext cx="855360" cy="41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4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72360" y="5013360"/>
                    <a:ext cx="855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24"/>
          <p:cNvGraphicFramePr/>
          <p:nvPr/>
        </p:nvGraphicFramePr>
        <p:xfrm>
          <a:off x="7596360" y="5013360"/>
          <a:ext cx="86328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6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6360" y="5013360"/>
                    <a:ext cx="863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Line 25"/>
          <p:cNvSpPr/>
          <p:nvPr/>
        </p:nvSpPr>
        <p:spPr>
          <a:xfrm>
            <a:off x="1547640" y="414972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26"/>
          <p:cNvSpPr/>
          <p:nvPr/>
        </p:nvSpPr>
        <p:spPr>
          <a:xfrm flipV="1">
            <a:off x="1619280" y="2781000"/>
            <a:ext cx="230508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547640" y="4149720"/>
            <a:ext cx="129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28"/>
          <p:cNvSpPr/>
          <p:nvPr/>
        </p:nvSpPr>
        <p:spPr>
          <a:xfrm flipH="1">
            <a:off x="2843280" y="4149720"/>
            <a:ext cx="3168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4149720"/>
            <a:ext cx="1366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0"/>
          <p:cNvSpPr/>
          <p:nvPr/>
        </p:nvSpPr>
        <p:spPr>
          <a:xfrm flipH="1">
            <a:off x="4859280" y="2781360"/>
            <a:ext cx="936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1"/>
          <p:cNvSpPr/>
          <p:nvPr/>
        </p:nvSpPr>
        <p:spPr>
          <a:xfrm>
            <a:off x="6012000" y="4149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2"/>
          <p:cNvSpPr/>
          <p:nvPr/>
        </p:nvSpPr>
        <p:spPr>
          <a:xfrm flipH="1">
            <a:off x="6803640" y="2781360"/>
            <a:ext cx="136836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492360" y="4149720"/>
            <a:ext cx="446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7812000" y="4149720"/>
            <a:ext cx="14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7" name="Object 35"/>
          <p:cNvGraphicFramePr/>
          <p:nvPr/>
        </p:nvGraphicFramePr>
        <p:xfrm>
          <a:off x="2556000" y="6308640"/>
          <a:ext cx="284040" cy="28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8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56000" y="6308640"/>
                    <a:ext cx="28404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Line 36"/>
          <p:cNvSpPr/>
          <p:nvPr/>
        </p:nvSpPr>
        <p:spPr>
          <a:xfrm>
            <a:off x="1547640" y="414972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7"/>
          <p:cNvSpPr/>
          <p:nvPr/>
        </p:nvSpPr>
        <p:spPr>
          <a:xfrm flipH="1">
            <a:off x="2700000" y="5445000"/>
            <a:ext cx="4103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717-A9B1-402A-AD91-17F20C99E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線形導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1763640" y="2133720"/>
            <a:ext cx="3529080" cy="12952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91636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2771640" y="2997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2556000" y="3860640"/>
            <a:ext cx="431640" cy="43200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2771640" y="4292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2556000" y="4797360"/>
            <a:ext cx="431640" cy="43200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2556000" y="5877000"/>
            <a:ext cx="431640" cy="43164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3635280" y="4797360"/>
            <a:ext cx="432000" cy="432000"/>
          </a:xfrm>
          <a:prstGeom prst="ellipse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2771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13"/>
          <p:cNvSpPr/>
          <p:nvPr/>
        </p:nvSpPr>
        <p:spPr>
          <a:xfrm flipH="1">
            <a:off x="2771280" y="530064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54" name="AutoShape 16"/>
          <p:cNvCxnSpPr/>
          <p:nvPr/>
        </p:nvCxnSpPr>
        <p:spPr>
          <a:xfrm>
            <a:off x="3059280" y="4005360"/>
            <a:ext cx="864000" cy="721440"/>
          </a:xfrm>
          <a:prstGeom prst="curvedConnector2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5" name="AutoShape 22"/>
          <p:cNvCxnSpPr/>
          <p:nvPr/>
        </p:nvCxnSpPr>
        <p:spPr>
          <a:xfrm rot="5400000">
            <a:off x="3378240" y="3542400"/>
            <a:ext cx="2064240" cy="541800"/>
          </a:xfrm>
          <a:prstGeom prst="curvedConnector2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BD6-D458-47FB-9E61-B144DB7AF7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971640" y="2060640"/>
            <a:ext cx="7632720" cy="71892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116000" y="2205000"/>
          <a:ext cx="727236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7272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2124000" y="3284640"/>
          <a:ext cx="7192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284640"/>
                    <a:ext cx="7192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7"/>
          <p:cNvGraphicFramePr/>
          <p:nvPr/>
        </p:nvGraphicFramePr>
        <p:xfrm>
          <a:off x="1979640" y="4149720"/>
          <a:ext cx="92088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149720"/>
                    <a:ext cx="9208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1979640" y="5013360"/>
          <a:ext cx="92700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013360"/>
                    <a:ext cx="927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9"/>
          <p:cNvGraphicFramePr/>
          <p:nvPr/>
        </p:nvGraphicFramePr>
        <p:xfrm>
          <a:off x="2268360" y="6021360"/>
          <a:ext cx="284400" cy="28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6021360"/>
                    <a:ext cx="284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Line 11"/>
          <p:cNvSpPr/>
          <p:nvPr/>
        </p:nvSpPr>
        <p:spPr>
          <a:xfrm>
            <a:off x="2124000" y="270828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12"/>
          <p:cNvSpPr/>
          <p:nvPr/>
        </p:nvSpPr>
        <p:spPr>
          <a:xfrm flipV="1">
            <a:off x="2411280" y="2707920"/>
            <a:ext cx="561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13"/>
          <p:cNvSpPr/>
          <p:nvPr/>
        </p:nvSpPr>
        <p:spPr>
          <a:xfrm>
            <a:off x="241128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2411280" y="2708280"/>
            <a:ext cx="18734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15"/>
          <p:cNvSpPr/>
          <p:nvPr/>
        </p:nvSpPr>
        <p:spPr>
          <a:xfrm>
            <a:off x="2411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2411280" y="2707920"/>
            <a:ext cx="38894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17"/>
          <p:cNvSpPr/>
          <p:nvPr/>
        </p:nvSpPr>
        <p:spPr>
          <a:xfrm>
            <a:off x="241128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utoShape 19"/>
          <p:cNvSpPr/>
          <p:nvPr/>
        </p:nvSpPr>
        <p:spPr>
          <a:xfrm>
            <a:off x="2050920" y="3284640"/>
            <a:ext cx="865440" cy="504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1908000" y="5661000"/>
            <a:ext cx="503280" cy="576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79" name="AutoShape 22"/>
          <p:cNvCxnSpPr>
            <a:stCxn id="477" idx="3"/>
            <a:endCxn id="478" idx="3"/>
          </p:cNvCxnSpPr>
          <p:nvPr/>
        </p:nvCxnSpPr>
        <p:spPr>
          <a:xfrm flipH="1">
            <a:off x="2410560" y="3536640"/>
            <a:ext cx="505800" cy="2413800"/>
          </a:xfrm>
          <a:prstGeom prst="curvedConnector5">
            <a:avLst>
              <a:gd name="adj1" fmla="val -76353"/>
              <a:gd name="adj2" fmla="val 50000"/>
              <a:gd name="adj3" fmla="val -7635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3B61-A77A-4BD8-9391-0CF6C7ED5E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6877080" y="3789360"/>
            <a:ext cx="1150920" cy="360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3708360" y="3789360"/>
            <a:ext cx="1871640" cy="360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619280" y="3789360"/>
            <a:ext cx="576360" cy="360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a4076"/>
                </a:solidFill>
                <a:latin typeface="Tahoma"/>
              </a:rPr>
              <a:t>基礎節の集合に対する導出原理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971640" y="2205000"/>
          <a:ext cx="55926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05000"/>
                    <a:ext cx="5592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8"/>
          <p:cNvGraphicFramePr/>
          <p:nvPr/>
        </p:nvGraphicFramePr>
        <p:xfrm>
          <a:off x="900000" y="3716280"/>
          <a:ext cx="75931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716280"/>
                    <a:ext cx="75931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3059280" y="4941720"/>
          <a:ext cx="10080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4941720"/>
                    <a:ext cx="10080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4859280" y="6021360"/>
          <a:ext cx="295200" cy="28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6021360"/>
                    <a:ext cx="2952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11"/>
          <p:cNvSpPr/>
          <p:nvPr/>
        </p:nvSpPr>
        <p:spPr>
          <a:xfrm>
            <a:off x="1835280" y="4221000"/>
            <a:ext cx="1657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 flipH="1">
            <a:off x="3492000" y="4221000"/>
            <a:ext cx="10796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3492360" y="537372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5003280" y="4221000"/>
            <a:ext cx="230508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2411280" y="2924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6012000" y="4581360"/>
            <a:ext cx="2736720" cy="1441440"/>
          </a:xfrm>
          <a:prstGeom prst="irregularSeal2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3851280" y="2852640"/>
            <a:ext cx="2881440" cy="792360"/>
          </a:xfrm>
          <a:prstGeom prst="horizontalScroll">
            <a:avLst>
              <a:gd name="adj" fmla="val 12500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588000" y="50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原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4140360" y="299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エルブランの定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A3C-53DF-4339-AD8B-365469907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支持集合戦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3" name="Object 4"/>
          <p:cNvGraphicFramePr/>
          <p:nvPr/>
        </p:nvGraphicFramePr>
        <p:xfrm>
          <a:off x="1692360" y="2133720"/>
          <a:ext cx="1052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1052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5"/>
          <p:cNvSpPr/>
          <p:nvPr/>
        </p:nvSpPr>
        <p:spPr>
          <a:xfrm>
            <a:off x="1692360" y="3429000"/>
            <a:ext cx="2374920" cy="71928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6" name="Object 6"/>
          <p:cNvGraphicFramePr/>
          <p:nvPr/>
        </p:nvGraphicFramePr>
        <p:xfrm>
          <a:off x="1835280" y="3573360"/>
          <a:ext cx="380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57336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7"/>
          <p:cNvSpPr/>
          <p:nvPr/>
        </p:nvSpPr>
        <p:spPr>
          <a:xfrm>
            <a:off x="2050920" y="3573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の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067280" y="3429000"/>
            <a:ext cx="2665440" cy="72072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0" name="Object 9"/>
          <p:cNvGraphicFramePr/>
          <p:nvPr/>
        </p:nvGraphicFramePr>
        <p:xfrm>
          <a:off x="4140360" y="3573360"/>
          <a:ext cx="70632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3573360"/>
                    <a:ext cx="706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10"/>
          <p:cNvSpPr/>
          <p:nvPr/>
        </p:nvSpPr>
        <p:spPr>
          <a:xfrm>
            <a:off x="4716360" y="3573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の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AutoShape 12"/>
          <p:cNvSpPr/>
          <p:nvPr/>
        </p:nvSpPr>
        <p:spPr>
          <a:xfrm rot="5400000">
            <a:off x="4032000" y="728280"/>
            <a:ext cx="360360" cy="504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61280 h 5040360"/>
              <a:gd name="textAreaBottom" fmla="*/ 487908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6"/>
                  <a:pt x="10800" y="2211"/>
                </a:cubicBezTo>
                <a:lnTo>
                  <a:pt x="10800" y="8753"/>
                </a:lnTo>
                <a:cubicBezTo>
                  <a:pt x="10800" y="9859"/>
                  <a:pt x="5400" y="10964"/>
                  <a:pt x="0" y="10964"/>
                </a:cubicBezTo>
                <a:cubicBezTo>
                  <a:pt x="5400" y="10964"/>
                  <a:pt x="10800" y="12070"/>
                  <a:pt x="10800" y="13175"/>
                </a:cubicBezTo>
                <a:lnTo>
                  <a:pt x="10800" y="19389"/>
                </a:lnTo>
                <a:cubicBezTo>
                  <a:pt x="10800" y="2049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92360" y="2637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充足不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AutoShape 14"/>
          <p:cNvSpPr/>
          <p:nvPr/>
        </p:nvSpPr>
        <p:spPr>
          <a:xfrm rot="16200000">
            <a:off x="2736000" y="3105720"/>
            <a:ext cx="287280" cy="2374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5960 h 2374920"/>
              <a:gd name="textAreaBottom" fmla="*/ 229896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6"/>
                  <a:pt x="10800" y="2211"/>
                </a:cubicBezTo>
                <a:lnTo>
                  <a:pt x="10800" y="8753"/>
                </a:lnTo>
                <a:cubicBezTo>
                  <a:pt x="10800" y="9859"/>
                  <a:pt x="5400" y="10964"/>
                  <a:pt x="0" y="10964"/>
                </a:cubicBezTo>
                <a:cubicBezTo>
                  <a:pt x="5400" y="10964"/>
                  <a:pt x="10800" y="12070"/>
                  <a:pt x="10800" y="13175"/>
                </a:cubicBezTo>
                <a:lnTo>
                  <a:pt x="10800" y="19389"/>
                </a:lnTo>
                <a:cubicBezTo>
                  <a:pt x="10800" y="2049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2195640" y="44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充足可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9"/>
          <p:cNvSpPr/>
          <p:nvPr/>
        </p:nvSpPr>
        <p:spPr>
          <a:xfrm flipH="1" flipV="1">
            <a:off x="6084720" y="4149360"/>
            <a:ext cx="648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6732720" y="43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支持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5219640" y="4005360"/>
            <a:ext cx="289080" cy="2872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5219640" y="5516640"/>
            <a:ext cx="289080" cy="2872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24"/>
          <p:cNvSpPr/>
          <p:nvPr/>
        </p:nvSpPr>
        <p:spPr>
          <a:xfrm>
            <a:off x="5364000" y="4797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536400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6"/>
          <p:cNvSpPr/>
          <p:nvPr/>
        </p:nvSpPr>
        <p:spPr>
          <a:xfrm>
            <a:off x="4932360" y="6021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536400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28"/>
          <p:cNvSpPr/>
          <p:nvPr/>
        </p:nvSpPr>
        <p:spPr>
          <a:xfrm flipH="1" flipV="1">
            <a:off x="5003280" y="4365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F23-4F38-44CC-A5F4-9BF06D689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4475160" y="2924280"/>
            <a:ext cx="12762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971640" y="2133720"/>
          <a:ext cx="491004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49100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5"/>
          <p:cNvGraphicFramePr/>
          <p:nvPr/>
        </p:nvGraphicFramePr>
        <p:xfrm>
          <a:off x="923760" y="2924280"/>
          <a:ext cx="50040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3760" y="2924280"/>
                    <a:ext cx="5004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AutoShape 7"/>
          <p:cNvSpPr/>
          <p:nvPr/>
        </p:nvSpPr>
        <p:spPr>
          <a:xfrm>
            <a:off x="5940360" y="4005360"/>
            <a:ext cx="1435320" cy="511200"/>
          </a:xfrm>
          <a:prstGeom prst="borderCallout1">
            <a:avLst>
              <a:gd name="adj1" fmla="val 18750"/>
              <a:gd name="adj2" fmla="val -8333"/>
              <a:gd name="adj3" fmla="val -120185"/>
              <a:gd name="adj4" fmla="val -32851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6012000" y="400536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支持集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1979640" y="342900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10"/>
          <p:cNvSpPr/>
          <p:nvPr/>
        </p:nvSpPr>
        <p:spPr>
          <a:xfrm flipV="1">
            <a:off x="2050920" y="3357720"/>
            <a:ext cx="3097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8" name="Object 11"/>
          <p:cNvGraphicFramePr/>
          <p:nvPr/>
        </p:nvGraphicFramePr>
        <p:xfrm>
          <a:off x="1619280" y="4292640"/>
          <a:ext cx="10875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292640"/>
                    <a:ext cx="1087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Line 12"/>
          <p:cNvSpPr/>
          <p:nvPr/>
        </p:nvSpPr>
        <p:spPr>
          <a:xfrm>
            <a:off x="2124000" y="472428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13"/>
          <p:cNvSpPr/>
          <p:nvPr/>
        </p:nvSpPr>
        <p:spPr>
          <a:xfrm flipV="1">
            <a:off x="2556000" y="3429000"/>
            <a:ext cx="720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2" name="Object 14"/>
          <p:cNvGraphicFramePr/>
          <p:nvPr/>
        </p:nvGraphicFramePr>
        <p:xfrm>
          <a:off x="2411280" y="5229360"/>
          <a:ext cx="34128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3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5229360"/>
                    <a:ext cx="3412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Line 15"/>
          <p:cNvSpPr/>
          <p:nvPr/>
        </p:nvSpPr>
        <p:spPr>
          <a:xfrm>
            <a:off x="2556000" y="558972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3059280" y="3428640"/>
            <a:ext cx="108108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916360" y="6021360"/>
          <a:ext cx="284040" cy="28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6021360"/>
                    <a:ext cx="2840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204-F9EB-4417-ABC5-2B1457E92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18"/>
          <p:cNvSpPr/>
          <p:nvPr/>
        </p:nvSpPr>
        <p:spPr>
          <a:xfrm>
            <a:off x="1692360" y="3429000"/>
            <a:ext cx="5040360" cy="936720"/>
          </a:xfrm>
          <a:prstGeom prst="roundRect">
            <a:avLst>
              <a:gd name="adj" fmla="val 16667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意味導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つの解釈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設定する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1692360" y="342900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1835280" y="35002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解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真となる節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4213080" y="3429000"/>
            <a:ext cx="2519640" cy="936720"/>
          </a:xfrm>
          <a:prstGeom prst="roundRect">
            <a:avLst>
              <a:gd name="adj" fmla="val 1666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356000" y="3500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解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偽となる節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Oval 9"/>
          <p:cNvSpPr/>
          <p:nvPr/>
        </p:nvSpPr>
        <p:spPr>
          <a:xfrm>
            <a:off x="3708360" y="5084640"/>
            <a:ext cx="287280" cy="2890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Oval 10"/>
          <p:cNvSpPr/>
          <p:nvPr/>
        </p:nvSpPr>
        <p:spPr>
          <a:xfrm>
            <a:off x="4572000" y="5084640"/>
            <a:ext cx="289080" cy="2890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3276720" y="4149720"/>
            <a:ext cx="43164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2"/>
          <p:cNvSpPr/>
          <p:nvPr/>
        </p:nvSpPr>
        <p:spPr>
          <a:xfrm flipH="1">
            <a:off x="4932360" y="4076640"/>
            <a:ext cx="1008000" cy="9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3"/>
          <p:cNvSpPr/>
          <p:nvPr/>
        </p:nvSpPr>
        <p:spPr>
          <a:xfrm>
            <a:off x="3851280" y="551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14"/>
          <p:cNvSpPr/>
          <p:nvPr/>
        </p:nvSpPr>
        <p:spPr>
          <a:xfrm flipH="1">
            <a:off x="4284360" y="5516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4140360" y="6021360"/>
            <a:ext cx="287280" cy="289080"/>
          </a:xfrm>
          <a:prstGeom prst="ellipse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2771640" y="285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節も含む節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D37-0A6C-4B87-8CAE-A9F2D9B5E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2843280" y="5734080"/>
            <a:ext cx="504720" cy="28728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3"/>
          <p:cNvSpPr/>
          <p:nvPr/>
        </p:nvSpPr>
        <p:spPr>
          <a:xfrm>
            <a:off x="3203640" y="4941720"/>
            <a:ext cx="504720" cy="2876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1258920" y="4149720"/>
            <a:ext cx="1368360" cy="28728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23"/>
          <p:cNvSpPr/>
          <p:nvPr/>
        </p:nvSpPr>
        <p:spPr>
          <a:xfrm>
            <a:off x="3492360" y="3141720"/>
            <a:ext cx="2232000" cy="5745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755640" y="3141720"/>
            <a:ext cx="2303640" cy="5745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755640" y="2060640"/>
          <a:ext cx="469116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46911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1"/>
          <p:cNvGraphicFramePr/>
          <p:nvPr/>
        </p:nvGraphicFramePr>
        <p:xfrm>
          <a:off x="1332000" y="4149720"/>
          <a:ext cx="12729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149720"/>
                    <a:ext cx="1272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Line 12"/>
          <p:cNvSpPr/>
          <p:nvPr/>
        </p:nvSpPr>
        <p:spPr>
          <a:xfrm>
            <a:off x="1476360" y="3645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13"/>
          <p:cNvSpPr/>
          <p:nvPr/>
        </p:nvSpPr>
        <p:spPr>
          <a:xfrm flipV="1">
            <a:off x="1979640" y="3644640"/>
            <a:ext cx="22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Object 14"/>
          <p:cNvGraphicFramePr/>
          <p:nvPr/>
        </p:nvGraphicFramePr>
        <p:xfrm>
          <a:off x="3203640" y="4941720"/>
          <a:ext cx="527040" cy="2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941720"/>
                    <a:ext cx="52704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Line 15"/>
          <p:cNvSpPr/>
          <p:nvPr/>
        </p:nvSpPr>
        <p:spPr>
          <a:xfrm>
            <a:off x="1979640" y="4508640"/>
            <a:ext cx="151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16"/>
          <p:cNvSpPr/>
          <p:nvPr/>
        </p:nvSpPr>
        <p:spPr>
          <a:xfrm flipV="1">
            <a:off x="3492360" y="364500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Object 17"/>
          <p:cNvGraphicFramePr/>
          <p:nvPr/>
        </p:nvGraphicFramePr>
        <p:xfrm>
          <a:off x="3564000" y="6381720"/>
          <a:ext cx="284040" cy="28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3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6381720"/>
                    <a:ext cx="2840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18"/>
          <p:cNvGraphicFramePr/>
          <p:nvPr/>
        </p:nvGraphicFramePr>
        <p:xfrm>
          <a:off x="4356000" y="2565360"/>
          <a:ext cx="4443480" cy="4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2565360"/>
                    <a:ext cx="4443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19"/>
          <p:cNvGraphicFramePr/>
          <p:nvPr/>
        </p:nvGraphicFramePr>
        <p:xfrm>
          <a:off x="826920" y="3284640"/>
          <a:ext cx="217512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3284640"/>
                    <a:ext cx="2175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21"/>
          <p:cNvGraphicFramePr/>
          <p:nvPr/>
        </p:nvGraphicFramePr>
        <p:xfrm>
          <a:off x="3564000" y="3284640"/>
          <a:ext cx="205092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9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3284640"/>
                    <a:ext cx="20509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AutoShape 24"/>
          <p:cNvSpPr/>
          <p:nvPr/>
        </p:nvSpPr>
        <p:spPr>
          <a:xfrm>
            <a:off x="2987640" y="2565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Line 26"/>
          <p:cNvSpPr/>
          <p:nvPr/>
        </p:nvSpPr>
        <p:spPr>
          <a:xfrm>
            <a:off x="2411280" y="3645000"/>
            <a:ext cx="720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27"/>
          <p:cNvSpPr/>
          <p:nvPr/>
        </p:nvSpPr>
        <p:spPr>
          <a:xfrm flipH="1">
            <a:off x="3131640" y="530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3" name="Object 28"/>
          <p:cNvGraphicFramePr/>
          <p:nvPr/>
        </p:nvGraphicFramePr>
        <p:xfrm>
          <a:off x="2859120" y="5718240"/>
          <a:ext cx="495360" cy="31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4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59120" y="5718240"/>
                    <a:ext cx="4953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Line 29"/>
          <p:cNvSpPr/>
          <p:nvPr/>
        </p:nvSpPr>
        <p:spPr>
          <a:xfrm>
            <a:off x="3132000" y="6021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30"/>
          <p:cNvSpPr/>
          <p:nvPr/>
        </p:nvSpPr>
        <p:spPr>
          <a:xfrm flipV="1">
            <a:off x="3708360" y="3644640"/>
            <a:ext cx="172728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AutoShape 31"/>
          <p:cNvSpPr/>
          <p:nvPr/>
        </p:nvSpPr>
        <p:spPr>
          <a:xfrm>
            <a:off x="3720960" y="26478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674-F560-4549-94BE-B02D31A2B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5796000" y="4437000"/>
            <a:ext cx="504720" cy="576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132000" y="4437000"/>
            <a:ext cx="287640" cy="503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順序付き線形導出（</a:t>
            </a:r>
            <a:r>
              <a:rPr b="0" lang="en-US" sz="4400" spc="-1" strike="noStrike">
                <a:solidFill>
                  <a:srgbClr val="6a4076"/>
                </a:solidFill>
                <a:latin typeface="Times New Roman"/>
              </a:rPr>
              <a:t>OL</a:t>
            </a:r>
            <a:r>
              <a:rPr b="0" lang="ja-JP" sz="4400" spc="-1" strike="noStrike">
                <a:solidFill>
                  <a:srgbClr val="6a4076"/>
                </a:solidFill>
                <a:latin typeface="Times New Roman"/>
              </a:rPr>
              <a:t>導出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節におけるリテラルの並び順を固定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右リテラルに着目し，それと相補的なリテラルを持つ節を選び導出を行う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着目したリテラルを四角で囲い導出節に残す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3" name="Object 4"/>
          <p:cNvGraphicFramePr/>
          <p:nvPr/>
        </p:nvGraphicFramePr>
        <p:xfrm>
          <a:off x="1332000" y="4437000"/>
          <a:ext cx="20764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437000"/>
                    <a:ext cx="2076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5"/>
          <p:cNvGraphicFramePr/>
          <p:nvPr/>
        </p:nvGraphicFramePr>
        <p:xfrm>
          <a:off x="3851280" y="4437000"/>
          <a:ext cx="45277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437000"/>
                    <a:ext cx="45277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6"/>
          <p:cNvGraphicFramePr/>
          <p:nvPr/>
        </p:nvGraphicFramePr>
        <p:xfrm>
          <a:off x="1332000" y="5805360"/>
          <a:ext cx="6383160" cy="56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5805360"/>
                    <a:ext cx="63831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Line 8"/>
          <p:cNvSpPr/>
          <p:nvPr/>
        </p:nvSpPr>
        <p:spPr>
          <a:xfrm>
            <a:off x="2268360" y="5084640"/>
            <a:ext cx="1582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9"/>
          <p:cNvSpPr/>
          <p:nvPr/>
        </p:nvSpPr>
        <p:spPr>
          <a:xfrm flipV="1">
            <a:off x="3851280" y="508428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3313080" y="5818320"/>
            <a:ext cx="358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8201-D643-480C-9023-E49475B30D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AutoShape 28"/>
          <p:cNvSpPr/>
          <p:nvPr/>
        </p:nvSpPr>
        <p:spPr>
          <a:xfrm>
            <a:off x="6012000" y="2205000"/>
            <a:ext cx="2520720" cy="4246560"/>
          </a:xfrm>
          <a:prstGeom prst="wedgeRoundRectCallout">
            <a:avLst>
              <a:gd name="adj1" fmla="val -116060"/>
              <a:gd name="adj2" fmla="val -6111"/>
              <a:gd name="adj3" fmla="val 16667"/>
            </a:avLst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Rectangle 30"/>
          <p:cNvSpPr/>
          <p:nvPr/>
        </p:nvSpPr>
        <p:spPr>
          <a:xfrm>
            <a:off x="6804000" y="2421000"/>
            <a:ext cx="216000" cy="360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6227640" y="4653000"/>
            <a:ext cx="1297080" cy="16556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4788000" y="2852640"/>
            <a:ext cx="504720" cy="576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節に対する処理（１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縮約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9" name="Object 4"/>
          <p:cNvGraphicFramePr/>
          <p:nvPr/>
        </p:nvGraphicFramePr>
        <p:xfrm>
          <a:off x="971640" y="2924280"/>
          <a:ext cx="432108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43210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5"/>
          <p:cNvGraphicFramePr/>
          <p:nvPr/>
        </p:nvGraphicFramePr>
        <p:xfrm>
          <a:off x="971640" y="4365720"/>
          <a:ext cx="360036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365720"/>
                    <a:ext cx="3600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7"/>
          <p:cNvSpPr/>
          <p:nvPr/>
        </p:nvSpPr>
        <p:spPr>
          <a:xfrm>
            <a:off x="2771640" y="2852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971640" y="5157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処理の結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771640" y="4292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3132000" y="5157720"/>
          <a:ext cx="220032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5157720"/>
                    <a:ext cx="2200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"/>
          <p:cNvSpPr/>
          <p:nvPr/>
        </p:nvSpPr>
        <p:spPr>
          <a:xfrm>
            <a:off x="971640" y="5734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なれ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4932360" y="5084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Object 13"/>
          <p:cNvGraphicFramePr/>
          <p:nvPr/>
        </p:nvGraphicFramePr>
        <p:xfrm>
          <a:off x="2268360" y="5734080"/>
          <a:ext cx="151452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5734080"/>
                    <a:ext cx="1514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Box 14"/>
          <p:cNvSpPr/>
          <p:nvPr/>
        </p:nvSpPr>
        <p:spPr>
          <a:xfrm>
            <a:off x="3780000" y="57340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AutoShape 15"/>
          <p:cNvSpPr/>
          <p:nvPr/>
        </p:nvSpPr>
        <p:spPr>
          <a:xfrm>
            <a:off x="2195640" y="3716280"/>
            <a:ext cx="720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4" name="Object 17"/>
          <p:cNvGraphicFramePr/>
          <p:nvPr/>
        </p:nvGraphicFramePr>
        <p:xfrm>
          <a:off x="6300720" y="2421000"/>
          <a:ext cx="720720" cy="3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5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2421000"/>
                    <a:ext cx="7207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9"/>
          <p:cNvGraphicFramePr/>
          <p:nvPr/>
        </p:nvGraphicFramePr>
        <p:xfrm>
          <a:off x="6877080" y="2997360"/>
          <a:ext cx="1008000" cy="44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7080" y="2997360"/>
                    <a:ext cx="1008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Line 20"/>
          <p:cNvSpPr/>
          <p:nvPr/>
        </p:nvSpPr>
        <p:spPr>
          <a:xfrm>
            <a:off x="6732720" y="292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21"/>
          <p:cNvSpPr/>
          <p:nvPr/>
        </p:nvSpPr>
        <p:spPr>
          <a:xfrm flipH="1">
            <a:off x="6732720" y="342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0" name="Object 22"/>
          <p:cNvGraphicFramePr/>
          <p:nvPr/>
        </p:nvGraphicFramePr>
        <p:xfrm>
          <a:off x="6305400" y="3762360"/>
          <a:ext cx="85428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5400" y="3762360"/>
                    <a:ext cx="8542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Line 23"/>
          <p:cNvSpPr/>
          <p:nvPr/>
        </p:nvSpPr>
        <p:spPr>
          <a:xfrm>
            <a:off x="673272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3" name="Object 24"/>
          <p:cNvGraphicFramePr/>
          <p:nvPr/>
        </p:nvGraphicFramePr>
        <p:xfrm>
          <a:off x="6300720" y="4869000"/>
          <a:ext cx="960480" cy="37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4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00720" y="4869000"/>
                    <a:ext cx="9604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Line 25"/>
          <p:cNvSpPr/>
          <p:nvPr/>
        </p:nvSpPr>
        <p:spPr>
          <a:xfrm>
            <a:off x="673272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6" name="Object 26"/>
          <p:cNvGraphicFramePr/>
          <p:nvPr/>
        </p:nvGraphicFramePr>
        <p:xfrm>
          <a:off x="6588000" y="5805360"/>
          <a:ext cx="320760" cy="34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7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8000" y="5805360"/>
                    <a:ext cx="3207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Freeform 27"/>
          <p:cNvSpPr/>
          <p:nvPr/>
        </p:nvSpPr>
        <p:spPr>
          <a:xfrm>
            <a:off x="6732720" y="2637000"/>
            <a:ext cx="1655640" cy="3097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C71-9B84-4EB8-B33D-8987ACD74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8"/>
          <p:cNvSpPr/>
          <p:nvPr/>
        </p:nvSpPr>
        <p:spPr>
          <a:xfrm>
            <a:off x="5435640" y="2924280"/>
            <a:ext cx="288720" cy="50472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2195640" y="2924280"/>
            <a:ext cx="288720" cy="504720"/>
          </a:xfrm>
          <a:prstGeom prst="rect">
            <a:avLst/>
          </a:prstGeom>
          <a:solidFill>
            <a:srgbClr val="f4f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2" name="Object 5"/>
          <p:cNvGraphicFramePr/>
          <p:nvPr/>
        </p:nvGraphicFramePr>
        <p:xfrm>
          <a:off x="971640" y="2924280"/>
          <a:ext cx="59227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5922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節に対する処理（２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簡約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3924360" y="2852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2195640" y="3716280"/>
            <a:ext cx="720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971640" y="5157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処理の結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9" name="Object 10"/>
          <p:cNvGraphicFramePr/>
          <p:nvPr/>
        </p:nvGraphicFramePr>
        <p:xfrm>
          <a:off x="3203640" y="5157720"/>
          <a:ext cx="334332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157720"/>
                    <a:ext cx="3343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11"/>
          <p:cNvSpPr/>
          <p:nvPr/>
        </p:nvSpPr>
        <p:spPr>
          <a:xfrm>
            <a:off x="971640" y="5734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なれ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6156360" y="5084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3" name="Object 13"/>
          <p:cNvGraphicFramePr/>
          <p:nvPr/>
        </p:nvGraphicFramePr>
        <p:xfrm>
          <a:off x="2268360" y="5734080"/>
          <a:ext cx="268632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5734080"/>
                    <a:ext cx="2686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Text Box 14"/>
          <p:cNvSpPr/>
          <p:nvPr/>
        </p:nvSpPr>
        <p:spPr>
          <a:xfrm>
            <a:off x="4859280" y="5734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6" name="Object 15"/>
          <p:cNvGraphicFramePr/>
          <p:nvPr/>
        </p:nvGraphicFramePr>
        <p:xfrm>
          <a:off x="971640" y="4365720"/>
          <a:ext cx="477828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365720"/>
                    <a:ext cx="47782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16"/>
          <p:cNvSpPr/>
          <p:nvPr/>
        </p:nvSpPr>
        <p:spPr>
          <a:xfrm>
            <a:off x="3924360" y="4292640"/>
            <a:ext cx="36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31C1-4EC2-49B2-9457-DFA9B1AD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44"/>
          <p:cNvSpPr/>
          <p:nvPr/>
        </p:nvSpPr>
        <p:spPr>
          <a:xfrm>
            <a:off x="5292720" y="1916280"/>
            <a:ext cx="3313080" cy="3744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36"/>
          <p:cNvSpPr/>
          <p:nvPr/>
        </p:nvSpPr>
        <p:spPr>
          <a:xfrm>
            <a:off x="971640" y="404640"/>
            <a:ext cx="3313080" cy="37450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2" name="Object 4"/>
          <p:cNvGraphicFramePr/>
          <p:nvPr/>
        </p:nvGraphicFramePr>
        <p:xfrm>
          <a:off x="971640" y="549360"/>
          <a:ext cx="578016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5780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Line 5"/>
          <p:cNvSpPr/>
          <p:nvPr/>
        </p:nvSpPr>
        <p:spPr>
          <a:xfrm>
            <a:off x="147636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5" name="Object 6"/>
          <p:cNvGraphicFramePr/>
          <p:nvPr/>
        </p:nvGraphicFramePr>
        <p:xfrm>
          <a:off x="1116000" y="1484280"/>
          <a:ext cx="12304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484280"/>
                    <a:ext cx="1230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Rectangle 7"/>
          <p:cNvSpPr/>
          <p:nvPr/>
        </p:nvSpPr>
        <p:spPr>
          <a:xfrm>
            <a:off x="1619280" y="1413000"/>
            <a:ext cx="28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Line 8"/>
          <p:cNvSpPr/>
          <p:nvPr/>
        </p:nvSpPr>
        <p:spPr>
          <a:xfrm flipV="1">
            <a:off x="1476360" y="1052640"/>
            <a:ext cx="1079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Line 9"/>
          <p:cNvSpPr/>
          <p:nvPr/>
        </p:nvSpPr>
        <p:spPr>
          <a:xfrm>
            <a:off x="1476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0" name="Object 10"/>
          <p:cNvGraphicFramePr/>
          <p:nvPr/>
        </p:nvGraphicFramePr>
        <p:xfrm>
          <a:off x="1116000" y="2276640"/>
          <a:ext cx="192564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276640"/>
                    <a:ext cx="1925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11"/>
          <p:cNvSpPr/>
          <p:nvPr/>
        </p:nvSpPr>
        <p:spPr>
          <a:xfrm>
            <a:off x="1619280" y="2205000"/>
            <a:ext cx="288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2"/>
          <p:cNvSpPr/>
          <p:nvPr/>
        </p:nvSpPr>
        <p:spPr>
          <a:xfrm flipV="1">
            <a:off x="1476360" y="105228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13"/>
          <p:cNvSpPr/>
          <p:nvPr/>
        </p:nvSpPr>
        <p:spPr>
          <a:xfrm>
            <a:off x="2052720" y="2205000"/>
            <a:ext cx="288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147636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6" name="Object 15"/>
          <p:cNvGraphicFramePr/>
          <p:nvPr/>
        </p:nvGraphicFramePr>
        <p:xfrm>
          <a:off x="1332000" y="3789360"/>
          <a:ext cx="320760" cy="3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789360"/>
                    <a:ext cx="3207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16"/>
          <p:cNvSpPr/>
          <p:nvPr/>
        </p:nvSpPr>
        <p:spPr>
          <a:xfrm>
            <a:off x="1619280" y="2997360"/>
            <a:ext cx="28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2052720" y="2997360"/>
            <a:ext cx="28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147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1" name="Object 19"/>
          <p:cNvGraphicFramePr/>
          <p:nvPr/>
        </p:nvGraphicFramePr>
        <p:xfrm>
          <a:off x="1116000" y="3068640"/>
          <a:ext cx="1230480" cy="34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3068640"/>
                    <a:ext cx="1230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Line 20"/>
          <p:cNvSpPr/>
          <p:nvPr/>
        </p:nvSpPr>
        <p:spPr>
          <a:xfrm>
            <a:off x="1476360" y="422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4" name="Object 21"/>
          <p:cNvGraphicFramePr/>
          <p:nvPr/>
        </p:nvGraphicFramePr>
        <p:xfrm>
          <a:off x="1116000" y="4581360"/>
          <a:ext cx="747720" cy="34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5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581360"/>
                    <a:ext cx="747720" cy="3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Line 22"/>
          <p:cNvSpPr/>
          <p:nvPr/>
        </p:nvSpPr>
        <p:spPr>
          <a:xfrm>
            <a:off x="1476360" y="5013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23"/>
          <p:cNvGraphicFramePr/>
          <p:nvPr/>
        </p:nvGraphicFramePr>
        <p:xfrm>
          <a:off x="1116000" y="5445000"/>
          <a:ext cx="1442880" cy="34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6000" y="5445000"/>
                    <a:ext cx="1442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Line 24"/>
          <p:cNvSpPr/>
          <p:nvPr/>
        </p:nvSpPr>
        <p:spPr>
          <a:xfrm flipV="1">
            <a:off x="1476360" y="1052640"/>
            <a:ext cx="324000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Rectangle 25"/>
          <p:cNvSpPr/>
          <p:nvPr/>
        </p:nvSpPr>
        <p:spPr>
          <a:xfrm>
            <a:off x="1116000" y="4508640"/>
            <a:ext cx="28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26"/>
          <p:cNvSpPr/>
          <p:nvPr/>
        </p:nvSpPr>
        <p:spPr>
          <a:xfrm flipV="1">
            <a:off x="1476360" y="1052640"/>
            <a:ext cx="45356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Rectangle 27"/>
          <p:cNvSpPr/>
          <p:nvPr/>
        </p:nvSpPr>
        <p:spPr>
          <a:xfrm>
            <a:off x="1116000" y="5373720"/>
            <a:ext cx="28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Rectangle 28"/>
          <p:cNvSpPr/>
          <p:nvPr/>
        </p:nvSpPr>
        <p:spPr>
          <a:xfrm>
            <a:off x="1619280" y="5373720"/>
            <a:ext cx="28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29"/>
          <p:cNvSpPr/>
          <p:nvPr/>
        </p:nvSpPr>
        <p:spPr>
          <a:xfrm>
            <a:off x="1476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5" name="Object 30"/>
          <p:cNvGraphicFramePr/>
          <p:nvPr/>
        </p:nvGraphicFramePr>
        <p:xfrm>
          <a:off x="1332000" y="6237360"/>
          <a:ext cx="284040" cy="28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6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0" y="6237360"/>
                    <a:ext cx="2840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1"/>
          <p:cNvGraphicFramePr/>
          <p:nvPr/>
        </p:nvGraphicFramePr>
        <p:xfrm>
          <a:off x="5292720" y="2349360"/>
          <a:ext cx="776160" cy="349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8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92720" y="2349360"/>
                    <a:ext cx="776160" cy="3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32"/>
          <p:cNvGraphicFramePr/>
          <p:nvPr/>
        </p:nvGraphicFramePr>
        <p:xfrm>
          <a:off x="6300720" y="2349360"/>
          <a:ext cx="936720" cy="349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0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349360"/>
                    <a:ext cx="936720" cy="3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Line 33"/>
          <p:cNvSpPr/>
          <p:nvPr/>
        </p:nvSpPr>
        <p:spPr>
          <a:xfrm>
            <a:off x="5724360" y="270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34"/>
          <p:cNvSpPr/>
          <p:nvPr/>
        </p:nvSpPr>
        <p:spPr>
          <a:xfrm flipH="1">
            <a:off x="5724000" y="270828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3" name="Object 35"/>
          <p:cNvGraphicFramePr/>
          <p:nvPr/>
        </p:nvGraphicFramePr>
        <p:xfrm>
          <a:off x="5292720" y="4076640"/>
          <a:ext cx="1017720" cy="34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4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92720" y="4076640"/>
                    <a:ext cx="10177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7"/>
          <p:cNvGraphicFramePr/>
          <p:nvPr/>
        </p:nvGraphicFramePr>
        <p:xfrm>
          <a:off x="7380360" y="2349360"/>
          <a:ext cx="1177920" cy="349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6" name="Object 3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80360" y="2349360"/>
                    <a:ext cx="1177920" cy="3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Line 38"/>
          <p:cNvSpPr/>
          <p:nvPr/>
        </p:nvSpPr>
        <p:spPr>
          <a:xfrm>
            <a:off x="572436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Line 39"/>
          <p:cNvSpPr/>
          <p:nvPr/>
        </p:nvSpPr>
        <p:spPr>
          <a:xfrm flipV="1">
            <a:off x="5724360" y="2708280"/>
            <a:ext cx="223236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9" name="Object 40"/>
          <p:cNvGraphicFramePr/>
          <p:nvPr/>
        </p:nvGraphicFramePr>
        <p:xfrm>
          <a:off x="5292720" y="3141720"/>
          <a:ext cx="749160" cy="349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0" name="Object 4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92720" y="3141720"/>
                    <a:ext cx="7491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Line 41"/>
          <p:cNvSpPr/>
          <p:nvPr/>
        </p:nvSpPr>
        <p:spPr>
          <a:xfrm>
            <a:off x="572436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reeform 42"/>
          <p:cNvSpPr/>
          <p:nvPr/>
        </p:nvSpPr>
        <p:spPr>
          <a:xfrm>
            <a:off x="5724360" y="2708280"/>
            <a:ext cx="1452600" cy="20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3" name="Object 43"/>
          <p:cNvGraphicFramePr/>
          <p:nvPr/>
        </p:nvGraphicFramePr>
        <p:xfrm>
          <a:off x="5580000" y="4869000"/>
          <a:ext cx="320760" cy="349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4" name="Object 4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80000" y="4869000"/>
                    <a:ext cx="3207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C9B-927F-471A-9F96-A0AA0458C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2627280" y="2852640"/>
            <a:ext cx="3240000" cy="1295640"/>
          </a:xfrm>
          <a:custGeom>
            <a:avLst/>
            <a:gdLst>
              <a:gd name="textAreaLeft" fmla="*/ 810000 w 3240000"/>
              <a:gd name="textAreaRight" fmla="*/ 2430000 w 3240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9424"/>
                </a:lnTo>
                <a:lnTo>
                  <a:pt x="18901" y="9424"/>
                </a:lnTo>
                <a:lnTo>
                  <a:pt x="18901" y="5500"/>
                </a:lnTo>
                <a:lnTo>
                  <a:pt x="21600" y="10800"/>
                </a:lnTo>
                <a:lnTo>
                  <a:pt x="18901" y="16100"/>
                </a:lnTo>
                <a:lnTo>
                  <a:pt x="18901" y="12176"/>
                </a:lnTo>
                <a:lnTo>
                  <a:pt x="16200" y="12176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2176"/>
                </a:lnTo>
                <a:lnTo>
                  <a:pt x="2699" y="12176"/>
                </a:lnTo>
                <a:lnTo>
                  <a:pt x="2699" y="16100"/>
                </a:lnTo>
                <a:lnTo>
                  <a:pt x="0" y="10800"/>
                </a:lnTo>
                <a:lnTo>
                  <a:pt x="2699" y="5500"/>
                </a:lnTo>
                <a:lnTo>
                  <a:pt x="2699" y="9424"/>
                </a:lnTo>
                <a:lnTo>
                  <a:pt x="5400" y="9424"/>
                </a:lnTo>
                <a:close/>
              </a:path>
            </a:pathLst>
          </a:cu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単一化（</a:t>
            </a:r>
            <a:r>
              <a:rPr b="0" lang="en-US" sz="4400" spc="-1" strike="noStrike">
                <a:solidFill>
                  <a:srgbClr val="6a4076"/>
                </a:solidFill>
                <a:latin typeface="Times New Roman"/>
              </a:rPr>
              <a:t>unification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971640" y="2205000"/>
          <a:ext cx="71848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05000"/>
                    <a:ext cx="7184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1692360" y="4365720"/>
          <a:ext cx="267804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365720"/>
                    <a:ext cx="2678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5076720" y="4365720"/>
          <a:ext cx="352764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365720"/>
                    <a:ext cx="3527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3564000" y="3068640"/>
          <a:ext cx="138276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3068640"/>
                    <a:ext cx="13827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8"/>
          <p:cNvSpPr/>
          <p:nvPr/>
        </p:nvSpPr>
        <p:spPr>
          <a:xfrm>
            <a:off x="2124000" y="2924280"/>
            <a:ext cx="289080" cy="1225440"/>
          </a:xfrm>
          <a:prstGeom prst="downArrow">
            <a:avLst>
              <a:gd name="adj1" fmla="val 50000"/>
              <a:gd name="adj2" fmla="val 105978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6156360" y="2924280"/>
            <a:ext cx="288720" cy="1225440"/>
          </a:xfrm>
          <a:prstGeom prst="downArrow">
            <a:avLst>
              <a:gd name="adj1" fmla="val 50000"/>
              <a:gd name="adj2" fmla="val 10611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132000" y="508464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140360" y="5084280"/>
            <a:ext cx="1152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Object 13"/>
          <p:cNvGraphicFramePr/>
          <p:nvPr/>
        </p:nvGraphicFramePr>
        <p:xfrm>
          <a:off x="3132000" y="5661000"/>
          <a:ext cx="22431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661000"/>
                    <a:ext cx="2243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A3F-9FD2-4365-8EF5-3C364C142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971640" y="2421000"/>
          <a:ext cx="27860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27860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/>
          <p:cNvSpPr/>
          <p:nvPr/>
        </p:nvSpPr>
        <p:spPr>
          <a:xfrm>
            <a:off x="111600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749-A079-4431-903A-85FF000C24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971640" y="2421000"/>
          <a:ext cx="27860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27860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AutoShape 5"/>
          <p:cNvSpPr/>
          <p:nvPr/>
        </p:nvSpPr>
        <p:spPr>
          <a:xfrm>
            <a:off x="154764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1835280" y="3500280"/>
            <a:ext cx="324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5653080" y="3213000"/>
          <a:ext cx="22827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3080" y="3213000"/>
                    <a:ext cx="2282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9"/>
          <p:cNvGraphicFramePr/>
          <p:nvPr/>
        </p:nvGraphicFramePr>
        <p:xfrm>
          <a:off x="5653080" y="4869000"/>
          <a:ext cx="167004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3080" y="4869000"/>
                    <a:ext cx="16700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11"/>
          <p:cNvSpPr/>
          <p:nvPr/>
        </p:nvSpPr>
        <p:spPr>
          <a:xfrm>
            <a:off x="1692360" y="508464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12"/>
          <p:cNvSpPr/>
          <p:nvPr/>
        </p:nvSpPr>
        <p:spPr>
          <a:xfrm flipV="1">
            <a:off x="169236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EF8D-1677-4023-8FB0-8F41BDD10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Object 6"/>
          <p:cNvGraphicFramePr/>
          <p:nvPr/>
        </p:nvGraphicFramePr>
        <p:xfrm>
          <a:off x="971640" y="2421000"/>
          <a:ext cx="336060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606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AutoShape 7"/>
          <p:cNvSpPr/>
          <p:nvPr/>
        </p:nvSpPr>
        <p:spPr>
          <a:xfrm>
            <a:off x="154764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1835280" y="3500280"/>
            <a:ext cx="324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5653080" y="3213000"/>
          <a:ext cx="22827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3080" y="3213000"/>
                    <a:ext cx="2282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5653080" y="4869000"/>
          <a:ext cx="167004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3080" y="4869000"/>
                    <a:ext cx="16700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Line 11"/>
          <p:cNvSpPr/>
          <p:nvPr/>
        </p:nvSpPr>
        <p:spPr>
          <a:xfrm>
            <a:off x="1692360" y="508464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2"/>
          <p:cNvSpPr/>
          <p:nvPr/>
        </p:nvSpPr>
        <p:spPr>
          <a:xfrm flipV="1">
            <a:off x="169236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4A84-B787-4C72-91CF-EB55459D11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971640" y="2421000"/>
          <a:ext cx="336060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606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AutoShape 7"/>
          <p:cNvSpPr/>
          <p:nvPr/>
        </p:nvSpPr>
        <p:spPr>
          <a:xfrm>
            <a:off x="270036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32000" y="350028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Object 9"/>
          <p:cNvGraphicFramePr/>
          <p:nvPr/>
        </p:nvGraphicFramePr>
        <p:xfrm>
          <a:off x="5651640" y="3213000"/>
          <a:ext cx="17398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213000"/>
                    <a:ext cx="1739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"/>
          <p:cNvGraphicFramePr/>
          <p:nvPr/>
        </p:nvGraphicFramePr>
        <p:xfrm>
          <a:off x="5651640" y="4941720"/>
          <a:ext cx="112536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4941720"/>
                    <a:ext cx="1125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11"/>
          <p:cNvSpPr/>
          <p:nvPr/>
        </p:nvSpPr>
        <p:spPr>
          <a:xfrm>
            <a:off x="2843280" y="50846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284328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2124000" y="508464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212400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709-535D-4441-A2EB-545B59910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971640" y="2421000"/>
          <a:ext cx="33163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163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AutoShape 7"/>
          <p:cNvSpPr/>
          <p:nvPr/>
        </p:nvSpPr>
        <p:spPr>
          <a:xfrm>
            <a:off x="270036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3132000" y="350028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5651640" y="3213000"/>
          <a:ext cx="17398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213000"/>
                    <a:ext cx="1739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0"/>
          <p:cNvGraphicFramePr/>
          <p:nvPr/>
        </p:nvGraphicFramePr>
        <p:xfrm>
          <a:off x="5651640" y="4941720"/>
          <a:ext cx="112536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4941720"/>
                    <a:ext cx="1125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>
            <a:off x="2843280" y="50846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2"/>
          <p:cNvSpPr/>
          <p:nvPr/>
        </p:nvSpPr>
        <p:spPr>
          <a:xfrm flipV="1">
            <a:off x="284328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14"/>
          <p:cNvSpPr/>
          <p:nvPr/>
        </p:nvSpPr>
        <p:spPr>
          <a:xfrm flipH="1">
            <a:off x="2124000" y="508464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 flipV="1">
            <a:off x="212400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8CD-143E-40A8-970A-8A6FD8B4A8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292720" y="4581360"/>
            <a:ext cx="2519280" cy="1008360"/>
          </a:xfrm>
          <a:prstGeom prst="rect">
            <a:avLst/>
          </a:prstGeom>
          <a:solidFill>
            <a:srgbClr val="f4f2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5292720" y="2924280"/>
            <a:ext cx="2952720" cy="108108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最汎単一化置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Object 6"/>
          <p:cNvGraphicFramePr/>
          <p:nvPr/>
        </p:nvGraphicFramePr>
        <p:xfrm>
          <a:off x="971640" y="2421000"/>
          <a:ext cx="33163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33163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7"/>
          <p:cNvSpPr/>
          <p:nvPr/>
        </p:nvSpPr>
        <p:spPr>
          <a:xfrm>
            <a:off x="3203640" y="3141720"/>
            <a:ext cx="216000" cy="720720"/>
          </a:xfrm>
          <a:prstGeom prst="upDownArrow">
            <a:avLst>
              <a:gd name="adj1" fmla="val 50000"/>
              <a:gd name="adj2" fmla="val 66424"/>
            </a:avLst>
          </a:prstGeom>
          <a:solidFill>
            <a:srgbClr val="b3c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3564000" y="35002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" name="Object 9"/>
          <p:cNvGraphicFramePr/>
          <p:nvPr/>
        </p:nvGraphicFramePr>
        <p:xfrm>
          <a:off x="5651640" y="3213000"/>
          <a:ext cx="23191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213000"/>
                    <a:ext cx="23191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0"/>
          <p:cNvGraphicFramePr/>
          <p:nvPr/>
        </p:nvGraphicFramePr>
        <p:xfrm>
          <a:off x="5580000" y="4869000"/>
          <a:ext cx="170676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869000"/>
                    <a:ext cx="17067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Line 11"/>
          <p:cNvSpPr/>
          <p:nvPr/>
        </p:nvSpPr>
        <p:spPr>
          <a:xfrm>
            <a:off x="3348000" y="50846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348000" y="4581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3"/>
          <p:cNvSpPr/>
          <p:nvPr/>
        </p:nvSpPr>
        <p:spPr>
          <a:xfrm>
            <a:off x="6372360" y="414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20:08Z</dcterms:modified>
  <cp:revision>67</cp:revision>
  <dc:subject>(7)導出原理と導出戦略</dc:subject>
  <dc:title>人工知能の基礎知識</dc:title>
</cp:coreProperties>
</file>