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93D66-F1FB-4A7F-8956-162E03F7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27BE0-67F7-46C6-9FE1-36191F80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4C18C-73CD-44AD-8FCA-7175545E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123E5-F907-418B-AF58-2E667BF8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E4AB-702B-48AE-9BC5-BA996BC5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A6AD-84CB-49D0-B8AE-2BAE1D53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10B6-5C79-4D6C-9391-E7A2D00C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4962-0798-4A88-AEE4-67F0EB2B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992F-DC77-4774-93F2-3CC0C2A6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C5A9-EB10-4DF5-8A4D-89E74F86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CBEE-5177-4D56-B791-91E089C2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20CAF-B40A-40C3-91BB-D4EABDF5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F69C-9DF2-4D7F-BA15-33E14F70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6B84-651F-4015-8943-E5112AAB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6AE7-4BCF-4A00-BF81-5E6C717C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3DAE-629F-49B8-A365-2D49136D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C75D-CDC8-4FA2-9384-962037B7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6D853-CF36-44F4-8B76-1EE7B014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9C936-F938-4ACB-BCD2-49CB14EC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C573A-ECB9-4A66-8605-86548EF4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A59EB-DF5C-4598-8AD3-AD102268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33961-939D-4929-9F12-79AB948A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8DEC8-72B9-4180-ABA8-8219497C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575EB-D375-41E0-BD2E-669045CF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3EB6-B3A0-46CA-84A3-20B332A2B5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7D62-5AF9-4A70-A5DE-1689CF4057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ahoo.co.jp/" TargetMode="External"/><Relationship Id="rId2" Type="http://schemas.openxmlformats.org/officeDocument/2006/relationships/hyperlink" Target="http://www.google.co.jp/" TargetMode="External"/><Relationship Id="rId3" Type="http://schemas.openxmlformats.org/officeDocument/2006/relationships/hyperlink" Target="http://www.goo.ne.jp/" TargetMode="External"/><Relationship Id="rId4" Type="http://schemas.openxmlformats.org/officeDocument/2006/relationships/hyperlink" Target="http://www.infoseek.co.jp/" TargetMode="External"/><Relationship Id="rId5" Type="http://schemas.openxmlformats.org/officeDocument/2006/relationships/hyperlink" Target="http://www.wodge.biz/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第２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ネットサービスとその仕組み（前編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ページ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言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21080" cy="33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148360" y="2133720"/>
            <a:ext cx="3600360" cy="3398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90760" y="551664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言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47520" y="55166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ペ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716280"/>
            <a:ext cx="576360" cy="504720"/>
          </a:xfrm>
          <a:prstGeom prst="rightArrow">
            <a:avLst>
              <a:gd name="adj1" fmla="val 50000"/>
              <a:gd name="adj2" fmla="val 285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チエンジ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hoo!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yahoo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google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goo.ne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フォシ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infoseek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検索サイト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D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wodge.bi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0560" y="1557360"/>
            <a:ext cx="552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ターネット上にあ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ページの情報を探し出すため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イトでポータルサイトとも呼ばれ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その他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ページ（ホームページ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頃盛んに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ちゃんね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本最大の電子掲示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ウェブロ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芸能人や野球選手、企業などが情報提供に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ファイル転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4032000" cy="1465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3647880" cy="2981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163880" y="2349360"/>
            <a:ext cx="246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バに保存する形式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利用する。ほかの人にサーバ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紹介しダウンロードしてもら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916280"/>
            <a:ext cx="3598920" cy="43308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ファイル転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4076640"/>
            <a:ext cx="3598920" cy="43200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inn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よるファイル共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40560" y="46594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クライアント同士で直接通信し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を共有しあう方式であ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インターネットで提供されるサービ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ミュニケ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、チャット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話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情報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チエンジ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音楽と映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音楽配信、ビデオオンデマンド、ライブ映像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電子商取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ターネットショッピング、ネットオークション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を支える仕組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3908520" cy="3825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00380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サーバ管理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14720" y="537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サーバ利用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50040" y="486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7d"/>
                </a:solidFill>
                <a:latin typeface="Arial"/>
              </a:rPr>
              <a:t>情報の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15120" y="306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7d"/>
                </a:solidFill>
                <a:latin typeface="Arial"/>
              </a:rPr>
              <a:t>情報の提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34290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80360" y="3500280"/>
            <a:ext cx="431640" cy="1297080"/>
          </a:xfrm>
          <a:prstGeom prst="upArrow">
            <a:avLst>
              <a:gd name="adj1" fmla="val 50000"/>
              <a:gd name="adj2" fmla="val 751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なインターネットサー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 電子メール送信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電子メール受信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提供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名前解決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･ ファイル転送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C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アドレス自動割付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バとクライアントの関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00000" y="2205000"/>
            <a:ext cx="1511280" cy="2592360"/>
            <a:chOff x="900000" y="2205000"/>
            <a:chExt cx="1511280" cy="2592360"/>
          </a:xfrm>
        </p:grpSpPr>
        <p:sp>
          <p:nvSpPr>
            <p:cNvPr id="122" name=""/>
            <p:cNvSpPr/>
            <p:nvPr/>
          </p:nvSpPr>
          <p:spPr>
            <a:xfrm>
              <a:off x="900000" y="220500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P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00000" y="2852640"/>
              <a:ext cx="1511280" cy="64800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M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00000" y="350208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0000" y="414972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372360" y="3068640"/>
            <a:ext cx="2015640" cy="1728720"/>
            <a:chOff x="6372360" y="3068640"/>
            <a:chExt cx="2015640" cy="1728720"/>
          </a:xfrm>
        </p:grpSpPr>
        <p:sp>
          <p:nvSpPr>
            <p:cNvPr id="127" name=""/>
            <p:cNvSpPr/>
            <p:nvPr/>
          </p:nvSpPr>
          <p:spPr>
            <a:xfrm>
              <a:off x="6372360" y="3068640"/>
              <a:ext cx="2015640" cy="57636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メールソフ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72360" y="3645000"/>
              <a:ext cx="2015640" cy="57636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ブラウ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72360" y="4221360"/>
              <a:ext cx="2015640" cy="57600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クライアン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411280" y="479736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10520" y="249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81800" y="314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180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4880" y="4437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11240" y="32860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9440" y="38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54160" y="4437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556000" y="2637000"/>
            <a:ext cx="2952720" cy="79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7280" y="3212640"/>
            <a:ext cx="288144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27280" y="3860640"/>
            <a:ext cx="280836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451008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21840" y="1773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36240" y="2637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クライア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5120" y="5373720"/>
            <a:ext cx="666720" cy="459720"/>
          </a:xfrm>
          <a:prstGeom prst="rect">
            <a:avLst/>
          </a:prstGeom>
          <a:solidFill>
            <a:srgbClr val="9999ff">
              <a:alpha val="41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は、番号でソフトウェアを認識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電子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5257800" cy="1990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30600" y="4724280"/>
            <a:ext cx="29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さん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bc@japan-u.ac.j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72640" y="4724280"/>
            <a:ext cx="24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さん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bcd@usa-u.e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83760" y="155736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章や画像などを相手の電子メールアドレスを管理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に送信するサービスを電子メールと呼び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17840" y="3213000"/>
            <a:ext cx="12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8920" y="32130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電子メールを利用した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マガジ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登録することで趣味関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ある情報をメールマガ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発行会社が送ってく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リングリス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仲間同士でメールを交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する際に利用するメール交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ビス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953080" cy="2463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3457440" cy="1679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47640" y="2781360"/>
            <a:ext cx="6048720" cy="3152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084040" y="155736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章をはじめ、画像や音声、動画などさまざまな情報を文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して提供するサービスである。情報検索を行うサービス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ありインターネットの標準的サービスとも言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ブラウザ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ラウザの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et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ire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af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Uniform Resource Locator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19280" y="4941720"/>
            <a:ext cx="5486400" cy="130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湯浅聖記</cp:lastModifiedBy>
  <dcterms:modified xsi:type="dcterms:W3CDTF">2006-01-09T07:57:42Z</dcterms:modified>
  <cp:revision>82</cp:revision>
  <dc:subject/>
  <dc:title>ネットワーク社会の 情報倫理</dc:title>
</cp:coreProperties>
</file>