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50A6B-461D-4012-A3ED-5C111F34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9918D-2B35-4C2C-89E8-71BC620B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74A0-1C7A-473C-83AF-DFFEA0D8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B203-307F-4449-A875-63775A45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BC06-F9BE-4859-9A0E-3CF4E5C8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0BC1-A743-4DAF-B271-9E6814FC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461A-0F79-4FB5-B70A-6583F923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870F-6642-4311-A4C9-5ECCB328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5B4F-8F0C-428F-8A24-3F8D0BE4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B766-A556-49CA-9446-823216BF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ECD5-79CB-42BA-B9DC-D9F021BD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06BE-8684-4063-8617-662E68AC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6486-F1F6-4758-B4CB-AE87EA3E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3AD9-69C3-49E4-A9C5-DF2CE9B3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DF38-F1A8-41D2-983B-2EC6BD1A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9305-1320-40F6-BF98-D540B892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8D1B-15E2-40F7-9783-63859987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1EEF-FFD5-4669-8D54-7C65C07A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72D43-E402-4DBA-88BC-532737B7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728D-F125-4EE1-831F-AFAD8784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0F134-9B5F-43DC-8A7E-EDF02CE0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AAC4-A524-46E8-80EF-3FE64B38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4CC6-A3A4-4709-9B14-F6B2EBE0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0E157-F984-45E5-A72F-91F2C848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DA93-8F7A-4AB1-BC5E-5FD67468E4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6BB5-990A-435F-97F9-B45EB8A9F3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４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7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携帯電話に感染するウィル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56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リーズメール（電卓機能を繰り返し使わせ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強制発信メール（特定の番号に発信す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1261800" cy="259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1844640"/>
            <a:ext cx="511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いたずら・いやがらせ目的の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3141720"/>
            <a:ext cx="165564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3933720"/>
            <a:ext cx="867564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世界初の携帯電話に感染するウィルス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「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Cabir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」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(2004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4508640"/>
            <a:ext cx="7632720" cy="2128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特定の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搭載する携帯電話に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感染すると“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Caribe”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ピラニア）というメッセージを表示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分のコピーを他のデバイスへ送信する（ワーム活動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odafone 702N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（日本）にも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個人ユーザ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84720" y="1844640"/>
            <a:ext cx="2357640" cy="2592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3573360"/>
            <a:ext cx="4248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１．ウィルス対策ソフトの導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869000"/>
            <a:ext cx="41054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．ウィルス対策ソフトの更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734080"/>
            <a:ext cx="45356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３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やブラウザなどの更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2205000"/>
            <a:ext cx="49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メールの添付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やブラウザなどのセキュリティホ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700280"/>
            <a:ext cx="2233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な感染経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4005360"/>
            <a:ext cx="5329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ターネット接続の前に、インスト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外部から持ち込んだファイルの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300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定義ファイルを最新版にアップデートし、新種・亜種のウィルスに対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2997360"/>
            <a:ext cx="21607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6237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修正ファイルをダウンロードしアップデート（自動更新機能の設定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組織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773360"/>
            <a:ext cx="4681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複数の人が同じコンピュータを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領域にあるファイルを共同で使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1773360"/>
            <a:ext cx="28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ウィルスが広がると、甚大な被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2781360"/>
            <a:ext cx="2160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50028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ネットワーク全体に対する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15772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メディアやノートパソコンの持ち出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3500280"/>
            <a:ext cx="2664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感染した際の対策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4221000"/>
            <a:ext cx="3600360" cy="846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受信されるデータのスキャ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5950080"/>
            <a:ext cx="3600360" cy="3988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私物のコンピュータやメディアもウィルスチェ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076640"/>
            <a:ext cx="406872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コンピュータをネッから切り離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被害状況を確認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３．ウィルスを駆除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の機関に連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有害な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8560" y="4149360"/>
            <a:ext cx="4319640" cy="21589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・アドウェ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マ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0384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060640"/>
            <a:ext cx="7632720" cy="119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マルウェア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al-ware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→　有害なプログラムの総称　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悪意を持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210024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3429000"/>
            <a:ext cx="3240000" cy="6476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マルウェア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コンピュータウィル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4221000"/>
            <a:ext cx="7777080" cy="1656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感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自分の複製をコピーし、増殖する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潜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ある条件を満たすまで活動せず潜む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発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ウィルスの目的とする有害な活動を行う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429000"/>
            <a:ext cx="489564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67400" y="1413000"/>
            <a:ext cx="227196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92360" y="6021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３つのうち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少なくとも１つの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を持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133720"/>
            <a:ext cx="6048360" cy="1015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気づかぬ間にコンピュータへ忍び込む（感染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か悪さをしたり、自己増殖して広めた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コンピュータウィルスの分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1628640"/>
          <a:ext cx="8424720" cy="4902480"/>
        </p:xfrm>
        <a:graphic>
          <a:graphicData uri="http://schemas.openxmlformats.org/drawingml/2006/table">
            <a:tbl>
              <a:tblPr/>
              <a:tblGrid>
                <a:gridCol w="1706400"/>
                <a:gridCol w="2568600"/>
                <a:gridCol w="414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種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感染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実行形式ファイル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M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を介して広まった初期型のウィルス（８０年代～）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型ウィルスとして現存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ブートセクタ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HD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システム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システム領域に感染し、ＰＣの起動時に活動してコントロールを奪う。８０年代に登場し亜種が現存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マクロ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ord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l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のデータ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とアプリケーションソフ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として電子メールに添付ファイルを介して感染が広まる。作成・改変が比較的容易なため亜種が多く存在する。 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ペー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閲覧時にマルチメディアコンテンツの実行で感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veX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コントロール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プレッ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B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Script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スクリプトに組み込まれる。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ワー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4797360"/>
            <a:ext cx="4762440" cy="16574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害プログラムの１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増殖機能をも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のファイルに感染しな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2000" y="3789360"/>
            <a:ext cx="2425680" cy="273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1628640"/>
            <a:ext cx="6626160" cy="2096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の添付ファイルとして自己増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のファイルには寄生しない点でウィルスと区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スクリプト言語やマクロで比較的容易に作成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つのワームを退治しても、亜種が出現す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005360"/>
            <a:ext cx="5257800" cy="57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の定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芋虫のような幼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トロイの木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628640"/>
            <a:ext cx="7416720" cy="984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jan Hor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一見無害に思えるものが、中に入れた途端に悪さをするという意味。 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語源：ホメロスの叙事詩「イーリアス」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00720" y="3068640"/>
            <a:ext cx="2600280" cy="2146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3213000"/>
            <a:ext cx="4895640" cy="57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型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3860280"/>
            <a:ext cx="6049800" cy="12956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般のソフトウェアに見せかけ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悪意のある仕掛けが組み込ま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感染や自己増殖機能は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5373720"/>
            <a:ext cx="2376360" cy="431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O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877000"/>
            <a:ext cx="82803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トロイの木馬が感染した大量のコンピュータから特定のサーバに対してメールなどを一斉に送信し、サーバの機能を停止させてしまう攻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スパイウェア・アドウェ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20500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個人情報の収集目的で、一般のアプリケーションと共に配布されるプログラム。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インストール時に、スパイウェアも組み込まれる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557360"/>
            <a:ext cx="288144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292640"/>
            <a:ext cx="273672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494172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ユーザの画面上に特定の宣伝広告を表示させるためのプログラム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業のマーケティング／宣伝活動に使われる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141720"/>
            <a:ext cx="7632720" cy="862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ストール時に利用に関する承諾画面が表示されるものがあ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バックグラウンドで情報を盗み出す。 （気が付きにく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877000"/>
            <a:ext cx="763272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アクセス履歴やユーザのコンピュータに関する情報を記録し送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ウィルスの届出件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844640"/>
          <a:ext cx="5208480" cy="38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520848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724360" y="1989000"/>
            <a:ext cx="3024360" cy="1233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届出件数：増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インターネットで猛威をふるうウィルスの出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届出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一般法人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3789360"/>
            <a:ext cx="3024360" cy="8161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実際の感染：減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個人のパソコンやプロバイダでのウィルス対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感染経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700280"/>
          <a:ext cx="8229600" cy="3895560"/>
        </p:xfrm>
        <a:graphic>
          <a:graphicData uri="http://schemas.openxmlformats.org/drawingml/2006/table">
            <a:tbl>
              <a:tblPr/>
              <a:tblGrid>
                <a:gridCol w="2016000"/>
                <a:gridCol w="1511280"/>
                <a:gridCol w="1584360"/>
                <a:gridCol w="1563840"/>
                <a:gridCol w="1554120"/>
              </a:tblGrid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経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電子メー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4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ネットワー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ブラウジ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外部メディ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不明・その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合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5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619280" y="5661000"/>
            <a:ext cx="604836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大半は電子メール（添付ファイル）から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システムやブラウザの脆弱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T.Yamazumi</cp:lastModifiedBy>
  <dcterms:modified xsi:type="dcterms:W3CDTF">2005-12-15T02:08:00Z</dcterms:modified>
  <cp:revision>78</cp:revision>
  <dc:subject/>
  <dc:title>ネットワーク社会の 情報倫理</dc:title>
</cp:coreProperties>
</file>