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E3E2-D4EF-4E21-BB42-059A58CA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EF6DB-34FC-4141-B393-88559C52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FC3B-B760-4785-A4C9-F5DA232F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F241-8662-4BFE-9C7F-3712E199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B394-914F-4E53-83C9-85DBD8B5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B366-ACDA-40D3-BFC6-DBCBF4C7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CCF2-10A8-43E8-B814-B83EB6AF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A7A3-7125-4B57-A657-AE0D528D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E5D8-FB8A-4363-8D13-EAECA91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C6D3-C68B-4392-A6D6-BE7791A5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145A-2C1D-4BDC-AD55-0D4E3AC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6036-D92E-491D-99A5-4C1CAA5B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7D14-5F12-4343-9309-D9C05A5F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D48A-B25D-4617-A625-07C1E38E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8229-938B-44FE-A86A-4DF7E26F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BF57-F4D3-48EA-AADF-EBAFF93B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C6A2-9D46-4789-B288-1FDB4157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F7B1-5CCD-415A-9291-E3011F54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C32E-5B6D-4A5A-9244-FDD4C479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F8B9-286F-48E4-8E69-F9446785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6AA9-C819-4117-A008-7BFD03E9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DC74-44E0-42F3-8532-76B4D120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D897F-7114-4839-93AF-14D2BD94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F74B-D455-4CA6-ADC3-28076B77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68CF-E971-441B-81F2-928247920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507A-1AA9-457B-B91C-2F62C2D8B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ワン切りと不正請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924280"/>
            <a:ext cx="504036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かけ直すと自分の番号を知ら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388944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（番号通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31920" cy="2152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4005360"/>
            <a:ext cx="4248000" cy="1015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正請求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架空の有料サイト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500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ワン切り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絶対に応じ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不正な請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すべて無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メラ付き携帯による被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844640"/>
            <a:ext cx="6048360" cy="1015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画や動画の撮影機能が付いた携帯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撮影機能を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924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29000"/>
            <a:ext cx="633744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際相手に恥ずかしい写真を撮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を掲示板にアップロードされ中傷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被害は一瞬で広が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相手の気持ち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撮影機能を悪用し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ネット詐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3640" y="4581360"/>
            <a:ext cx="5400720" cy="1656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騙し取り＝ネット詐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ショ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オー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916280"/>
            <a:ext cx="6624720" cy="15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宅からインターネット上を介し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タログ通販やオークションを手軽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ショ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352728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品の確認が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924280"/>
            <a:ext cx="482436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支払い（振り込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700280"/>
            <a:ext cx="367200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画面で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3645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300640"/>
            <a:ext cx="295308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店舗の実績を確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300640"/>
            <a:ext cx="302436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取り引きの証拠を残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オークショ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919520"/>
            <a:ext cx="4321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古品を出品　→　落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3284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789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の趣味で収集した入手困難なも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568960"/>
            <a:ext cx="2800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的にユーザ同士の取り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4797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盗品、毒薬、銃刀類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犯罪に巻き込まれ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284640"/>
            <a:ext cx="73080" cy="2016000"/>
          </a:xfrm>
          <a:custGeom>
            <a:avLst/>
            <a:gdLst>
              <a:gd name="textAreaLeft" fmla="*/ 21240 w 73080"/>
              <a:gd name="textAreaRight" fmla="*/ 73440 w 7308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する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になるもの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詐欺に備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の証拠を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2205000"/>
            <a:ext cx="3166920" cy="862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物営業法（第６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005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電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本、ゲーム、衣類、食品、チケット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知的財産権の侵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000" y="4508640"/>
            <a:ext cx="6049800" cy="1944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権侵害となるケースに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ジタルデータと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ファイル共有ソフ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4535640" cy="151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ジタルデータはすべ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ル単位で扱わ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349360"/>
            <a:ext cx="2592360" cy="7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ピーが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708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ネット犯罪の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犯罪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の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による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詐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的財産権の侵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を利用した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誹謗中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序良俗に反する情報の公開・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殺ほう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ねずみ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981600" cy="22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犯罪の特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36000" cy="1079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と空間に関係なく起こり、一瞬にして世界中に広ま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997360"/>
            <a:ext cx="396108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国境が無い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法律・規制から逃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97360"/>
            <a:ext cx="388764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齢性別によら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トラブルに巻き込ま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653000"/>
            <a:ext cx="388764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ワークで身を隠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軽い気持ちで犯罪を犯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653000"/>
            <a:ext cx="396108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者と加害者の識別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被害者のはずが加害者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個人情報の流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4941360"/>
            <a:ext cx="3457800" cy="12956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収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133720"/>
            <a:ext cx="633708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上で個人情報を入力する機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カード番号やパスワード    ： 電子商取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メールや住所等の連絡先  ： 懸賞、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流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84464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529080" cy="936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ライバシーが侵害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出した情報を悪用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信用が失墜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1052640"/>
            <a:ext cx="1944720" cy="1008000"/>
          </a:xfrm>
          <a:prstGeom prst="irregularSeal1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410364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に持ち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429000"/>
            <a:ext cx="403200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難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445000"/>
            <a:ext cx="4176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機密情報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組織内のルール策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410508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スワードやＰＣ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盗難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501336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01336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収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16280"/>
            <a:ext cx="3024360" cy="865080"/>
          </a:xfrm>
          <a:prstGeom prst="parallelogram">
            <a:avLst>
              <a:gd name="adj" fmla="val 1468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1800000" cy="125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987640" y="3284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2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724280"/>
            <a:ext cx="295272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ンケートフォームなどで個人情報を釣り上げ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5950080"/>
            <a:ext cx="611964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UR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クロスサイト・スクリプティン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1800360" cy="125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4724280"/>
            <a:ext cx="26654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860640"/>
            <a:ext cx="2374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別サイトへ誘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5950080"/>
            <a:ext cx="6120000" cy="398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ブラウザでスクリプトの実行を許可すると危険がともな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携帯電話による犯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0920" y="4365720"/>
            <a:ext cx="4896000" cy="2006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会い系サイ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と不正請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メラ付携帯による被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1844640"/>
            <a:ext cx="5832360" cy="172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・ブラウジング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同等の機能で犯罪も多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3933720"/>
            <a:ext cx="59040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出会い系サイ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773360"/>
            <a:ext cx="251928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924280"/>
            <a:ext cx="26654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773360"/>
            <a:ext cx="338472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924280"/>
            <a:ext cx="338472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の番号通知で本人を認証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40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の被害：金品を強奪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軽い気持ちで会わな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445000"/>
            <a:ext cx="388800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慎重かつ分別ある行動を！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図書情報センター</cp:lastModifiedBy>
  <dcterms:modified xsi:type="dcterms:W3CDTF">2005-12-09T01:19:53Z</dcterms:modified>
  <cp:revision>64</cp:revision>
  <dc:subject/>
  <dc:title>ネットワーク社会の情報倫理</dc:title>
</cp:coreProperties>
</file>