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90CFA-E83F-4251-A85B-14231D4E8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EAB5F-9323-4244-AE49-A36C6EB3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EE6D4-AD88-49EE-83B9-F074EA58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5DC35-9E5E-45CC-8827-33F37871A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6394-C0F1-40DD-8BF3-C770C6D2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AAA6-B67D-46A9-9698-305B69DE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F4F2-0A23-4392-B48B-8F08DCD5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8E47-56FA-4F31-B526-F39E7DC3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AF25-2529-48B7-BE24-BCCBD8EC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3F5B-989C-4C31-B8C3-B11799A4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676A-BC9E-47EE-AD2C-5369C5B6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C671B-6D71-4623-96B5-457F68C7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6C36-D7C8-4089-B0A7-B66935A3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8936-A99C-4ED3-AD5C-193EE0A8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F651-F85C-4536-8B79-C1DD2B69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6C7F-D899-4D4E-8888-3DFDFFCF8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5D27-B274-45B9-9889-23D70350E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330D5-9F70-47DF-BCEF-54EF8109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AECD2-7494-4013-B2F6-6B5DF3A8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17E44-6CBA-4F13-8914-5D08452F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A01EF-8DED-4330-B4D5-F71C2D47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E6CB9-833B-4120-BC1A-316FEEB8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99330-CF29-453B-9420-3E4FA868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BF9F5-634E-48DE-B370-54D1D541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AA32-3373-43E9-9BCB-45F104282A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7AB6-AE9C-4C79-87EB-2D94255D7F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６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インターネットと法律（前編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79280" y="1557360"/>
            <a:ext cx="5688000" cy="4680000"/>
          </a:xfrm>
          <a:prstGeom prst="rect">
            <a:avLst/>
          </a:prstGeom>
          <a:solidFill>
            <a:srgbClr val="99cc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40360" y="1557360"/>
            <a:ext cx="2952720" cy="4680000"/>
          </a:xfrm>
          <a:prstGeom prst="rect">
            <a:avLst/>
          </a:prstGeom>
          <a:solidFill>
            <a:srgbClr val="9999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1484280"/>
            <a:ext cx="8856720" cy="5257800"/>
          </a:xfrm>
          <a:prstGeom prst="rect">
            <a:avLst/>
          </a:prstGeom>
          <a:solidFill>
            <a:srgbClr val="ccffcc">
              <a:alpha val="40000"/>
            </a:srgbClr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著作権（財産権と人格権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00720" y="3357720"/>
            <a:ext cx="2089080" cy="43164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表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00720" y="1916280"/>
            <a:ext cx="2089080" cy="431640"/>
          </a:xfrm>
          <a:prstGeom prst="rect">
            <a:avLst/>
          </a:prstGeom>
          <a:solidFill>
            <a:srgbClr val="ff99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氏名表示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00720" y="2637000"/>
            <a:ext cx="2089080" cy="43164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同一性保持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1773360"/>
            <a:ext cx="2089440" cy="43164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複製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2000" y="1773360"/>
            <a:ext cx="2089440" cy="431640"/>
          </a:xfrm>
          <a:prstGeom prst="rect">
            <a:avLst/>
          </a:prstGeom>
          <a:solidFill>
            <a:srgbClr val="00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演奏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2421000"/>
            <a:ext cx="2089440" cy="43164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上演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32000" y="2421000"/>
            <a:ext cx="2089440" cy="43164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頒布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3573360"/>
            <a:ext cx="2089440" cy="43200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上映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4221000"/>
            <a:ext cx="2089440" cy="432000"/>
          </a:xfrm>
          <a:prstGeom prst="rect">
            <a:avLst/>
          </a:prstGeom>
          <a:solidFill>
            <a:srgbClr val="d6009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衆送信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32000" y="4941720"/>
            <a:ext cx="2089440" cy="432000"/>
          </a:xfrm>
          <a:prstGeom prst="rect">
            <a:avLst/>
          </a:pr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口述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32000" y="2997360"/>
            <a:ext cx="2089440" cy="43164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展示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9640" y="2997360"/>
            <a:ext cx="2089440" cy="431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翻案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4869000"/>
            <a:ext cx="2089440" cy="431640"/>
          </a:xfrm>
          <a:prstGeom prst="rect">
            <a:avLst/>
          </a:prstGeom>
          <a:solidFill>
            <a:srgbClr val="99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翻訳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15640" y="5661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財産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739640" y="5661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格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08720" y="623736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両方合わせて著作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4221000"/>
            <a:ext cx="2089440" cy="43200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貸与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32000" y="3573360"/>
            <a:ext cx="2089440" cy="432000"/>
          </a:xfrm>
          <a:prstGeom prst="rect">
            <a:avLst/>
          </a:prstGeom>
          <a:solidFill>
            <a:srgbClr val="cc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放送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9640" y="5516640"/>
            <a:ext cx="2089440" cy="431640"/>
          </a:xfrm>
          <a:prstGeom prst="rect">
            <a:avLst/>
          </a:prstGeom>
          <a:solidFill>
            <a:srgbClr val="99ff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伝達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インターネットと法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ネットワーク社会の誕生に伴い、新たな法律の枠組みが必要となっ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くは現実の民法や刑事法が支えてい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835280" y="3284640"/>
            <a:ext cx="6049800" cy="3384360"/>
            <a:chOff x="1835280" y="3284640"/>
            <a:chExt cx="6049800" cy="3384360"/>
          </a:xfrm>
        </p:grpSpPr>
        <p:sp>
          <p:nvSpPr>
            <p:cNvPr id="111" name=""/>
            <p:cNvSpPr/>
            <p:nvPr/>
          </p:nvSpPr>
          <p:spPr>
            <a:xfrm>
              <a:off x="4140360" y="3284640"/>
              <a:ext cx="3744720" cy="3384360"/>
            </a:xfrm>
            <a:prstGeom prst="ellipse">
              <a:avLst/>
            </a:prstGeom>
            <a:solidFill>
              <a:srgbClr val="9999ff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ネットワーク社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35280" y="3357360"/>
              <a:ext cx="4176720" cy="3311280"/>
            </a:xfrm>
            <a:prstGeom prst="ellipse">
              <a:avLst/>
            </a:prstGeom>
            <a:solidFill>
              <a:srgbClr val="ccffff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現実社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架空請求と迷惑メ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4560" y="5451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979640" y="1989000"/>
            <a:ext cx="5329080" cy="2592360"/>
            <a:chOff x="1979640" y="1989000"/>
            <a:chExt cx="5329080" cy="2592360"/>
          </a:xfrm>
        </p:grpSpPr>
        <p:sp>
          <p:nvSpPr>
            <p:cNvPr id="116" name=""/>
            <p:cNvSpPr/>
            <p:nvPr/>
          </p:nvSpPr>
          <p:spPr>
            <a:xfrm>
              <a:off x="1979640" y="1989000"/>
              <a:ext cx="5329080" cy="2592360"/>
            </a:xfrm>
            <a:prstGeom prst="rect">
              <a:avLst/>
            </a:prstGeom>
            <a:solidFill>
              <a:srgbClr val="969696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2340000">
              <a:off x="2411280" y="3139560"/>
              <a:ext cx="2089440" cy="431640"/>
            </a:xfrm>
            <a:prstGeom prst="rect">
              <a:avLst/>
            </a:prstGeom>
            <a:solidFill>
              <a:srgbClr val="ffff00">
                <a:alpha val="4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架空請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521800">
              <a:off x="4643280" y="2852280"/>
              <a:ext cx="2016000" cy="431640"/>
            </a:xfrm>
            <a:prstGeom prst="rect">
              <a:avLst/>
            </a:prstGeom>
            <a:solidFill>
              <a:srgbClr val="9999ff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高額請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9756800">
              <a:off x="3419280" y="2636280"/>
              <a:ext cx="1871640" cy="432000"/>
            </a:xfrm>
            <a:prstGeom prst="rect">
              <a:avLst/>
            </a:prstGeom>
            <a:solidFill>
              <a:srgbClr val="00ff0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迷惑メー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0746800">
              <a:off x="3059280" y="3860280"/>
              <a:ext cx="1726920" cy="360360"/>
            </a:xfrm>
            <a:prstGeom prst="rect">
              <a:avLst/>
            </a:prstGeom>
            <a:solidFill>
              <a:srgbClr val="ff99cc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ワン切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9909800">
              <a:off x="4930920" y="3573000"/>
              <a:ext cx="1800000" cy="360360"/>
            </a:xfrm>
            <a:prstGeom prst="rect">
              <a:avLst/>
            </a:prstGeom>
            <a:solidFill>
              <a:srgbClr val="99ccff">
                <a:alpha val="4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嫌がらせ電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1224000" cy="11908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35280" y="4941720"/>
            <a:ext cx="2952720" cy="1572120"/>
          </a:xfrm>
          <a:prstGeom prst="rect">
            <a:avLst/>
          </a:prstGeom>
          <a:solidFill>
            <a:srgbClr val="00ff00">
              <a:alpha val="44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電子消費者契約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民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利息制限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03640" y="5589720"/>
            <a:ext cx="648000" cy="431640"/>
          </a:xfrm>
          <a:prstGeom prst="rightArrow">
            <a:avLst>
              <a:gd name="adj1" fmla="val 50000"/>
              <a:gd name="adj2" fmla="val 3753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52640" y="4941720"/>
            <a:ext cx="182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裁判所の通達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明らかに自分の行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請求以外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無視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ページ開設時の法的注意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6920" y="2707920"/>
            <a:ext cx="7871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知的財産権の侵害に注意しよ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誉毀損や部弱財に注意しよ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著作物の引用条件を確認しよ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ページのリンク（同一性の保持）に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詐欺や虚偽行為がないか確認しよ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その他宗教・民族・人種差別に注意しよ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政治問題も注意が必要であ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12680" y="1844640"/>
            <a:ext cx="5051520" cy="520560"/>
          </a:xfrm>
          <a:prstGeom prst="rect">
            <a:avLst/>
          </a:prstGeom>
          <a:solidFill>
            <a:srgbClr val="9999ff">
              <a:alpha val="32000"/>
            </a:srgbClr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Web</a:t>
            </a:r>
            <a:r>
              <a:rPr b="0" lang="zh-CN" sz="2800" spc="-1" strike="noStrike">
                <a:solidFill>
                  <a:srgbClr val="00007d"/>
                </a:solidFill>
                <a:latin typeface="Arial"/>
              </a:rPr>
              <a:t>ページは全世界の人から見られています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356000" y="1773360"/>
            <a:ext cx="4608720" cy="2950920"/>
          </a:xfrm>
          <a:prstGeom prst="rect">
            <a:avLst/>
          </a:prstGeom>
          <a:solidFill>
            <a:srgbClr val="ffff99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ファイル共有の法的問題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3860640"/>
            <a:ext cx="1152720" cy="1297080"/>
          </a:xfrm>
          <a:prstGeom prst="rect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じゃが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5516640"/>
            <a:ext cx="1295640" cy="288720"/>
          </a:xfrm>
          <a:custGeom>
            <a:avLst/>
            <a:gdLst>
              <a:gd name="textAreaLeft" fmla="*/ 226800 w 1295640"/>
              <a:gd name="textAreaRight" fmla="*/ 939600 w 129564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84360" y="3860640"/>
            <a:ext cx="1152720" cy="1297080"/>
          </a:xfrm>
          <a:prstGeom prst="rect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じゃが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35440" y="5877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ピ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2565360"/>
            <a:ext cx="3527640" cy="459720"/>
          </a:xfrm>
          <a:prstGeom prst="rect">
            <a:avLst/>
          </a:prstGeom>
          <a:solidFill>
            <a:srgbClr val="99cc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ジタルコンテンツは簡単にコピーできてしま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20480" y="20606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私的利用の範囲内の複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08400" y="3068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私的以外の複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00440" y="37893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著作権者の複製権の侵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43280" y="213372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788000" y="3141720"/>
            <a:ext cx="360360" cy="358560"/>
            <a:chOff x="4788000" y="3141720"/>
            <a:chExt cx="360360" cy="358560"/>
          </a:xfrm>
        </p:grpSpPr>
        <p:sp>
          <p:nvSpPr>
            <p:cNvPr id="141" name=""/>
            <p:cNvSpPr/>
            <p:nvPr/>
          </p:nvSpPr>
          <p:spPr>
            <a:xfrm flipV="1">
              <a:off x="4788000" y="3141720"/>
              <a:ext cx="36036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88000" y="3141720"/>
              <a:ext cx="36036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372360" y="3573360"/>
            <a:ext cx="647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58680" y="5373720"/>
            <a:ext cx="2009520" cy="825480"/>
          </a:xfrm>
          <a:prstGeom prst="rect">
            <a:avLst/>
          </a:prstGeom>
          <a:solidFill>
            <a:srgbClr val="ff9900">
              <a:alpha val="49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現在では「ファイル共有ソフト」自体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違法性が問われてい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インターネットと著作権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18880" y="1844640"/>
            <a:ext cx="5301360" cy="520560"/>
          </a:xfrm>
          <a:prstGeom prst="rect">
            <a:avLst/>
          </a:prstGeom>
          <a:solidFill>
            <a:srgbClr val="cc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ターネット上の画像や文字は手軽にコピー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5472360" cy="2982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039400" y="5589720"/>
            <a:ext cx="5301360" cy="520560"/>
          </a:xfrm>
          <a:prstGeom prst="rect">
            <a:avLst/>
          </a:prstGeom>
          <a:solidFill>
            <a:srgbClr val="ff0000">
              <a:alpha val="4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著作権の侵害が起こりやすいという問題を含んでい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著作物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4000" y="2708280"/>
          <a:ext cx="8497800" cy="3032280"/>
        </p:xfrm>
        <a:graphic>
          <a:graphicData uri="http://schemas.openxmlformats.org/drawingml/2006/table">
            <a:tbl>
              <a:tblPr/>
              <a:tblGrid>
                <a:gridCol w="2906640"/>
                <a:gridCol w="55911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言語の著作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論文、小説、脚本、詩歌、俳句、講演な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音楽の著作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楽曲、楽曲を伴う歌詞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プログラムの著作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ピュータ・プログラ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二次的著作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上表の著作物（原著作物）を翻訳、編曲、変形、翻案し作成したもの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編集著作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百科事典、辞書、詩集などの編集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84800" y="5877000"/>
            <a:ext cx="530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著作物には、上記の表のもの以外にも、舞踊やパントマイム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写真、データベースなどが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32200" y="1773360"/>
            <a:ext cx="140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著作物とは、著作人格者（個人・法人）が作り出した物や動き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編集物などのものがある。具体的には下記のものが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著作権者に許諾を必要としないも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0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保管期間が過ぎているも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私的利用の範囲内で、契約違反でないも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図書館での非営利的なコピ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事実のみを伝達する報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憲法や法令な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73320" y="5229360"/>
            <a:ext cx="5118480" cy="1191240"/>
          </a:xfrm>
          <a:prstGeom prst="rect">
            <a:avLst/>
          </a:prstGeom>
          <a:solidFill>
            <a:srgbClr val="ccffcc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ただしインターネット上で２～４を公開する場合、別途許諾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必要なる場合が多い。特に私的利用や図書館のコピー物は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許諾が必要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著作物の引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421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著作物の引用は、下記の範囲であれば認められてい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許諾を必要とする場合もあ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財産権を犯さない範囲というのが前提であ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68360" y="4653000"/>
          <a:ext cx="8229600" cy="1646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従関係を明確にす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出典を明らかにす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文と引用部分がわかるようにす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05:15:44Z</dcterms:created>
  <dc:creator>T.Yamazumi</dc:creator>
  <dc:description/>
  <dc:language>en-US</dc:language>
  <cp:lastModifiedBy>湯浅　聖記</cp:lastModifiedBy>
  <dcterms:modified xsi:type="dcterms:W3CDTF">2006-01-09T12:32:44Z</dcterms:modified>
  <cp:revision>90</cp:revision>
  <dc:subject/>
  <dc:title>ネットワーク社会の 情報倫理</dc:title>
</cp:coreProperties>
</file>