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9A199-0184-4211-9A8A-FB376D36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8AEF-F7D7-485C-A263-4FF70DB5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BE289-9900-4F29-80BA-8BF765E1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5E93C-7706-4649-917E-EE04BF03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0B0D-AE22-4245-A747-AD385751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F40A-B67C-4F8E-B9FB-B32A9AF6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8ED8-E9C6-4464-8AFE-DDBACC99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7ABD-499F-48D9-8B00-C8395A1E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7928-1E68-4C79-93B8-231016B3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7F7F-B27B-4DEC-B968-E8983C51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8FD2-9538-479A-B31E-028E4E2D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60224-EA37-4814-8750-F02F0E6A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BAED-8A4F-40EF-9820-B0833C6A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FCE3-DBAF-4F5F-8EE9-0E5DABF4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3463-49A9-4215-BC84-048EB706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E5ED-B503-4D39-9C1E-1429E9B2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B7FA-6459-4FC6-8D9B-0B16243D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ADE53-50FD-44BC-98B1-A533A21D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0A61D-85B3-4E01-BB06-F4DC26F4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8D60-FAD0-4D2A-8F76-22AE11A2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9F40B-C34F-41A0-9BB8-88CC77F5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36694-3C72-4397-9F0F-E4D87FB9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0C167-C8C6-4CC5-86D4-D02D4870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F8386-7ACA-4A5F-B25C-D95F8089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DC90-80CD-4F88-92D2-E6C7BB58A8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E655-003C-4515-83BF-9AC8434EA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３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犯罪（後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９　公序良俗に反する情報公開・違法販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537080" cy="20160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2924280"/>
            <a:ext cx="503280" cy="649080"/>
          </a:xfrm>
          <a:custGeom>
            <a:avLst/>
            <a:gdLst>
              <a:gd name="textAreaLeft" fmla="*/ 0 w 503280"/>
              <a:gd name="textAreaRight" fmla="*/ 503640 w 5032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０　自殺サイ 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384720" cy="1152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方法を公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仲間を募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1844640"/>
            <a:ext cx="3671640" cy="116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集団自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車で練炭を炊き中毒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205000"/>
            <a:ext cx="792000" cy="504720"/>
          </a:xfrm>
          <a:custGeom>
            <a:avLst/>
            <a:gdLst>
              <a:gd name="textAreaLeft" fmla="*/ 0 w 792000"/>
              <a:gd name="textAreaRight" fmla="*/ 792360 w 79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3573360"/>
            <a:ext cx="3743280" cy="1079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ほう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3573360"/>
            <a:ext cx="3744720" cy="108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言論・表現の自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3716280"/>
            <a:ext cx="865080" cy="792360"/>
          </a:xfrm>
          <a:prstGeom prst="leftRightArrow">
            <a:avLst>
              <a:gd name="adj1" fmla="val 50000"/>
              <a:gd name="adj2" fmla="val 21734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86900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殺サイトを公開することの是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602136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分１人で悩まず、相談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544500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殺者を装った殺人事件も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電子メールを利用した犯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5640" y="4508280"/>
            <a:ext cx="4043160" cy="187956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スパムメ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デマメ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によるいじ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371628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989000"/>
            <a:ext cx="5616360" cy="158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電子メール　→　高い利用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コンピュータ・携帯電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スパムメール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47640" y="1699920"/>
            <a:ext cx="2880000" cy="136836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広告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無差別に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ドレスを生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57720"/>
            <a:ext cx="3457440" cy="122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特定電子メール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改訂特定商取引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157720"/>
            <a:ext cx="3889440" cy="1224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スパム配信の取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未承諾広告の明示義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68360" y="4581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3933720"/>
            <a:ext cx="4575240" cy="2374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自己防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フィルタリング機能の活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長めのアドレス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（記号も含め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467160" cy="229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デマ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2060640"/>
            <a:ext cx="2735280" cy="18716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事実無根の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いたず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いやがら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脅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4365720"/>
            <a:ext cx="4103640" cy="86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365720"/>
            <a:ext cx="3816360" cy="86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3959280" cy="2898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5877000"/>
            <a:ext cx="4105440" cy="57636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振り回されず、削除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877000"/>
            <a:ext cx="3816360" cy="57636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警察等へ届け出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53737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53737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メールによるいじ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18920" y="2997360"/>
            <a:ext cx="5915160" cy="130320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メートの悪口・中傷を書き込み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カメラ付の携帯で撮影した写真を添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によるストーカー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1844640"/>
            <a:ext cx="3457800" cy="792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学生が携帯を所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844640"/>
            <a:ext cx="2954520" cy="792360"/>
          </a:xfrm>
          <a:prstGeom prst="rect">
            <a:avLst/>
          </a:prstGeom>
          <a:solidFill>
            <a:srgbClr val="9999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いじめに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22766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6021360"/>
            <a:ext cx="5977080" cy="6476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被害が広まる前に、早急に届け出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4508640"/>
            <a:ext cx="1800000" cy="129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4581360"/>
            <a:ext cx="3527280" cy="1152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はすぐに広ま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人に大きなダ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登校や自殺の原因に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７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誹謗中傷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5832360" cy="237636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チャット・掲示板での被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顔が見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ゲーム感覚で無責任に書き込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害は一瞬で広ま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情報が暴走し、２次的、３次的被害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773360"/>
            <a:ext cx="8497800" cy="1150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誹謗：他人の悪口をいうこと、そし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傷：無根拠のことをいって、名誉を傷つけ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2771640" cy="2590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5950080"/>
            <a:ext cx="583236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まず、相手の気持ちになって、思いやり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5445000"/>
            <a:ext cx="18003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7.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誹謗中傷に発展するケー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788000" y="2852640"/>
            <a:ext cx="3960720" cy="936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情的になり、口論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時間をおいて冷静に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299736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互いの意見が衝突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414972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個人情報を書き込まれ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3860640"/>
            <a:ext cx="3960720" cy="12240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掲載内容やメールを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管理者に削除を依頼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バイダ責任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37372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業や団体に対する中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5157720"/>
            <a:ext cx="3960720" cy="12956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企業の名誉毀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業務妨害が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証拠を保存し警察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3068640"/>
            <a:ext cx="649440" cy="431640"/>
          </a:xfrm>
          <a:custGeom>
            <a:avLst/>
            <a:gdLst>
              <a:gd name="textAreaLeft" fmla="*/ 0 w 649440"/>
              <a:gd name="textAreaRight" fmla="*/ 649800 w 6494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4221000"/>
            <a:ext cx="649440" cy="432000"/>
          </a:xfrm>
          <a:custGeom>
            <a:avLst/>
            <a:gdLst>
              <a:gd name="textAreaLeft" fmla="*/ 0 w 649440"/>
              <a:gd name="textAreaRight" fmla="*/ 649800 w 649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5445000"/>
            <a:ext cx="649440" cy="432000"/>
          </a:xfrm>
          <a:custGeom>
            <a:avLst/>
            <a:gdLst>
              <a:gd name="textAreaLeft" fmla="*/ 0 w 649440"/>
              <a:gd name="textAreaRight" fmla="*/ 649800 w 649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060640"/>
            <a:ext cx="288000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206064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アクセス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3280" y="3284640"/>
            <a:ext cx="6121440" cy="1728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人に送信されたメールを盗み見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を破壊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バイダのサービスを不正利用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を踏み台にして、別の犯罪を犯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1700280"/>
            <a:ext cx="7416720" cy="72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2637000"/>
            <a:ext cx="3457800" cy="576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5157720"/>
            <a:ext cx="302436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禁止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5734080"/>
            <a:ext cx="611964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他人のアカウントによるアクセスはすべて犯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6237360"/>
            <a:ext cx="611964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いたずら目的でも処罰対象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5734080"/>
            <a:ext cx="71280" cy="934920"/>
          </a:xfrm>
          <a:custGeom>
            <a:avLst/>
            <a:gdLst>
              <a:gd name="textAreaLeft" fmla="*/ 20880 w 71280"/>
              <a:gd name="textAreaRight" fmla="*/ 71640 w 71280"/>
              <a:gd name="textAreaTop" fmla="*/ 38880 h 934920"/>
              <a:gd name="textAreaBottom" fmla="*/ 89604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アカウント盗用の防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127640" cy="79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2924280"/>
            <a:ext cx="3097440" cy="1015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禁止法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処罰対象と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299736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ID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ワードなどを故意に漏ら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50028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アカウントを他人に貸し出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6720" y="3284640"/>
            <a:ext cx="574920" cy="431640"/>
          </a:xfrm>
          <a:custGeom>
            <a:avLst/>
            <a:gdLst>
              <a:gd name="textAreaLeft" fmla="*/ 0 w 574920"/>
              <a:gd name="textAreaRight" fmla="*/ 575280 w 574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4076640"/>
            <a:ext cx="475308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管理者を装いパスワードを聞き出す（ソーシャルエンジニアリン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6720" y="4292640"/>
            <a:ext cx="574920" cy="431640"/>
          </a:xfrm>
          <a:custGeom>
            <a:avLst/>
            <a:gdLst>
              <a:gd name="textAreaLeft" fmla="*/ 0 w 574920"/>
              <a:gd name="textAreaRight" fmla="*/ 575280 w 574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4076640"/>
            <a:ext cx="3097440" cy="45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切応じず、プロバイダに届け出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5229360"/>
            <a:ext cx="6192720" cy="12524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文字と小文字に数字や記号を混ぜた長い文字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単語、地名、人名などをそのまま単独で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情報（誕生日など）と無関係なもの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522936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図書情報センター</cp:lastModifiedBy>
  <dcterms:modified xsi:type="dcterms:W3CDTF">2005-12-09T01:29:07Z</dcterms:modified>
  <cp:revision>57</cp:revision>
  <dc:subject/>
  <dc:title>ネットワーク社会の情報倫理</dc:title>
</cp:coreProperties>
</file>