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37971-E305-4CD8-BD44-C87EA07B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8669-C06A-4CC0-8B66-1C9E3D3E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225CB-E6D4-4173-BF5B-669388BD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E4296-AFAA-45BE-9CC0-8AA139C7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09BA-7897-4CAD-AB4B-7A275DE6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1145-6341-4930-B128-A347C435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2294-36B4-463C-A950-BDC5A46E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5437-B1ED-40E8-BA8D-620FDAAC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223F-0F08-4E9B-960C-BFC488C8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4C8F-2E13-4824-97F7-A4117B81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B1DF-1CD2-4077-8F28-3EE21E91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29CB-8074-404B-953C-AB827643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4B56-C4DF-4E67-8715-BCB94F77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85DB-FA9F-4DE1-BC18-852C8924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0FAA-A737-4151-BF83-296C3090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9B78-29A3-4FDE-BC61-B443FBE0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11C4-B76A-4F5E-8EB9-F6A73B7A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D9C08-4398-4A08-A8E0-17CE1970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5F37-FA5D-4462-8A72-4169942F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6647-84F0-46DD-B0DF-F7B35FDD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1C87-0793-4E1A-8B0A-759F53AF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B9AE-9B71-4BDA-9EB4-855D768E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4AA1-4750-4A24-8EF3-2680FB8B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7F4E-9CE8-4365-9889-4B038548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7A5F-4F88-48E6-87AB-B46D8C7D3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E716-75FD-49E0-8523-67C33B020D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　　　　　　　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ワン切りと不正請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924280"/>
            <a:ext cx="5040360" cy="459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かけ直すと自分の番号を知られ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773360"/>
            <a:ext cx="388944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（番号通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031920" cy="2152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8360" y="4005360"/>
            <a:ext cx="4248000" cy="1015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正請求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架空の有料サイトな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500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ワン切りに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絶対に応じ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不正な請求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すべて無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メラ付き携帯による被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1844640"/>
            <a:ext cx="6048360" cy="10159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止画や動画の撮影機能が付いた携帯電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撮影機能を悪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2924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3429000"/>
            <a:ext cx="6337440" cy="14414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際相手に恥ずかしい写真を撮ら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を掲示板にアップロードされ中傷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被害は一瞬で広がるの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相手の気持ちを考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撮影機能を悪用し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ネット詐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63640" y="4581360"/>
            <a:ext cx="5400720" cy="16560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騙し取り＝ネット詐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ショ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オー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1916280"/>
            <a:ext cx="6624720" cy="151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宅からインターネット上を介し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タログ通販やオークションを手軽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ショ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1700280"/>
            <a:ext cx="352728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商品の確認が困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2924280"/>
            <a:ext cx="4824360" cy="5814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支払い（振り込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1700280"/>
            <a:ext cx="367200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画面で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14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3645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5300640"/>
            <a:ext cx="295308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店舗の実績を確認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5300640"/>
            <a:ext cx="302436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取り引きの証拠を残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オークショ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919520"/>
            <a:ext cx="4321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古品を出品　→　落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3284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3789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の趣味で収集した入手困難なも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9040" y="2568960"/>
            <a:ext cx="2800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終的にユーザ同士の取り引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4797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盗品、毒薬、銃刀類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犯罪に巻き込まれ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3284640"/>
            <a:ext cx="73080" cy="2016000"/>
          </a:xfrm>
          <a:custGeom>
            <a:avLst/>
            <a:gdLst>
              <a:gd name="textAreaLeft" fmla="*/ 21240 w 73080"/>
              <a:gd name="textAreaRight" fmla="*/ 73440 w 73080"/>
              <a:gd name="textAreaTop" fmla="*/ 83880 h 2016000"/>
              <a:gd name="textAreaBottom" fmla="*/ 193212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する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になるものに注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詐欺に備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の証拠を残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2205000"/>
            <a:ext cx="3166920" cy="8625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古物営業法（第６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400536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電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本、ゲーム、衣類、食品、チケット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知的財産権の侵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76000" y="4508640"/>
            <a:ext cx="6049800" cy="19447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権侵害となるケースに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ジタルデータと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ファイル共有ソフ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1989000"/>
            <a:ext cx="4535640" cy="1513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ジタルデータはすべ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ル単位で扱わ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0360" y="2349360"/>
            <a:ext cx="2592360" cy="792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ピーが容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2708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ネット犯罪の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147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犯罪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の流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による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詐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知的財産権の侵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を利用した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誹謗中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序良俗に反する情報の公開・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殺ほう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ねずみ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981600" cy="225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ネットワーク犯罪の特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773360"/>
            <a:ext cx="8136000" cy="1079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と空間に関係なく起こり、一瞬にして世界中に広ま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997360"/>
            <a:ext cx="396108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国境が無いた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法律・規制から逃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997360"/>
            <a:ext cx="388764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年齢性別によら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トラブルに巻き込ま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4653000"/>
            <a:ext cx="388764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ワークで身を隠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軽い気持ちで犯罪を犯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653000"/>
            <a:ext cx="396108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者と加害者の識別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被害者のはずが加害者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個人情報の流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4941360"/>
            <a:ext cx="3457800" cy="12956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流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収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133720"/>
            <a:ext cx="6337080" cy="1726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上で個人情報を入力する機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カード番号やパスワード    ： 電子商取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メールや住所等の連絡先  ： 懸賞、アンケ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407664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流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844640"/>
            <a:ext cx="4392720" cy="1224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280" y="2060640"/>
            <a:ext cx="3529080" cy="93672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ライバシーが侵害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流出した情報を悪用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信用が失墜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04000" y="1052640"/>
            <a:ext cx="1944720" cy="1008000"/>
          </a:xfrm>
          <a:prstGeom prst="irregularSeal1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429000"/>
            <a:ext cx="410364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に持ち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3429000"/>
            <a:ext cx="403200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盗難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5445000"/>
            <a:ext cx="4176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機密情報に関し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組織内のルール策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5445000"/>
            <a:ext cx="410508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パスワードやＰＣ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盗難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501336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501336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収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916280"/>
            <a:ext cx="3024360" cy="865080"/>
          </a:xfrm>
          <a:prstGeom prst="parallelogram">
            <a:avLst>
              <a:gd name="adj" fmla="val 14680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1800000" cy="1252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2987640" y="3284640"/>
            <a:ext cx="107964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2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140360" y="1844640"/>
            <a:ext cx="1949400" cy="1509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4724280"/>
            <a:ext cx="2952720" cy="703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ンケートフォームなどで個人情報を釣り上げ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19280" y="5950080"/>
            <a:ext cx="611964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UR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クロスサイト・スクリプティン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4292640"/>
            <a:ext cx="1800360" cy="125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4724280"/>
            <a:ext cx="2665440" cy="398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3860640"/>
            <a:ext cx="2374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別サイトへ誘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5950080"/>
            <a:ext cx="6120000" cy="398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ブラウザでスクリプトの実行を許可すると危険がともな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携帯電話による犯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50920" y="4365720"/>
            <a:ext cx="4896000" cy="20066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会い系サイ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と不正請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メラ付携帯による被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92360" y="1844640"/>
            <a:ext cx="5832360" cy="172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・ブラウジング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同等の機能で犯罪も多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92360" y="3933720"/>
            <a:ext cx="5904000" cy="1295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出会い系サイ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1773360"/>
            <a:ext cx="251928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2924280"/>
            <a:ext cx="266544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1773360"/>
            <a:ext cx="338472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2924280"/>
            <a:ext cx="338472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の番号通知で本人を認証させ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4076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男性の被害：金品を強奪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4581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43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軽い気持ちで会わな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5445000"/>
            <a:ext cx="388800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慎重かつ分別ある行動を！</a:t>
            </a: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図書情報センター</cp:lastModifiedBy>
  <dcterms:modified xsi:type="dcterms:W3CDTF">2005-12-09T01:19:53Z</dcterms:modified>
  <cp:revision>64</cp:revision>
  <dc:subject/>
  <dc:title>ネットワーク社会の情報倫理</dc:title>
</cp:coreProperties>
</file>