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2A52C-0796-4B44-85EE-BA3BC9984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9EA9E-8FFD-49BE-A47D-6A24F197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CB1E0-480A-4702-BA97-AD5F41964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070C3-6AC1-4230-BC20-7A385BAC0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0DA2-08F6-43A7-9F4D-ADFD0FA01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924D-A58E-4857-A7BB-439EA107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EDB0-FE12-4D99-AF81-2D144569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487D-0E1C-4963-885D-334412E8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B427-55FC-41BC-9E58-6EDC8091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0055-D95F-4AFC-9F4C-38428F20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FBC3-E739-40B8-A6C3-910C314A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35FCC-F45F-4AB7-B4D1-5AF6FA6C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81E4-A865-477F-B1D7-987A2E97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66E1-AC5C-4EA5-8215-9E3F451A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5249-157F-4930-AD05-AF61B988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7928-4AF2-408D-996A-3EDD22314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17FE-4672-496F-9176-11FA6DD8D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781DE-C819-4691-B1F3-028B8A29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E5E4E-A9F3-4C46-926B-991B0864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5A35F-0297-4B01-B56E-E64042A2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C3BE3-2B9B-4A0A-9E60-48952947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1C752-C067-481E-A52A-C76A6A94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F988F-E384-4177-ABCA-59A9E397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ED02D-DDF0-44F1-98DE-68B73825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CA0B-C926-4CCD-BADB-4A591E3131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3382-8C3E-4674-AC60-D5F245D882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４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コンピュータウィル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7.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携帯電話に感染するウィル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42920" y="2349000"/>
            <a:ext cx="561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フリーズメール（電卓機能を繰り返し使わせ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強制発信メール（特定の番号に発信す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732720" y="1413000"/>
            <a:ext cx="1261800" cy="2592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95280" y="1844640"/>
            <a:ext cx="51134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いたずら・いやがらせ目的の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27280" y="3141720"/>
            <a:ext cx="1655640" cy="64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3933720"/>
            <a:ext cx="867564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世界初の携帯電話に感染するウィルス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　「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Cabir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」 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(2004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6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月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00000" y="4508640"/>
            <a:ext cx="7632720" cy="2128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特定の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OS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を搭載する携帯電話に感染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感染すると“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Caribe”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（ピラニア）というメッセージを表示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自分のコピーを他のデバイスへ送信する（ワーム活動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odafone 702NK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（日本）にも感染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8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個人ユーザとしての対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084720" y="1844640"/>
            <a:ext cx="2357640" cy="2592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24000" y="3573360"/>
            <a:ext cx="424800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１．ウィルス対策ソフトの導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4869000"/>
            <a:ext cx="410544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２．ウィルス対策ソフトの更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5734080"/>
            <a:ext cx="453564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３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やブラウザなどの更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71640" y="2205000"/>
            <a:ext cx="49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１．メールの添付ファイ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２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やブラウザなどのセキュリティホー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700280"/>
            <a:ext cx="2233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な感染経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5640" y="4005360"/>
            <a:ext cx="53290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インターネット接続の前に、インストー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外部から持ち込んだファイルのウィルスチェッ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5640" y="530064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定義ファイルを最新版にアップデートし、新種・亜種のウィルスに対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87280" y="2997360"/>
            <a:ext cx="216072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5640" y="623736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修正ファイルをダウンロードしアップデート（自動更新機能の設定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8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組織としての対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1773360"/>
            <a:ext cx="46818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複数の人が同じコンピュータを利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共通領域にあるファイルを共同で使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19640" y="1773360"/>
            <a:ext cx="28814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ウィルスが広がると、甚大な被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92360" y="2781360"/>
            <a:ext cx="216072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3500280"/>
            <a:ext cx="3600360" cy="3988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１．ネットワーク全体に対するウィルスチェッ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5157720"/>
            <a:ext cx="3600360" cy="3988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２．メディアやノートパソコンの持ち出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92720" y="3500280"/>
            <a:ext cx="2664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感染した際の対策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4221000"/>
            <a:ext cx="3600360" cy="8467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送受信されるデータのスキャ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ファイアウォールの設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1280" y="5950080"/>
            <a:ext cx="3600360" cy="39888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私物のコンピュータやメディアもウィルスチェッ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076640"/>
            <a:ext cx="4068720" cy="1313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１．コンピュータをネッから切り離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２．被害状況を確認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３．ウィルスを駆除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４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等の機関に連絡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１　有害なプログラ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8560" y="4149360"/>
            <a:ext cx="4319640" cy="21589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ピュータウィル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ワー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トロイの木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スパイウェア・アドウェ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デマウィル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0384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2060640"/>
            <a:ext cx="7632720" cy="119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マルウェア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mal-ware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→　有害なプログラムの総称　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悪意を持っ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443640" y="3716280"/>
            <a:ext cx="2100240" cy="2737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11280" y="3429000"/>
            <a:ext cx="3240000" cy="64764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マルウェアの種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２　コンピュータウィル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280" y="4221000"/>
            <a:ext cx="7777080" cy="165600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感染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自分の複製をコピーし、増殖する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潜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ある条件を満たすまで活動せず潜む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発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ウィルスの目的とする有害な活動を行う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3429000"/>
            <a:ext cx="4895640" cy="719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ピュータウィルスの定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67400" y="1413000"/>
            <a:ext cx="2271960" cy="2736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92360" y="602136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３つのうち、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少なくとも１つの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を持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2133720"/>
            <a:ext cx="6048360" cy="1015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気づかぬ間にコンピュータへ忍び込む（感染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何か悪さをしたり、自己増殖して広めたりす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　コンピュータウィルスの分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95280" y="1628640"/>
          <a:ext cx="8424720" cy="4902480"/>
        </p:xfrm>
        <a:graphic>
          <a:graphicData uri="http://schemas.openxmlformats.org/drawingml/2006/table">
            <a:tbl>
              <a:tblPr/>
              <a:tblGrid>
                <a:gridCol w="1706400"/>
                <a:gridCol w="2568600"/>
                <a:gridCol w="4149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種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感染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特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100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ファイ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感染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実行形式ファイル（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XE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OM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D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を介して広まった初期型のウィルス（８０年代～）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E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型ウィルスとして現存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ブートセクタ感染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D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HDD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のシステム領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システム領域に感染し、ＰＣの起動時に活動してコントロールを奪う。８０年代に登場し亜種が現存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マクロ感染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ord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、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xcel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等ののデータファイ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とアプリケーションソフ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として電子メールに添付ファイルを介して感染が広まる。作成・改変が比較的容易なため亜種が多く存在する。 （９０年代後半～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eb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ペー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感染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eb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閲覧時にマルチメディアコンテンツの実行で感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ctiveX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コントロール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Java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アプレット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VBS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JavaScript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等のスクリプトに組み込まれる。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９０年代後半～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　ワー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55280" y="4797360"/>
            <a:ext cx="4762440" cy="165744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害プログラムの１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己増殖機能をも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のファイルに感染しな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12000" y="3789360"/>
            <a:ext cx="2425680" cy="2736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9640" y="1628640"/>
            <a:ext cx="6626160" cy="20966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電子メールの添付ファイルとして自己増殖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のファイルには寄生しない点でウィルスと区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スクリプト言語やマクロで比較的容易に作成可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つのワームを退治しても、亜種が出現する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4005360"/>
            <a:ext cx="5257800" cy="576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ワームの定義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芋虫のような幼虫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　トロイの木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628640"/>
            <a:ext cx="7416720" cy="9842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トロイの木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jan Hors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一見無害に思えるものが、中に入れた途端に悪さをするという意味。 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語源：ホメロスの叙事詩「イーリアス」より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300720" y="3068640"/>
            <a:ext cx="2600280" cy="2146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24000" y="3213000"/>
            <a:ext cx="4895640" cy="574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トロイの木馬型ウィルスの定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3640" y="3860280"/>
            <a:ext cx="6049800" cy="129564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般のソフトウェアに見せかけ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悪意のある仕掛けが組み込まれ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感染や自己増殖機能はない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5373720"/>
            <a:ext cx="2376360" cy="4316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O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5877000"/>
            <a:ext cx="828036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トロイの木馬が感染した大量のコンピュータから特定のサーバに対してメールなどを一斉に送信し、サーバの機能を停止させてしまう攻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６　スパイウェア・アドウェ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2205000"/>
            <a:ext cx="8209080" cy="4597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個人情報の収集目的で、一般のアプリケーションと共に配布されるプログラム。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インストール時に、スパイウェアも組み込まれる。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1557360"/>
            <a:ext cx="2881440" cy="5745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スパイウェア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4292640"/>
            <a:ext cx="2736720" cy="5745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アドウェア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4941720"/>
            <a:ext cx="8209080" cy="4597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ユーザの画面上に特定の宣伝広告を表示させるためのプログラム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企業のマーケティング／宣伝活動に使われる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3141720"/>
            <a:ext cx="7632720" cy="862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インストール時に利用に関する承諾画面が表示されるものがある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バックグラウンドで情報を盗み出す。 （気が付きにくい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5877000"/>
            <a:ext cx="763272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のアクセス履歴やユーザのコンピュータに関する情報を記録し送信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7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ウィルスの届出件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68360" y="1844640"/>
          <a:ext cx="5208480" cy="385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5208480" cy="38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5724360" y="1989000"/>
            <a:ext cx="3024360" cy="1233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届出件数：増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インターネットで猛威をふるうウィルスの出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届出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1%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は一般法人か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24360" y="3789360"/>
            <a:ext cx="3024360" cy="8161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実際の感染：減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個人のパソコンやプロバイダでのウィルス対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7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感染経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68360" y="1700280"/>
          <a:ext cx="8229600" cy="3895560"/>
        </p:xfrm>
        <a:graphic>
          <a:graphicData uri="http://schemas.openxmlformats.org/drawingml/2006/table">
            <a:tbl>
              <a:tblPr/>
              <a:tblGrid>
                <a:gridCol w="2016000"/>
                <a:gridCol w="1511280"/>
                <a:gridCol w="1584360"/>
                <a:gridCol w="1563840"/>
                <a:gridCol w="1554120"/>
              </a:tblGrid>
              <a:tr h="46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感染経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005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005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届出件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割合（％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届出件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割合（％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電子メー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,4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98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,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9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ネットワー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ブラウジン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外部メディ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不明・その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合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,5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10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,9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100.0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1619280" y="5661000"/>
            <a:ext cx="6048360" cy="101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大半は電子メール（添付ファイル）から感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システムやブラウザの脆弱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05:15:44Z</dcterms:created>
  <dc:creator>T.Yamazumi</dc:creator>
  <dc:description/>
  <dc:language>en-US</dc:language>
  <cp:lastModifiedBy>T.Yamazumi</cp:lastModifiedBy>
  <dcterms:modified xsi:type="dcterms:W3CDTF">2005-12-15T02:08:00Z</dcterms:modified>
  <cp:revision>78</cp:revision>
  <dc:subject/>
  <dc:title>ネットワーク社会の 情報倫理</dc:title>
</cp:coreProperties>
</file>