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7B85-73DD-47E3-A337-C75C67C7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3FE7-75DB-4B24-B6BC-9B7C2C0E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F2B4-3F3B-4B26-9475-DF2819E7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0600-9B04-4EC5-AF40-990E48CC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DF97-DEFC-4B31-9958-A47EEC2A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6B8F-623F-4E96-9870-E0FDDE3B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C6B2-4F56-4FF1-A7E4-B69F767E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B8AA-B4BD-4F2B-BDD8-7B90F1A5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3293-750D-42C2-9569-AB27C0D6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CD3B-1721-4CDB-908B-5D61763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73EC-2181-4ED0-94C8-6817B3AC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212A-843E-4BDE-B224-6904933A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68F0-C6A1-46FD-B93C-B3C51CF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60A2-36EA-46A2-9197-AC26356D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2999-9664-4CFC-BCF5-09CA4A3B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90A3-1076-4A61-949E-D15D2F8D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BD53-873C-4BAE-9DB1-125F8F3A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4FD9-AF2E-4AE2-8DC4-91F780C8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9150-128D-4C53-8BAC-A49B4DAB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7A60-AD46-43D2-BF68-B11F2A25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EC1B-3ED9-4B88-BED3-153C7F30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5E61-09BD-479B-BA23-637C2D71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BC41-15D4-49B7-8EF7-F352794C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2AF0-FA31-47BF-B03C-3FA8F68F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D616-45EA-4DCD-9956-6C61E5D78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2BF8-E5BD-4058-AB18-D9B9373DA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と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メディアリテラシ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社会と情報化社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に関する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人の著作物を公開すると訴訟問題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キャラクタが似ていると非難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中傷も批判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掲載するといたずらされる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71640" y="1341360"/>
            <a:ext cx="7488000" cy="4103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ディア・リテラシーの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に同感や批判を繰り返すことで、メディアリテラシーが身につ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報発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0640"/>
            <a:ext cx="2232000" cy="1224000"/>
          </a:xfrm>
          <a:prstGeom prst="ellipse">
            <a:avLst/>
          </a:prstGeom>
          <a:solidFill>
            <a:srgbClr val="9999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個人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413000"/>
            <a:ext cx="2232000" cy="1224000"/>
          </a:xfrm>
          <a:prstGeom prst="ellipse">
            <a:avLst/>
          </a:prstGeom>
          <a:solidFill>
            <a:srgbClr val="99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ブロ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060640"/>
            <a:ext cx="2232000" cy="1224000"/>
          </a:xfrm>
          <a:prstGeom prst="ellipse">
            <a:avLst/>
          </a:prstGeom>
          <a:solidFill>
            <a:srgbClr val="99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級新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429000"/>
            <a:ext cx="2232000" cy="1224000"/>
          </a:xfrm>
          <a:prstGeom prst="ellipse">
            <a:avLst/>
          </a:prstGeom>
          <a:solidFill>
            <a:srgbClr val="99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電子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42900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07664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インスタント・メッセンジ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システムの脅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ミスや処理ミ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発的に起こる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9200" y="19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システムへ悪影響を与え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931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災と人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989000"/>
            <a:ext cx="1152360" cy="360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ィルス対策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のアクセス権の設定を厳密に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をしっかり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ホールを埋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ックアップ体制の作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アウォール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ポリシー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機管理体制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13000"/>
            <a:ext cx="7705800" cy="316836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報倫理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セキュリティ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62864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ルールとマナ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373720"/>
            <a:ext cx="3600360" cy="719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情報倫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653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ネットワーク社会で求められる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357336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ネットワーク社会でのルールとマナ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メディアリテラシ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セキュリティ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205000"/>
            <a:ext cx="7921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ネットワーク社会で生き抜くためには次の３つが重要であ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2386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携帯電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カーナ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1800000" cy="863640"/>
          </a:xfrm>
          <a:prstGeom prst="rightArrow">
            <a:avLst>
              <a:gd name="adj1" fmla="val 50000"/>
              <a:gd name="adj2" fmla="val 521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ネット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76640"/>
            <a:ext cx="4175280" cy="2952720"/>
          </a:xfrm>
          <a:prstGeom prst="ellipse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たなコミュニケーションの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88000" y="1628640"/>
            <a:ext cx="3887640" cy="3240360"/>
          </a:xfrm>
          <a:prstGeom prst="rect">
            <a:avLst/>
          </a:prstGeom>
          <a:solidFill>
            <a:srgbClr val="3399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157720"/>
            <a:ext cx="8424720" cy="1511280"/>
          </a:xfrm>
          <a:prstGeom prst="rect">
            <a:avLst/>
          </a:prstGeom>
          <a:solidFill>
            <a:srgbClr val="99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ユビキタス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27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6200" y="15620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84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「ユビキタス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71592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いラテン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「どこにでもある」の意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781360"/>
            <a:ext cx="432000" cy="64908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48020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9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「いつでも」「どこでも」「なんでも」接続できる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33760" y="513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ユビキタス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734080"/>
            <a:ext cx="576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のルールとマナ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924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くの管理者の善意によって維持、更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に迷惑や不安がらせるような行為を行わ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より相手に対する思いやりが重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危険なところや怪しいところには行か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軽に色々な情報検索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ダルトサイトや自殺幇助のサイトに手軽に接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サイトや違法取引場に引き込まれ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流出の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悪意のあるユーザが存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意のユーザにもウィルスが届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侵入を試みるユーザが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・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パスワードの不正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への不正侵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ダウ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漏洩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の改ざ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内容の盗聴・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64000" y="1700280"/>
            <a:ext cx="5184720" cy="3024000"/>
          </a:xfrm>
          <a:prstGeom prst="rect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198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637000"/>
            <a:ext cx="2520720" cy="165564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マイナ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637000"/>
            <a:ext cx="2519280" cy="1655640"/>
          </a:xfrm>
          <a:prstGeom prst="ellipse">
            <a:avLst/>
          </a:prstGeom>
          <a:solidFill>
            <a:srgbClr val="008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プラ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740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2800" y="486900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悪の判断と情報の信憑性の判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373720"/>
            <a:ext cx="1368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6021360"/>
            <a:ext cx="4608720" cy="576360"/>
          </a:xfrm>
          <a:prstGeom prst="rect">
            <a:avLst/>
          </a:prstGeom>
          <a:solidFill>
            <a:srgbClr val="99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67f"/>
                </a:solidFill>
                <a:latin typeface="Times New Roman"/>
              </a:rPr>
              <a:t>メディア・リテラシ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04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989000"/>
            <a:ext cx="6697800" cy="3095640"/>
          </a:xfrm>
          <a:prstGeom prst="rect">
            <a:avLst/>
          </a:prstGeom>
          <a:solidFill>
            <a:srgbClr val="33cc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6040" y="14842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メディア・リテラシー ＝ 「メディア」 ＋ 「リテラシー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85640" y="1989000"/>
            <a:ext cx="21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新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雑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ラジ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インターネット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4292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「読み取る能力」と「書く能力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880" y="61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憑性が高く、信頼性のある「情報」を探し出す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59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メディ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0200" y="422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リテラ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9360" y="5229360"/>
            <a:ext cx="721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133720"/>
            <a:ext cx="647640" cy="1944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80536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を身につけ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閲覧だけでは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人間だけの電子メールのみでも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3720" y="465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報の信憑性を誰かに投げかけ真意を得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16280"/>
            <a:ext cx="1511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3:21:39Z</dcterms:created>
  <dc:creator>湯浅　聖記</dc:creator>
  <dc:description/>
  <dc:language>en-US</dc:language>
  <cp:lastModifiedBy>T.Yamazumi</cp:lastModifiedBy>
  <dcterms:modified xsi:type="dcterms:W3CDTF">2006-04-07T02:46:39Z</dcterms:modified>
  <cp:revision>11</cp:revision>
  <dc:subject/>
  <dc:title>情報倫理とメディアリテラシー</dc:title>
</cp:coreProperties>
</file>