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3F9291-ED49-4DBD-A018-DA032452D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1B2AE6-9A29-4C5E-8B3E-EE0A14AEF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B89D44-6FAF-499E-A79F-473A9A0C1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01A58F-E958-4F73-A784-950B3473D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BBBD2-F3B2-42F8-8500-892C0018A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0456B-A607-46E1-A75B-D7C1BF014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EC41C-2AEF-4634-A54F-695975F4E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22DD6-AC98-42E0-B6A4-2E733130D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A37EF-4D8E-47BC-AC6C-FF4C3BF3A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A46ED-70DB-4E9D-A76A-D1EAB2D65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967C8-D250-4475-965C-7D98BF254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3ABAD1-A58F-42CC-9EB6-6CB844EB8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E7574-B10D-4EB8-A3EC-7A908F8A0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51B32-8E36-4B55-A76F-EB590AD55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EB8A5-1DAC-4E13-9EAB-CC865A472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CE03C-E791-4093-AB38-74A4E6293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01DF0-1BB2-46CD-A73E-0308B60FC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E0BA45-A7FC-4922-9853-2BB2595C1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BB309D-845A-49E1-9EF6-6A1BE6ABA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DC6C93-4942-4134-BE79-1D097F2C6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549F61-1FA0-4FB7-A480-A999121B6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C44B39-CC06-4EB0-AC76-5B0C3284B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78EBB2-54AB-4B4E-BA7B-A6CAA7137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AB73A0-BF09-4BF1-950F-04236EB24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B580D-6DB7-49ED-B947-1CA50E4D27A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A8BBA-6880-428D-999C-C6B843639EC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ffffff"/>
                </a:solidFill>
                <a:latin typeface="Arial"/>
              </a:rPr>
              <a:t>ネットワーク社会の</a:t>
            </a:r>
            <a:br>
              <a:rPr sz="5000"/>
            </a:br>
            <a:r>
              <a:rPr b="0" lang="zh-CN" sz="5000" spc="-1" strike="noStrike">
                <a:solidFill>
                  <a:srgbClr val="ffffff"/>
                </a:solidFill>
                <a:latin typeface="Arial"/>
              </a:rPr>
              <a:t>情報倫理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000000"/>
                </a:solidFill>
                <a:latin typeface="Arial"/>
              </a:rPr>
              <a:t>第５章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000000"/>
                </a:solidFill>
                <a:latin typeface="Arial"/>
              </a:rPr>
              <a:t>情報セキュリティ（前半）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ＭＳ Ｐ明朝"/>
              </a:rPr>
              <a:t>［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ＭＳ Ｐ明朝"/>
              </a:rPr>
              <a:t>近代科学社刊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ＭＳ Ｐ明朝"/>
              </a:rPr>
              <a:t>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５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１　情報セキュリティと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10920" y="2637000"/>
            <a:ext cx="3384360" cy="1008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不正アクセ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メールの盗聴・改ざ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284720" y="1557360"/>
            <a:ext cx="4460760" cy="24480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468360" y="6021360"/>
            <a:ext cx="8101080" cy="4597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コンピュータやネットワークにおける安全性や信頼性の確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11280" y="2060640"/>
            <a:ext cx="3456000" cy="520560"/>
          </a:xfrm>
          <a:prstGeom prst="rect">
            <a:avLst/>
          </a:prstGeom>
          <a:solidFill>
            <a:srgbClr val="ff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ネットワーク上の脅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042920" y="3933720"/>
            <a:ext cx="3311640" cy="1727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643280" y="4724280"/>
            <a:ext cx="2881440" cy="1015920"/>
          </a:xfrm>
          <a:prstGeom prst="rect">
            <a:avLst/>
          </a:prstGeom>
          <a:noFill/>
          <a:ln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　１．被害の防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　２．事態の収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500720" y="4076640"/>
            <a:ext cx="3240000" cy="58140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情報セキュリテ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5.1.1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　情報セキュリティに求められるも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640" y="1916280"/>
            <a:ext cx="2880000" cy="581400"/>
          </a:xfrm>
          <a:prstGeom prst="rect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情報の機密性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39640" y="4221000"/>
            <a:ext cx="5904000" cy="581400"/>
          </a:xfrm>
          <a:prstGeom prst="rect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情報の保存および伝達の安全性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116000" y="2637000"/>
            <a:ext cx="7201080" cy="1015920"/>
          </a:xfrm>
          <a:prstGeom prst="rect">
            <a:avLst/>
          </a:prstGeom>
          <a:noFill/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・「ユーザ認証」で不正アクセスを防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・「アクセス権」を設定し、一般ユーザと管理者を区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116000" y="5013360"/>
            <a:ext cx="7632720" cy="1015920"/>
          </a:xfrm>
          <a:prstGeom prst="rect">
            <a:avLst/>
          </a:prstGeom>
          <a:noFill/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・不正アクセスされても、データを破壊や消去からブロッ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・通信の過程において、データの改ざんや盗聴から守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5.1.2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　セキュリティの運用につい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50920" y="1989000"/>
            <a:ext cx="2663640" cy="581400"/>
          </a:xfrm>
          <a:prstGeom prst="rect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技術的な対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24000" y="4365720"/>
            <a:ext cx="2303280" cy="581400"/>
          </a:xfrm>
          <a:prstGeom prst="rect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ＭＳ Ｐゴシック"/>
              </a:rPr>
              <a:t>運用の管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835280" y="2781360"/>
            <a:ext cx="5689440" cy="862560"/>
          </a:xfrm>
          <a:prstGeom prst="rect">
            <a:avLst/>
          </a:prstGeom>
          <a:noFill/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・ウィルスチェック（ネットワーク全体、個々の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C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・ファイアウォールの設置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835280" y="5229360"/>
            <a:ext cx="5689440" cy="862560"/>
          </a:xfrm>
          <a:prstGeom prst="rect">
            <a:avLst/>
          </a:prstGeom>
          <a:noFill/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・セキュリティポリシーの確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・使用者の立場にあった教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987640" y="2133720"/>
            <a:ext cx="5977080" cy="398880"/>
          </a:xfrm>
          <a:prstGeom prst="rect">
            <a:avLst/>
          </a:prstGeom>
          <a:noFill/>
          <a:ln w="381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外部からの有害プログラムや不正侵入を防ぐ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700360" y="4508640"/>
            <a:ext cx="5545080" cy="398880"/>
          </a:xfrm>
          <a:prstGeom prst="rect">
            <a:avLst/>
          </a:prstGeom>
          <a:noFill/>
          <a:ln w="381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運用規則をユーザ全員が理解し遵守す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５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２　ユーザ認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11280" y="2565360"/>
            <a:ext cx="5329080" cy="703800"/>
          </a:xfrm>
          <a:prstGeom prst="rect">
            <a:avLst/>
          </a:prstGeom>
          <a:noFill/>
          <a:ln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・「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正規ユーザ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」の識別（不正アクセスでないか）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・「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一般ユーザ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」と「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管理者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」の区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6161040" y="836640"/>
            <a:ext cx="2103480" cy="3168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1" name=""/>
          <p:cNvGraphicFramePr/>
          <p:nvPr/>
        </p:nvGraphicFramePr>
        <p:xfrm>
          <a:off x="468360" y="4221000"/>
          <a:ext cx="8229600" cy="2236680"/>
        </p:xfrm>
        <a:graphic>
          <a:graphicData uri="http://schemas.openxmlformats.org/drawingml/2006/table">
            <a:tbl>
              <a:tblPr/>
              <a:tblGrid>
                <a:gridCol w="2695680"/>
                <a:gridCol w="2838240"/>
                <a:gridCol w="2695680"/>
              </a:tblGrid>
              <a:tr h="499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entury"/>
                          <a:ea typeface="ＭＳ 明朝"/>
                        </a:rPr>
                        <a:t>認証方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entury"/>
                          <a:ea typeface="ＭＳ 明朝"/>
                        </a:rPr>
                        <a:t>利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entury"/>
                          <a:ea typeface="ＭＳ 明朝"/>
                        </a:rPr>
                        <a:t>欠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"/>
                          <a:ea typeface="ＭＳ 明朝"/>
                        </a:rPr>
                        <a:t>ID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Century"/>
                          <a:ea typeface="ＭＳ 明朝"/>
                        </a:rPr>
                        <a:t>・パスワー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発行や認証の仕組み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簡単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Century"/>
                          <a:ea typeface="ＭＳ 明朝"/>
                        </a:rPr>
                        <a:t>パスワードの漏え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Century"/>
                          <a:ea typeface="ＭＳ 明朝"/>
                        </a:rPr>
                        <a:t>カード等の所持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entury"/>
                          <a:ea typeface="ＭＳ 明朝"/>
                        </a:rPr>
                        <a:t>操作がやさし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entury"/>
                          <a:ea typeface="ＭＳ 明朝"/>
                        </a:rPr>
                        <a:t>紛失、盗難、偽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73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Century"/>
                          <a:ea typeface="ＭＳ 明朝"/>
                        </a:rPr>
                        <a:t>生体認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entury"/>
                          <a:ea typeface="ＭＳ 明朝"/>
                        </a:rPr>
                        <a:t>偽造されにく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entury"/>
                          <a:ea typeface="ＭＳ 明朝"/>
                        </a:rPr>
                        <a:t>システムが高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32" name=""/>
          <p:cNvSpPr/>
          <p:nvPr/>
        </p:nvSpPr>
        <p:spPr>
          <a:xfrm>
            <a:off x="395280" y="1916280"/>
            <a:ext cx="4319640" cy="58140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ユーザ認証＝本人確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971640" y="3573360"/>
            <a:ext cx="1368360" cy="503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492360" y="3789360"/>
            <a:ext cx="208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認証方式と特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5.2.1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　パスワード管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4000" y="4149720"/>
            <a:ext cx="4032000" cy="459720"/>
          </a:xfrm>
          <a:prstGeom prst="rect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パスワードに対する推定攻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5280" y="4724280"/>
            <a:ext cx="3889440" cy="17899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１）総当たり攻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　　単純で短いパスワードは危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２）辞書攻撃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　　辞書単語をそのまま使わな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59280" y="4724280"/>
            <a:ext cx="3816360" cy="17899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１）のぞき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２）ログイン後の放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３）トラッシング（ゴミあさり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４）なりすま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88000" y="4149720"/>
            <a:ext cx="3959280" cy="459720"/>
          </a:xfrm>
          <a:prstGeom prst="rect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ソーシャル・エンジニアリン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5219640" y="1413000"/>
            <a:ext cx="3240000" cy="268596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250920" y="1773360"/>
            <a:ext cx="4825800" cy="1326240"/>
          </a:xfrm>
          <a:prstGeom prst="rect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とパスワードによる認証は仕組みが単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　→ 推定されにくいパスワードを持つ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　→ 盗み見やなりすましに要注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059280" y="3573360"/>
            <a:ext cx="3095280" cy="459720"/>
          </a:xfrm>
          <a:prstGeom prst="rect">
            <a:avLst/>
          </a:prstGeom>
          <a:solidFill>
            <a:srgbClr val="ff66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パスワードを破る手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5.2.2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　カードによる認証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042920" y="1773360"/>
            <a:ext cx="5400720" cy="52056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ユーザの所持品による認証方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11280" y="2997360"/>
            <a:ext cx="6408720" cy="8625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・スキミング（磁気カードの不正な読み取り）しカードを偽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・テレフォンカードやハイウェイカード等でも多数の被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116000" y="4365720"/>
            <a:ext cx="2664000" cy="520560"/>
          </a:xfrm>
          <a:prstGeom prst="rect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C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カードの開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11280" y="4941720"/>
            <a:ext cx="5545440" cy="1572120"/>
          </a:xfrm>
          <a:prstGeom prst="rect">
            <a:avLst/>
          </a:prstGeom>
          <a:noFill/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・磁気カードよりも偽造が困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・暗証番号との組み合わせで認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・総当たり攻撃に対してはカードを無効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16000" y="2421000"/>
            <a:ext cx="2952720" cy="52056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磁気カードの被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258920" y="3068640"/>
            <a:ext cx="1009440" cy="1152360"/>
          </a:xfrm>
          <a:prstGeom prst="downArrow">
            <a:avLst>
              <a:gd name="adj1" fmla="val 50000"/>
              <a:gd name="adj2" fmla="val 28540"/>
            </a:avLst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5.2.3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　生体認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7280" y="3933360"/>
            <a:ext cx="1440000" cy="2592360"/>
          </a:xfrm>
          <a:prstGeom prst="rect">
            <a:avLst/>
          </a:prstGeom>
          <a:noFill/>
          <a:ln w="28440">
            <a:solidFill>
              <a:srgbClr val="ff66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指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虹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筆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声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静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6012000" y="1700280"/>
            <a:ext cx="2449440" cy="21351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755640" y="1844640"/>
            <a:ext cx="5111640" cy="10159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ＭＳ Ｐゴシック"/>
              </a:rPr>
              <a:t>ユーザ本人の身体の一部（生体情報）を使った認証方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ＭＳ Ｐゴシック"/>
              </a:rPr>
              <a:t>（＝バイオメトリックス認証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55640" y="3357720"/>
            <a:ext cx="2376360" cy="459720"/>
          </a:xfrm>
          <a:prstGeom prst="rect">
            <a:avLst/>
          </a:prstGeom>
          <a:solidFill>
            <a:srgbClr val="ff6699"/>
          </a:solidFill>
          <a:ln w="936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生体認証の種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419640" y="4581360"/>
            <a:ext cx="5040000" cy="1326240"/>
          </a:xfrm>
          <a:prstGeom prst="rect">
            <a:avLst/>
          </a:prstGeom>
          <a:noFill/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・不正コピーが困難で、より確実な認証方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・コンピュータ以外に特殊な装置が必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・認証方式によっては高額（虹彩、静脈など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419640" y="4005360"/>
            <a:ext cx="2376360" cy="459720"/>
          </a:xfrm>
          <a:prstGeom prst="rect">
            <a:avLst/>
          </a:prstGeom>
          <a:solidFill>
            <a:srgbClr val="ccff33"/>
          </a:solidFill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生体認証の特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５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３　ファイアウォール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468360" y="3213000"/>
          <a:ext cx="8229600" cy="3381480"/>
        </p:xfrm>
        <a:graphic>
          <a:graphicData uri="http://schemas.openxmlformats.org/drawingml/2006/table">
            <a:tbl>
              <a:tblPr/>
              <a:tblGrid>
                <a:gridCol w="2278080"/>
                <a:gridCol w="5951520"/>
              </a:tblGrid>
              <a:tr h="482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ＭＳ Ｐ明朝"/>
                          <a:ea typeface="ＭＳ Ｐ明朝"/>
                        </a:rPr>
                        <a:t>主な機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ＭＳ Ｐ明朝"/>
                          <a:ea typeface="ＭＳ Ｐ明朝"/>
                        </a:rPr>
                        <a:t>概　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</a:tr>
              <a:tr h="484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ＭＳ Ｐ明朝"/>
                          <a:ea typeface="ＭＳ Ｐ明朝"/>
                        </a:rPr>
                        <a:t>アクセス制限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ＭＳ Ｐ明朝"/>
                          <a:ea typeface="ＭＳ Ｐ明朝"/>
                        </a:rPr>
                        <a:t>インターネットからの接続を制限する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</a:tr>
              <a:tr h="482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ＭＳ Ｐ明朝"/>
                          <a:ea typeface="ＭＳ Ｐ明朝"/>
                        </a:rPr>
                        <a:t>アドレス変換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ＭＳ Ｐ明朝"/>
                          <a:ea typeface="ＭＳ Ｐ明朝"/>
                        </a:rPr>
                        <a:t>プライベートアドレスをグローバルアドレスに変換する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</a:tr>
              <a:tr h="482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ＭＳ Ｐ明朝"/>
                          <a:ea typeface="ＭＳ Ｐ明朝"/>
                        </a:rPr>
                        <a:t>ユーザ認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ＭＳ Ｐ明朝"/>
                          <a:ea typeface="ＭＳ Ｐ明朝"/>
                        </a:rPr>
                        <a:t>接続できるユーザであるか認証する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</a:tr>
              <a:tr h="482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ＭＳ Ｐ明朝"/>
                          <a:ea typeface="ＭＳ Ｐ明朝"/>
                        </a:rPr>
                        <a:t>ログ収集／解析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ＭＳ Ｐ明朝"/>
                          <a:ea typeface="ＭＳ Ｐ明朝"/>
                        </a:rPr>
                        <a:t>ファイアウォールを通過したパケットをすべて記録する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</a:tr>
              <a:tr h="484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ＭＳ Ｐ明朝"/>
                          <a:ea typeface="ＭＳ Ｐ明朝"/>
                        </a:rPr>
                        <a:t>フィルタリン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ＭＳ Ｐ明朝"/>
                          <a:ea typeface="ＭＳ Ｐ明朝"/>
                        </a:rPr>
                        <a:t>通過できないデータを判別し遮断する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</a:tr>
              <a:tr h="482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ＭＳ Ｐ明朝"/>
                          <a:ea typeface="ＭＳ Ｐ明朝"/>
                        </a:rPr>
                        <a:t>ルーティン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ＭＳ Ｐ明朝"/>
                          <a:ea typeface="ＭＳ Ｐ明朝"/>
                        </a:rPr>
                        <a:t>組織内の通信経路を決める役割を果たす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</a:tr>
            </a:tbl>
          </a:graphicData>
        </a:graphic>
      </p:graphicFrame>
      <p:sp>
        <p:nvSpPr>
          <p:cNvPr id="159" name=""/>
          <p:cNvSpPr/>
          <p:nvPr/>
        </p:nvSpPr>
        <p:spPr>
          <a:xfrm>
            <a:off x="2987640" y="2781360"/>
            <a:ext cx="331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ファイアウォールの主な機能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16000" y="1628640"/>
            <a:ext cx="7128000" cy="984240"/>
          </a:xfrm>
          <a:prstGeom prst="rect">
            <a:avLst/>
          </a:prstGeom>
          <a:solidFill>
            <a:srgbClr val="ffcc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ファイアウォール（防火壁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→インターネット接続したコンピュータを外敵から守るシステ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9T05:10:53Z</dcterms:created>
  <dc:creator>図書情報センター</dc:creator>
  <dc:description/>
  <dc:language>en-US</dc:language>
  <cp:lastModifiedBy>T.Yamazumi</cp:lastModifiedBy>
  <dcterms:modified xsi:type="dcterms:W3CDTF">2005-12-13T00:15:25Z</dcterms:modified>
  <cp:revision>38</cp:revision>
  <dc:subject/>
  <dc:title>ネットワーク社会の 情報倫理</dc:title>
</cp:coreProperties>
</file>