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BC70-4B86-4716-B237-36B9C96A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DF2B-8617-4C45-823B-A9FEE864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12C2-21ED-4084-B032-714838FC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7349-A5F3-44CA-A155-CBFAF6BA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D17B-F026-4BD8-831A-EFBF5D22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0663-0EBF-4A90-9E53-89F19B91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2972-1E9D-4815-BD93-686E89E9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52AF-99AE-4827-9161-6AA08562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1DCA-EFC9-4F02-9662-6B6A53F2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868C-BF53-4850-A792-3AB61610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7860-E385-4FD4-AC26-DAC88F7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928A-DC34-44C2-8169-038AF70D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BD37-B4ED-4369-BB0A-17FC94AB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3DA7-5296-4675-AFBB-44A5227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4CB1-3524-4F73-AA18-75CD439C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EC52-71B7-49E9-A283-B842ED51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3217-949A-4103-A6B3-B58B7029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908E-6A8B-490D-8703-8F860C9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064A-FA59-40F5-9813-972C09EE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D090-264C-4038-947E-7947BA48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212F-2B11-4B6E-A257-29891985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B8B74-9D08-4DC5-9B93-E64CD315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873C-2373-483C-8C92-0A92D573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D2D7-E05E-4864-800F-F1C618B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7F4C-4EBB-467B-8F1D-12ED61BBD5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784E-AEC1-4D25-BBC4-6BD340580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ワン切りと不正請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924280"/>
            <a:ext cx="5040360" cy="45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かけ直すと自分の番号を知られ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388944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（番号通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31920" cy="2152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4005360"/>
            <a:ext cx="4248000" cy="1015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正請求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架空の有料サイトな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500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ワン切り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絶対に応じ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不正な請求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すべて無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メラ付き携帯による被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1844640"/>
            <a:ext cx="6048360" cy="1015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止画や動画の撮影機能が付いた携帯電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撮影機能を悪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924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29000"/>
            <a:ext cx="6337440" cy="14414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際相手に恥ずかしい写真を撮ら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を掲示板にアップロードされ中傷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被害は一瞬で広がるの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相手の気持ちを考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撮影機能を悪用し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ネット詐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63640" y="4581360"/>
            <a:ext cx="5400720" cy="1656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騙し取り＝ネット詐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ショ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オー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916280"/>
            <a:ext cx="6624720" cy="15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宅からインターネット上を介し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タログ通販やオークションを手軽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ショ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700280"/>
            <a:ext cx="352728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品の確認が困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924280"/>
            <a:ext cx="4824360" cy="581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支払い（振り込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700280"/>
            <a:ext cx="367200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画面で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14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3645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300640"/>
            <a:ext cx="295308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店舗の実績を確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300640"/>
            <a:ext cx="302436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取り引きの証拠を残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オークショ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919520"/>
            <a:ext cx="4321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古品を出品　→　落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3284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789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の趣味で収集した入手困難なも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2568960"/>
            <a:ext cx="2800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終的にユーザ同士の取り引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4797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盗品、毒薬、銃刀類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犯罪に巻き込まれ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3284640"/>
            <a:ext cx="73080" cy="2016000"/>
          </a:xfrm>
          <a:custGeom>
            <a:avLst/>
            <a:gdLst>
              <a:gd name="textAreaLeft" fmla="*/ 21240 w 73080"/>
              <a:gd name="textAreaRight" fmla="*/ 73440 w 7308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する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になるものに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詐欺に備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の証拠を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2205000"/>
            <a:ext cx="3166920" cy="8625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古物営業法（第６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4005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電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本、ゲーム、衣類、食品、チケット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知的財産権の侵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76000" y="4508640"/>
            <a:ext cx="6049800" cy="19447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権侵害となるケースに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ジタルデータと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ファイル共有ソフ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989000"/>
            <a:ext cx="4535640" cy="1513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ジタルデータはすべ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ル単位で扱わ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2349360"/>
            <a:ext cx="2592360" cy="792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ピーが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708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ネット犯罪の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犯罪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の流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による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詐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知的財産権の侵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を利用した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誹謗中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序良俗に反する情報の公開・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殺ほう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ねずみ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981600" cy="22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ネットワーク犯罪の特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36000" cy="1079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と空間に関係なく起こり、一瞬にして世界中に広ま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997360"/>
            <a:ext cx="396108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国境が無いた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法律・規制から逃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997360"/>
            <a:ext cx="388764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年齢性別によら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トラブルに巻き込ま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653000"/>
            <a:ext cx="388764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ワークで身を隠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軽い気持ちで犯罪を犯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653000"/>
            <a:ext cx="396108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者と加害者の識別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被害者のはずが加害者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個人情報の流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4941360"/>
            <a:ext cx="3457800" cy="12956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収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133720"/>
            <a:ext cx="6337080" cy="1726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上で個人情報を入力する機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カード番号やパスワード    ： 電子商取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メールや住所等の連絡先  ： 懸賞、アンケ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407664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流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844640"/>
            <a:ext cx="4392720" cy="1224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529080" cy="936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ライバシーが侵害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流出した情報を悪用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信用が失墜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1052640"/>
            <a:ext cx="1944720" cy="1008000"/>
          </a:xfrm>
          <a:prstGeom prst="irregularSeal1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410364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に持ち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429000"/>
            <a:ext cx="403200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盗難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445000"/>
            <a:ext cx="4176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機密情報に関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組織内のルール策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445000"/>
            <a:ext cx="410508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パスワードやＰＣ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盗難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501336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501336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収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916280"/>
            <a:ext cx="3024360" cy="865080"/>
          </a:xfrm>
          <a:prstGeom prst="parallelogram">
            <a:avLst>
              <a:gd name="adj" fmla="val 1468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1800000" cy="1252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987640" y="3284640"/>
            <a:ext cx="1079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2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1949400" cy="150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724280"/>
            <a:ext cx="2952720" cy="703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ンケートフォームなどで個人情報を釣り上げ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5950080"/>
            <a:ext cx="611964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UR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クロスサイト・スクリプティン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292640"/>
            <a:ext cx="1800360" cy="125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4724280"/>
            <a:ext cx="266544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860640"/>
            <a:ext cx="2374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別サイトへ誘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5950080"/>
            <a:ext cx="6120000" cy="398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ブラウザでスクリプトの実行を許可すると危険がともな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携帯電話による犯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0920" y="4365720"/>
            <a:ext cx="4896000" cy="2006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会い系サイ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と不正請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メラ付携帯による被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2360" y="1844640"/>
            <a:ext cx="5832360" cy="172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・ブラウジング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同等の機能で犯罪も多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2360" y="3933720"/>
            <a:ext cx="59040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出会い系サイ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773360"/>
            <a:ext cx="251928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924280"/>
            <a:ext cx="266544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1773360"/>
            <a:ext cx="338472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924280"/>
            <a:ext cx="338472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の番号通知で本人を認証させ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4076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性の被害：金品を強奪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58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軽い気持ちで会わな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5445000"/>
            <a:ext cx="388800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慎重かつ分別ある行動を！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図書情報センター</cp:lastModifiedBy>
  <dcterms:modified xsi:type="dcterms:W3CDTF">2005-12-09T01:19:53Z</dcterms:modified>
  <cp:revision>64</cp:revision>
  <dc:subject/>
  <dc:title>ネットワーク社会の情報倫理</dc:title>
</cp:coreProperties>
</file>