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0C2DF-DDA5-433F-AFF6-68937A16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ABD2A-0F3F-4DC5-AEC8-029072B7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9D1CA-717A-4EF5-9F82-BD8DC3B5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4F769-C1F5-4678-90A0-5455395E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5F2D-A17A-4ABB-A82F-1FEBADD0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7E3E-7840-4706-8079-C97FEA2F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9CB5-E3BA-4243-B28B-6DC628C1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46CB-EB25-4AA8-98CF-6B86C651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8A75-AD0B-4495-8152-DEDA00C8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806A-C20E-40DF-AE7E-5537E1D6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FE5E-F6C0-4E19-87A5-A9688F83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B9BEA-9029-415B-8790-F6C1957F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2537-D3BE-4E37-834B-C0349F96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9972-2449-44FE-98A5-5BEBC006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B008-7F67-4BFD-BE4B-5EE4E8AA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92F1-BD5F-4068-9249-FE77DED1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7B17-8DC7-4EE7-AEB9-89764D1D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C0311-E563-4D0C-AC5B-D39C057C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5C0A0-999F-42D5-A255-F1BA22DE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3FAE8-7E0A-4343-9A81-0CEB3298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AC25E-D7A0-4070-812C-A50BDAD5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743B6-E1E8-4CC6-B59D-45C9936F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BCCC-D21B-49CD-AA81-F8EE2CED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29E90-3735-448D-A840-613449C4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D150-519D-4D72-AF11-F1BF65C425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B264-F175-4802-B83F-85E67BF5AC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６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インターネットと法律（前編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9280" y="1557360"/>
            <a:ext cx="5688000" cy="4680000"/>
          </a:xfrm>
          <a:prstGeom prst="rect">
            <a:avLst/>
          </a:prstGeom>
          <a:solidFill>
            <a:srgbClr val="99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557360"/>
            <a:ext cx="2952720" cy="4680000"/>
          </a:xfrm>
          <a:prstGeom prst="rect">
            <a:avLst/>
          </a:prstGeom>
          <a:solidFill>
            <a:srgbClr val="9999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1484280"/>
            <a:ext cx="8856720" cy="52578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権（財産権と人格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3357720"/>
            <a:ext cx="2089080" cy="43164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表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1916280"/>
            <a:ext cx="2089080" cy="431640"/>
          </a:xfrm>
          <a:prstGeom prst="rect">
            <a:avLst/>
          </a:prstGeom>
          <a:solidFill>
            <a:srgbClr val="ff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氏名表示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00720" y="2637000"/>
            <a:ext cx="2089080" cy="43164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一性保持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773360"/>
            <a:ext cx="2089440" cy="43164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複製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1773360"/>
            <a:ext cx="2089440" cy="431640"/>
          </a:xfrm>
          <a:prstGeom prst="rect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演奏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2421000"/>
            <a:ext cx="2089440" cy="43164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演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2000" y="2421000"/>
            <a:ext cx="2089440" cy="43164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頒布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573360"/>
            <a:ext cx="2089440" cy="4320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映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4221000"/>
            <a:ext cx="2089440" cy="432000"/>
          </a:xfrm>
          <a:prstGeom prst="rect">
            <a:avLst/>
          </a:prstGeom>
          <a:solidFill>
            <a:srgbClr val="d6009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衆送信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0" y="4941720"/>
            <a:ext cx="2089440" cy="43200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口述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2997360"/>
            <a:ext cx="2089440" cy="4316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展示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2997360"/>
            <a:ext cx="2089440" cy="431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案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4869000"/>
            <a:ext cx="2089440" cy="431640"/>
          </a:xfrm>
          <a:prstGeom prst="rect">
            <a:avLst/>
          </a:pr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訳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5640" y="566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財産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739640" y="566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格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6237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両方合わせて著作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4221000"/>
            <a:ext cx="2089440" cy="4320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貸与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3573360"/>
            <a:ext cx="2089440" cy="432000"/>
          </a:xfrm>
          <a:prstGeom prst="rect">
            <a:avLst/>
          </a:prstGeom>
          <a:solidFill>
            <a:srgbClr val="cc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送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5516640"/>
            <a:ext cx="2089440" cy="43164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伝達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と法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ネットワーク社会の誕生に伴い、新たな法律の枠組みが必要とな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くは現実の民法や刑事法が支えてい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35280" y="3284640"/>
            <a:ext cx="6049800" cy="3384360"/>
            <a:chOff x="1835280" y="3284640"/>
            <a:chExt cx="6049800" cy="3384360"/>
          </a:xfrm>
        </p:grpSpPr>
        <p:sp>
          <p:nvSpPr>
            <p:cNvPr id="111" name=""/>
            <p:cNvSpPr/>
            <p:nvPr/>
          </p:nvSpPr>
          <p:spPr>
            <a:xfrm>
              <a:off x="4140360" y="3284640"/>
              <a:ext cx="3744720" cy="3384360"/>
            </a:xfrm>
            <a:prstGeom prst="ellipse">
              <a:avLst/>
            </a:prstGeom>
            <a:solidFill>
              <a:srgbClr val="9999ff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ネットワーク社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35280" y="3357360"/>
              <a:ext cx="4176720" cy="3311280"/>
            </a:xfrm>
            <a:prstGeom prst="ellipse">
              <a:avLst/>
            </a:prstGeom>
            <a:solidFill>
              <a:srgbClr val="ccffff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現実社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架空請求と迷惑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4560" y="545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979640" y="1989000"/>
            <a:ext cx="5329080" cy="2592360"/>
            <a:chOff x="1979640" y="1989000"/>
            <a:chExt cx="5329080" cy="2592360"/>
          </a:xfrm>
        </p:grpSpPr>
        <p:sp>
          <p:nvSpPr>
            <p:cNvPr id="116" name=""/>
            <p:cNvSpPr/>
            <p:nvPr/>
          </p:nvSpPr>
          <p:spPr>
            <a:xfrm>
              <a:off x="1979640" y="1989000"/>
              <a:ext cx="5329080" cy="2592360"/>
            </a:xfrm>
            <a:prstGeom prst="rect">
              <a:avLst/>
            </a:prstGeom>
            <a:solidFill>
              <a:srgbClr val="969696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340000">
              <a:off x="2411280" y="3139560"/>
              <a:ext cx="2089440" cy="431640"/>
            </a:xfrm>
            <a:prstGeom prst="rect">
              <a:avLst/>
            </a:prstGeom>
            <a:solidFill>
              <a:srgbClr val="ffff00">
                <a:alpha val="4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架空請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521800">
              <a:off x="4643280" y="2852280"/>
              <a:ext cx="2016000" cy="431640"/>
            </a:xfrm>
            <a:prstGeom prst="rect">
              <a:avLst/>
            </a:prstGeom>
            <a:solidFill>
              <a:srgbClr val="9999ff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高額請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9756800">
              <a:off x="3419280" y="2636280"/>
              <a:ext cx="1871640" cy="432000"/>
            </a:xfrm>
            <a:prstGeom prst="rect">
              <a:avLst/>
            </a:prstGeom>
            <a:solidFill>
              <a:srgbClr val="00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迷惑メー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746800">
              <a:off x="3059280" y="3860280"/>
              <a:ext cx="1726920" cy="360360"/>
            </a:xfrm>
            <a:prstGeom prst="rect">
              <a:avLst/>
            </a:prstGeom>
            <a:solidFill>
              <a:srgbClr val="ff99cc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ワン切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9909800">
              <a:off x="4930920" y="3573000"/>
              <a:ext cx="1800000" cy="360360"/>
            </a:xfrm>
            <a:prstGeom prst="rect">
              <a:avLst/>
            </a:prstGeom>
            <a:solidFill>
              <a:srgbClr val="99ccff">
                <a:alpha val="4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嫌がらせ電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1224000" cy="1190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4941720"/>
            <a:ext cx="2952720" cy="1572120"/>
          </a:xfrm>
          <a:prstGeom prst="rect">
            <a:avLst/>
          </a:prstGeom>
          <a:solidFill>
            <a:srgbClr val="00ff00">
              <a:alpha val="44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消費者契約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民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息制限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5589720"/>
            <a:ext cx="648000" cy="43164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52640" y="4941720"/>
            <a:ext cx="18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裁判所の通達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明らかに自分の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請求以外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無視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ページ開設時の法的注意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920" y="2707920"/>
            <a:ext cx="7871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知的財産権の侵害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誉毀損や部弱財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著作物の引用条件を確認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のリンク（同一性の保持）に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詐欺や虚偽行為がないか確認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その他宗教・民族・人種差別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政治問題も注意が必要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12680" y="1844640"/>
            <a:ext cx="5051520" cy="520560"/>
          </a:xfrm>
          <a:prstGeom prst="rect">
            <a:avLst/>
          </a:prstGeom>
          <a:solidFill>
            <a:srgbClr val="9999ff">
              <a:alpha val="32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7d"/>
                </a:solidFill>
                <a:latin typeface="Arial"/>
              </a:rPr>
              <a:t>ページは全世界の人から見られています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356000" y="1773360"/>
            <a:ext cx="4608720" cy="2950920"/>
          </a:xfrm>
          <a:prstGeom prst="rect">
            <a:avLst/>
          </a:prstGeom>
          <a:solidFill>
            <a:srgbClr val="ffff99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ファイル共有の法的問題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3860640"/>
            <a:ext cx="1152720" cy="1297080"/>
          </a:xfrm>
          <a:prstGeom prst="rect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じゃが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5516640"/>
            <a:ext cx="1295640" cy="288720"/>
          </a:xfrm>
          <a:custGeom>
            <a:avLst/>
            <a:gdLst>
              <a:gd name="textAreaLeft" fmla="*/ 226800 w 1295640"/>
              <a:gd name="textAreaRight" fmla="*/ 939600 w 129564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3860640"/>
            <a:ext cx="1152720" cy="1297080"/>
          </a:xfrm>
          <a:prstGeom prst="rect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じゃが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35440" y="5877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ピ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2565360"/>
            <a:ext cx="3527640" cy="459720"/>
          </a:xfrm>
          <a:prstGeom prst="rect">
            <a:avLst/>
          </a:prstGeom>
          <a:solidFill>
            <a:srgbClr val="99cc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ジタルコンテンツは簡単にコピーできてしま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20480" y="2060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私的利用の範囲内の複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08400" y="3068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私的以外の複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00440" y="37893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著作権者の複製権の侵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213372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788000" y="3141720"/>
            <a:ext cx="360360" cy="358560"/>
            <a:chOff x="4788000" y="3141720"/>
            <a:chExt cx="360360" cy="358560"/>
          </a:xfrm>
        </p:grpSpPr>
        <p:sp>
          <p:nvSpPr>
            <p:cNvPr id="141" name=""/>
            <p:cNvSpPr/>
            <p:nvPr/>
          </p:nvSpPr>
          <p:spPr>
            <a:xfrm flipV="1">
              <a:off x="4788000" y="3141720"/>
              <a:ext cx="36036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3141720"/>
              <a:ext cx="36036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372360" y="3573360"/>
            <a:ext cx="647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58680" y="5373720"/>
            <a:ext cx="2009520" cy="825480"/>
          </a:xfrm>
          <a:prstGeom prst="rect">
            <a:avLst/>
          </a:prstGeom>
          <a:solidFill>
            <a:srgbClr val="ff9900">
              <a:alpha val="49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では「ファイル共有ソフト」自体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性が問われて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と著作権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8880" y="1844640"/>
            <a:ext cx="5301360" cy="520560"/>
          </a:xfrm>
          <a:prstGeom prst="rect">
            <a:avLst/>
          </a:prstGeom>
          <a:solidFill>
            <a:srgbClr val="cc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ターネット上の画像や文字は手軽にコピー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472360" cy="298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039400" y="5589720"/>
            <a:ext cx="5301360" cy="520560"/>
          </a:xfrm>
          <a:prstGeom prst="rect">
            <a:avLst/>
          </a:prstGeom>
          <a:solidFill>
            <a:srgbClr val="ff0000">
              <a:alpha val="4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著作権の侵害が起こりやすいという問題を含んで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物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708280"/>
          <a:ext cx="8497800" cy="3032280"/>
        </p:xfrm>
        <a:graphic>
          <a:graphicData uri="http://schemas.openxmlformats.org/drawingml/2006/table">
            <a:tbl>
              <a:tblPr/>
              <a:tblGrid>
                <a:gridCol w="2906640"/>
                <a:gridCol w="55911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言語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論文、小説、脚本、詩歌、俳句、講演な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音楽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楽曲、楽曲を伴う歌詞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プログラム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ピュータ・プログラ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次的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表の著作物（原著作物）を翻訳、編曲、変形、翻案し作成したもの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編集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科事典、辞書、詩集などの編集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84800" y="5877000"/>
            <a:ext cx="53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著作物には、上記の表のもの以外にも、舞踊やパントマイム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真、データベースなどが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32200" y="177336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著作物とは、著作人格者（個人・法人）が作り出した物や動き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編集物などのものがある。具体的には下記のものが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著作権者に許諾を必要としないも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保管期間が過ぎている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私的利用の範囲内で、契約違反でない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図書館での非営利的なコピ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実のみを伝達する報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憲法や法令な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73320" y="5229360"/>
            <a:ext cx="5118480" cy="1191240"/>
          </a:xfrm>
          <a:prstGeom prst="rect">
            <a:avLst/>
          </a:prstGeom>
          <a:solidFill>
            <a:srgbClr val="ccffc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ただしインターネット上で２～４を公開する場合、別途許諾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要なる場合が多い。特に私的利用や図書館のコピー物は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許諾が必要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物の引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著作物の引用は、下記の範囲であれば認められてい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許諾を必要とする場合も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財産権を犯さない範囲というのが前提で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4653000"/>
          <a:ext cx="8229600" cy="1646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従関係を明確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出典を明らか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文と引用部分がわかるよう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湯浅　聖記</cp:lastModifiedBy>
  <dcterms:modified xsi:type="dcterms:W3CDTF">2006-01-09T12:32:44Z</dcterms:modified>
  <cp:revision>90</cp:revision>
  <dc:subject/>
  <dc:title>ネットワーク社会の 情報倫理</dc:title>
</cp:coreProperties>
</file>