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776C-A5E4-4983-9ED3-D8222DE4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9E78-D73C-429A-833D-962ADF04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1A8D-AAAD-4F34-B782-AD24C4EA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47E4-9380-4270-8AA2-6DDCD160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390B-E842-41C6-AB24-D69C0DB7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7936-410D-472F-BCB4-170C9390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4FE1-C76B-415D-BF30-F5F8E6F0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7E1C-0B22-4469-9A75-F94150B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1971-CFDA-4369-A449-C7DCC3BB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021D-55BF-4695-999E-868A2DC2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8FCA-4D93-473B-8CB3-AB4A188D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2BF3-3B14-4A28-A075-A1F9362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FCE0-F3E0-45D8-BD35-B3484C9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8B10-86E4-4219-8CA0-05E6543F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1A87-3B62-4947-8286-FC421892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A384-58D4-450C-97BE-D831D58B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091E-03D2-483B-AA1A-7C763633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804E-7576-4DE8-818F-1C799BE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5E40-8B93-44BD-B9F5-B6AAED9E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98395-1FC4-49F7-A653-129420AF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92CB-CD90-4DB4-96BF-8B738023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B8E9-9E72-438B-AA83-046D4FB9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0155-DB4C-401A-A837-352F1DC3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A50E-6396-46E7-9E31-E54047F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0C06-DED7-4759-AC88-FC7071C35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E37F-B186-4C1A-9563-6DF2CA0A5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hoo.co.jp/" TargetMode="External"/><Relationship Id="rId2" Type="http://schemas.openxmlformats.org/officeDocument/2006/relationships/hyperlink" Target="http://www.google.co.jp/" TargetMode="External"/><Relationship Id="rId3" Type="http://schemas.openxmlformats.org/officeDocument/2006/relationships/hyperlink" Target="http://www.goo.ne.jp/" TargetMode="External"/><Relationship Id="rId4" Type="http://schemas.openxmlformats.org/officeDocument/2006/relationships/hyperlink" Target="http://www.infoseek.co.jp/" TargetMode="External"/><Relationship Id="rId5" Type="http://schemas.openxmlformats.org/officeDocument/2006/relationships/hyperlink" Target="http://www.wodge.bi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ネットサービスとその仕組み（前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21080" cy="33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90760" y="55166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47520" y="5516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16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yahoo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oogle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oo.ne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フォシ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infoseek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索サイ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odge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0560" y="15573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上にあ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の情報を探し出す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でポータルサイトとも呼ばれ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その他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ページ（ホームペー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頃盛ん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ちゃんね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最大の電子掲示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ェブロ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芸能人や野球選手、企業などが情報提供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転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0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47880" cy="2981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63880" y="2349360"/>
            <a:ext cx="246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バに保存する形式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利用する。ほかの人にサー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紹介しダウンロードしてもら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598920" cy="43308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ファイル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076640"/>
            <a:ext cx="3598920" cy="43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よるファイル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0560" y="4659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クライアント同士で直接通信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共有しあう方式で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インターネットで提供されるサービ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、チャット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話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楽と映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楽配信、ビデオオンデマンド、ライブ映像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子商取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ショッピング、ネットオークション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を支える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90852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038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サーバ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47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ーバ利用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486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提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4290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431640" cy="1297080"/>
          </a:xfrm>
          <a:prstGeom prst="upArrow">
            <a:avLst>
              <a:gd name="adj1" fmla="val 50000"/>
              <a:gd name="adj2" fmla="val 751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なインターネットサー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 電子メール送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電子メール受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提供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名前解決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･ ファイル転送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レス自動割付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バとクライアントの関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205000"/>
            <a:ext cx="1511280" cy="2592360"/>
            <a:chOff x="900000" y="2205000"/>
            <a:chExt cx="1511280" cy="2592360"/>
          </a:xfrm>
        </p:grpSpPr>
        <p:sp>
          <p:nvSpPr>
            <p:cNvPr id="122" name=""/>
            <p:cNvSpPr/>
            <p:nvPr/>
          </p:nvSpPr>
          <p:spPr>
            <a:xfrm>
              <a:off x="900000" y="220500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2852640"/>
              <a:ext cx="1511280" cy="64800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50208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414972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372360" y="3068640"/>
            <a:ext cx="2015640" cy="1728720"/>
            <a:chOff x="6372360" y="3068640"/>
            <a:chExt cx="2015640" cy="1728720"/>
          </a:xfrm>
        </p:grpSpPr>
        <p:sp>
          <p:nvSpPr>
            <p:cNvPr id="127" name=""/>
            <p:cNvSpPr/>
            <p:nvPr/>
          </p:nvSpPr>
          <p:spPr>
            <a:xfrm>
              <a:off x="6372360" y="306864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ールソフ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364500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ブラウ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2360" y="4221360"/>
              <a:ext cx="2015640" cy="57600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クライア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4797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249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8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80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88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1240" y="3286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416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56000" y="2637000"/>
            <a:ext cx="29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3212640"/>
            <a:ext cx="28814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860640"/>
            <a:ext cx="280836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4510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1840" y="177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3624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クライア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5120" y="5373720"/>
            <a:ext cx="666720" cy="4597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は、番号でソフトウェアを認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25780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30600" y="4724280"/>
            <a:ext cx="29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c@japan-u.ac.j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2640" y="472428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cd@usa-u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3760" y="1557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や画像などを相手の電子メールアドレスを管理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に送信するサービスを電子メールと呼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7840" y="3213000"/>
            <a:ext cx="12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8920" y="32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を利用した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マガジ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録することで趣味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ある情報を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発行会社が送って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仲間同士でメールを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する際に利用するメール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ビス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953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457440" cy="167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048720" cy="31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84040" y="1557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をはじめ、画像や音声、動画などさまざまな情報を文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して提供するサービスである。情報検索を行うサービス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ありインターネットの標準的サービスとも言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ブラウザ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ウザ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Uniform Resource Locat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48640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聖記</cp:lastModifiedBy>
  <dcterms:modified xsi:type="dcterms:W3CDTF">2006-01-09T07:57:42Z</dcterms:modified>
  <cp:revision>82</cp:revision>
  <dc:subject/>
  <dc:title>ネットワーク社会の 情報倫理</dc:title>
</cp:coreProperties>
</file>