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C8177-BD6D-4E97-97FB-BD063619A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D95DB-E9A7-42D6-93D1-A36CEF3B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C7FB8-6CD3-42ED-B845-E769A439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0AE3F-4CCD-4B6B-977A-E75C9E58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3835-5EA2-4662-AEAA-67DD9A44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BABD-B82A-48CC-8E27-FD40DF43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1363-706D-48BC-BD83-B0B39075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2C0A-F6B5-457F-984E-899CFCD9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D8E0-5688-4AD4-AA52-C36C8943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A05B-CC96-4528-900C-ACF55401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3A74-E8E6-4C13-9175-B5E15A3C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6ADBD-4A6F-4178-8114-096A0301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17BE-1652-4381-8596-E7400A49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8C8F-DF56-452B-805E-ECEDAF0E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7FE8-FB8C-4814-A93B-F9A56468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ED5D-FA74-4A96-A3D5-816C5B373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ACDB-247C-4858-927D-A64A79721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FCC08-F76F-4F9E-A934-E9157939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4071C-3AB7-4124-B5A4-23EC0F90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AE579-B3F1-42D7-AD5A-DD97A9B3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38457-B321-469A-974F-8DE1AEF1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4751E-BCF0-4C54-9DBC-0D147083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327F7-C31F-4E49-9794-EACE7DA2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3F9FD-EE87-476F-9BB6-0832284B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82CA-7A9F-4EE2-8B91-797DC3F9C6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03C7-DF8E-4F2B-AE63-EC456A8FF5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と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メディアリテラシー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ネットワーク社会と情報化社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メディアリテラシーに関する問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人の著作物を公開すると訴訟問題にな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キャラクタが似ていると非難の対象にな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誹謗中傷も批判の対象にな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個人情報を掲載するといたずらされる可能性があ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71640" y="1341360"/>
            <a:ext cx="7488000" cy="4103640"/>
          </a:xfrm>
          <a:prstGeom prst="rect">
            <a:avLst/>
          </a:prstGeom>
          <a:solidFill>
            <a:srgbClr val="ccffcc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メディア・リテラシーの能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566100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他人に同感や批判を繰り返すことで、メディアリテラシーが身につ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35280" y="292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情報発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76360" y="2060640"/>
            <a:ext cx="2232000" cy="1224000"/>
          </a:xfrm>
          <a:prstGeom prst="ellipse">
            <a:avLst/>
          </a:prstGeom>
          <a:solidFill>
            <a:srgbClr val="9999ff">
              <a:alpha val="6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個人の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ペー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413000"/>
            <a:ext cx="2232000" cy="1224000"/>
          </a:xfrm>
          <a:prstGeom prst="ellipse">
            <a:avLst/>
          </a:prstGeom>
          <a:solidFill>
            <a:srgbClr val="9999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ブロ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51640" y="2060640"/>
            <a:ext cx="2232000" cy="1224000"/>
          </a:xfrm>
          <a:prstGeom prst="ellipse">
            <a:avLst/>
          </a:prstGeom>
          <a:solidFill>
            <a:srgbClr val="9999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学級新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76360" y="3429000"/>
            <a:ext cx="2232000" cy="1224000"/>
          </a:xfrm>
          <a:prstGeom prst="ellipse">
            <a:avLst/>
          </a:prstGeom>
          <a:solidFill>
            <a:srgbClr val="99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電子メ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51640" y="3429000"/>
            <a:ext cx="2232000" cy="1224000"/>
          </a:xfrm>
          <a:prstGeom prst="ellipse">
            <a:avLst/>
          </a:prstGeom>
          <a:solidFill>
            <a:srgbClr val="9999ff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チャッ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4076640"/>
            <a:ext cx="2232000" cy="1224000"/>
          </a:xfrm>
          <a:prstGeom prst="ellipse">
            <a:avLst/>
          </a:prstGeom>
          <a:solidFill>
            <a:srgbClr val="9999ff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インスタント・メッセンジ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システムの脅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外部からの不正アクセ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内部からの不正アクセ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ピュータウィル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操作ミスや処理ミ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偶発的に起こる事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59200" y="19162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システムへ悪影響を与える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93160" y="1916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災と人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1989000"/>
            <a:ext cx="1152360" cy="36036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インターネットセキュリテ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ウィルス対策を取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サーバのアクセス権の設定を厳密に行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ユーザ認証をしっかり行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セキュリティホールを埋め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バックアップ体制の作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ファイアウォールの導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セキュリティポリシーの策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危機管理体制の策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26920" y="1413000"/>
            <a:ext cx="7705800" cy="3168360"/>
          </a:xfrm>
          <a:prstGeom prst="rect">
            <a:avLst/>
          </a:prstGeom>
          <a:solidFill>
            <a:srgbClr val="c0c0c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情報倫理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42920" y="3141720"/>
            <a:ext cx="3095640" cy="1297080"/>
          </a:xfrm>
          <a:prstGeom prst="ellipse">
            <a:avLst/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セキュリティ対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48360" y="3141720"/>
            <a:ext cx="3095640" cy="1297080"/>
          </a:xfrm>
          <a:prstGeom prst="ellipse">
            <a:avLst/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メディア・リテラシ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32000" y="1628640"/>
            <a:ext cx="3095640" cy="1297080"/>
          </a:xfrm>
          <a:prstGeom prst="ellipse">
            <a:avLst/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ルールとマナ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87640" y="5373720"/>
            <a:ext cx="3600360" cy="719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67f"/>
                </a:solidFill>
                <a:latin typeface="Times New Roman"/>
              </a:rPr>
              <a:t>情報倫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84720" y="4653000"/>
            <a:ext cx="86364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ネットワーク社会で求められる能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55680" y="3573360"/>
            <a:ext cx="522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067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67f"/>
                </a:solidFill>
                <a:latin typeface="Times New Roman"/>
              </a:rPr>
              <a:t>ネットワーク社会でのルールとマナ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3067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67f"/>
                </a:solidFill>
                <a:latin typeface="Times New Roman"/>
              </a:rPr>
              <a:t>メディアリテラシ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3067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67f"/>
                </a:solidFill>
                <a:latin typeface="Times New Roman"/>
              </a:rPr>
              <a:t>セキュリティ対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2205000"/>
            <a:ext cx="792180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ネットワーク社会で生き抜くためには次の３つが重要であ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ネットワーク社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2386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携帯電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ピュー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テレ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家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カーナ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な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3284640"/>
            <a:ext cx="1800000" cy="863640"/>
          </a:xfrm>
          <a:prstGeom prst="rightArrow">
            <a:avLst>
              <a:gd name="adj1" fmla="val 50000"/>
              <a:gd name="adj2" fmla="val 5210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ネット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2276640"/>
            <a:ext cx="4175280" cy="2952720"/>
          </a:xfrm>
          <a:prstGeom prst="ellipse">
            <a:avLst/>
          </a:prstGeom>
          <a:solidFill>
            <a:srgbClr val="9999f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たなコミュニケーションの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788000" y="1628640"/>
            <a:ext cx="3887640" cy="3240360"/>
          </a:xfrm>
          <a:prstGeom prst="rect">
            <a:avLst/>
          </a:prstGeom>
          <a:solidFill>
            <a:srgbClr val="339966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5157720"/>
            <a:ext cx="8424720" cy="1511280"/>
          </a:xfrm>
          <a:prstGeom prst="rect">
            <a:avLst/>
          </a:prstGeom>
          <a:solidFill>
            <a:srgbClr val="9999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ユビキタス環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249800" cy="3273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056200" y="156204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18446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「ユビキタス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3715920"/>
            <a:ext cx="41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古いラテン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「どこにでもある」の意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88000" y="2781360"/>
            <a:ext cx="432000" cy="649080"/>
          </a:xfrm>
          <a:prstGeom prst="downArrow">
            <a:avLst>
              <a:gd name="adj1" fmla="val 50000"/>
              <a:gd name="adj2" fmla="val 3756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87840" y="480204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6093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「いつでも」「どこでも」「なんでも」接続できる環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33760" y="51372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ユビキタス環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1640" y="5734080"/>
            <a:ext cx="576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ネットワーク社会のルールとマナ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3992400"/>
            <a:ext cx="82296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多くの管理者の善意によって維持、更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に迷惑や不安がらせるような行為を行わないこ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何より相手に対する思いやりが重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危険なところや怪しいところには行かないこ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048720" cy="2367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インターネットの問題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手軽に色々な情報検索が可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アダルトサイトや自殺幇助のサイトに手軽に接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違法サイトや違法取引場に引き込まれ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個人情報流出の舞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悪意のあるユーザが存在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善意のユーザにもウィルスが届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正侵入を試みるユーザがい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インターネット・セキュリテ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ユー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とパスワードの不正取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ピュータウィル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システムへの不正侵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システムダウ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情報漏洩対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情報の改ざ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信内容の盗聴・傍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564000" y="1700280"/>
            <a:ext cx="5184720" cy="3024000"/>
          </a:xfrm>
          <a:prstGeom prst="rect">
            <a:avLst/>
          </a:prstGeom>
          <a:solidFill>
            <a:srgbClr val="9999f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メディアリテラシ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76880" y="1989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インターネ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4000" y="2637000"/>
            <a:ext cx="2520720" cy="1655640"/>
          </a:xfrm>
          <a:prstGeom prst="ellipse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マイナスの要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56360" y="2637000"/>
            <a:ext cx="2519280" cy="1655640"/>
          </a:xfrm>
          <a:prstGeom prst="ellipse">
            <a:avLst/>
          </a:prstGeom>
          <a:solidFill>
            <a:srgbClr val="0080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プラスの要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57400" y="4076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共存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12800" y="4869000"/>
            <a:ext cx="34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善悪の判断と情報の信憑性の判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35280" y="5373720"/>
            <a:ext cx="136836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4000" y="6021360"/>
            <a:ext cx="4608720" cy="576360"/>
          </a:xfrm>
          <a:prstGeom prst="rect">
            <a:avLst/>
          </a:prstGeom>
          <a:solidFill>
            <a:srgbClr val="9999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067f"/>
                </a:solidFill>
                <a:latin typeface="Times New Roman"/>
              </a:rPr>
              <a:t>メディア・リテラシ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168720" cy="3049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87280" y="1989000"/>
            <a:ext cx="6697800" cy="3095640"/>
          </a:xfrm>
          <a:prstGeom prst="rect">
            <a:avLst/>
          </a:prstGeom>
          <a:solidFill>
            <a:srgbClr val="33cccc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メディア・リテラシー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86040" y="1484280"/>
            <a:ext cx="195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メディア・リテラシー ＝ 「メディア」 ＋ 「リテラシー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85640" y="1989000"/>
            <a:ext cx="2100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新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雑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テレ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ラジ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インターネットな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79960" y="429264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831b"/>
                </a:solidFill>
                <a:latin typeface="Times New Roman"/>
              </a:rPr>
              <a:t>「読み取る能力」と「書く能力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24880" y="616572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信憑性が高く、信頼性のある「情報」を探し出す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35960" y="2852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メディ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20200" y="4221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831b"/>
                </a:solidFill>
                <a:latin typeface="Times New Roman"/>
              </a:rPr>
              <a:t>リテラシ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79360" y="5229360"/>
            <a:ext cx="72180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メディア・リテラシー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87640" y="2133720"/>
            <a:ext cx="647640" cy="1944720"/>
          </a:xfrm>
          <a:custGeom>
            <a:avLst/>
            <a:gdLst>
              <a:gd name="textAreaLeft" fmla="*/ 414000 w 647640"/>
              <a:gd name="textAreaRight" fmla="*/ 648000 w 6476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5805360"/>
            <a:ext cx="86508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メディア・リテラシーを身につけ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ページの閲覧だけでは身につか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友人間だけの電子メールのみでも身につか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43720" y="465300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情報の信憑性を誰かに投げかけ真意を得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35280" y="3716280"/>
            <a:ext cx="151128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3:21:39Z</dcterms:created>
  <dc:creator>湯浅　聖記</dc:creator>
  <dc:description/>
  <dc:language>en-US</dc:language>
  <cp:lastModifiedBy>T.Yamazumi</cp:lastModifiedBy>
  <dcterms:modified xsi:type="dcterms:W3CDTF">2006-04-07T02:46:39Z</dcterms:modified>
  <cp:revision>11</cp:revision>
  <dc:subject/>
  <dc:title>情報倫理とメディアリテラシー</dc:title>
</cp:coreProperties>
</file>