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ADED9-FACD-4E9F-874A-2D94ED34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D7DF-BCFA-4BE1-89DF-32988A5E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405E7-58D8-43B0-91AE-11044847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3068-9FD0-42B0-A377-EDEAC267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9238-4B1F-45D7-B8B1-B05A97AD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A542-156D-44C0-9BA3-BABFE5FE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19F7-0053-4FAD-8E78-371D593E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C401-2379-4FF3-B254-219DE5EE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579B-402D-44AA-9EA7-2811B61B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55A2-F5B2-4B6A-BB49-0F9C579E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259A-5FB1-4D9E-ACDA-2DC4A82D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7084-7E43-410B-B0D0-0FBFBBC8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BF72-F87F-4E0F-B64C-F8B93C81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B2D5-AF07-4AFD-AC37-A37143D6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4637-96B8-4F33-84BB-B7A8AE90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8ADA-619A-4F98-89A6-B1F69469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29BF-5FA3-40BB-9166-D1A435A3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BB9E-2BE0-4018-9265-5DA50C29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5930E-0951-4D4A-9BB1-A24CF7CB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45988-E839-4D0D-AFC1-DFFB4F9F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347D3-BE15-4E30-A40E-B102B6F2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90527-CC44-494E-8CA5-3C65F9EB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39C3E-A65D-4847-A173-E579BF89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53C2-A4DE-434B-8D1D-53512D83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897F-EEF4-43EF-B32F-3FD5F9A68A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9FA1-356E-4977-B228-B69F4B8EF3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９　公序良俗に反する情報公開・違法販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537080" cy="2016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924280"/>
            <a:ext cx="503280" cy="649080"/>
          </a:xfrm>
          <a:custGeom>
            <a:avLst/>
            <a:gdLst>
              <a:gd name="textAreaLeft" fmla="*/ 0 w 503280"/>
              <a:gd name="textAreaRight" fmla="*/ 503640 w 5032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０　自殺サイ 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384720" cy="1152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方法を公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仲間を募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1844640"/>
            <a:ext cx="3671640" cy="116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集団自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車で練炭を炊き中毒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205000"/>
            <a:ext cx="792000" cy="504720"/>
          </a:xfrm>
          <a:custGeom>
            <a:avLst/>
            <a:gdLst>
              <a:gd name="textAreaLeft" fmla="*/ 0 w 792000"/>
              <a:gd name="textAreaRight" fmla="*/ 792360 w 79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3573360"/>
            <a:ext cx="3743280" cy="1079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ほう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3573360"/>
            <a:ext cx="3744720" cy="108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言論・表現の自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3716280"/>
            <a:ext cx="865080" cy="792360"/>
          </a:xfrm>
          <a:prstGeom prst="leftRightArrow">
            <a:avLst>
              <a:gd name="adj1" fmla="val 50000"/>
              <a:gd name="adj2" fmla="val 2173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869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サイトを公開することの是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6021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分１人で悩まず、相談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5445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者を装った殺人事件も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電子メールを利用した犯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5640" y="4508280"/>
            <a:ext cx="4043160" cy="18795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スパム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マ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によるいじ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371628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989000"/>
            <a:ext cx="5616360" cy="158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電子メール　→　高い利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コンピュータ・携帯電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スパムメール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640" y="1699920"/>
            <a:ext cx="2880000" cy="136836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広告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差別に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ドレスを生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57720"/>
            <a:ext cx="3457440" cy="122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特定電子メール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改訂特定商取引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157720"/>
            <a:ext cx="3889440" cy="1224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スパム配信の取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未承諾広告の明示義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4581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3933720"/>
            <a:ext cx="4575240" cy="2374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己防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フィルタリング機能の活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長めのアドレス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（記号も含め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467160" cy="229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マ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2060640"/>
            <a:ext cx="2735280" cy="1871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事実無根の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たず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やがら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脅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365720"/>
            <a:ext cx="410364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365720"/>
            <a:ext cx="381636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3959280" cy="2898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5877000"/>
            <a:ext cx="410544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振り回されず、削除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877000"/>
            <a:ext cx="381636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警察等へ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メールによるいじ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18920" y="2997360"/>
            <a:ext cx="5915160" cy="130320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メートの悪口・中傷を書き込み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カメラ付の携帯で撮影した写真を添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によるストーカー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1844640"/>
            <a:ext cx="345780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学生が携帯を所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844640"/>
            <a:ext cx="2954520" cy="792360"/>
          </a:xfrm>
          <a:prstGeom prst="rect">
            <a:avLst/>
          </a:prstGeom>
          <a:solidFill>
            <a:srgbClr val="9999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いじめ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22766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6021360"/>
            <a:ext cx="5977080" cy="6476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被害が広まる前に、早急に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4508640"/>
            <a:ext cx="1800000" cy="129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4581360"/>
            <a:ext cx="3527280" cy="1152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はすぐに広ま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人に大きなダ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登校や自殺の原因に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誹謗中傷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5832360" cy="23763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チャット・掲示板で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が見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ゲーム感覚で無責任に書き込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は一瞬で広ま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情報が暴走し、２次的、３次的被害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497800" cy="11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：他人の悪口をいうこと、そし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傷：無根拠のことをいって、名誉を傷つけ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771640" cy="2590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5950080"/>
            <a:ext cx="583236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まず、相手の気持ちになって、思いやり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5445000"/>
            <a:ext cx="1800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7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誹謗中傷に発展するケー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88000" y="2852640"/>
            <a:ext cx="3960720" cy="936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情的になり、口論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をおいて冷静に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299736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互いの意見が衝突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4149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個人情報を書き込まれ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3860640"/>
            <a:ext cx="3960720" cy="1224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掲載内容やメールを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管理者に削除を依頼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バイダ責任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373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業や団体に対する中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5157720"/>
            <a:ext cx="3960720" cy="1295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企業の名誉毀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業務妨害が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証拠を保存し警察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3068640"/>
            <a:ext cx="649440" cy="431640"/>
          </a:xfrm>
          <a:custGeom>
            <a:avLst/>
            <a:gdLst>
              <a:gd name="textAreaLeft" fmla="*/ 0 w 649440"/>
              <a:gd name="textAreaRight" fmla="*/ 649800 w 6494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221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5445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060640"/>
            <a:ext cx="288000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206064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アクセス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3280" y="3284640"/>
            <a:ext cx="6121440" cy="1728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人に送信されたメールを盗み見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破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バイダのサービスを不正利用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踏み台にして、別の犯罪を犯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700280"/>
            <a:ext cx="7416720" cy="72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2637000"/>
            <a:ext cx="3457800" cy="576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5157720"/>
            <a:ext cx="302436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73408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他人のアカウントによるアクセスはすべて犯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623736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いたずら目的でも処罰対象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5734080"/>
            <a:ext cx="71280" cy="934920"/>
          </a:xfrm>
          <a:custGeom>
            <a:avLst/>
            <a:gdLst>
              <a:gd name="textAreaLeft" fmla="*/ 20880 w 71280"/>
              <a:gd name="textAreaRight" fmla="*/ 71640 w 71280"/>
              <a:gd name="textAreaTop" fmla="*/ 38880 h 934920"/>
              <a:gd name="textAreaBottom" fmla="*/ 89604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アカウント盗用の防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12764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2924280"/>
            <a:ext cx="3097440" cy="1015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処罰対象と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2997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ID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ワードなどを故意に漏ら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50028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アカウントを他人に貸し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3284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4076640"/>
            <a:ext cx="475308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管理者を装いパスワードを聞き出す（ソーシャルエンジニア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4292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4076640"/>
            <a:ext cx="3097440" cy="45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切応じず、プロバイダに届け出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5229360"/>
            <a:ext cx="6192720" cy="12524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文字と小文字に数字や記号を混ぜた長い文字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単語、地名、人名などをそのまま単独で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情報（誕生日など）と無関係なもの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522936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図書情報センター</cp:lastModifiedBy>
  <dcterms:modified xsi:type="dcterms:W3CDTF">2005-12-09T01:29:07Z</dcterms:modified>
  <cp:revision>57</cp:revision>
  <dc:subject/>
  <dc:title>ネットワーク社会の情報倫理</dc:title>
</cp:coreProperties>
</file>