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DFE2-BA33-4FF3-A6B0-24A74799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A99F-3DEF-4E7B-B25E-4B1AFCDD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66F0-39C2-4B03-B1F8-D711662A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07BF-8A0C-4CB9-8E60-707E9214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23D8-DFD5-4284-92BA-18AE3DC5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2AFE-7BB9-4F35-8E28-AE3FBEBA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F957-60AB-4504-82EC-9F387637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D36B-0F6E-4BF7-9A50-62DA50CE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DB32-66F4-4701-947D-1FB86E17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BBFE-74BE-4AB7-94AC-9B3C84CF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557E-D711-4840-93BC-960C47E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8F24-5F08-4CB2-893E-896A5C4D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0A7D-B45B-46F4-9380-C087367D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A863-8984-4EDB-BD6E-83A72DCD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BBD9-3FC6-441B-8EA1-D4B45FA0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ADE-D976-4241-B048-2B659384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2A6A-F95B-440E-8AA0-ED9C6372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88EE1-8C4A-44A6-80D6-5DFAA6FC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9734-6C49-45F8-8FC5-76FE71B4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52068-89F7-49FE-95A9-DC4C6B69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4BE6-75BA-4DE4-84A1-2081B7FC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AF536-17A1-4849-9C6B-D964E85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0EFF-5E82-4960-9CA3-03B92312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53F2-1394-4ACA-9BC9-B456C483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2ECA-2FC9-425E-A09F-8B0A0B9F9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87ED-B123-4FFC-86E7-68FADC1A2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ジタル署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653000"/>
            <a:ext cx="934920" cy="936720"/>
          </a:xfrm>
          <a:prstGeom prst="upArrowCallout">
            <a:avLst>
              <a:gd name="adj1" fmla="val 25002"/>
              <a:gd name="adj2" fmla="val 25000"/>
              <a:gd name="adj3" fmla="val 16699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734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1700280"/>
            <a:ext cx="734400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開鍵暗号方式の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号化できるのは、秘密鍵を持つ本人が暗号化したときの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相手の公開鍵で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05000"/>
            <a:ext cx="7127640" cy="223776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482436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5073480"/>
            <a:ext cx="3744720" cy="156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11280" y="4581360"/>
            <a:ext cx="374472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で表示される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581360"/>
            <a:ext cx="38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サイトで表示されるアイコ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0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232360" cy="123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56360" y="6165720"/>
            <a:ext cx="360360" cy="3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516720" y="587664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557360"/>
            <a:ext cx="640872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Electronic Transaction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0500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決済をインターネット上で安全に行う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1304640" cy="90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5364000" y="5157360"/>
            <a:ext cx="1440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6093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6165720"/>
            <a:ext cx="215928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165720"/>
            <a:ext cx="208764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221000"/>
            <a:ext cx="122400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1628640"/>
            <a:ext cx="468144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Good Privac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227664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電子メールを暗号化する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472428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544500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GP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国際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が開発され、フリーウェアとして配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292640"/>
            <a:ext cx="23763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G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国際版の配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616572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08464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80536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セキュリティポリシ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2205000"/>
            <a:ext cx="4248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セキュリティポリシーの立案・策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628640"/>
            <a:ext cx="626436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全体に対するセキュリティの基盤となるガイドライ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637000"/>
            <a:ext cx="489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357720"/>
            <a:ext cx="3816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ネットワーク機器の選定・構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789360"/>
            <a:ext cx="554328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4508640"/>
            <a:ext cx="4176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．セキュリティポリシーの運用・実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941720"/>
            <a:ext cx="7127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165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・改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5805360"/>
            <a:ext cx="633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6362640"/>
            <a:ext cx="77040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記の４段階を繰り返しながら運用し、情報社会の変化に対応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.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パーソナル機のバックアッ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421000"/>
            <a:ext cx="237636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00280"/>
            <a:ext cx="40320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メディアへ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6280"/>
            <a:ext cx="5111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ハードディスクのデータ・システム全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79668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7640" y="2276640"/>
            <a:ext cx="1225440" cy="201600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076640"/>
            <a:ext cx="3382920" cy="862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ダメージを最小限にとどめ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旧を早くす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734080"/>
            <a:ext cx="7056720" cy="862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157720"/>
            <a:ext cx="295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バックアップ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616480" cy="185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サーバ機のバックア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機の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421000"/>
            <a:ext cx="187164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37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D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磁気テ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844640"/>
            <a:ext cx="28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ミラー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1700280"/>
            <a:ext cx="1008000" cy="792000"/>
          </a:xfrm>
          <a:prstGeom prst="rightArrow">
            <a:avLst>
              <a:gd name="adj1" fmla="val 50000"/>
              <a:gd name="adj2" fmla="val 31818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565360"/>
            <a:ext cx="3781440" cy="13262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書き込みが同時に行わ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407664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65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869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6165720"/>
            <a:ext cx="172872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16572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1280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891000">
            <a:off x="2916000" y="5373360"/>
            <a:ext cx="1403280" cy="107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72428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92720" y="3500280"/>
            <a:ext cx="3529080" cy="273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3528720" cy="2665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通常のファイル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525600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ファイルのコピー、移動、消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フォルダの作成、ファイルをまと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外部メディアとデータをやり取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．フォルダのカテゴリ別分類、階層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ile"/>
          <p:cNvSpPr/>
          <p:nvPr/>
        </p:nvSpPr>
        <p:spPr>
          <a:xfrm>
            <a:off x="6012000" y="3645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ile"/>
          <p:cNvSpPr/>
          <p:nvPr/>
        </p:nvSpPr>
        <p:spPr>
          <a:xfrm>
            <a:off x="6012000" y="4292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1547640" y="5013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971640" y="508464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le"/>
          <p:cNvSpPr/>
          <p:nvPr/>
        </p:nvSpPr>
        <p:spPr>
          <a:xfrm>
            <a:off x="2700360" y="422100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ile"/>
          <p:cNvSpPr/>
          <p:nvPr/>
        </p:nvSpPr>
        <p:spPr>
          <a:xfrm>
            <a:off x="1547640" y="371628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2556000" y="5300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1042920" y="4005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le"/>
          <p:cNvSpPr/>
          <p:nvPr/>
        </p:nvSpPr>
        <p:spPr>
          <a:xfrm>
            <a:off x="7667640" y="378936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le"/>
          <p:cNvSpPr/>
          <p:nvPr/>
        </p:nvSpPr>
        <p:spPr>
          <a:xfrm>
            <a:off x="7667640" y="414972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ile"/>
          <p:cNvSpPr/>
          <p:nvPr/>
        </p:nvSpPr>
        <p:spPr>
          <a:xfrm>
            <a:off x="7667640" y="486900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ile"/>
          <p:cNvSpPr/>
          <p:nvPr/>
        </p:nvSpPr>
        <p:spPr>
          <a:xfrm>
            <a:off x="7667640" y="450864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ile"/>
          <p:cNvSpPr/>
          <p:nvPr/>
        </p:nvSpPr>
        <p:spPr>
          <a:xfrm>
            <a:off x="7667640" y="558972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ile"/>
          <p:cNvSpPr/>
          <p:nvPr/>
        </p:nvSpPr>
        <p:spPr>
          <a:xfrm>
            <a:off x="7667640" y="522936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ile"/>
          <p:cNvSpPr/>
          <p:nvPr/>
        </p:nvSpPr>
        <p:spPr>
          <a:xfrm>
            <a:off x="1979640" y="494172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ile"/>
          <p:cNvSpPr/>
          <p:nvPr/>
        </p:nvSpPr>
        <p:spPr>
          <a:xfrm>
            <a:off x="2771640" y="3789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ile"/>
          <p:cNvSpPr/>
          <p:nvPr/>
        </p:nvSpPr>
        <p:spPr>
          <a:xfrm>
            <a:off x="3059280" y="4149720"/>
            <a:ext cx="86328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le"/>
          <p:cNvSpPr/>
          <p:nvPr/>
        </p:nvSpPr>
        <p:spPr>
          <a:xfrm>
            <a:off x="2340000" y="4653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le"/>
          <p:cNvSpPr/>
          <p:nvPr/>
        </p:nvSpPr>
        <p:spPr>
          <a:xfrm>
            <a:off x="1403280" y="479736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50864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ile"/>
          <p:cNvSpPr/>
          <p:nvPr/>
        </p:nvSpPr>
        <p:spPr>
          <a:xfrm>
            <a:off x="6012000" y="537372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ile"/>
          <p:cNvSpPr/>
          <p:nvPr/>
        </p:nvSpPr>
        <p:spPr>
          <a:xfrm>
            <a:off x="7667640" y="595008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3933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08720" y="3933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308360" y="4292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308360" y="501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308360" y="5373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836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0872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08720" y="57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ddrive"/>
          <p:cNvSpPr/>
          <p:nvPr/>
        </p:nvSpPr>
        <p:spPr>
          <a:xfrm>
            <a:off x="6732720" y="1700280"/>
            <a:ext cx="1809720" cy="9046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276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4000" y="3357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64000" y="335772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227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840" y="6245280"/>
            <a:ext cx="4032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ォルダの整理ができていない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760" y="6284880"/>
            <a:ext cx="2735280" cy="398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テゴリ別分類・階層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通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暗号の仕組みを複数のユーザで共有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仕組みを知っていても、鍵がなければ解読困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鍵を安全に配送すること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941720"/>
            <a:ext cx="42483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ネットワーク暗号に必要な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105440" cy="21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276640"/>
            <a:ext cx="2160360" cy="8625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357720"/>
            <a:ext cx="2087280" cy="4597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の暗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844640"/>
            <a:ext cx="3313080" cy="398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上の脅威（攻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349360"/>
            <a:ext cx="792360" cy="935280"/>
          </a:xfrm>
          <a:prstGeom prst="downArrow">
            <a:avLst>
              <a:gd name="adj1" fmla="val 50000"/>
              <a:gd name="adj2" fmla="val 295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860640"/>
            <a:ext cx="3888000" cy="86256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信データを暗号化し隠蔽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暗号化・復号化には「鍵」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292640"/>
            <a:ext cx="1800360" cy="7855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隠蔽された文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暗号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48428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48428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の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換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773360"/>
            <a:ext cx="5329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　ＫＧＷＱＢ・・・ＣＲ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1773360"/>
            <a:ext cx="129708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1773360"/>
            <a:ext cx="5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141720"/>
            <a:ext cx="6985080" cy="84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上記の換字暗号では変換テーブルが共通の「鍵」と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転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292640"/>
            <a:ext cx="6121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589720"/>
            <a:ext cx="7056720" cy="86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共通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349360"/>
            <a:ext cx="7345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鍵暗号方式の代表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Ｄ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3080" y="4653000"/>
            <a:ext cx="936720" cy="9367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734080"/>
            <a:ext cx="338436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5400000">
            <a:off x="6190920" y="577008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30328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通鍵暗号：暗号化と復号化に共通の鍵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3080" y="4653000"/>
            <a:ext cx="1079280" cy="936720"/>
          </a:xfrm>
          <a:prstGeom prst="upArrowCallout">
            <a:avLst>
              <a:gd name="adj1" fmla="val 28807"/>
              <a:gd name="adj2" fmla="val 28805"/>
              <a:gd name="adj3" fmla="val 16667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4651200"/>
            <a:ext cx="1009440" cy="936720"/>
          </a:xfrm>
          <a:prstGeom prst="upArrowCallout">
            <a:avLst>
              <a:gd name="adj1" fmla="val 26943"/>
              <a:gd name="adj2" fmla="val 2694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77080" y="50133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860640"/>
            <a:ext cx="1584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送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44144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受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B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805360"/>
            <a:ext cx="3097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開鍵暗号：２本の鍵を生成し、そのうちの１本を公開（配布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ＲＳ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2349360"/>
            <a:ext cx="6769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公開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人の発案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5400000">
            <a:off x="6264000" y="584136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66364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の認証機関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3080" y="1628640"/>
            <a:ext cx="158436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657440" cy="1355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2082960"/>
            <a:ext cx="1733400" cy="134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2987280" y="256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17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292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285264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77336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65300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4941720"/>
            <a:ext cx="1295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700000" y="46530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4653000"/>
            <a:ext cx="10792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3789360"/>
            <a:ext cx="1440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認証機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149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609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7340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716280"/>
            <a:ext cx="18716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りすましを防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5-12-15T02:06:10Z</dcterms:modified>
  <cp:revision>96</cp:revision>
  <dc:subject/>
  <dc:title>ネットワーク社会の 情報倫理</dc:title>
</cp:coreProperties>
</file>