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92911-678E-4A7B-A84F-27A50A52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F4F5-5730-4A08-9A06-F66AC722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EED5-E098-4DEB-B718-36CE31FF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7CA8-3CB0-4E16-94D5-A9E5C931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2C3D-3C64-4ADE-9965-035DE4C6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B3BA-1960-4F01-85F4-2EC60315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20AC-2CCD-4BC3-AD28-D60EB046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DC1C-600A-4EB0-9DCF-7B0DD398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6082-C4A5-431F-9D6E-3BF4808F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634F-DB82-40B6-86FD-9811E6C0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1704-8CCC-46A9-B73A-561D851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551D-1F87-4473-A7CE-AF264514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AACE-FD58-4A61-95C1-96CDE7EB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7A0D-A8A7-45C8-ADD5-258F16B0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C759-C006-4D5A-9D99-021544A7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365D-D34D-4092-89D2-6300EBD6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D9D0-5E02-4C33-B720-CBF4FF3B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523F-E945-4D63-ADD3-58BEC9CB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34E6-055C-41F0-987C-034E17E8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2D15-C70F-488B-BBEA-D93CA5AE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ED5F-7BA3-41A4-B3AB-2FF0632A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21C5-745E-4B85-A3B9-E487CCC8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5A865-D8DE-4DF5-82A2-9094008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C1D0-876A-4879-9B78-0A5B06B8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6BC9-0FCE-4FA5-B596-7F285F4325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0997-103F-432B-95BF-7532ED56A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６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インターネットと法律（前編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557360"/>
            <a:ext cx="5688000" cy="468000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557360"/>
            <a:ext cx="2952720" cy="4680000"/>
          </a:xfrm>
          <a:prstGeom prst="rect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1484280"/>
            <a:ext cx="8856720" cy="52578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権（財産権と人格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357720"/>
            <a:ext cx="2089080" cy="431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表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916280"/>
            <a:ext cx="2089080" cy="431640"/>
          </a:xfrm>
          <a:prstGeom prst="rect">
            <a:avLst/>
          </a:prstGeom>
          <a:solidFill>
            <a:srgbClr val="ff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氏名表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637000"/>
            <a:ext cx="2089080" cy="43164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性保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2089440" cy="4316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複製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2089440" cy="43164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奏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21000"/>
            <a:ext cx="2089440" cy="4316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421000"/>
            <a:ext cx="2089440" cy="431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頒布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2089440" cy="432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映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221000"/>
            <a:ext cx="2089440" cy="432000"/>
          </a:xfrm>
          <a:prstGeom prst="rect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衆送信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941720"/>
            <a:ext cx="2089440" cy="432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述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997360"/>
            <a:ext cx="2089440" cy="431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997360"/>
            <a:ext cx="2089440" cy="431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案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869000"/>
            <a:ext cx="2089440" cy="431640"/>
          </a:xfrm>
          <a:prstGeom prst="rect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訳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5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財産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9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6237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両方合わせて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1000"/>
            <a:ext cx="2089440" cy="432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貸与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73360"/>
            <a:ext cx="2089440" cy="432000"/>
          </a:xfrm>
          <a:prstGeom prst="rect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16640"/>
            <a:ext cx="2089440" cy="43164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伝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社会の誕生に伴い、新たな法律の枠組みが必要とな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くは現実の民法や刑事法が支え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3284640"/>
            <a:ext cx="6049800" cy="3384360"/>
            <a:chOff x="1835280" y="3284640"/>
            <a:chExt cx="6049800" cy="3384360"/>
          </a:xfrm>
        </p:grpSpPr>
        <p:sp>
          <p:nvSpPr>
            <p:cNvPr id="111" name=""/>
            <p:cNvSpPr/>
            <p:nvPr/>
          </p:nvSpPr>
          <p:spPr>
            <a:xfrm>
              <a:off x="4140360" y="3284640"/>
              <a:ext cx="3744720" cy="3384360"/>
            </a:xfrm>
            <a:prstGeom prst="ellipse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ネットワーク社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3357360"/>
              <a:ext cx="4176720" cy="3311280"/>
            </a:xfrm>
            <a:prstGeom prst="ellipse">
              <a:avLst/>
            </a:prstGeom>
            <a:solidFill>
              <a:srgbClr val="ccffff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実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架空請求と迷惑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1989000"/>
            <a:ext cx="5329080" cy="2592360"/>
            <a:chOff x="1979640" y="1989000"/>
            <a:chExt cx="5329080" cy="2592360"/>
          </a:xfrm>
        </p:grpSpPr>
        <p:sp>
          <p:nvSpPr>
            <p:cNvPr id="116" name=""/>
            <p:cNvSpPr/>
            <p:nvPr/>
          </p:nvSpPr>
          <p:spPr>
            <a:xfrm>
              <a:off x="1979640" y="1989000"/>
              <a:ext cx="5329080" cy="2592360"/>
            </a:xfrm>
            <a:prstGeom prst="rect">
              <a:avLst/>
            </a:prstGeom>
            <a:solidFill>
              <a:srgbClr val="969696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340000">
              <a:off x="2411280" y="3139560"/>
              <a:ext cx="2089440" cy="431640"/>
            </a:xfrm>
            <a:prstGeom prst="rect">
              <a:avLst/>
            </a:prstGeom>
            <a:solidFill>
              <a:srgbClr val="ffff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架空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21800">
              <a:off x="4643280" y="2852280"/>
              <a:ext cx="2016000" cy="431640"/>
            </a:xfrm>
            <a:prstGeom prst="rect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額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56800">
              <a:off x="3419280" y="2636280"/>
              <a:ext cx="1871640" cy="432000"/>
            </a:xfrm>
            <a:prstGeom prst="rect">
              <a:avLst/>
            </a:prstGeom>
            <a:solidFill>
              <a:srgbClr val="00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迷惑メー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46800">
              <a:off x="3059280" y="3860280"/>
              <a:ext cx="1726920" cy="360360"/>
            </a:xfrm>
            <a:prstGeom prst="rect">
              <a:avLst/>
            </a:prstGeom>
            <a:solidFill>
              <a:srgbClr val="ff99cc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ワン切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909800">
              <a:off x="4930920" y="3573000"/>
              <a:ext cx="1800000" cy="360360"/>
            </a:xfrm>
            <a:prstGeom prst="rect">
              <a:avLst/>
            </a:prstGeom>
            <a:solidFill>
              <a:srgbClr val="99ccff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嫌がらせ電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224000" cy="119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941720"/>
            <a:ext cx="2952720" cy="1572120"/>
          </a:xfrm>
          <a:prstGeom prst="rect">
            <a:avLst/>
          </a:prstGeom>
          <a:solidFill>
            <a:srgbClr val="00ff00">
              <a:alpha val="44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消費者契約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息制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58972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2640" y="49417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裁判所の通達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らかに自分の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請求以外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視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開設時の法的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的財産権の侵害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誉毀損や部弱財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物の引用条件を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リンク（同一性の保持）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詐欺や虚偽行為がないか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の他宗教・民族・人種差別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政治問題も注意が必要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2680" y="1844640"/>
            <a:ext cx="5051520" cy="520560"/>
          </a:xfrm>
          <a:prstGeom prst="rect">
            <a:avLst/>
          </a:prstGeom>
          <a:solidFill>
            <a:srgbClr val="9999ff">
              <a:alpha val="32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7d"/>
                </a:solidFill>
                <a:latin typeface="Arial"/>
              </a:rPr>
              <a:t>ページは全世界の人から見られてい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56000" y="1773360"/>
            <a:ext cx="4608720" cy="295092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共有の法的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516640"/>
            <a:ext cx="1295640" cy="2887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4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ピ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ジタルコンテンツは簡単にコピーできてしま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0480" y="20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利用の範囲内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8400" y="306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以外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0440" y="378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著作権者の複製権の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88000" y="3141720"/>
            <a:ext cx="360360" cy="358560"/>
            <a:chOff x="4788000" y="3141720"/>
            <a:chExt cx="360360" cy="358560"/>
          </a:xfrm>
        </p:grpSpPr>
        <p:sp>
          <p:nvSpPr>
            <p:cNvPr id="141" name=""/>
            <p:cNvSpPr/>
            <p:nvPr/>
          </p:nvSpPr>
          <p:spPr>
            <a:xfrm flipV="1"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72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5373720"/>
            <a:ext cx="2009520" cy="82548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では「ファイル共有ソフト」自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性が問わ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著作権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8880" y="1844640"/>
            <a:ext cx="5301360" cy="520560"/>
          </a:xfrm>
          <a:prstGeom prst="rect">
            <a:avLst/>
          </a:prstGeom>
          <a:solidFill>
            <a:srgbClr val="cc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ターネット上の画像や文字は手軽にコピー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472360" cy="298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39400" y="5589720"/>
            <a:ext cx="5301360" cy="52056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権の侵害が起こりやすいという問題を含んで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708280"/>
          <a:ext cx="8497800" cy="3032280"/>
        </p:xfrm>
        <a:graphic>
          <a:graphicData uri="http://schemas.openxmlformats.org/drawingml/2006/table">
            <a:tbl>
              <a:tblPr/>
              <a:tblGrid>
                <a:gridCol w="2906640"/>
                <a:gridCol w="5591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論文、小説、脚本、詩歌、俳句、講演な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音楽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楽曲、楽曲を伴う歌詞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ログラム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ピュータ・プログラ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的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表の著作物（原著作物）を翻訳、編曲、変形、翻案し作成したも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編集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科事典、辞書、詩集などの編集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84800" y="5877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物には、上記の表のもの以外にも、舞踊やパントマイム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、データベースなど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2200" y="17733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著作物とは、著作人格者（個人・法人）が作り出した物や動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編集物などのものがある。具体的には下記のもの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作権者に許諾を必要としないも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管期間が過ぎている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私的利用の範囲内で、契約違反でない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図書館での非営利的なコピ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実のみを伝達する報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憲法や法令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3320" y="5229360"/>
            <a:ext cx="5118480" cy="119124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だしインターネット上で２～４を公開する場合、別途許諾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る場合が多い。特に私的利用や図書館のコピー物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許諾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の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物の引用は、下記の範囲であれば認めら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許諾を必要とする場合も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財産権を犯さない範囲というのが前提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4653000"/>
          <a:ext cx="8229600" cy="1646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従関係を明確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典を明らか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文と引用部分がわかるよう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　聖記</cp:lastModifiedBy>
  <dcterms:modified xsi:type="dcterms:W3CDTF">2006-01-09T12:32:44Z</dcterms:modified>
  <cp:revision>90</cp:revision>
  <dc:subject/>
  <dc:title>ネットワーク社会の 情報倫理</dc:title>
</cp:coreProperties>
</file>