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BD65-5A92-4832-BC13-9F318070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3C57-0F80-4254-918D-41E3C6DB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4037-92BB-4E23-86F2-11E27E67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3C6F-46A9-4157-9591-FCF64E39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B00C-672E-4906-89B7-CF5E6C11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7475-34F6-495F-BB93-48ACB567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D955-B0A0-4A69-B137-FC33D797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ED57-104A-42BD-920E-41BDFC1B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81D1-B671-4D0E-9B8D-7F7B3F8A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1D7D-1CAC-45F4-A287-073EE580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D07A-5761-4AF5-98FC-6F296F6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E3DEB-5A9C-4A22-960C-91938905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6EF9-B1B5-4E3B-A8E3-896A6A6C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F131-2692-44C1-A030-D181A868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4F80-587D-4A15-A7EC-144C9F11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68D8-B05D-447E-A1FF-FFFAA210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3B97-5C12-412E-AB49-0EF866D5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BFE5-157E-4146-84D4-47CFE0A5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168C-E1E7-427A-9818-1AB7132E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373B-C4A1-49DA-BFD7-12A9B94B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6D63-B05F-4C15-A3AD-52527712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0494-C6E1-469B-A110-17A7CAE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ADD3-2553-4FCD-8049-316A1D6C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0A6B-2C48-4189-A06A-0C4EB380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C3C9-C2FC-4950-A152-323905F2C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F41-4CBF-485A-9C18-A1CEDB36B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ワン切りと不正請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924280"/>
            <a:ext cx="5040360" cy="45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かけ直すと自分の番号を知られ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388944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（番号通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31920" cy="2152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4005360"/>
            <a:ext cx="4248000" cy="1015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正請求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架空の有料サイトな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500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ワン切り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絶対に応じ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不正な請求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すべて無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メラ付き携帯による被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1844640"/>
            <a:ext cx="6048360" cy="1015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止画や動画の撮影機能が付いた携帯電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撮影機能を悪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924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29000"/>
            <a:ext cx="6337440" cy="14414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際相手に恥ずかしい写真を撮ら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を掲示板にアップロードされ中傷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被害は一瞬で広がるの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相手の気持ちを考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撮影機能を悪用し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ネット詐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63640" y="4581360"/>
            <a:ext cx="5400720" cy="1656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騙し取り＝ネット詐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ショ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オー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916280"/>
            <a:ext cx="6624720" cy="15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宅からインターネット上を介し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タログ通販やオークションを手軽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ショ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700280"/>
            <a:ext cx="352728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品の確認が困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924280"/>
            <a:ext cx="4824360" cy="581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支払い（振り込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700280"/>
            <a:ext cx="367200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画面で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14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3645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300640"/>
            <a:ext cx="295308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店舗の実績を確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300640"/>
            <a:ext cx="302436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取り引きの証拠を残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オークショ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919520"/>
            <a:ext cx="4321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古品を出品　→　落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3284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789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の趣味で収集した入手困難なも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2568960"/>
            <a:ext cx="2800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終的にユーザ同士の取り引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4797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盗品、毒薬、銃刀類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犯罪に巻き込まれ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3284640"/>
            <a:ext cx="73080" cy="2016000"/>
          </a:xfrm>
          <a:custGeom>
            <a:avLst/>
            <a:gdLst>
              <a:gd name="textAreaLeft" fmla="*/ 21240 w 73080"/>
              <a:gd name="textAreaRight" fmla="*/ 73440 w 7308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する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になるものに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詐欺に備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の証拠を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2205000"/>
            <a:ext cx="3166920" cy="8625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古物営業法（第６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4005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電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本、ゲーム、衣類、食品、チケット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知的財産権の侵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76000" y="4508640"/>
            <a:ext cx="6049800" cy="19447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権侵害となるケースに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ジタルデータと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ファイル共有ソフ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989000"/>
            <a:ext cx="4535640" cy="1513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ジタルデータはすべ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ル単位で扱わ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2349360"/>
            <a:ext cx="2592360" cy="792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ピーが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708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ネット犯罪の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犯罪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の流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による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詐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知的財産権の侵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を利用した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誹謗中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序良俗に反する情報の公開・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殺ほう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ねずみ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981600" cy="22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ネットワーク犯罪の特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36000" cy="1079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と空間に関係なく起こり、一瞬にして世界中に広ま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997360"/>
            <a:ext cx="396108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国境が無いた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法律・規制から逃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997360"/>
            <a:ext cx="388764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年齢性別によら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トラブルに巻き込ま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653000"/>
            <a:ext cx="388764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ワークで身を隠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軽い気持ちで犯罪を犯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653000"/>
            <a:ext cx="396108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者と加害者の識別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被害者のはずが加害者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個人情報の流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4941360"/>
            <a:ext cx="3457800" cy="12956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収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133720"/>
            <a:ext cx="6337080" cy="1726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上で個人情報を入力する機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カード番号やパスワード    ： 電子商取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メールや住所等の連絡先  ： 懸賞、アンケ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407664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流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844640"/>
            <a:ext cx="4392720" cy="1224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529080" cy="936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ライバシーが侵害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流出した情報を悪用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信用が失墜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1052640"/>
            <a:ext cx="1944720" cy="1008000"/>
          </a:xfrm>
          <a:prstGeom prst="irregularSeal1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410364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に持ち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429000"/>
            <a:ext cx="403200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盗難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445000"/>
            <a:ext cx="4176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機密情報に関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組織内のルール策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445000"/>
            <a:ext cx="410508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パスワードやＰＣ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盗難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501336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501336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収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916280"/>
            <a:ext cx="3024360" cy="865080"/>
          </a:xfrm>
          <a:prstGeom prst="parallelogram">
            <a:avLst>
              <a:gd name="adj" fmla="val 1468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1800000" cy="1252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987640" y="3284640"/>
            <a:ext cx="1079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2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1949400" cy="150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724280"/>
            <a:ext cx="2952720" cy="703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ンケートフォームなどで個人情報を釣り上げ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5950080"/>
            <a:ext cx="611964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UR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クロスサイト・スクリプティン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292640"/>
            <a:ext cx="1800360" cy="125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4724280"/>
            <a:ext cx="266544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860640"/>
            <a:ext cx="2374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別サイトへ誘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5950080"/>
            <a:ext cx="6120000" cy="398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ブラウザでスクリプトの実行を許可すると危険がともな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携帯電話による犯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0920" y="4365720"/>
            <a:ext cx="4896000" cy="2006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会い系サイ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と不正請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メラ付携帯による被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2360" y="1844640"/>
            <a:ext cx="5832360" cy="172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・ブラウジング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同等の機能で犯罪も多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2360" y="3933720"/>
            <a:ext cx="59040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出会い系サイ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773360"/>
            <a:ext cx="251928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924280"/>
            <a:ext cx="266544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1773360"/>
            <a:ext cx="338472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924280"/>
            <a:ext cx="338472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の番号通知で本人を認証させ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4076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性の被害：金品を強奪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58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軽い気持ちで会わな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5445000"/>
            <a:ext cx="388800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慎重かつ分別ある行動を！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図書情報センター</cp:lastModifiedBy>
  <dcterms:modified xsi:type="dcterms:W3CDTF">2005-12-09T01:19:53Z</dcterms:modified>
  <cp:revision>64</cp:revision>
  <dc:subject/>
  <dc:title>ネットワーク社会の情報倫理</dc:title>
</cp:coreProperties>
</file>