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505E0-F83B-4C4B-8152-2D68EE4D0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7EA7B-E903-45F9-B5F0-6BCAD3C8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0A363-B9D9-4E17-A189-98B37326B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FE615-ECE0-4C46-88E9-1A8DE8C56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AAA4-73BA-4EEA-8030-55DDF9ED3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D3AE-457D-4BE7-B7AE-0E9A1C56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475A-B006-4169-A76F-A50E8096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41B6-A923-450A-8C5D-CC5F5EBF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547A-E31F-4187-999D-9FE548F3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C084-3BDE-4AFA-8795-1599CE59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3DD4-E3C9-46C3-AA4D-A88BB57D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DB078-E3C6-4EC0-B962-D5DD9312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10B0-CD43-4F20-8EF2-0D12A7B4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3C9D-5307-4F8C-A855-5AAA9B40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4FA4-D358-45C1-B3A4-87F2F36C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BBC0-2E71-49C8-A11E-3AAB3AB5E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4527-713D-491A-BA59-82D1CD40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33D09-1B66-4341-8EC7-7A25DD3D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BB961-7BB5-42EB-AF2A-786956B6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8F4FB-4630-47BD-A501-4854C9FA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0DDBF-09B1-41AF-889F-85BF4CBD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060BB-1E68-45D8-8BA0-252C194E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0F5A6-ABC6-41F1-8EF8-46FACAE2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E2C22-9D73-4B82-9D90-614189DD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EC18-C548-4FFD-89BE-4339C6E449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37C0-617A-4E23-BDE0-9917DD7FF6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３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ネットワーク犯罪（後半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９　公序良俗に反する情報公開・違法販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4537080" cy="201600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わいせつ画像の公開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販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児童ポル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拳銃など所持禁止の物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海賊版ソフ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6920" y="5300640"/>
            <a:ext cx="748836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怪しいサイト、公序良俗に反するサイトには近づか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651640" y="2708280"/>
            <a:ext cx="3168360" cy="10159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外国のサーバを利用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法律をかいくぐ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2924280"/>
            <a:ext cx="503280" cy="649080"/>
          </a:xfrm>
          <a:custGeom>
            <a:avLst/>
            <a:gdLst>
              <a:gd name="textAreaLeft" fmla="*/ 0 w 503280"/>
              <a:gd name="textAreaRight" fmla="*/ 503640 w 50328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4653000"/>
            <a:ext cx="748836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ユーザ自身の善悪の判断と見極めが肝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１０　自殺サイ 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384720" cy="115272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殺方法を公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殺仲間を募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48360" y="1844640"/>
            <a:ext cx="3671640" cy="116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集団自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車で練炭を炊き中毒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40360" y="2205000"/>
            <a:ext cx="792000" cy="504720"/>
          </a:xfrm>
          <a:custGeom>
            <a:avLst/>
            <a:gdLst>
              <a:gd name="textAreaLeft" fmla="*/ 0 w 792000"/>
              <a:gd name="textAreaRight" fmla="*/ 792360 w 792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3573360"/>
            <a:ext cx="3743280" cy="10796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殺ほう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48360" y="3573360"/>
            <a:ext cx="3744720" cy="1081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言論・表現の自由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11640" y="3716280"/>
            <a:ext cx="865080" cy="792360"/>
          </a:xfrm>
          <a:prstGeom prst="leftRightArrow">
            <a:avLst>
              <a:gd name="adj1" fmla="val 50000"/>
              <a:gd name="adj2" fmla="val 21734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40000" y="4869000"/>
            <a:ext cx="475308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自殺サイトを公開することの是非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6021360"/>
            <a:ext cx="475308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自分１人で悩まず、相談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40000" y="5445000"/>
            <a:ext cx="475308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自殺者を装った殺人事件も発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６　電子メールを利用した犯罪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55640" y="4508280"/>
            <a:ext cx="4043160" cy="187956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スパムメー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デマメー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メールによるいじ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5280" y="3716280"/>
            <a:ext cx="180036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989000"/>
            <a:ext cx="5616360" cy="158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電子メール　→　高い利用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コンピュータ・携帯電話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6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スパムメール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47640" y="1699920"/>
            <a:ext cx="2880000" cy="1368360"/>
          </a:xfrm>
          <a:prstGeom prst="rect">
            <a:avLst/>
          </a:prstGeom>
          <a:noFill/>
          <a:ln w="2844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広告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無差別に送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アドレスを生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3357720"/>
            <a:ext cx="3457440" cy="1223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特定電子メール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改訂特定商取引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5157720"/>
            <a:ext cx="3889440" cy="1224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スパム配信の取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未承諾広告の明示義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68360" y="4581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56000" y="3933720"/>
            <a:ext cx="4575240" cy="2374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自己防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・フィルタリング機能の活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・長めのアドレス設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（記号も含め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932360" y="1557360"/>
            <a:ext cx="3467160" cy="2297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6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デマメ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2060640"/>
            <a:ext cx="2735280" cy="187164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事実無根の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いたず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いやがら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脅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4365720"/>
            <a:ext cx="4103640" cy="863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チェーン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「このメール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に送信して・・・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4365720"/>
            <a:ext cx="3816360" cy="863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脅迫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「明日、＊＊学校を爆破する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3959280" cy="2898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5877000"/>
            <a:ext cx="4105440" cy="57636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振り回されず、削除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5877000"/>
            <a:ext cx="3816360" cy="57636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警察等へ届け出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76360" y="5373720"/>
            <a:ext cx="180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24360" y="5373720"/>
            <a:ext cx="180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6.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メールによるいじ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18920" y="2997360"/>
            <a:ext cx="5915160" cy="1303200"/>
          </a:xfrm>
          <a:prstGeom prst="rect">
            <a:avLst/>
          </a:prstGeom>
          <a:noFill/>
          <a:ln w="2844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スメートの悪口・中傷を書き込み送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カメラ付の携帯で撮影した写真を添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メールによるストーカー行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6920" y="1844640"/>
            <a:ext cx="3457800" cy="7923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学生が携帯を所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03640" y="1844640"/>
            <a:ext cx="2954520" cy="792360"/>
          </a:xfrm>
          <a:prstGeom prst="rect">
            <a:avLst/>
          </a:prstGeom>
          <a:solidFill>
            <a:srgbClr val="9999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いじめに利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84720" y="227664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19280" y="6021360"/>
            <a:ext cx="5977080" cy="6476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被害が広まる前に、早急に届け出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56000" y="4508640"/>
            <a:ext cx="1800000" cy="1296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00720" y="4581360"/>
            <a:ext cx="3527280" cy="1152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情報はすぐに広ま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人に大きなダメー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登校や自殺の原因に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７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誹謗中傷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4920" y="2997000"/>
            <a:ext cx="5832360" cy="237636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チャット・掲示板での被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顔が見え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ゲーム感覚で無責任に書き込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被害は一瞬で広ま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情報が暴走し、２次的、３次的被害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1773360"/>
            <a:ext cx="8497800" cy="1150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誹謗：他人の悪口をいうこと、そしるこ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傷：無根拠のことをいって、名誉を傷つけるこ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372360" y="3068640"/>
            <a:ext cx="2771640" cy="2590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95280" y="5950080"/>
            <a:ext cx="5832360" cy="647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まず、相手の気持ちになって、思いやり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40000" y="5445000"/>
            <a:ext cx="180036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7.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誹謗中傷に発展するケー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788000" y="2852640"/>
            <a:ext cx="3960720" cy="93672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感情的になり、口論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時間をおいて冷静に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2997360"/>
            <a:ext cx="3311280" cy="647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互いの意見が衝突し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4149720"/>
            <a:ext cx="3311280" cy="647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個人情報を書き込まれ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88000" y="3860640"/>
            <a:ext cx="3960720" cy="122400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掲載内容やメールを保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管理者に削除を依頼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ロバイダ責任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5373720"/>
            <a:ext cx="3311280" cy="647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企業や団体に対する中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88000" y="5157720"/>
            <a:ext cx="3960720" cy="129564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企業の名誉毀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業務妨害が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証拠を保存し警察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95640" y="3068640"/>
            <a:ext cx="649440" cy="431640"/>
          </a:xfrm>
          <a:custGeom>
            <a:avLst/>
            <a:gdLst>
              <a:gd name="textAreaLeft" fmla="*/ 0 w 649440"/>
              <a:gd name="textAreaRight" fmla="*/ 649800 w 6494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95640" y="4221000"/>
            <a:ext cx="649440" cy="432000"/>
          </a:xfrm>
          <a:custGeom>
            <a:avLst/>
            <a:gdLst>
              <a:gd name="textAreaLeft" fmla="*/ 0 w 649440"/>
              <a:gd name="textAreaRight" fmla="*/ 649800 w 6494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95640" y="5445000"/>
            <a:ext cx="649440" cy="432000"/>
          </a:xfrm>
          <a:custGeom>
            <a:avLst/>
            <a:gdLst>
              <a:gd name="textAreaLeft" fmla="*/ 0 w 649440"/>
              <a:gd name="textAreaRight" fmla="*/ 649800 w 6494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2060640"/>
            <a:ext cx="2880000" cy="6476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起こりうるケ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92720" y="2060640"/>
            <a:ext cx="2736720" cy="6476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対処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8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不正アクセス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03280" y="3284640"/>
            <a:ext cx="6121440" cy="172872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本人に送信されたメールを盗み見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ーバを破壊す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バイダのサービスを不正利用す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ーバを踏み台にして、別の犯罪を犯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5640" y="1700280"/>
            <a:ext cx="7416720" cy="720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来アクセス権のないコンピュータへのアクセ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6920" y="2637000"/>
            <a:ext cx="3457800" cy="5760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正アクセスによる被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00000" y="5157720"/>
            <a:ext cx="3024360" cy="459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正アクセス禁止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32000" y="5734080"/>
            <a:ext cx="611964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他人のアカウントによるアクセスはすべて犯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32000" y="6237360"/>
            <a:ext cx="611964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いたずら目的でも処罰対象にな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5734080"/>
            <a:ext cx="71280" cy="934920"/>
          </a:xfrm>
          <a:custGeom>
            <a:avLst/>
            <a:gdLst>
              <a:gd name="textAreaLeft" fmla="*/ 20880 w 71280"/>
              <a:gd name="textAreaRight" fmla="*/ 71640 w 71280"/>
              <a:gd name="textAreaTop" fmla="*/ 38880 h 934920"/>
              <a:gd name="textAreaBottom" fmla="*/ 89604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8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アカウント盗用の防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71280" y="1916280"/>
            <a:ext cx="7127640" cy="792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7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アカウントはユーザー自身が厳重に管理を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人の不注意から他人（システム全体）も危険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24360" y="2924280"/>
            <a:ext cx="3097440" cy="1015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正アクセス禁止法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処罰対象とな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2997360"/>
            <a:ext cx="475308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ID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・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ワードなどを故意に漏ら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9280" y="3500280"/>
            <a:ext cx="475308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アカウントを他人に貸し出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76720" y="3284640"/>
            <a:ext cx="574920" cy="431640"/>
          </a:xfrm>
          <a:custGeom>
            <a:avLst/>
            <a:gdLst>
              <a:gd name="textAreaLeft" fmla="*/ 0 w 574920"/>
              <a:gd name="textAreaRight" fmla="*/ 575280 w 57492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9280" y="4076640"/>
            <a:ext cx="475308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管理者を装いパスワードを聞き出す（ソーシャルエンジニアリング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76720" y="4292640"/>
            <a:ext cx="574920" cy="431640"/>
          </a:xfrm>
          <a:custGeom>
            <a:avLst/>
            <a:gdLst>
              <a:gd name="textAreaLeft" fmla="*/ 0 w 574920"/>
              <a:gd name="textAreaRight" fmla="*/ 575280 w 57492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24360" y="4076640"/>
            <a:ext cx="3097440" cy="459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切応じず、プロバイダに届け出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27280" y="5229360"/>
            <a:ext cx="6192720" cy="125244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大文字と小文字に数字や記号を混ぜた長い文字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単語、地名、人名などをそのまま単独で使わ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個人情報（誕生日など）と無関係なものに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5229360"/>
            <a:ext cx="2160360" cy="1224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推測されにく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パスワードを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07:20:09Z</dcterms:created>
  <dc:creator>T.Yamazumi</dc:creator>
  <dc:description/>
  <dc:language>en-US</dc:language>
  <cp:lastModifiedBy>図書情報センター</cp:lastModifiedBy>
  <dcterms:modified xsi:type="dcterms:W3CDTF">2005-12-09T01:29:07Z</dcterms:modified>
  <cp:revision>57</cp:revision>
  <dc:subject/>
  <dc:title>ネットワーク社会の情報倫理</dc:title>
</cp:coreProperties>
</file>