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EF402-60BE-4719-BC41-37BCF2873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060E0-86C9-4342-A0B2-10FE7FD4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AFD45-4EC7-4437-A2A7-47E02DD40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848E4-F56A-46B3-9F16-43585272A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2D0C-E094-4252-A60A-B408F5CBC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2FA7-A687-4078-9FC4-84585E48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213A-2CCE-49E9-A765-5134B8D1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36E1-8632-4CA7-976B-AC3449EB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8D21-CB5E-4996-BF08-44E6A7CF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4D3F-A343-4C90-9131-07429F63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3DF3-55C3-48D6-9DE0-8545C81C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8076A-58EA-4FA0-8E80-1C2B9772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A6E4-AD86-4540-B032-4F351A03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A0DC-EF1A-48F1-A99F-C7D0F27B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80AE-61C5-446A-ABB7-CCA3AA73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F9E3-A8C2-442A-9F7E-8667E6158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5639-81DA-48B3-95BC-49767DFCC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456A8-091B-4021-9AB0-981B9A38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6343B-9A41-45DE-8D56-2D791D1A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C0574-AF94-4C64-BA7E-4373FBB9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AE207-BEF2-4764-8EA0-735D6D9C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22F26-6714-4430-B5A1-0B8D4B75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C9198-CB85-41A9-A50E-9CCCBC43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6AEA4-F6EC-48F6-A317-784E01AB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7DA9-7701-41C4-90C9-C4F79A21E4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CFDF-0AE1-4F0D-ACF2-EE2489AEDB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５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情報セキュリティ（前半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５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１　情報セキュリティと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0920" y="2637000"/>
            <a:ext cx="3384360" cy="1008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正アクセ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メールの盗聴・改ざ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284720" y="1557360"/>
            <a:ext cx="4460760" cy="244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68360" y="6021360"/>
            <a:ext cx="8101080" cy="459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コンピュータやネットワークにおける安全性や信頼性の確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2060640"/>
            <a:ext cx="3456000" cy="52056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ネットワーク上の脅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42920" y="3933720"/>
            <a:ext cx="3311640" cy="172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3280" y="4724280"/>
            <a:ext cx="2881440" cy="101592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１．被害の防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２．事態の収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00720" y="4076640"/>
            <a:ext cx="3240000" cy="5814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情報セキュリテ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1.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情報セキュリティに求められるも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1916280"/>
            <a:ext cx="2880000" cy="5814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情報の機密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4221000"/>
            <a:ext cx="5904000" cy="5814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情報の保存および伝達の安全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2637000"/>
            <a:ext cx="7201080" cy="101592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・「ユーザ認証」で不正アクセスを防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・「アクセス権」を設定し、一般ユーザと管理者を区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16000" y="5013360"/>
            <a:ext cx="7632720" cy="101592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・不正アクセスされても、データを破壊や消去からブロ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・通信の過程において、データの改ざんや盗聴から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1.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セキュリティの運用につい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989000"/>
            <a:ext cx="2663640" cy="5814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技術的な対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4365720"/>
            <a:ext cx="2303280" cy="5814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ＭＳ Ｐゴシック"/>
              </a:rPr>
              <a:t>運用の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35280" y="2781360"/>
            <a:ext cx="5689440" cy="86256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・ウィルスチェック（ネットワーク全体、個々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・ファイアウォールの設置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35280" y="5229360"/>
            <a:ext cx="5689440" cy="86256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・セキュリティポリシーの確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・使用者の立場にあった教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87640" y="2133720"/>
            <a:ext cx="5977080" cy="398880"/>
          </a:xfrm>
          <a:prstGeom prst="rect">
            <a:avLst/>
          </a:prstGeom>
          <a:noFill/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外部からの有害プログラムや不正侵入を防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00360" y="4508640"/>
            <a:ext cx="5545080" cy="398880"/>
          </a:xfrm>
          <a:prstGeom prst="rect">
            <a:avLst/>
          </a:prstGeom>
          <a:noFill/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運用規則をユーザ全員が理解し遵守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５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２　ユーザ認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2565360"/>
            <a:ext cx="5329080" cy="70380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正規ユー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」の識別（不正アクセスでないか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般ユー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」と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管理者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」の区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61040" y="836640"/>
            <a:ext cx="2103480" cy="316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468360" y="4221000"/>
          <a:ext cx="8229600" cy="2236680"/>
        </p:xfrm>
        <a:graphic>
          <a:graphicData uri="http://schemas.openxmlformats.org/drawingml/2006/table">
            <a:tbl>
              <a:tblPr/>
              <a:tblGrid>
                <a:gridCol w="2695680"/>
                <a:gridCol w="2838240"/>
                <a:gridCol w="2695680"/>
              </a:tblGrid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認証方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利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欠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ID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・パスワー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発行や認証の仕組み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簡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パスワードの漏え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カード等の所持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操作がやさし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紛失、盗難、偽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生体認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偽造されにく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システムが高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395280" y="1916280"/>
            <a:ext cx="4319640" cy="5814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ユーザ認証＝本人確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71640" y="3573360"/>
            <a:ext cx="1368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92360" y="378936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認証方式と特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2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パスワード管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4149720"/>
            <a:ext cx="403200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パスワードに対する推定攻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4724280"/>
            <a:ext cx="3889440" cy="1789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１）総当たり攻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単純で短いパスワードは危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２）辞書攻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辞書単語をそのまま使わな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59280" y="4724280"/>
            <a:ext cx="3816360" cy="1789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１）のぞき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２）ログイン後の放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３）トラッシング（ゴミあさり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４）なりすま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88000" y="4149720"/>
            <a:ext cx="395928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ソーシャル・エンジニアリン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3240000" cy="26859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50920" y="1773360"/>
            <a:ext cx="4825800" cy="1326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とパスワードによる認証は仕組みが単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→ 推定されにくいパスワードを持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→ 盗み見やなりすましに要注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59280" y="3573360"/>
            <a:ext cx="3095280" cy="459720"/>
          </a:xfrm>
          <a:prstGeom prst="rect">
            <a:avLst/>
          </a:prstGeom>
          <a:solidFill>
            <a:srgbClr val="ff66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パスワードを破る手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2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カードによる認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42920" y="1773360"/>
            <a:ext cx="540072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ユーザの所持品による認証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2997360"/>
            <a:ext cx="6408720" cy="862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スキミング（磁気カードの不正な読み取り）しカードを偽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テレフォンカードやハイウェイカード等でも多数の被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16000" y="4365720"/>
            <a:ext cx="2664000" cy="52056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カードの開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11280" y="4941720"/>
            <a:ext cx="5545440" cy="157212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磁気カードよりも偽造が困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暗証番号との組み合わせで認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総当たり攻撃に対してはカードを無効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2421000"/>
            <a:ext cx="295272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磁気カードの被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58920" y="3068640"/>
            <a:ext cx="1009440" cy="1152360"/>
          </a:xfrm>
          <a:prstGeom prst="downArrow">
            <a:avLst>
              <a:gd name="adj1" fmla="val 50000"/>
              <a:gd name="adj2" fmla="val 2854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2.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生体認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7280" y="3933360"/>
            <a:ext cx="1440000" cy="2592360"/>
          </a:xfrm>
          <a:prstGeom prst="rect">
            <a:avLst/>
          </a:prstGeom>
          <a:noFill/>
          <a:ln w="28440">
            <a:solidFill>
              <a:srgbClr val="ff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虹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筆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声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静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012000" y="1700280"/>
            <a:ext cx="2449440" cy="21351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55640" y="1844640"/>
            <a:ext cx="5111640" cy="1015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ユーザ本人の身体の一部（生体情報）を使った認証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ＭＳ Ｐゴシック"/>
              </a:rPr>
              <a:t>（＝バイオメトリックス認証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5640" y="3357720"/>
            <a:ext cx="2376360" cy="459720"/>
          </a:xfrm>
          <a:prstGeom prst="rect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生体認証の種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19640" y="4581360"/>
            <a:ext cx="5040000" cy="132624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不正コピーが困難で、より確実な認証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コンピュータ以外に特殊な装置が必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認証方式によっては高額（虹彩、静脈な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19640" y="4005360"/>
            <a:ext cx="237636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生体認証の特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５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　ファイアウォ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68360" y="3213000"/>
          <a:ext cx="8229600" cy="3381480"/>
        </p:xfrm>
        <a:graphic>
          <a:graphicData uri="http://schemas.openxmlformats.org/drawingml/2006/table">
            <a:tbl>
              <a:tblPr/>
              <a:tblGrid>
                <a:gridCol w="2278080"/>
                <a:gridCol w="5951520"/>
              </a:tblGrid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主な機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概　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アクセス制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インターネットからの接続を制限す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アドレス変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プライベートアドレスをグローバルアドレスに変換す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ユーザ認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接続できるユーザであるか認証す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ログ収集／解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ファイアウォールを通過したパケットをすべて記録す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フィルタリン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通過できないデータを判別し遮断す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ルーティン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組織内の通信経路を決める役割を果たす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2987640" y="278136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ファイアウォールの主な機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16000" y="1628640"/>
            <a:ext cx="7128000" cy="98424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ファイアウォール（防火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→インターネット接続したコンピュータを外敵から守るシステ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05:10:53Z</dcterms:created>
  <dc:creator>図書情報センター</dc:creator>
  <dc:description/>
  <dc:language>en-US</dc:language>
  <cp:lastModifiedBy>T.Yamazumi</cp:lastModifiedBy>
  <dcterms:modified xsi:type="dcterms:W3CDTF">2005-12-13T00:15:25Z</dcterms:modified>
  <cp:revision>38</cp:revision>
  <dc:subject/>
  <dc:title>ネットワーク社会の 情報倫理</dc:title>
</cp:coreProperties>
</file>