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8B97-BA74-4602-8201-9F6CB6E4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CDF0-3DDF-4844-94C1-C35C152A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3B35-7F1A-49A6-90CD-5463ED46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CABD-A74B-483A-A270-B0603D44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3A6A-57D9-41CF-90E8-DD4739E2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CA4A-94A8-48DA-B3A0-9DAC34CB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F70A-A5B2-4CBC-B113-54EE240A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68F1-667B-4B79-BF84-DB9AC766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1105-053E-495F-B0F4-A2914BFF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ACDB-F7E8-45BA-A274-4875A261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E263-665C-4BB0-ABC9-BBC97C46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9622-C351-4D38-B479-1E7118B3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66CF-9DD6-40E0-B429-054BA11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61D6-9F0F-4EC7-BFD2-41E9613D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99DA-2036-4AD5-ABD7-DB16819C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5096-DE78-4897-88ED-1D525871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20FE-1336-422C-9203-AD87116A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1A92-DA45-4520-8580-51BFA23E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073E-4C15-45E7-B3AF-BA57D844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A8F1-066E-4A2B-BB79-ACA7FA97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D7AF-4872-458D-946A-78800347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FDCA-CA59-4571-8EA9-475696B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FC4D-1058-4551-9CC4-32E63FBE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1F36-6840-40A6-8883-33C30705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23B3-9015-4DB0-852E-DEB8A94F3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F066-880E-4380-87DB-A8BC014E6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ジタル署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3080" y="4653000"/>
            <a:ext cx="934920" cy="936720"/>
          </a:xfrm>
          <a:prstGeom prst="upArrowCallout">
            <a:avLst>
              <a:gd name="adj1" fmla="val 25002"/>
              <a:gd name="adj2" fmla="val 25000"/>
              <a:gd name="adj3" fmla="val 16699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5734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877080" y="508464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1700280"/>
            <a:ext cx="734400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公開鍵暗号方式の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号化できるのは、秘密鍵を持つ本人が暗号化したときの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6610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相手の公開鍵で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2205000"/>
            <a:ext cx="7127640" cy="223776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557360"/>
            <a:ext cx="482436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Socket Lay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1280" y="5073480"/>
            <a:ext cx="3744720" cy="1565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11280" y="4581360"/>
            <a:ext cx="374472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で表示されるメッセ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581360"/>
            <a:ext cx="388944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サイトで表示されるアイコ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74072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003640" y="5157720"/>
            <a:ext cx="2232360" cy="1239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156360" y="6165720"/>
            <a:ext cx="360360" cy="3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516720" y="587664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1557360"/>
            <a:ext cx="640872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Electronic Transaction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220500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決済をインターネット上で安全に行う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732720" y="5589720"/>
            <a:ext cx="1304640" cy="903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140360" y="422100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H="1" flipV="1">
            <a:off x="5364000" y="5157360"/>
            <a:ext cx="144000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6093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6165720"/>
            <a:ext cx="215928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5661000"/>
            <a:ext cx="215928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51640" y="5084640"/>
            <a:ext cx="1368360" cy="6426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165720"/>
            <a:ext cx="208764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4365720"/>
            <a:ext cx="136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4221000"/>
            <a:ext cx="122400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1628640"/>
            <a:ext cx="468144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tty Good Privac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227664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電子メールを暗号化する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472428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544500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GP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国際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」が開発され、フリーウェアとして配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4292640"/>
            <a:ext cx="23763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GP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国際版の配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616572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08464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24360" y="580536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セキュリティポリシ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3348000" cy="1944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2205000"/>
            <a:ext cx="4248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セキュリティポリシーの立案・策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1628640"/>
            <a:ext cx="6264360" cy="3988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組織全体に対するセキュリティの基盤となるガイドライ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2637000"/>
            <a:ext cx="489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3357720"/>
            <a:ext cx="3816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ネットワーク機器の選定・構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3789360"/>
            <a:ext cx="554328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4508640"/>
            <a:ext cx="4176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３．セキュリティポリシーの運用・実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4941720"/>
            <a:ext cx="7127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5373720"/>
            <a:ext cx="1655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析・改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5805360"/>
            <a:ext cx="633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6362640"/>
            <a:ext cx="7704000" cy="39888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記の４段階を繰り返しながら運用し、情報社会の変化に対応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4.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パーソナル機のバックアッ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2421000"/>
            <a:ext cx="237636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500280"/>
            <a:ext cx="40320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メディアへ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916280"/>
            <a:ext cx="511164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ハードディスクのデータ・システム全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796680" cy="165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67640" y="2276640"/>
            <a:ext cx="1225440" cy="201600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4076640"/>
            <a:ext cx="3382920" cy="8625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ダメージを最小限にとどめ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旧を早くす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734080"/>
            <a:ext cx="7056720" cy="862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157720"/>
            <a:ext cx="2950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バックアップの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2616480" cy="185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サーバ機のバックア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52728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機の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421000"/>
            <a:ext cx="187164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73360"/>
            <a:ext cx="37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D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磁気テー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1844640"/>
            <a:ext cx="28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ミラー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1700280"/>
            <a:ext cx="1008000" cy="792000"/>
          </a:xfrm>
          <a:prstGeom prst="rightArrow">
            <a:avLst>
              <a:gd name="adj1" fmla="val 50000"/>
              <a:gd name="adj2" fmla="val 31818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2565360"/>
            <a:ext cx="3781440" cy="13262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書き込みが同時に行わ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407664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4653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4869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6165720"/>
            <a:ext cx="172872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616572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87640" y="436572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712800" cy="194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891000">
            <a:off x="2916000" y="5373360"/>
            <a:ext cx="1403280" cy="107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3640" y="472428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292720" y="3500280"/>
            <a:ext cx="3529080" cy="273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500280"/>
            <a:ext cx="3528720" cy="2665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通常のファイル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557360"/>
            <a:ext cx="5256000" cy="1557000"/>
          </a:xfrm>
          <a:prstGeom prst="rect">
            <a:avLst/>
          </a:prstGeom>
          <a:solidFill>
            <a:srgbClr val="ffff0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ファイルのコピー、移動、消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フォルダの作成、ファイルをまと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外部メディアとデータをやり取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．フォルダのカテゴリ別分類、階層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ile"/>
          <p:cNvSpPr/>
          <p:nvPr/>
        </p:nvSpPr>
        <p:spPr>
          <a:xfrm>
            <a:off x="6012000" y="3645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ile"/>
          <p:cNvSpPr/>
          <p:nvPr/>
        </p:nvSpPr>
        <p:spPr>
          <a:xfrm>
            <a:off x="6012000" y="4292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1547640" y="5013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971640" y="508464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le"/>
          <p:cNvSpPr/>
          <p:nvPr/>
        </p:nvSpPr>
        <p:spPr>
          <a:xfrm>
            <a:off x="2700360" y="422100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ile"/>
          <p:cNvSpPr/>
          <p:nvPr/>
        </p:nvSpPr>
        <p:spPr>
          <a:xfrm>
            <a:off x="1547640" y="371628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ile"/>
          <p:cNvSpPr/>
          <p:nvPr/>
        </p:nvSpPr>
        <p:spPr>
          <a:xfrm>
            <a:off x="2556000" y="5300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ile"/>
          <p:cNvSpPr/>
          <p:nvPr/>
        </p:nvSpPr>
        <p:spPr>
          <a:xfrm>
            <a:off x="1042920" y="4005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le"/>
          <p:cNvSpPr/>
          <p:nvPr/>
        </p:nvSpPr>
        <p:spPr>
          <a:xfrm>
            <a:off x="7667640" y="378936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le"/>
          <p:cNvSpPr/>
          <p:nvPr/>
        </p:nvSpPr>
        <p:spPr>
          <a:xfrm>
            <a:off x="7667640" y="414972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ile"/>
          <p:cNvSpPr/>
          <p:nvPr/>
        </p:nvSpPr>
        <p:spPr>
          <a:xfrm>
            <a:off x="7667640" y="486900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ile"/>
          <p:cNvSpPr/>
          <p:nvPr/>
        </p:nvSpPr>
        <p:spPr>
          <a:xfrm>
            <a:off x="7667640" y="450864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ile"/>
          <p:cNvSpPr/>
          <p:nvPr/>
        </p:nvSpPr>
        <p:spPr>
          <a:xfrm>
            <a:off x="7667640" y="558972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ile"/>
          <p:cNvSpPr/>
          <p:nvPr/>
        </p:nvSpPr>
        <p:spPr>
          <a:xfrm>
            <a:off x="7667640" y="522936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ile"/>
          <p:cNvSpPr/>
          <p:nvPr/>
        </p:nvSpPr>
        <p:spPr>
          <a:xfrm>
            <a:off x="1979640" y="494172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ile"/>
          <p:cNvSpPr/>
          <p:nvPr/>
        </p:nvSpPr>
        <p:spPr>
          <a:xfrm>
            <a:off x="2771640" y="3789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ile"/>
          <p:cNvSpPr/>
          <p:nvPr/>
        </p:nvSpPr>
        <p:spPr>
          <a:xfrm>
            <a:off x="3059280" y="4149720"/>
            <a:ext cx="86328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ile"/>
          <p:cNvSpPr/>
          <p:nvPr/>
        </p:nvSpPr>
        <p:spPr>
          <a:xfrm>
            <a:off x="2340000" y="4653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ile"/>
          <p:cNvSpPr/>
          <p:nvPr/>
        </p:nvSpPr>
        <p:spPr>
          <a:xfrm>
            <a:off x="1403280" y="479736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4508640"/>
            <a:ext cx="86364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ile"/>
          <p:cNvSpPr/>
          <p:nvPr/>
        </p:nvSpPr>
        <p:spPr>
          <a:xfrm>
            <a:off x="6012000" y="537372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ile"/>
          <p:cNvSpPr/>
          <p:nvPr/>
        </p:nvSpPr>
        <p:spPr>
          <a:xfrm>
            <a:off x="7667640" y="595008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3933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573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08720" y="3933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308360" y="429264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308360" y="501336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308360" y="5373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308360" y="6093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308720" y="465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308720" y="573372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ddrive"/>
          <p:cNvSpPr/>
          <p:nvPr/>
        </p:nvSpPr>
        <p:spPr>
          <a:xfrm>
            <a:off x="6732720" y="1700280"/>
            <a:ext cx="1809720" cy="9046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2276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4000" y="3357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564000" y="335772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12000" y="2276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4840" y="6245280"/>
            <a:ext cx="40320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ォルダの整理ができていない状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30760" y="6284880"/>
            <a:ext cx="2735280" cy="39888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テゴリ別分類・階層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270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通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5373720"/>
            <a:ext cx="6769440" cy="1191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暗号の仕組みを複数のユーザで共有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仕組みを知っていても、鍵がなければ解読困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鍵を安全に配送することが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4941720"/>
            <a:ext cx="424836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ネットワーク暗号に必要な条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105440" cy="216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2276640"/>
            <a:ext cx="2160360" cy="86256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3357720"/>
            <a:ext cx="2087280" cy="4597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信の暗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844640"/>
            <a:ext cx="3313080" cy="398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上の脅威（攻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2349360"/>
            <a:ext cx="792360" cy="935280"/>
          </a:xfrm>
          <a:prstGeom prst="downArrow">
            <a:avLst>
              <a:gd name="adj1" fmla="val 50000"/>
              <a:gd name="adj2" fmla="val 295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3860640"/>
            <a:ext cx="3888000" cy="862560"/>
          </a:xfrm>
          <a:prstGeom prst="rect">
            <a:avLst/>
          </a:prstGeom>
          <a:noFill/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信データを暗号化し隠蔽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暗号化・復号化には「鍵」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2472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292640"/>
            <a:ext cx="1800360" cy="7855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隠蔽された文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暗号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148428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148428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の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7336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換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1773360"/>
            <a:ext cx="5329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　ＫＧＷＱＢ・・・ＣＲ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1773360"/>
            <a:ext cx="129708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7080" y="1773360"/>
            <a:ext cx="57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141720"/>
            <a:ext cx="6985080" cy="846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上記の換字暗号では変換テーブルが共通の「鍵」とな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9264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転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4292640"/>
            <a:ext cx="6121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7280" y="5589720"/>
            <a:ext cx="7056720" cy="862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共通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2349360"/>
            <a:ext cx="7345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鍵暗号方式の代表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ＤＥ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3080" y="4653000"/>
            <a:ext cx="936720" cy="93672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5734080"/>
            <a:ext cx="3384360" cy="790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5400000">
            <a:off x="6190920" y="577008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30328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628640"/>
            <a:ext cx="705636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通鍵暗号：暗号化と復号化に共通の鍵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S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3080" y="4653000"/>
            <a:ext cx="1079280" cy="936720"/>
          </a:xfrm>
          <a:prstGeom prst="upArrowCallout">
            <a:avLst>
              <a:gd name="adj1" fmla="val 28807"/>
              <a:gd name="adj2" fmla="val 28805"/>
              <a:gd name="adj3" fmla="val 16667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4651200"/>
            <a:ext cx="1009440" cy="936720"/>
          </a:xfrm>
          <a:prstGeom prst="upArrowCallout">
            <a:avLst>
              <a:gd name="adj1" fmla="val 26943"/>
              <a:gd name="adj2" fmla="val 26941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77080" y="50133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3860640"/>
            <a:ext cx="1584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送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Al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51640" y="3860640"/>
            <a:ext cx="144144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受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Bo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5805360"/>
            <a:ext cx="309708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628640"/>
            <a:ext cx="86756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開鍵暗号：２本の鍵を生成し、そのうちの１本を公開（配布）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ＲＳ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2349360"/>
            <a:ext cx="6769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公開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人の発案者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258920" y="50133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H="1" rot="5400000">
            <a:off x="6264000" y="584136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266364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の認証機関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93080" y="1628640"/>
            <a:ext cx="158436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1657440" cy="1355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71640" y="2082960"/>
            <a:ext cx="1733400" cy="1342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2987280" y="256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17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292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285264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1640" y="2708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177336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708360" y="37893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940360" y="52293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1042920" y="51577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65300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4941720"/>
            <a:ext cx="12952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700000" y="46530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4653000"/>
            <a:ext cx="107928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3789360"/>
            <a:ext cx="14400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認証機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436572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50920" y="41497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6093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67640" y="57340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573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3716280"/>
            <a:ext cx="1871640" cy="3682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なりすましを防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5-12-15T02:06:10Z</dcterms:modified>
  <cp:revision>96</cp:revision>
  <dc:subject/>
  <dc:title>ネットワーク社会の 情報倫理</dc:title>
</cp:coreProperties>
</file>