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7471E-DA5E-47D1-B908-0C225406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9B7C4-FC13-47ED-B62B-22EBC9B0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8A757-2B19-480F-86E3-2ADBFBE0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CD618-F6F0-45AF-AE2C-2DBA45E2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CDE9-42BA-4457-B095-AA6C4E4B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2405-577D-4C26-8F67-D341B613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99D5-6E73-4660-A274-9FE0FBF8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74B7-C248-4545-838C-1467FE39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A9E9-FCCB-4417-B868-4C821518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6BEF-5F23-4FB7-A1B0-DD7971FB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CC73-4EC4-4CD0-AB00-D4C08000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37D08-2792-48DC-9F85-C36B0CC4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9CED-C600-4967-8D1D-CD287BBA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0938-E77B-4E14-9568-8E97738A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2C06-82E3-4A8E-A03D-E280257B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880A-7600-4A8E-A098-9FF3711E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C0C6-1381-4847-8378-234B6931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8E6D-EBB3-4A50-914D-D98DEA0F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97EBE-C9BD-4E14-904C-FF6F0D61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8F29-5ACC-4FDC-BE0C-65D60448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ED314-9BE7-4ACC-8B96-35C9D4BB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897A-1BAB-4540-B676-1CF3AD7C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E2D8-08DF-490C-B5F6-EC525122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EBB6B-0211-4D85-A9C4-9BDF25E1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0992-7395-45DB-8261-57412931BF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BB22-CD67-4C97-A08D-431EB6A047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と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メディアリテラシー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社会と情報化社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リテラシーに関する問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人の著作物を公開すると訴訟問題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キャラクタが似ていると非難の対象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誹謗中傷も批判の対象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情報を掲載するといたずらされる可能性があ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71640" y="1341360"/>
            <a:ext cx="7488000" cy="4103640"/>
          </a:xfrm>
          <a:prstGeom prst="rect">
            <a:avLst/>
          </a:prstGeom>
          <a:solidFill>
            <a:srgbClr val="ccffcc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メディア・リテラシーの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5661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人に同感や批判を繰り返すことで、メディアリテラシーが身につ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情報発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2060640"/>
            <a:ext cx="2232000" cy="1224000"/>
          </a:xfrm>
          <a:prstGeom prst="ellipse">
            <a:avLst/>
          </a:prstGeom>
          <a:solidFill>
            <a:srgbClr val="9999ff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個人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413000"/>
            <a:ext cx="2232000" cy="1224000"/>
          </a:xfrm>
          <a:prstGeom prst="ellipse">
            <a:avLst/>
          </a:prstGeom>
          <a:solidFill>
            <a:srgbClr val="9999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ブロ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2060640"/>
            <a:ext cx="2232000" cy="1224000"/>
          </a:xfrm>
          <a:prstGeom prst="ellipse">
            <a:avLst/>
          </a:prstGeom>
          <a:solidFill>
            <a:srgbClr val="9999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学級新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3429000"/>
            <a:ext cx="2232000" cy="1224000"/>
          </a:xfrm>
          <a:prstGeom prst="ellipse">
            <a:avLst/>
          </a:prstGeom>
          <a:solidFill>
            <a:srgbClr val="99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電子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3429000"/>
            <a:ext cx="2232000" cy="1224000"/>
          </a:xfrm>
          <a:prstGeom prst="ellipse">
            <a:avLst/>
          </a:prstGeom>
          <a:solidFill>
            <a:srgbClr val="9999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チャ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076640"/>
            <a:ext cx="2232000" cy="1224000"/>
          </a:xfrm>
          <a:prstGeom prst="ellipse">
            <a:avLst/>
          </a:prstGeom>
          <a:solidFill>
            <a:srgbClr val="9999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インスタント・メッセンジ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システムの脅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部からの不正アクセ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部からの不正アクセ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ミスや処理ミ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偶発的に起こる事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59200" y="1916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システムへ悪影響を与える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93160" y="19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災と人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1989000"/>
            <a:ext cx="1152360" cy="36036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セキュリテ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ウィルス対策を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サーバのアクセス権の設定を厳密に行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認証をしっかり行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セキュリティホールを埋め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バックアップ体制の作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ァイアウォールの導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セキュリティポリシーの策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危機管理体制の策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26920" y="1413000"/>
            <a:ext cx="7705800" cy="3168360"/>
          </a:xfrm>
          <a:prstGeom prst="rect">
            <a:avLst/>
          </a:prstGeom>
          <a:solidFill>
            <a:srgbClr val="c0c0c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情報倫理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314172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セキュリティ対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314172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メディア・リテラシ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162864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ルールとマナ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5373720"/>
            <a:ext cx="3600360" cy="719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情報倫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4653000"/>
            <a:ext cx="863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ネットワーク社会で求められる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55680" y="3573360"/>
            <a:ext cx="522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ネットワーク社会でのルールとマナ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メディアリテラシ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セキュリティ対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205000"/>
            <a:ext cx="79218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ネットワーク社会で生き抜くためには次の３つが重要であ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ネットワーク社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2386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携帯電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テレ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カーナ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3284640"/>
            <a:ext cx="1800000" cy="863640"/>
          </a:xfrm>
          <a:prstGeom prst="rightArrow">
            <a:avLst>
              <a:gd name="adj1" fmla="val 50000"/>
              <a:gd name="adj2" fmla="val 5210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ネット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276640"/>
            <a:ext cx="4175280" cy="2952720"/>
          </a:xfrm>
          <a:prstGeom prst="ellipse">
            <a:avLst/>
          </a:prstGeom>
          <a:solidFill>
            <a:srgbClr val="9999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たなコミュニケーションの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788000" y="1628640"/>
            <a:ext cx="3887640" cy="3240360"/>
          </a:xfrm>
          <a:prstGeom prst="rect">
            <a:avLst/>
          </a:prstGeom>
          <a:solidFill>
            <a:srgbClr val="339966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157720"/>
            <a:ext cx="8424720" cy="1511280"/>
          </a:xfrm>
          <a:prstGeom prst="rect">
            <a:avLst/>
          </a:prstGeom>
          <a:solidFill>
            <a:srgbClr val="99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ユビキタス環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249800" cy="3273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56200" y="156204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84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「ユビキタス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715920"/>
            <a:ext cx="41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いラテン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「どこにでもある」の意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2781360"/>
            <a:ext cx="432000" cy="64908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7840" y="480204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6093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「いつでも」「どこでも」「なんでも」接続できる環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33760" y="5137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ユビキタス環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5734080"/>
            <a:ext cx="576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ネットワーク社会のルールとマナ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99240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くの管理者の善意によって維持、更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に迷惑や不安がらせるような行為を行わないこ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何より相手に対する思いやりが重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危険なところや怪しいところには行かないこ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236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インターネットの問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軽に色々な情報検索が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ダルトサイトや自殺幇助のサイトに手軽に接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サイトや違法取引場に引き込まれ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情報流出の舞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悪意のあるユーザが存在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善意のユーザにもウィルスが届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侵入を試みるユーザが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インターネット・セキュリテ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パスワードの不正取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ステムへの不正侵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ステムダウ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漏洩対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の改ざ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信内容の盗聴・傍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564000" y="1700280"/>
            <a:ext cx="5184720" cy="3024000"/>
          </a:xfrm>
          <a:prstGeom prst="rect">
            <a:avLst/>
          </a:prstGeom>
          <a:solidFill>
            <a:srgbClr val="9999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リテラシ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76880" y="198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インターネ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2637000"/>
            <a:ext cx="2520720" cy="1655640"/>
          </a:xfrm>
          <a:prstGeom prst="ellipse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マイナスの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6360" y="2637000"/>
            <a:ext cx="2519280" cy="1655640"/>
          </a:xfrm>
          <a:prstGeom prst="ellipse">
            <a:avLst/>
          </a:prstGeom>
          <a:solidFill>
            <a:srgbClr val="008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プラスの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7400" y="40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2800" y="4869000"/>
            <a:ext cx="34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善悪の判断と情報の信憑性の判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5373720"/>
            <a:ext cx="1368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6021360"/>
            <a:ext cx="4608720" cy="576360"/>
          </a:xfrm>
          <a:prstGeom prst="rect">
            <a:avLst/>
          </a:prstGeom>
          <a:solidFill>
            <a:srgbClr val="9999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67f"/>
                </a:solidFill>
                <a:latin typeface="Times New Roman"/>
              </a:rPr>
              <a:t>メディア・リテラシ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168720" cy="3049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87280" y="1989000"/>
            <a:ext cx="6697800" cy="3095640"/>
          </a:xfrm>
          <a:prstGeom prst="rect">
            <a:avLst/>
          </a:prstGeom>
          <a:solidFill>
            <a:srgbClr val="33cc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・リテラシー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86040" y="1484280"/>
            <a:ext cx="19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メディア・リテラシー ＝ 「メディア」 ＋ 「リテラシー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85640" y="1989000"/>
            <a:ext cx="210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新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雑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テレ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ラジ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インターネット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9960" y="4292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831b"/>
                </a:solidFill>
                <a:latin typeface="Times New Roman"/>
              </a:rPr>
              <a:t>「読み取る能力」と「書く能力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24880" y="616572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信憑性が高く、信頼性のある「情報」を探し出す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35960" y="285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メディ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20200" y="4221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831b"/>
                </a:solidFill>
                <a:latin typeface="Times New Roman"/>
              </a:rPr>
              <a:t>リテラシ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79360" y="5229360"/>
            <a:ext cx="7218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メディア・リテラシ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133720"/>
            <a:ext cx="647640" cy="1944720"/>
          </a:xfrm>
          <a:custGeom>
            <a:avLst/>
            <a:gdLst>
              <a:gd name="textAreaLeft" fmla="*/ 414000 w 647640"/>
              <a:gd name="textAreaRight" fmla="*/ 648000 w 647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805360"/>
            <a:ext cx="865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・リテラシーを身につけ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の閲覧だけでは身につか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友人間だけの電子メールのみでも身につか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43720" y="465300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情報の信憑性を誰かに投げかけ真意を得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3716280"/>
            <a:ext cx="15112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3:21:39Z</dcterms:created>
  <dc:creator>湯浅　聖記</dc:creator>
  <dc:description/>
  <dc:language>en-US</dc:language>
  <cp:lastModifiedBy>T.Yamazumi</cp:lastModifiedBy>
  <dcterms:modified xsi:type="dcterms:W3CDTF">2006-04-07T02:46:39Z</dcterms:modified>
  <cp:revision>11</cp:revision>
  <dc:subject/>
  <dc:title>情報倫理とメディアリテラシー</dc:title>
</cp:coreProperties>
</file>