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0A32-7FD0-4B81-94D3-C8762AA3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E764-B3E5-4018-8C49-59453208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6CB3-E84C-4FD3-8B85-0783D1EC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C975-5345-41DF-923C-4DDC64D6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D059-A729-4510-847E-495E836C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F34C-58AB-4861-892D-D713E5D0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0CBC-A8A5-4A74-A5D8-5D1030B0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FBE6-2C5F-4BEB-82AC-4F57BF21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729E-E340-47B5-9A08-E55EAB40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B32F-D91E-4B00-ABF4-858DA9B6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E87E-7252-4633-8B48-FA0B760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EFD9-2509-4EA5-8C43-AFCFAFF1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5E6E-0D16-40BB-BE70-46E95EE5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4C9B-3CB7-4F11-BEDA-92472B91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8613-E8B6-4D06-977E-D36828F3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A335-6502-4B1A-9E51-D3F76FFE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B48B-BAA3-4345-A624-90747344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EE418-05DE-4D75-B9AD-0AC34727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6AC0-38F9-4C92-BB9B-B769C44B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6D90-E42F-4ED8-A7E5-7AAE13E6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2E6D-AAED-418D-AA73-108D6D8F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2B9E-5D40-4017-A242-0A95AA09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C103-0F6D-4D5A-8C3C-E28C1021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3729-F6AC-4563-8D49-D66B83D6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E246-26CF-4C54-A8DE-A8117732E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336D-AF83-4B5D-9FA8-E65B47703B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ahoo.co.jp/" TargetMode="External"/><Relationship Id="rId2" Type="http://schemas.openxmlformats.org/officeDocument/2006/relationships/hyperlink" Target="http://www.google.co.jp/" TargetMode="External"/><Relationship Id="rId3" Type="http://schemas.openxmlformats.org/officeDocument/2006/relationships/hyperlink" Target="http://www.goo.ne.jp/" TargetMode="External"/><Relationship Id="rId4" Type="http://schemas.openxmlformats.org/officeDocument/2006/relationships/hyperlink" Target="http://www.infoseek.co.jp/" TargetMode="External"/><Relationship Id="rId5" Type="http://schemas.openxmlformats.org/officeDocument/2006/relationships/hyperlink" Target="http://www.wodge.biz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２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ネットサービスとその仕組み（前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21080" cy="33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3600360" cy="3398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90760" y="551664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47520" y="5516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716280"/>
            <a:ext cx="576360" cy="504720"/>
          </a:xfrm>
          <a:prstGeom prst="rightArrow">
            <a:avLst>
              <a:gd name="adj1" fmla="val 50000"/>
              <a:gd name="adj2" fmla="val 285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yahoo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google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goo.ne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フォシ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infoseek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検索サイト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wodge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0560" y="1557360"/>
            <a:ext cx="552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上にあ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の情報を探し出すため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イトでポータルサイトとも呼ばれ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その他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ページ（ホームペー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頃盛ん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ちゃんね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最大の電子掲示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ェブロ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芸能人や野球選手、企業などが情報提供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転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032000" cy="1465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647880" cy="2981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63880" y="2349360"/>
            <a:ext cx="246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バに保存する形式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利用する。ほかの人にサーバ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紹介しダウンロードしてもら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916280"/>
            <a:ext cx="3598920" cy="43308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ファイル転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076640"/>
            <a:ext cx="3598920" cy="43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nn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よるファイル共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40560" y="46594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クライアント同士で直接通信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を共有しあう方式で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インターネットで提供されるサービ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ミュニケ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、チャット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話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報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音楽と映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音楽配信、ビデオオンデマンド、ライブ映像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電子商取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ショッピング、ネットオークション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を支える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3908520" cy="382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0038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サーバ管理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4720" y="537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サーバ利用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0040" y="486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15120" y="306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提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34290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3500280"/>
            <a:ext cx="431640" cy="1297080"/>
          </a:xfrm>
          <a:prstGeom prst="upArrow">
            <a:avLst>
              <a:gd name="adj1" fmla="val 50000"/>
              <a:gd name="adj2" fmla="val 751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なインターネットサー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 電子メール送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電子メール受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提供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名前解決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･ ファイル転送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レス自動割付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バとクライアントの関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00000" y="2205000"/>
            <a:ext cx="1511280" cy="2592360"/>
            <a:chOff x="900000" y="2205000"/>
            <a:chExt cx="1511280" cy="2592360"/>
          </a:xfrm>
        </p:grpSpPr>
        <p:sp>
          <p:nvSpPr>
            <p:cNvPr id="122" name=""/>
            <p:cNvSpPr/>
            <p:nvPr/>
          </p:nvSpPr>
          <p:spPr>
            <a:xfrm>
              <a:off x="900000" y="220500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0000" y="2852640"/>
              <a:ext cx="1511280" cy="64800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0000" y="350208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0000" y="414972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372360" y="3068640"/>
            <a:ext cx="2015640" cy="1728720"/>
            <a:chOff x="6372360" y="3068640"/>
            <a:chExt cx="2015640" cy="1728720"/>
          </a:xfrm>
        </p:grpSpPr>
        <p:sp>
          <p:nvSpPr>
            <p:cNvPr id="127" name=""/>
            <p:cNvSpPr/>
            <p:nvPr/>
          </p:nvSpPr>
          <p:spPr>
            <a:xfrm>
              <a:off x="6372360" y="306864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メールソフ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72360" y="364500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ブラウ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72360" y="4221360"/>
              <a:ext cx="2015640" cy="57600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クライアン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411280" y="4797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10520" y="249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800" y="31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80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488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1240" y="3286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944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416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556000" y="2637000"/>
            <a:ext cx="2952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7280" y="3212640"/>
            <a:ext cx="28814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3860640"/>
            <a:ext cx="280836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451008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21840" y="1773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36240" y="2637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クライア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5120" y="5373720"/>
            <a:ext cx="666720" cy="459720"/>
          </a:xfrm>
          <a:prstGeom prst="rect">
            <a:avLst/>
          </a:prstGeom>
          <a:solidFill>
            <a:srgbClr val="9999ff">
              <a:alpha val="41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は、番号でソフトウェアを認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5257800" cy="199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30600" y="4724280"/>
            <a:ext cx="29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bc@japan-u.ac.j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72640" y="472428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bcd@usa-u.e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83760" y="15573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や画像などを相手の電子メールアドレスを管理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に送信するサービスを電子メールと呼び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7840" y="3213000"/>
            <a:ext cx="12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8920" y="32130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を利用した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マガジ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登録することで趣味関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ある情報を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発行会社が送って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仲間同士でメールを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する際に利用するメール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ビス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953080" cy="246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3457440" cy="167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6048720" cy="3152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84040" y="1557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をはじめ、画像や音声、動画などさまざまな情報を文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して提供するサービスである。情報検索を行うサービス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ありインターネットの標準的サービスとも言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ブラウザ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ラウザ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Uniform Resource Locato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19280" y="4941720"/>
            <a:ext cx="5486400" cy="13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聖記</cp:lastModifiedBy>
  <dcterms:modified xsi:type="dcterms:W3CDTF">2006-01-09T07:57:42Z</dcterms:modified>
  <cp:revision>82</cp:revision>
  <dc:subject/>
  <dc:title>ネットワーク社会の 情報倫理</dc:title>
</cp:coreProperties>
</file>