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8DF15-2FFE-4BDA-9042-EE3CD644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168B0-45BB-4D39-8818-F396EE14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DBC22-1386-4D9E-8979-494BC34F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8CD3B-7256-4093-9BDD-1766C494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6508-EB36-4854-A85D-A656993C0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BB97-FC7E-4E66-9C6B-92F4B723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69F3-DE9B-4DFD-AE18-803503C4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19A0-FF98-4ABD-B02B-6FDCF162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DA5B-1F9C-4F8C-B61D-6122FAC0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4159-8B2A-42DD-932F-18D7CED1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11B2-B5C9-4AA5-A55D-EAC7C6A3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DDAF2-8DF6-45F8-973B-E28D0400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B7CA-7E22-4699-9F5A-6D152E01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8EF5-D3DC-4ECE-9B82-D3178528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E2C8-E413-4BE4-9456-36E64518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D608-CF53-41A1-B3C4-3B2F9FFC9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7CE9-88AC-4494-8E49-ABA464B56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85AFB-D421-4E8C-9F8D-B7BEAC1B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22587-9546-49D4-8498-1EA2CF58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A65C1-D842-42FF-A96A-124A5736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C5340-DA69-4A22-AEE6-F716248E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99F70-570E-4BED-8ED5-979A8AE4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C8222-00A8-40CE-82CF-B5E918DC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76A4A-B564-4508-AFBA-55954157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5C7A-F8CD-4573-AB4D-E49C4A5DF5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38C0-B288-4706-8DFD-CAD958E3EF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５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情報セキュリティ（前半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１　情報セキュリティ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0920" y="2637000"/>
            <a:ext cx="3384360" cy="1008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正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メールの盗聴・改ざ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284720" y="1557360"/>
            <a:ext cx="4460760" cy="244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6021360"/>
            <a:ext cx="8101080" cy="459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コンピュータやネットワークにおける安全性や信頼性の確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2060640"/>
            <a:ext cx="3456000" cy="52056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ネットワーク上の脅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3933720"/>
            <a:ext cx="3311640" cy="172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3280" y="4724280"/>
            <a:ext cx="2881440" cy="101592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１．被害の防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２．事態の収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4076640"/>
            <a:ext cx="3240000" cy="5814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情報セキュリテ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1.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情報セキュリティに求められるも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916280"/>
            <a:ext cx="2880000" cy="581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情報の機密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4221000"/>
            <a:ext cx="5904000" cy="581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情報の保存および伝達の安全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2637000"/>
            <a:ext cx="7201080" cy="101592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・「ユーザ認証」で不正アクセスを防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・「アクセス権」を設定し、一般ユーザと管理者を区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5013360"/>
            <a:ext cx="7632720" cy="101592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・不正アクセスされても、データを破壊や消去からブロ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・通信の過程において、データの改ざんや盗聴から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1.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セキュリティの運用につい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89000"/>
            <a:ext cx="2663640" cy="581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技術的な対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4365720"/>
            <a:ext cx="2303280" cy="581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ＭＳ Ｐゴシック"/>
              </a:rPr>
              <a:t>運用の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5280" y="2781360"/>
            <a:ext cx="5689440" cy="86256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・ウィルスチェック（ネットワーク全体、個々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・ファイアウォールの設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5229360"/>
            <a:ext cx="5689440" cy="86256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・セキュリティポリシーの確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・使用者の立場にあった教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87640" y="2133720"/>
            <a:ext cx="5977080" cy="398880"/>
          </a:xfrm>
          <a:prstGeom prst="rect">
            <a:avLst/>
          </a:pr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外部からの有害プログラムや不正侵入を防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00360" y="4508640"/>
            <a:ext cx="5545080" cy="398880"/>
          </a:xfrm>
          <a:prstGeom prst="rect">
            <a:avLst/>
          </a:pr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運用規則をユーザ全員が理解し遵守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２　ユーザ認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2565360"/>
            <a:ext cx="5329080" cy="70380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正規ユー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」の識別（不正アクセスでないか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般ユー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」と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管理者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」の区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61040" y="836640"/>
            <a:ext cx="2103480" cy="316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468360" y="4221000"/>
          <a:ext cx="8229600" cy="2236680"/>
        </p:xfrm>
        <a:graphic>
          <a:graphicData uri="http://schemas.openxmlformats.org/drawingml/2006/table">
            <a:tbl>
              <a:tblPr/>
              <a:tblGrid>
                <a:gridCol w="2695680"/>
                <a:gridCol w="2838240"/>
                <a:gridCol w="2695680"/>
              </a:tblGrid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認証方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利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欠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ID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・パスワー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発行や認証の仕組み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簡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パスワードの漏え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カード等の所持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操作がやさし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紛失、盗難、偽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生体認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偽造されにく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システムが高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395280" y="1916280"/>
            <a:ext cx="4319640" cy="5814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ユーザ認証＝本人確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3573360"/>
            <a:ext cx="1368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92360" y="37893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認証方式と特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2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パスワード管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4149720"/>
            <a:ext cx="403200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パスワードに対する推定攻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4724280"/>
            <a:ext cx="3889440" cy="1789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１）総当たり攻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単純で短いパスワードは危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２）辞書攻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辞書単語をそのまま使わな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4724280"/>
            <a:ext cx="3816360" cy="1789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１）のぞき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２）ログイン後の放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３）トラッシング（ゴミあさ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４）なりすま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88000" y="4149720"/>
            <a:ext cx="395928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ソーシャル・エンジニアリン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3240000" cy="2685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50920" y="1773360"/>
            <a:ext cx="4825800" cy="1326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とパスワードによる認証は仕組みが単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→ 推定されにくいパスワードを持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→ 盗み見やなりすましに要注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59280" y="3573360"/>
            <a:ext cx="3095280" cy="459720"/>
          </a:xfrm>
          <a:prstGeom prst="rect">
            <a:avLst/>
          </a:prstGeom>
          <a:solidFill>
            <a:srgbClr val="ff66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パスワードを破る手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2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カードによる認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1773360"/>
            <a:ext cx="540072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ユーザの所持品による認証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2997360"/>
            <a:ext cx="6408720" cy="862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スキミング（磁気カードの不正な読み取り）しカードを偽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テレフォンカードやハイウェイカード等でも多数の被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16000" y="4365720"/>
            <a:ext cx="2664000" cy="5205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カードの開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11280" y="4941720"/>
            <a:ext cx="5545440" cy="157212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磁気カードよりも偽造が困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暗証番号との組み合わせで認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総当たり攻撃に対してはカードを無効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2421000"/>
            <a:ext cx="295272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気カードの被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3068640"/>
            <a:ext cx="1009440" cy="1152360"/>
          </a:xfrm>
          <a:prstGeom prst="downArrow">
            <a:avLst>
              <a:gd name="adj1" fmla="val 50000"/>
              <a:gd name="adj2" fmla="val 2854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2.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生体認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7280" y="3933360"/>
            <a:ext cx="1440000" cy="2592360"/>
          </a:xfrm>
          <a:prstGeom prst="rect">
            <a:avLst/>
          </a:prstGeom>
          <a:noFill/>
          <a:ln w="28440">
            <a:solidFill>
              <a:srgbClr val="ff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虹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筆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声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静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012000" y="1700280"/>
            <a:ext cx="2449440" cy="21351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55640" y="1844640"/>
            <a:ext cx="5111640" cy="1015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ユーザ本人の身体の一部（生体情報）を使った認証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ＭＳ Ｐゴシック"/>
              </a:rPr>
              <a:t>（＝バイオメトリックス認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3357720"/>
            <a:ext cx="2376360" cy="459720"/>
          </a:xfrm>
          <a:prstGeom prst="rect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生体認証の種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19640" y="4581360"/>
            <a:ext cx="5040000" cy="132624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不正コピーが困難で、より確実な認証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コンピュータ以外に特殊な装置が必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認証方式によっては高額（虹彩、静脈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19640" y="4005360"/>
            <a:ext cx="237636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生体認証の特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　ファイアウォ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68360" y="3213000"/>
          <a:ext cx="8229600" cy="3381480"/>
        </p:xfrm>
        <a:graphic>
          <a:graphicData uri="http://schemas.openxmlformats.org/drawingml/2006/table">
            <a:tbl>
              <a:tblPr/>
              <a:tblGrid>
                <a:gridCol w="2278080"/>
                <a:gridCol w="5951520"/>
              </a:tblGrid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主な機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概　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アクセス制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インターネットからの接続を制限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アドレス変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プライベートアドレスをグローバルアドレスに変換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ユーザ認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接続できるユーザであるか認証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ログ収集／解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ファイアウォールを通過したパケットをすべて記録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フィルタリン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通過できないデータを判別し遮断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ルーティン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組織内の通信経路を決める役割を果たす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2987640" y="278136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ファイアウォールの主な機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16000" y="1628640"/>
            <a:ext cx="7128000" cy="98424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ファイアウォール（防火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→インターネット接続したコンピュータを外敵から守るシステ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05:10:53Z</dcterms:created>
  <dc:creator>図書情報センター</dc:creator>
  <dc:description/>
  <dc:language>en-US</dc:language>
  <cp:lastModifiedBy>T.Yamazumi</cp:lastModifiedBy>
  <dcterms:modified xsi:type="dcterms:W3CDTF">2005-12-13T00:15:25Z</dcterms:modified>
  <cp:revision>38</cp:revision>
  <dc:subject/>
  <dc:title>ネットワーク社会の 情報倫理</dc:title>
</cp:coreProperties>
</file>