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E7D20-0AD9-4C84-ADF5-1DB07C1B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FFC0-FC5F-43B7-BB0F-03ADC65B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3BD1-3F06-4667-8A87-A6CC7D5D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5BBE-CD4B-45A8-ACD7-71FBEC24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AA7B-B3EF-467A-AC4B-CE1A6BDA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72F4-B720-48CA-8521-73DEB8CD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F703-0075-4759-8CB0-569F93BD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5EAE-7758-40B2-BD71-4B6C4D1F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B148-0DC8-43E5-A8C0-E515F604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BE4D-C84A-42BB-ACB2-333264FF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5716-1FA7-4913-8F83-960AA832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D031D-E79B-4A2D-AF6F-1EAB0C96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B55B-5283-4C71-889C-64B41BF5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BB2E-DC8E-4B62-97E6-2F9B17C1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DAF2-527C-4536-8070-FC07C82D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6CAF-DDE9-4F29-A6FA-BDA5B134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E804-5DEF-47E4-9F22-F7EFCE42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80025-60D7-4751-BB52-F490608D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C73F5-B355-4471-9D73-BD949256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2E87-3B4E-4C93-9709-67A61762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89D5D-9269-4FB6-AB39-30003551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41DE-65FF-4FCE-9993-D8828718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07F71-871B-4686-A5CB-94A195A6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7EDB-D975-4115-AA10-4F6D2542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DA0E-AAD8-4007-B859-13B569665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D53F-82AE-4538-93E1-4ADC898F85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６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インターネットと法律（前編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557360"/>
            <a:ext cx="5688000" cy="468000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557360"/>
            <a:ext cx="2952720" cy="4680000"/>
          </a:xfrm>
          <a:prstGeom prst="rect">
            <a:avLst/>
          </a:prstGeom>
          <a:solidFill>
            <a:srgbClr val="9999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1484280"/>
            <a:ext cx="8856720" cy="52578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権（財産権と人格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3357720"/>
            <a:ext cx="2089080" cy="43164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表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1916280"/>
            <a:ext cx="2089080" cy="431640"/>
          </a:xfrm>
          <a:prstGeom prst="rect">
            <a:avLst/>
          </a:prstGeom>
          <a:solidFill>
            <a:srgbClr val="ff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氏名表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2637000"/>
            <a:ext cx="2089080" cy="43164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一性保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773360"/>
            <a:ext cx="2089440" cy="43164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複製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1773360"/>
            <a:ext cx="2089440" cy="431640"/>
          </a:xfrm>
          <a:prstGeom prst="rect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奏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421000"/>
            <a:ext cx="2089440" cy="4316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2421000"/>
            <a:ext cx="2089440" cy="4316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頒布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573360"/>
            <a:ext cx="2089440" cy="4320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映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221000"/>
            <a:ext cx="2089440" cy="432000"/>
          </a:xfrm>
          <a:prstGeom prst="rect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衆送信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4941720"/>
            <a:ext cx="2089440" cy="43200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口述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2997360"/>
            <a:ext cx="2089440" cy="4316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展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2997360"/>
            <a:ext cx="2089440" cy="431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案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4869000"/>
            <a:ext cx="2089440" cy="431640"/>
          </a:xfrm>
          <a:prstGeom prst="rect">
            <a:avLst/>
          </a:pr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訳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5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財産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39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格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6237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両方合わせて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4221000"/>
            <a:ext cx="2089440" cy="4320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貸与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3573360"/>
            <a:ext cx="2089440" cy="432000"/>
          </a:xfrm>
          <a:prstGeom prst="rect">
            <a:avLst/>
          </a:prstGeom>
          <a:solidFill>
            <a:srgbClr val="cc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5516640"/>
            <a:ext cx="2089440" cy="43164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伝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法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ワーク社会の誕生に伴い、新たな法律の枠組みが必要とな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くは現実の民法や刑事法が支えてい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35280" y="3284640"/>
            <a:ext cx="6049800" cy="3384360"/>
            <a:chOff x="1835280" y="3284640"/>
            <a:chExt cx="6049800" cy="3384360"/>
          </a:xfrm>
        </p:grpSpPr>
        <p:sp>
          <p:nvSpPr>
            <p:cNvPr id="111" name=""/>
            <p:cNvSpPr/>
            <p:nvPr/>
          </p:nvSpPr>
          <p:spPr>
            <a:xfrm>
              <a:off x="4140360" y="3284640"/>
              <a:ext cx="3744720" cy="3384360"/>
            </a:xfrm>
            <a:prstGeom prst="ellipse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ネットワーク社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5280" y="3357360"/>
              <a:ext cx="4176720" cy="3311280"/>
            </a:xfrm>
            <a:prstGeom prst="ellipse">
              <a:avLst/>
            </a:prstGeom>
            <a:solidFill>
              <a:srgbClr val="ccffff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現実社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架空請求と迷惑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4560" y="54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79640" y="1989000"/>
            <a:ext cx="5329080" cy="2592360"/>
            <a:chOff x="1979640" y="1989000"/>
            <a:chExt cx="5329080" cy="2592360"/>
          </a:xfrm>
        </p:grpSpPr>
        <p:sp>
          <p:nvSpPr>
            <p:cNvPr id="116" name=""/>
            <p:cNvSpPr/>
            <p:nvPr/>
          </p:nvSpPr>
          <p:spPr>
            <a:xfrm>
              <a:off x="1979640" y="1989000"/>
              <a:ext cx="5329080" cy="2592360"/>
            </a:xfrm>
            <a:prstGeom prst="rect">
              <a:avLst/>
            </a:prstGeom>
            <a:solidFill>
              <a:srgbClr val="969696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340000">
              <a:off x="2411280" y="3139560"/>
              <a:ext cx="2089440" cy="431640"/>
            </a:xfrm>
            <a:prstGeom prst="rect">
              <a:avLst/>
            </a:prstGeom>
            <a:solidFill>
              <a:srgbClr val="ffff00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架空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521800">
              <a:off x="4643280" y="2852280"/>
              <a:ext cx="2016000" cy="431640"/>
            </a:xfrm>
            <a:prstGeom prst="rect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高額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756800">
              <a:off x="3419280" y="2636280"/>
              <a:ext cx="1871640" cy="432000"/>
            </a:xfrm>
            <a:prstGeom prst="rect">
              <a:avLst/>
            </a:prstGeom>
            <a:solidFill>
              <a:srgbClr val="00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迷惑メー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746800">
              <a:off x="3059280" y="3860280"/>
              <a:ext cx="1726920" cy="360360"/>
            </a:xfrm>
            <a:prstGeom prst="rect">
              <a:avLst/>
            </a:prstGeom>
            <a:solidFill>
              <a:srgbClr val="ff99cc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ワン切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909800">
              <a:off x="4930920" y="3573000"/>
              <a:ext cx="1800000" cy="360360"/>
            </a:xfrm>
            <a:prstGeom prst="rect">
              <a:avLst/>
            </a:prstGeom>
            <a:solidFill>
              <a:srgbClr val="99ccff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嫌がらせ電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1224000" cy="1190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4941720"/>
            <a:ext cx="2952720" cy="1572120"/>
          </a:xfrm>
          <a:prstGeom prst="rect">
            <a:avLst/>
          </a:prstGeom>
          <a:solidFill>
            <a:srgbClr val="00ff00">
              <a:alpha val="44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消費者契約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民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息制限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5589720"/>
            <a:ext cx="648000" cy="43164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52640" y="494172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裁判所の通達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明らかに自分の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請求以外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視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開設時の法的注意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920" y="2707920"/>
            <a:ext cx="7871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的財産権の侵害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誉毀損や部弱財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物の引用条件を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リンク（同一性の保持）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詐欺や虚偽行為がないか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その他宗教・民族・人種差別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政治問題も注意が必要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12680" y="1844640"/>
            <a:ext cx="5051520" cy="520560"/>
          </a:xfrm>
          <a:prstGeom prst="rect">
            <a:avLst/>
          </a:prstGeom>
          <a:solidFill>
            <a:srgbClr val="9999ff">
              <a:alpha val="32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7d"/>
                </a:solidFill>
                <a:latin typeface="Arial"/>
              </a:rPr>
              <a:t>ページは全世界の人から見られています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356000" y="1773360"/>
            <a:ext cx="4608720" cy="2950920"/>
          </a:xfrm>
          <a:prstGeom prst="rect">
            <a:avLst/>
          </a:prstGeom>
          <a:solidFill>
            <a:srgbClr val="ffff9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共有の法的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5516640"/>
            <a:ext cx="1295640" cy="28872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5440" y="587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ピ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565360"/>
            <a:ext cx="3527640" cy="459720"/>
          </a:xfrm>
          <a:prstGeom prst="rect">
            <a:avLst/>
          </a:prstGeom>
          <a:solidFill>
            <a:srgbClr val="99cc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ジタルコンテンツは簡単にコピーできてしま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20480" y="2060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利用の範囲内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08400" y="3068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以外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00440" y="3789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著作権者の複製権の侵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213372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88000" y="3141720"/>
            <a:ext cx="360360" cy="358560"/>
            <a:chOff x="4788000" y="3141720"/>
            <a:chExt cx="360360" cy="358560"/>
          </a:xfrm>
        </p:grpSpPr>
        <p:sp>
          <p:nvSpPr>
            <p:cNvPr id="141" name=""/>
            <p:cNvSpPr/>
            <p:nvPr/>
          </p:nvSpPr>
          <p:spPr>
            <a:xfrm flipV="1"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72360" y="3573360"/>
            <a:ext cx="647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58680" y="5373720"/>
            <a:ext cx="2009520" cy="825480"/>
          </a:xfrm>
          <a:prstGeom prst="rect">
            <a:avLst/>
          </a:prstGeom>
          <a:solidFill>
            <a:srgbClr val="ff9900">
              <a:alpha val="4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では「ファイル共有ソフト」自体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性が問われ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著作権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8880" y="1844640"/>
            <a:ext cx="5301360" cy="520560"/>
          </a:xfrm>
          <a:prstGeom prst="rect">
            <a:avLst/>
          </a:prstGeom>
          <a:solidFill>
            <a:srgbClr val="cc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ターネット上の画像や文字は手軽にコピー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472360" cy="298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039400" y="5589720"/>
            <a:ext cx="5301360" cy="520560"/>
          </a:xfrm>
          <a:prstGeom prst="rect">
            <a:avLst/>
          </a:prstGeom>
          <a:solidFill>
            <a:srgbClr val="ff0000">
              <a:alpha val="4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権の侵害が起こりやすいという問題を含んで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708280"/>
          <a:ext cx="8497800" cy="3032280"/>
        </p:xfrm>
        <a:graphic>
          <a:graphicData uri="http://schemas.openxmlformats.org/drawingml/2006/table">
            <a:tbl>
              <a:tblPr/>
              <a:tblGrid>
                <a:gridCol w="2906640"/>
                <a:gridCol w="55911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論文、小説、脚本、詩歌、俳句、講演な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音楽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楽曲、楽曲を伴う歌詞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プログラム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ピュータ・プログラ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次的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表の著作物（原著作物）を翻訳、編曲、変形、翻案し作成したもの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編集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科事典、辞書、詩集などの編集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84800" y="587700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著作物には、上記の表のもの以外にも、舞踊やパントマイム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、データベースなど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32200" y="177336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著作物とは、著作人格者（個人・法人）が作り出した物や動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編集物などのものがある。具体的には下記のもの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著作権者に許諾を必要としないも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管期間が過ぎている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私的利用の範囲内で、契約違反でない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図書館での非営利的なコピ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実のみを伝達する報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憲法や法令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73320" y="5229360"/>
            <a:ext cx="5118480" cy="1191240"/>
          </a:xfrm>
          <a:prstGeom prst="rect">
            <a:avLst/>
          </a:prstGeom>
          <a:solidFill>
            <a:srgbClr val="ccffc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ただしインターネット上で２～４を公開する場合、別途許諾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要なる場合が多い。特に私的利用や図書館のコピー物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許諾が必要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の引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物の引用は、下記の範囲であれば認めら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許諾を必要とする場合も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財産権を犯さない範囲というのが前提で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4653000"/>
          <a:ext cx="8229600" cy="1646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従関係を明確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典を明らか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文と引用部分がわかるよう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　聖記</cp:lastModifiedBy>
  <dcterms:modified xsi:type="dcterms:W3CDTF">2006-01-09T12:32:44Z</dcterms:modified>
  <cp:revision>90</cp:revision>
  <dc:subject/>
  <dc:title>ネットワーク社会の 情報倫理</dc:title>
</cp:coreProperties>
</file>