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B088-58E0-4D8A-826F-B3DA1444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59C6-3214-4EBF-BFE5-F5DA4408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16F2-8082-42D4-9822-2CB6B3F9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FA840-97F4-4565-A4A5-2AB79CCA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B32B-BB00-42FE-99B7-02B0383C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297D-7817-4DC3-B553-3B4CC2BA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F45E-E276-42D1-B021-1D802188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DBDE-40A4-4210-B3BD-4A245C8D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4757-53AA-43BC-B40E-51A078FE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06B6-78A1-466F-AC2A-3889EDFE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63A0-F81E-4401-845B-78D893A3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24F4-D6F3-4496-9AF2-200C2A1A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62F6-BB99-4F31-A577-E5016EAD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27B7-E18D-4ECD-82CE-DC4F4451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8433-94A8-400D-A733-7F618A10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A497-447C-44DB-8894-A19A0A24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F1E5-CAD7-49CC-BC1A-7F63AE36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BA2A-D4DD-4BDB-98CC-EAAE8DEC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3280-3C62-40F9-A66E-DCF563FE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F78B-A8FA-4DCB-A689-AD7B0BA7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F16F9-ECBA-441C-B0A0-077722E3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AE8D-4D8E-4B4B-A6C9-F2EAAFEA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D858-4824-450C-878E-74BD40C7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3018-67B6-46EB-9FA6-E1909919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1E7B-0B42-48EF-A4FB-F22E26DBF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5462-B57A-47D8-B474-BBD528747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と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メディアリテラシ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社会と情報化社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に関する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人の著作物を公開すると訴訟問題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キャラクタが似ていると非難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中傷も批判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掲載するといたずらされる可能性があ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71640" y="1341360"/>
            <a:ext cx="7488000" cy="4103640"/>
          </a:xfrm>
          <a:prstGeom prst="rect">
            <a:avLst/>
          </a:prstGeom>
          <a:solidFill>
            <a:srgbClr val="ccffcc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メディア・リテラシーの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人に同感や批判を繰り返すことで、メディアリテラシーが身につ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報発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060640"/>
            <a:ext cx="2232000" cy="1224000"/>
          </a:xfrm>
          <a:prstGeom prst="ellipse">
            <a:avLst/>
          </a:prstGeom>
          <a:solidFill>
            <a:srgbClr val="9999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個人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413000"/>
            <a:ext cx="2232000" cy="1224000"/>
          </a:xfrm>
          <a:prstGeom prst="ellipse">
            <a:avLst/>
          </a:prstGeom>
          <a:solidFill>
            <a:srgbClr val="9999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ブロ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060640"/>
            <a:ext cx="2232000" cy="1224000"/>
          </a:xfrm>
          <a:prstGeom prst="ellipse">
            <a:avLst/>
          </a:prstGeom>
          <a:solidFill>
            <a:srgbClr val="99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級新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429000"/>
            <a:ext cx="2232000" cy="1224000"/>
          </a:xfrm>
          <a:prstGeom prst="ellipse">
            <a:avLst/>
          </a:prstGeom>
          <a:solidFill>
            <a:srgbClr val="99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電子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342900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チャ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07664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インスタント・メッセンジ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システムの脅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ミスや処理ミ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偶発的に起こる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9200" y="1916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システムへ悪影響を与える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9316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災と人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1989000"/>
            <a:ext cx="1152360" cy="360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ィルス対策を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サーバのアクセス権の設定を厳密に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をしっかり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ホールを埋め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ックアップ体制の作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アウォールの導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ポリシー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機管理体制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1413000"/>
            <a:ext cx="7705800" cy="316836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報倫理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セキュリティ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62864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ルールとマナ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373720"/>
            <a:ext cx="3600360" cy="719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情報倫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4653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ネットワーク社会で求められる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55680" y="3573360"/>
            <a:ext cx="52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ネットワーク社会でのルールとマナ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メディアリテラシ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セキュリティ対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205000"/>
            <a:ext cx="79218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ネットワーク社会で生き抜くためには次の３つが重要であ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2386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携帯電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カーナ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284640"/>
            <a:ext cx="1800000" cy="863640"/>
          </a:xfrm>
          <a:prstGeom prst="rightArrow">
            <a:avLst>
              <a:gd name="adj1" fmla="val 50000"/>
              <a:gd name="adj2" fmla="val 5210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ネット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76640"/>
            <a:ext cx="4175280" cy="2952720"/>
          </a:xfrm>
          <a:prstGeom prst="ellipse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たなコミュニケーションの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88000" y="1628640"/>
            <a:ext cx="3887640" cy="3240360"/>
          </a:xfrm>
          <a:prstGeom prst="rect">
            <a:avLst/>
          </a:prstGeom>
          <a:solidFill>
            <a:srgbClr val="3399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157720"/>
            <a:ext cx="8424720" cy="1511280"/>
          </a:xfrm>
          <a:prstGeom prst="rect">
            <a:avLst/>
          </a:prstGeom>
          <a:solidFill>
            <a:srgbClr val="99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ユビキタス環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249800" cy="3273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56200" y="156204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84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「ユビキタス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71592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いラテン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「どこにでもある」の意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2781360"/>
            <a:ext cx="432000" cy="64908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7840" y="48020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093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「いつでも」「どこでも」「なんでも」接続できる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33760" y="5137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ユビキタス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734080"/>
            <a:ext cx="576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のルールとマナ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924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くの管理者の善意によって維持、更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に迷惑や不安がらせるような行為を行わ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より相手に対する思いやりが重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危険なところや怪しいところには行か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236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の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軽に色々な情報検索が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ダルトサイトや自殺幇助のサイトに手軽に接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サイトや違法取引場に引き込まれ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流出の舞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悪意のあるユーザが存在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善意のユーザにもウィルスが届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侵入を試みるユーザが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・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パスワードの不正取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への不正侵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ダウ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漏洩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の改ざ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内容の盗聴・傍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64000" y="1700280"/>
            <a:ext cx="5184720" cy="3024000"/>
          </a:xfrm>
          <a:prstGeom prst="rect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198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インターネ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637000"/>
            <a:ext cx="2520720" cy="165564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マイナ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2637000"/>
            <a:ext cx="2519280" cy="1655640"/>
          </a:xfrm>
          <a:prstGeom prst="ellipse">
            <a:avLst/>
          </a:prstGeom>
          <a:solidFill>
            <a:srgbClr val="008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プラ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740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2800" y="486900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悪の判断と情報の信憑性の判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5373720"/>
            <a:ext cx="1368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6021360"/>
            <a:ext cx="4608720" cy="576360"/>
          </a:xfrm>
          <a:prstGeom prst="rect">
            <a:avLst/>
          </a:prstGeom>
          <a:solidFill>
            <a:srgbClr val="99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67f"/>
                </a:solidFill>
                <a:latin typeface="Times New Roman"/>
              </a:rPr>
              <a:t>メディア・リテラシ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049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7280" y="1989000"/>
            <a:ext cx="6697800" cy="3095640"/>
          </a:xfrm>
          <a:prstGeom prst="rect">
            <a:avLst/>
          </a:prstGeom>
          <a:solidFill>
            <a:srgbClr val="33cc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86040" y="148428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メディア・リテラシー ＝ 「メディア」 ＋ 「リテラシー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85640" y="1989000"/>
            <a:ext cx="21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新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雑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ラジ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インターネット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9960" y="4292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「読み取る能力」と「書く能力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4880" y="6165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憑性が高く、信頼性のある「情報」を探し出す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596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メディ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0200" y="4221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リテラシ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9360" y="5229360"/>
            <a:ext cx="721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133720"/>
            <a:ext cx="647640" cy="1944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805360"/>
            <a:ext cx="86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を身につけ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閲覧だけでは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人間だけの電子メールのみでも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3720" y="4653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報の信憑性を誰かに投げかけ真意を得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716280"/>
            <a:ext cx="15112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3:21:39Z</dcterms:created>
  <dc:creator>湯浅　聖記</dc:creator>
  <dc:description/>
  <dc:language>en-US</dc:language>
  <cp:lastModifiedBy>T.Yamazumi</cp:lastModifiedBy>
  <dcterms:modified xsi:type="dcterms:W3CDTF">2006-04-07T02:46:39Z</dcterms:modified>
  <cp:revision>11</cp:revision>
  <dc:subject/>
  <dc:title>情報倫理とメディアリテラシー</dc:title>
</cp:coreProperties>
</file>