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9224E-9E2A-420B-B161-C88D5384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1A678-E003-4A30-9B85-168E2A71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0CE1A-AEC0-4C55-AFBD-3A66B5D9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63621-487B-41A7-9F6A-09F320F9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95F2-E0B2-4130-BF54-ABFC31F5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C963-6D0E-4514-8BB3-51F42D6D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0741-A17B-404D-A11B-38D0F1F3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AE38-762D-48BB-89D1-D99F98DD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A47B-49BD-4DE9-B706-AC996D1C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E7FB-6935-4645-B6CA-60557EF0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38A1-C027-43C3-AA0D-68DD8183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13E1C-EF69-438A-B313-F71605B1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467D-42D7-405F-A588-27CC89AE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F266-64F4-4D08-B153-2A5A0DD0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3114-AD4F-4CAE-815D-2CF71792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ABEC-C7D2-4707-BE61-AEF38EE3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581C-058B-4338-A430-C052508F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FB656-ED86-418E-B72C-FCFF311F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482C0-DE71-48C6-B8AF-E0B8C93D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707CE-13DF-4D27-838E-6B805EC2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2C093-395D-4C07-A352-B13B9D60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482D7-7261-4DB6-AEC0-F566C5C0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9B05D-B399-4A49-9393-2EE3F9A0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8297D-19C8-4C44-B6D9-77D32CEE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8AF7-3D35-4A0B-A18A-12398705F8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8DD0-49B4-4F51-8A6F-DCF2954615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３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犯罪（前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　　　　　　　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ワン切りと不正請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924280"/>
            <a:ext cx="5040360" cy="4597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かけ直すと自分の番号を知られ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1773360"/>
            <a:ext cx="388944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ワン切り（番号通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2421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3031920" cy="2152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68360" y="4005360"/>
            <a:ext cx="4248000" cy="1015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正請求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架空の有料サイトなど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3500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ワン切りに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絶対に応じな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不正な請求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すべて無視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カメラ付き携帯による被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76360" y="1844640"/>
            <a:ext cx="6048360" cy="10159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静止画や動画の撮影機能が付いた携帯電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撮影機能を悪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2924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3429000"/>
            <a:ext cx="6337440" cy="14414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際相手に恥ずかしい写真を撮ら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真を掲示板にアップロードされ中傷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被害は一瞬で広がるの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相手の気持ちを考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撮影機能を悪用し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　ネット詐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63640" y="4581360"/>
            <a:ext cx="5400720" cy="16560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金の騙し取り＝ネット詐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ショ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オーク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1916280"/>
            <a:ext cx="6624720" cy="1512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宅からインターネット上を介し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カタログ通販やオークションを手軽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ネットショッピン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1700280"/>
            <a:ext cx="352728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商品の確認が困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95640" y="2924280"/>
            <a:ext cx="4824360" cy="5814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金の支払い（振り込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1700280"/>
            <a:ext cx="367200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画面で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149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品物が送られてこな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00720" y="3645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5300640"/>
            <a:ext cx="2953080" cy="1152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店舗の実績を確認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5300640"/>
            <a:ext cx="3024360" cy="1152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取り引きの証拠を残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ネットオークショ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1919520"/>
            <a:ext cx="4321440" cy="459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古品を出品　→　落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68360" y="328464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高額なもの（宝石・貴金属や自動車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8360" y="378936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の趣味で収集した入手困難なも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19040" y="2568960"/>
            <a:ext cx="2800440" cy="459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終的にユーザ同士の取り引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479736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盗品、毒薬、銃刀類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犯罪に巻き込まれ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0920" y="3284640"/>
            <a:ext cx="73080" cy="2016000"/>
          </a:xfrm>
          <a:custGeom>
            <a:avLst/>
            <a:gdLst>
              <a:gd name="textAreaLeft" fmla="*/ 21240 w 73080"/>
              <a:gd name="textAreaRight" fmla="*/ 73440 w 73080"/>
              <a:gd name="textAreaTop" fmla="*/ 83880 h 2016000"/>
              <a:gd name="textAreaBottom" fmla="*/ 193212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取り引きする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犯罪になるものに注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詐欺に備え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取り引きの証拠を残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08720" y="2205000"/>
            <a:ext cx="3166920" cy="8625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古品＝古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古物営業法（第６章）も参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400536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古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家電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本、ゲーム、衣類、食品、チケット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　知的財産権の侵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76000" y="4508640"/>
            <a:ext cx="6049800" cy="19447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著作権侵害となるケースに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ジタルデータと著作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ファイル共有ソフ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" y="1989000"/>
            <a:ext cx="4535640" cy="1513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デジタルデータはすべ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ァイル単位で扱わ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0360" y="2349360"/>
            <a:ext cx="2592360" cy="792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ピーが容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270828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ネット犯罪の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147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犯罪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情報の流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携帯電話による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ネット詐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知的財産権の侵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を利用した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誹謗中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序良俗に反する情報の公開・配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販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殺ほう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ねずみ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981600" cy="225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ネットワーク犯罪の特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773360"/>
            <a:ext cx="8136000" cy="1079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時間と空間に関係なく起こり、一瞬にして世界中に広ま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997360"/>
            <a:ext cx="3961080" cy="1511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国境が無いた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法律・規制から逃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997360"/>
            <a:ext cx="3887640" cy="1511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年齢性別によら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トラブルに巻き込ま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4653000"/>
            <a:ext cx="3887640" cy="1440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ネットワークで身を隠せ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軽い気持ちで犯罪を犯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4653000"/>
            <a:ext cx="3961080" cy="1440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害者と加害者の識別が困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被害者のはずが加害者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個人情報の流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71280" y="4941360"/>
            <a:ext cx="3457800" cy="12956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正な情報流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正な情報収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133720"/>
            <a:ext cx="6337080" cy="1726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ネット上で個人情報を入力する機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・カード番号やパスワード    ： 電子商取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・メールや住所等の連絡先  ： 懸賞、アンケ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407664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な情報流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844640"/>
            <a:ext cx="4392720" cy="1224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情報を収集した側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管理責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280" y="2060640"/>
            <a:ext cx="3529080" cy="93672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ライバシーが侵害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流出した情報を悪用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信用が失墜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04000" y="1052640"/>
            <a:ext cx="1944720" cy="1008000"/>
          </a:xfrm>
          <a:prstGeom prst="irregularSeal1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429000"/>
            <a:ext cx="4103640" cy="1368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１）内部の人間が機密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に持ち出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3429000"/>
            <a:ext cx="4032000" cy="1368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２）部外者に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盗難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5445000"/>
            <a:ext cx="4176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機密情報に関し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組織内のルール策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5445000"/>
            <a:ext cx="410508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パスワードやＰＣ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盗難に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5013360"/>
            <a:ext cx="1800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501336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な情報収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916280"/>
            <a:ext cx="3024360" cy="865080"/>
          </a:xfrm>
          <a:prstGeom prst="parallelogram">
            <a:avLst>
              <a:gd name="adj" fmla="val 14680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ィッ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71640" y="3789360"/>
            <a:ext cx="1800000" cy="1252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236000" y="1484280"/>
            <a:ext cx="1296720" cy="1068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2987640" y="3284640"/>
            <a:ext cx="107964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32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メール（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867280" y="2276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2997360"/>
            <a:ext cx="1081080" cy="7920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88360" y="263700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140360" y="1844640"/>
            <a:ext cx="1949400" cy="1509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H="1">
            <a:off x="6300360" y="2492280"/>
            <a:ext cx="36036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0720" y="2492280"/>
            <a:ext cx="35892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32360" y="33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4724280"/>
            <a:ext cx="2952720" cy="703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ンケートフォームなどで個人情報を釣り上げ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2089080" cy="1708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19280" y="5950080"/>
            <a:ext cx="6119640" cy="459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本サイトと偽装サイトの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UR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をチェック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クロスサイト・スクリプティン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4292640"/>
            <a:ext cx="1800360" cy="125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1949400" cy="1509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940360" y="2205000"/>
            <a:ext cx="2089080" cy="170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995640" y="3141720"/>
            <a:ext cx="1297080" cy="1068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987640" y="2997360"/>
            <a:ext cx="100800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859280" y="3141720"/>
            <a:ext cx="100800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843280" y="3860280"/>
            <a:ext cx="1152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4724280"/>
            <a:ext cx="2665440" cy="398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ページ内容の書き換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48360" y="3860640"/>
            <a:ext cx="2374920" cy="459720"/>
          </a:xfrm>
          <a:prstGeom prst="rect">
            <a:avLst/>
          </a:prstGeom>
          <a:solidFill>
            <a:srgbClr val="cccc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別サイトへ誘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2421000"/>
            <a:ext cx="1366920" cy="4597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5950080"/>
            <a:ext cx="6120000" cy="398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ブラウザでスクリプトの実行を許可すると危険がともな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携帯電話による犯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050920" y="4365720"/>
            <a:ext cx="4896000" cy="20066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会い系サイ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ワン切りと不正請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カメラ付携帯による被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92360" y="1844640"/>
            <a:ext cx="5832360" cy="172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・ブラウジングな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と同等の機能で犯罪も多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92360" y="3933720"/>
            <a:ext cx="5904000" cy="1295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出会い系サイ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1773360"/>
            <a:ext cx="2519280" cy="8254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しい友人を作るための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2924280"/>
            <a:ext cx="2665440" cy="82548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銭目的の少女と大人が児童買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9280" y="1773360"/>
            <a:ext cx="3384720" cy="8254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アクセスのほぼ１００％が携帯電話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59280" y="2924280"/>
            <a:ext cx="3384720" cy="82548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携帯電話の番号通知で本人を認証させ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4076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男性の被害：金品を強奪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4581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女性の被害：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歳未満の少女が児童買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43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知り合って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軽い気持ちで会わな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5445000"/>
            <a:ext cx="388800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犯罪の温床とならない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慎重かつ分別ある行動を！</a:t>
            </a: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4:13:02Z</dcterms:created>
  <dc:creator>T.Yamazumi</dc:creator>
  <dc:description/>
  <dc:language>en-US</dc:language>
  <cp:lastModifiedBy>図書情報センター</cp:lastModifiedBy>
  <dcterms:modified xsi:type="dcterms:W3CDTF">2005-12-09T01:19:53Z</dcterms:modified>
  <cp:revision>64</cp:revision>
  <dc:subject/>
  <dc:title>ネットワーク社会の情報倫理</dc:title>
</cp:coreProperties>
</file>