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8.wmf" ContentType="image/x-wmf"/>
  <Override PartName="/ppt/media/image13.png" ContentType="image/png"/>
  <Override PartName="/ppt/media/image17.wmf" ContentType="image/x-wmf"/>
  <Override PartName="/ppt/media/image16.wmf" ContentType="image/x-wmf"/>
  <Override PartName="/ppt/media/image15.png" ContentType="image/png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874522-1B40-407D-A5A2-0100D7F51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9A4026-7C40-4CC7-ACAA-977B43AF8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34AF38-0F10-435D-B6BC-A01508D29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2C766B-F898-4CF0-8D9D-CC915DAE8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66690-80FF-41AE-B072-495186348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9D302-4924-41B2-B00D-8C025F772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41DB2-FF28-4C44-A353-652666B6F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9437E-41CD-4C40-8C7C-3610A4E1B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045E1-D343-4696-8E3E-2A9BDC37A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9A355-72D8-4AC4-9FDD-10161D54A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9C2E2-8B75-4313-A1C6-D993EE508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6F7951-E1AD-4F05-BF0C-1B0EBC7D4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F46FB-E74A-406B-9F09-ADD32978A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62062-C5CB-4687-AE7D-AF9BB6739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3A2BD-8282-4AF6-9020-1F09ED240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B52FF-0F20-4CA8-82F1-EA84F7492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057B7-D6EF-49B9-82B9-5A222E1FE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680492-2721-4341-AB02-F5FDEA5CB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4CA489-F31F-4228-99EC-0854B7848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A65AF0-DB29-4416-B159-108A5C7F0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821E26-69DD-47D7-93C5-40C5F5028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2C3976-DCAD-49BA-8245-7432FB267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BD43D6-7DE3-486F-BFB4-B1F75FC03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964015-8CFE-4D4E-BA64-953A771C0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D73A0-8506-409F-9A7E-DCDBFDB2CD0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589A2-F22D-44A2-8FFC-E33E927A8D9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2.wmf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image" Target="../media/image10.wmf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ffffff"/>
                </a:solidFill>
                <a:latin typeface="Arial"/>
              </a:rPr>
              <a:t>ネットワーク社会の</a:t>
            </a:r>
            <a:br>
              <a:rPr sz="5000"/>
            </a:br>
            <a:r>
              <a:rPr b="0" lang="zh-CN" sz="5000" spc="-1" strike="noStrike">
                <a:solidFill>
                  <a:srgbClr val="ffffff"/>
                </a:solidFill>
                <a:latin typeface="Arial"/>
              </a:rPr>
              <a:t>情報倫理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第５章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情報セキュリティ（後半）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ＭＳ Ｐ明朝"/>
              </a:rPr>
              <a:t>［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ＭＳ Ｐ明朝"/>
              </a:rPr>
              <a:t>近代科学社刊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ＭＳ Ｐ明朝"/>
              </a:rPr>
              <a:t>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.5.6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　デジタル署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1189080" y="4292640"/>
            <a:ext cx="1440000" cy="3585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Ａｌｉｃｅで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060720" y="4292640"/>
            <a:ext cx="1224000" cy="406440"/>
          </a:xfrm>
          <a:prstGeom prst="parallelogram">
            <a:avLst>
              <a:gd name="adj" fmla="val 33461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y9h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629080" y="4508640"/>
            <a:ext cx="501480" cy="0"/>
          </a:xfrm>
          <a:prstGeom prst="line">
            <a:avLst/>
          </a:prstGeom>
          <a:ln w="572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4160" rIns="7416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6156360" y="4508640"/>
            <a:ext cx="504720" cy="0"/>
          </a:xfrm>
          <a:prstGeom prst="line">
            <a:avLst/>
          </a:prstGeom>
          <a:ln w="5724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4160" rIns="7416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356000" y="4292640"/>
            <a:ext cx="628920" cy="406440"/>
          </a:xfrm>
          <a:prstGeom prst="rightArrow">
            <a:avLst>
              <a:gd name="adj1" fmla="val 50000"/>
              <a:gd name="adj2" fmla="val 38685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661080" y="4292640"/>
            <a:ext cx="1440000" cy="3585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Ａｌｉｃ</a:t>
            </a:r>
            <a:r>
              <a:rPr b="1" lang="en-US" sz="18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e</a:t>
            </a:r>
            <a:r>
              <a:rPr b="1" lang="zh-CN" sz="18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で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005440" y="4292640"/>
            <a:ext cx="1224000" cy="406440"/>
          </a:xfrm>
          <a:prstGeom prst="parallelogram">
            <a:avLst>
              <a:gd name="adj" fmla="val 33461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y9h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413080" y="4653000"/>
            <a:ext cx="934920" cy="936720"/>
          </a:xfrm>
          <a:prstGeom prst="upArrowCallout">
            <a:avLst>
              <a:gd name="adj1" fmla="val 25002"/>
              <a:gd name="adj2" fmla="val 25000"/>
              <a:gd name="adj3" fmla="val 16699"/>
              <a:gd name="adj4" fmla="val 6666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Ａｌｉｃｅ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秘密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5869080" y="4651200"/>
            <a:ext cx="936360" cy="936720"/>
          </a:xfrm>
          <a:prstGeom prst="upArrowCallout">
            <a:avLst>
              <a:gd name="adj1" fmla="val 25002"/>
              <a:gd name="adj2" fmla="val 25000"/>
              <a:gd name="adj3" fmla="val 16673"/>
              <a:gd name="adj4" fmla="val 66660"/>
            </a:avLst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Ａｌｉｃｅ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公開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>
            <a:off x="1476360" y="5157720"/>
            <a:ext cx="852480" cy="446040"/>
          </a:xfrm>
          <a:prstGeom prst="rect">
            <a:avLst/>
          </a:prstGeom>
          <a:ln w="0">
            <a:noFill/>
          </a:ln>
        </p:spPr>
      </p:pic>
      <p:sp>
        <p:nvSpPr>
          <p:cNvPr id="293" name=""/>
          <p:cNvSpPr/>
          <p:nvPr/>
        </p:nvSpPr>
        <p:spPr>
          <a:xfrm>
            <a:off x="2340000" y="386064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暗号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940360" y="386064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復号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140360" y="386064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通信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12720" y="3859200"/>
            <a:ext cx="936720" cy="368280"/>
          </a:xfrm>
          <a:prstGeom prst="rect">
            <a:avLst/>
          </a:prstGeom>
          <a:solidFill>
            <a:srgbClr val="66ffff"/>
          </a:solidFill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送信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7813800" y="3859200"/>
            <a:ext cx="936360" cy="368280"/>
          </a:xfrm>
          <a:prstGeom prst="rect">
            <a:avLst/>
          </a:prstGeom>
          <a:solidFill>
            <a:srgbClr val="66ffff"/>
          </a:solidFill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受信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55640" y="5734080"/>
            <a:ext cx="2664000" cy="57636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・自分の秘密鍵で暗号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2"/>
          <a:stretch/>
        </p:blipFill>
        <p:spPr>
          <a:xfrm>
            <a:off x="6877080" y="5084640"/>
            <a:ext cx="1081080" cy="576360"/>
          </a:xfrm>
          <a:prstGeom prst="rect">
            <a:avLst/>
          </a:prstGeom>
          <a:ln w="0">
            <a:noFill/>
          </a:ln>
        </p:spPr>
      </p:pic>
      <p:sp>
        <p:nvSpPr>
          <p:cNvPr id="300" name=""/>
          <p:cNvSpPr/>
          <p:nvPr/>
        </p:nvSpPr>
        <p:spPr>
          <a:xfrm rot="16200000">
            <a:off x="4356000" y="4365000"/>
            <a:ext cx="647640" cy="1511280"/>
          </a:xfrm>
          <a:custGeom>
            <a:avLst/>
            <a:gdLst>
              <a:gd name="textAreaLeft" fmla="*/ 101160 w 647640"/>
              <a:gd name="textAreaRight" fmla="*/ 567000 w 647640"/>
              <a:gd name="textAreaTop" fmla="*/ 377640 h 1511280"/>
              <a:gd name="textAreaBottom" fmla="*/ 1133640 h 1511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攻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900000" y="1700280"/>
            <a:ext cx="7344000" cy="1789920"/>
          </a:xfrm>
          <a:prstGeom prst="rect">
            <a:avLst/>
          </a:prstGeom>
          <a:noFill/>
          <a:ln w="381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・公開鍵暗号方式の応用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・秘密鍵でデータの一部を暗号化して送信す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・復号化できるのは、秘密鍵を持つ本人が暗号化したときのみ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・本人以外の秘密鍵や改ざんされた暗号文は復号化できない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5867280" y="5661000"/>
            <a:ext cx="2664000" cy="57636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・相手の公開鍵で復号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.5.7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S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611280" y="2205000"/>
            <a:ext cx="7127640" cy="2237760"/>
          </a:xfrm>
          <a:prstGeom prst="rect">
            <a:avLst/>
          </a:prstGeom>
          <a:noFill/>
          <a:ln w="381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・通信路に独自の層を作成して行う暗号と認証のシステム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・</a:t>
            </a: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Web</a:t>
            </a: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ブラウザにおける商取引で実用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・送信データの暗号化は高速な共通鍵暗号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・共通鍵は公開鍵暗号方式で暗号化し安全に配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・アドレスは</a:t>
            </a: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"</a:t>
            </a:r>
            <a:r>
              <a:rPr b="0" lang="en-US" sz="2000" spc="-1" strike="noStrike">
                <a:solidFill>
                  <a:srgbClr val="ff0000"/>
                </a:solidFill>
                <a:latin typeface="ＭＳ Ｐゴシック"/>
              </a:rPr>
              <a:t>https</a:t>
            </a: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"</a:t>
            </a: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で始まる</a:t>
            </a: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UR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11280" y="1557360"/>
            <a:ext cx="4824360" cy="1068840"/>
          </a:xfrm>
          <a:prstGeom prst="rect">
            <a:avLst/>
          </a:prstGeom>
          <a:solidFill>
            <a:srgbClr val="66ffff"/>
          </a:solidFill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SL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e Socket Layer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611280" y="5073480"/>
            <a:ext cx="3744720" cy="156528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"/>
          <p:cNvPicPr/>
          <p:nvPr/>
        </p:nvPicPr>
        <p:blipFill>
          <a:blip r:embed="rId2"/>
          <a:stretch/>
        </p:blipFill>
        <p:spPr>
          <a:xfrm>
            <a:off x="7740720" y="515772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611280" y="4581360"/>
            <a:ext cx="3744720" cy="398880"/>
          </a:xfrm>
          <a:prstGeom prst="rect">
            <a:avLst/>
          </a:prstGeom>
          <a:solidFill>
            <a:srgbClr val="ccff33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SL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通信で表示されるメッセー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932360" y="4581360"/>
            <a:ext cx="3889440" cy="398880"/>
          </a:xfrm>
          <a:prstGeom prst="rect">
            <a:avLst/>
          </a:prstGeom>
          <a:solidFill>
            <a:srgbClr val="ccff33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SSL</a:t>
            </a: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のサイトで表示されるアイコ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7740720" y="5157720"/>
            <a:ext cx="863640" cy="86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3"/>
          <a:stretch/>
        </p:blipFill>
        <p:spPr>
          <a:xfrm>
            <a:off x="5003640" y="5157720"/>
            <a:ext cx="2232360" cy="1239840"/>
          </a:xfrm>
          <a:prstGeom prst="rect">
            <a:avLst/>
          </a:prstGeom>
          <a:ln w="0">
            <a:noFill/>
          </a:ln>
        </p:spPr>
      </p:pic>
      <p:sp>
        <p:nvSpPr>
          <p:cNvPr id="312" name=""/>
          <p:cNvSpPr/>
          <p:nvPr/>
        </p:nvSpPr>
        <p:spPr>
          <a:xfrm>
            <a:off x="6156360" y="6165720"/>
            <a:ext cx="360360" cy="358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 flipV="1">
            <a:off x="6516720" y="5876640"/>
            <a:ext cx="122400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.5.8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611280" y="1557360"/>
            <a:ext cx="6408720" cy="1068840"/>
          </a:xfrm>
          <a:prstGeom prst="rect">
            <a:avLst/>
          </a:prstGeom>
          <a:solidFill>
            <a:srgbClr val="66ffff"/>
          </a:solidFill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T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e Electronic Transactions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95280" y="2205000"/>
            <a:ext cx="8209080" cy="1789920"/>
          </a:xfrm>
          <a:prstGeom prst="rect">
            <a:avLst/>
          </a:prstGeom>
          <a:noFill/>
          <a:ln w="381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97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年公開。（カード会社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BM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社などが共同開発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・カード決済をインターネット上で安全に行うための暗号システム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・サイト側にカード番号を暗号化 したまま取り引き可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SL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にはない機能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・カードの不正利用や流出を防ぐ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" name="" descr=""/>
          <p:cNvPicPr/>
          <p:nvPr/>
        </p:nvPicPr>
        <p:blipFill>
          <a:blip r:embed="rId1"/>
          <a:stretch/>
        </p:blipFill>
        <p:spPr>
          <a:xfrm>
            <a:off x="684360" y="4508640"/>
            <a:ext cx="1441440" cy="1116000"/>
          </a:xfrm>
          <a:prstGeom prst="rect">
            <a:avLst/>
          </a:prstGeom>
          <a:ln w="0">
            <a:noFill/>
          </a:ln>
        </p:spPr>
      </p:pic>
      <p:pic>
        <p:nvPicPr>
          <p:cNvPr id="318" name="" descr=""/>
          <p:cNvPicPr/>
          <p:nvPr/>
        </p:nvPicPr>
        <p:blipFill>
          <a:blip r:embed="rId2"/>
          <a:stretch/>
        </p:blipFill>
        <p:spPr>
          <a:xfrm>
            <a:off x="6732720" y="5589720"/>
            <a:ext cx="1304640" cy="903240"/>
          </a:xfrm>
          <a:prstGeom prst="rect">
            <a:avLst/>
          </a:prstGeom>
          <a:ln w="0">
            <a:noFill/>
          </a:ln>
        </p:spPr>
      </p:pic>
      <p:pic>
        <p:nvPicPr>
          <p:cNvPr id="319" name="" descr=""/>
          <p:cNvPicPr/>
          <p:nvPr/>
        </p:nvPicPr>
        <p:blipFill>
          <a:blip r:embed="rId3"/>
          <a:stretch/>
        </p:blipFill>
        <p:spPr>
          <a:xfrm>
            <a:off x="4140360" y="4221000"/>
            <a:ext cx="1296720" cy="123192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/>
          <p:nvPr/>
        </p:nvSpPr>
        <p:spPr>
          <a:xfrm flipH="1" flipV="1">
            <a:off x="5364000" y="5157360"/>
            <a:ext cx="1440000" cy="792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203640" y="6093000"/>
            <a:ext cx="3529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900000" y="6165720"/>
            <a:ext cx="2159280" cy="368280"/>
          </a:xfrm>
          <a:prstGeom prst="rect">
            <a:avLst/>
          </a:prstGeom>
          <a:noFill/>
          <a:ln w="284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購入品目（暗号化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900000" y="5661000"/>
            <a:ext cx="2159280" cy="368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カード情報（暗号化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7451640" y="5084640"/>
            <a:ext cx="1368360" cy="642600"/>
          </a:xfrm>
          <a:prstGeom prst="rect">
            <a:avLst/>
          </a:prstGeom>
          <a:noFill/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ショッピングサイ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427640" y="6165720"/>
            <a:ext cx="2087640" cy="368280"/>
          </a:xfrm>
          <a:prstGeom prst="rect">
            <a:avLst/>
          </a:prstGeom>
          <a:noFill/>
          <a:ln w="284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購入品目（復号化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364000" y="4365720"/>
            <a:ext cx="1368720" cy="6426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カード情報（復号化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203640" y="4221000"/>
            <a:ext cx="1224000" cy="368280"/>
          </a:xfrm>
          <a:prstGeom prst="rect">
            <a:avLst/>
          </a:prstGeom>
          <a:noFill/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カード会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.5.9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G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95280" y="1628640"/>
            <a:ext cx="4681440" cy="1068840"/>
          </a:xfrm>
          <a:prstGeom prst="rect">
            <a:avLst/>
          </a:prstGeom>
          <a:solidFill>
            <a:srgbClr val="66ffff"/>
          </a:solidFill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GP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tty Good Privacy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95280" y="2276640"/>
            <a:ext cx="8209080" cy="1789920"/>
          </a:xfrm>
          <a:prstGeom prst="rect">
            <a:avLst/>
          </a:prstGeom>
          <a:noFill/>
          <a:ln w="381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・電子メールを暗号化するための暗号システム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・</a:t>
            </a: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1991</a:t>
            </a: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年、アメリカの</a:t>
            </a: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P. Zimmermann</a:t>
            </a: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によって開発 され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・公開鍵方式で、デジタル署名機能付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・公開鍵は認証機関でなく、ユーザ同士で相互に正当性を認証す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395280" y="4724280"/>
            <a:ext cx="8280360" cy="368280"/>
          </a:xfrm>
          <a:prstGeom prst="rect">
            <a:avLst/>
          </a:prstGeom>
          <a:noFill/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暗号＝武器とみなされ、アメリカの輸出規制法違反となり公開がおくれた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95280" y="5445000"/>
            <a:ext cx="8280360" cy="368280"/>
          </a:xfrm>
          <a:prstGeom prst="rect">
            <a:avLst/>
          </a:prstGeom>
          <a:noFill/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軍事用と別に一般向けの「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PGP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国際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」が開発され、フリーウェアとして配布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95280" y="4292640"/>
            <a:ext cx="2376360" cy="398880"/>
          </a:xfrm>
          <a:prstGeom prst="rect">
            <a:avLst/>
          </a:prstGeom>
          <a:solidFill>
            <a:srgbClr val="ccff33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PGP</a:t>
            </a: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国際版の配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395280" y="6165720"/>
            <a:ext cx="8280360" cy="368280"/>
          </a:xfrm>
          <a:prstGeom prst="rect">
            <a:avLst/>
          </a:prstGeom>
          <a:noFill/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X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S-DOS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X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s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に対応し、日本語版も開発されてい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924360" y="5084640"/>
            <a:ext cx="863640" cy="287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3924360" y="5805360"/>
            <a:ext cx="863640" cy="287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５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６　セキュリティポリシー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5796000" y="1989000"/>
            <a:ext cx="3348000" cy="194472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324000" y="2205000"/>
            <a:ext cx="4248000" cy="398880"/>
          </a:xfrm>
          <a:prstGeom prst="rect">
            <a:avLst/>
          </a:prstGeom>
          <a:solidFill>
            <a:srgbClr val="ffff00"/>
          </a:solidFill>
          <a:ln w="9360">
            <a:solidFill>
              <a:srgbClr val="cc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１．セキュリティポリシーの立案・策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50920" y="1628640"/>
            <a:ext cx="6264360" cy="398880"/>
          </a:xfrm>
          <a:prstGeom prst="rect">
            <a:avLst/>
          </a:prstGeom>
          <a:solidFill>
            <a:srgbClr val="66ffff"/>
          </a:solidFill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組織全体に対するセキュリティの基盤となるガイドライ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684360" y="2637000"/>
            <a:ext cx="4895640" cy="368280"/>
          </a:xfrm>
          <a:prstGeom prst="rect">
            <a:avLst/>
          </a:prstGeom>
          <a:noFill/>
          <a:ln w="38160">
            <a:solidFill>
              <a:srgbClr val="cc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利用される情報と危険性を分析し、対策を立案（パスワード管理、不正アクセスやウィルス対策）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324000" y="3357720"/>
            <a:ext cx="3816360" cy="398880"/>
          </a:xfrm>
          <a:prstGeom prst="rect">
            <a:avLst/>
          </a:prstGeom>
          <a:solidFill>
            <a:srgbClr val="ffff00"/>
          </a:solidFill>
          <a:ln w="9360">
            <a:solidFill>
              <a:srgbClr val="cc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２．ネットワーク機器の選定・構築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684360" y="3789360"/>
            <a:ext cx="5543280" cy="368280"/>
          </a:xfrm>
          <a:prstGeom prst="rect">
            <a:avLst/>
          </a:prstGeom>
          <a:noFill/>
          <a:ln w="38160">
            <a:solidFill>
              <a:srgbClr val="cc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機器の選定と導入、および各機器やソフトウェアの設定（アクセス権の設定、ファイアウォール構築等）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324000" y="4508640"/>
            <a:ext cx="4176720" cy="398880"/>
          </a:xfrm>
          <a:prstGeom prst="rect">
            <a:avLst/>
          </a:prstGeom>
          <a:solidFill>
            <a:srgbClr val="ffff00"/>
          </a:solidFill>
          <a:ln w="9360">
            <a:solidFill>
              <a:srgbClr val="cc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３．セキュリティポリシーの運用・実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684360" y="4941720"/>
            <a:ext cx="7127640" cy="368280"/>
          </a:xfrm>
          <a:prstGeom prst="rect">
            <a:avLst/>
          </a:prstGeom>
          <a:noFill/>
          <a:ln w="38160">
            <a:solidFill>
              <a:srgbClr val="cc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組織全員に対する教育、システムの更新作業 、アタックについての記録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324000" y="5373720"/>
            <a:ext cx="1655640" cy="398880"/>
          </a:xfrm>
          <a:prstGeom prst="rect">
            <a:avLst/>
          </a:prstGeom>
          <a:solidFill>
            <a:srgbClr val="ffff00"/>
          </a:solidFill>
          <a:ln w="9360">
            <a:solidFill>
              <a:srgbClr val="cc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４．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分析・改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84360" y="5805360"/>
            <a:ext cx="6335640" cy="368280"/>
          </a:xfrm>
          <a:prstGeom prst="rect">
            <a:avLst/>
          </a:prstGeom>
          <a:noFill/>
          <a:ln w="38160">
            <a:solidFill>
              <a:srgbClr val="cc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設定や管理が適切か、ルールを遵守できたかなどの分析と改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84360" y="6362640"/>
            <a:ext cx="7704000" cy="398880"/>
          </a:xfrm>
          <a:prstGeom prst="rect">
            <a:avLst/>
          </a:prstGeom>
          <a:solidFill>
            <a:srgbClr val="ffcc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上記の４段階を繰り返しながら運用し、情報社会の変化に対応す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5.4.1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　パーソナル機のバックアップ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195640" y="2421000"/>
            <a:ext cx="2376360" cy="862560"/>
          </a:xfrm>
          <a:prstGeom prst="rect">
            <a:avLst/>
          </a:prstGeom>
          <a:noFill/>
          <a:ln w="381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・破壊、消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・システム障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11280" y="3500280"/>
            <a:ext cx="4032000" cy="459720"/>
          </a:xfrm>
          <a:prstGeom prst="rect">
            <a:avLst/>
          </a:prstGeom>
          <a:solidFill>
            <a:srgbClr val="99cc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大容量メディアへバックアッ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68360" y="1916280"/>
            <a:ext cx="5111640" cy="459720"/>
          </a:xfrm>
          <a:prstGeom prst="rect">
            <a:avLst/>
          </a:pr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ハードディスクのデータ・システム全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6012000" y="1773360"/>
            <a:ext cx="796680" cy="165564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7667640" y="2276640"/>
            <a:ext cx="1225440" cy="2016000"/>
          </a:xfrm>
          <a:custGeom>
            <a:avLst/>
            <a:gdLst>
              <a:gd name="textAreaLeft" fmla="*/ 164160 w 1225440"/>
              <a:gd name="textAreaRight" fmla="*/ 1061280 w 1225440"/>
              <a:gd name="textAreaTop" fmla="*/ 352800 h 2016000"/>
              <a:gd name="textAreaBottom" fmla="*/ 1461600 h 20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71640" y="2421000"/>
            <a:ext cx="1008000" cy="1008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476360" y="4076640"/>
            <a:ext cx="3382920" cy="862560"/>
          </a:xfrm>
          <a:prstGeom prst="rect">
            <a:avLst/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・ダメージを最小限にとどめ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・復旧を早くす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547640" y="5734080"/>
            <a:ext cx="7056720" cy="862560"/>
          </a:xfrm>
          <a:prstGeom prst="rect">
            <a:avLst/>
          </a:prstGeom>
          <a:noFill/>
          <a:ln w="381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・ファイルやフォルダをエクスプローラなどでコピ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・</a:t>
            </a: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Windows</a:t>
            </a: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のバックアップユーティリティの活用　（初心者向け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11280" y="5157720"/>
            <a:ext cx="2950920" cy="459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バックアップの方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5364000" y="3429000"/>
            <a:ext cx="2616480" cy="18511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.4.2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　サーバ機のバックアッ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8360" y="1916280"/>
            <a:ext cx="3527280" cy="459720"/>
          </a:xfrm>
          <a:prstGeom prst="rect">
            <a:avLst/>
          </a:pr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大容量機のバックアッ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95640" y="2421000"/>
            <a:ext cx="1871640" cy="862560"/>
          </a:xfrm>
          <a:prstGeom prst="rect">
            <a:avLst/>
          </a:prstGeom>
          <a:noFill/>
          <a:ln w="381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・サーバ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・データベー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8360" y="3573360"/>
            <a:ext cx="3744720" cy="459720"/>
          </a:xfrm>
          <a:prstGeom prst="rect">
            <a:avLst/>
          </a:prstGeom>
          <a:solidFill>
            <a:srgbClr val="99cc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T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VD-R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磁気テー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971640" y="2421000"/>
            <a:ext cx="1008000" cy="1008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508720" y="1844640"/>
            <a:ext cx="2844720" cy="459720"/>
          </a:xfrm>
          <a:prstGeom prst="rect">
            <a:avLst/>
          </a:prstGeom>
          <a:solidFill>
            <a:srgbClr val="99cc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AI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ミラーリング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11640" y="1700280"/>
            <a:ext cx="1008000" cy="792000"/>
          </a:xfrm>
          <a:prstGeom prst="rightArrow">
            <a:avLst>
              <a:gd name="adj1" fmla="val 50000"/>
              <a:gd name="adj2" fmla="val 31818"/>
            </a:avLst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076720" y="2565360"/>
            <a:ext cx="3781440" cy="1326240"/>
          </a:xfrm>
          <a:prstGeom prst="rect">
            <a:avLst/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・ハードディスクを二重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・書き込みが同時に行われ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・一方が故障しても他方を使用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364000" y="5157720"/>
            <a:ext cx="1081080" cy="935280"/>
          </a:xfrm>
          <a:prstGeom prst="can">
            <a:avLst>
              <a:gd name="adj" fmla="val 25000"/>
            </a:avLst>
          </a:prstGeom>
          <a:solidFill>
            <a:srgbClr val="66ff3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デー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36000" y="5157720"/>
            <a:ext cx="1081080" cy="935280"/>
          </a:xfrm>
          <a:prstGeom prst="can">
            <a:avLst>
              <a:gd name="adj" fmla="val 25000"/>
            </a:avLst>
          </a:prstGeom>
          <a:solidFill>
            <a:srgbClr val="66ff3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デー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156360" y="4076640"/>
            <a:ext cx="1295280" cy="576360"/>
          </a:xfrm>
          <a:prstGeom prst="foldedCorner">
            <a:avLst>
              <a:gd name="adj" fmla="val 12500"/>
            </a:avLst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デー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804000" y="4653000"/>
            <a:ext cx="0" cy="216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940360" y="4869000"/>
            <a:ext cx="18716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940360" y="4869000"/>
            <a:ext cx="0" cy="287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812000" y="4869000"/>
            <a:ext cx="0" cy="287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076720" y="6165720"/>
            <a:ext cx="1728720" cy="398880"/>
          </a:xfrm>
          <a:prstGeom prst="rect">
            <a:avLst/>
          </a:prstGeom>
          <a:noFill/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データディス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77080" y="6165720"/>
            <a:ext cx="1979640" cy="398880"/>
          </a:xfrm>
          <a:prstGeom prst="rect">
            <a:avLst/>
          </a:prstGeom>
          <a:noFill/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チェックディス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987640" y="4365720"/>
            <a:ext cx="1224000" cy="82368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755640" y="4508640"/>
            <a:ext cx="712800" cy="19447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 rot="891000">
            <a:off x="2916000" y="5373360"/>
            <a:ext cx="1403280" cy="107460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1763640" y="4724280"/>
            <a:ext cx="936720" cy="1440000"/>
          </a:xfrm>
          <a:custGeom>
            <a:avLst/>
            <a:gdLst>
              <a:gd name="textAreaLeft" fmla="*/ 117000 w 936720"/>
              <a:gd name="textAreaRight" fmla="*/ 819720 w 936720"/>
              <a:gd name="textAreaTop" fmla="*/ 360000 h 1440000"/>
              <a:gd name="textAreaBottom" fmla="*/ 1080000 h 1440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5292720" y="3500280"/>
            <a:ext cx="3529080" cy="273708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84360" y="3500280"/>
            <a:ext cx="3528720" cy="266544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.4.3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　通常のファイル管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68360" y="1557360"/>
            <a:ext cx="5256000" cy="1557000"/>
          </a:xfrm>
          <a:prstGeom prst="rect">
            <a:avLst/>
          </a:prstGeom>
          <a:solidFill>
            <a:srgbClr val="ffff00"/>
          </a:solidFill>
          <a:ln w="381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１．ファイルのコピー、移動、消去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２．フォルダの作成、ファイルをまとめ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３．外部メディアとデータをやり取り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４．フォルダのカテゴリ別分類、階層化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File"/>
          <p:cNvSpPr/>
          <p:nvPr/>
        </p:nvSpPr>
        <p:spPr>
          <a:xfrm>
            <a:off x="6012000" y="3645000"/>
            <a:ext cx="863640" cy="5745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File"/>
          <p:cNvSpPr/>
          <p:nvPr/>
        </p:nvSpPr>
        <p:spPr>
          <a:xfrm>
            <a:off x="6012000" y="4292640"/>
            <a:ext cx="863640" cy="5745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ile"/>
          <p:cNvSpPr/>
          <p:nvPr/>
        </p:nvSpPr>
        <p:spPr>
          <a:xfrm>
            <a:off x="1547640" y="5013360"/>
            <a:ext cx="863640" cy="5745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File"/>
          <p:cNvSpPr/>
          <p:nvPr/>
        </p:nvSpPr>
        <p:spPr>
          <a:xfrm>
            <a:off x="971640" y="5084640"/>
            <a:ext cx="863640" cy="5749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File"/>
          <p:cNvSpPr/>
          <p:nvPr/>
        </p:nvSpPr>
        <p:spPr>
          <a:xfrm>
            <a:off x="2700360" y="4221000"/>
            <a:ext cx="863640" cy="5749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File"/>
          <p:cNvSpPr/>
          <p:nvPr/>
        </p:nvSpPr>
        <p:spPr>
          <a:xfrm>
            <a:off x="1547640" y="3716280"/>
            <a:ext cx="863640" cy="5745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File"/>
          <p:cNvSpPr/>
          <p:nvPr/>
        </p:nvSpPr>
        <p:spPr>
          <a:xfrm>
            <a:off x="2556000" y="5300640"/>
            <a:ext cx="863640" cy="5745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File"/>
          <p:cNvSpPr/>
          <p:nvPr/>
        </p:nvSpPr>
        <p:spPr>
          <a:xfrm>
            <a:off x="1042920" y="4005360"/>
            <a:ext cx="863640" cy="5745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ile"/>
          <p:cNvSpPr/>
          <p:nvPr/>
        </p:nvSpPr>
        <p:spPr>
          <a:xfrm>
            <a:off x="7667640" y="3789360"/>
            <a:ext cx="504720" cy="28584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ile"/>
          <p:cNvSpPr/>
          <p:nvPr/>
        </p:nvSpPr>
        <p:spPr>
          <a:xfrm>
            <a:off x="7667640" y="4149720"/>
            <a:ext cx="504720" cy="28584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File"/>
          <p:cNvSpPr/>
          <p:nvPr/>
        </p:nvSpPr>
        <p:spPr>
          <a:xfrm>
            <a:off x="7667640" y="4869000"/>
            <a:ext cx="504720" cy="28548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File"/>
          <p:cNvSpPr/>
          <p:nvPr/>
        </p:nvSpPr>
        <p:spPr>
          <a:xfrm>
            <a:off x="7667640" y="4508640"/>
            <a:ext cx="504720" cy="28548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File"/>
          <p:cNvSpPr/>
          <p:nvPr/>
        </p:nvSpPr>
        <p:spPr>
          <a:xfrm>
            <a:off x="7667640" y="5589720"/>
            <a:ext cx="504720" cy="28548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File"/>
          <p:cNvSpPr/>
          <p:nvPr/>
        </p:nvSpPr>
        <p:spPr>
          <a:xfrm>
            <a:off x="7667640" y="5229360"/>
            <a:ext cx="504720" cy="28548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File"/>
          <p:cNvSpPr/>
          <p:nvPr/>
        </p:nvSpPr>
        <p:spPr>
          <a:xfrm>
            <a:off x="1979640" y="4941720"/>
            <a:ext cx="863640" cy="5749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File"/>
          <p:cNvSpPr/>
          <p:nvPr/>
        </p:nvSpPr>
        <p:spPr>
          <a:xfrm>
            <a:off x="2771640" y="3789360"/>
            <a:ext cx="863640" cy="5745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File"/>
          <p:cNvSpPr/>
          <p:nvPr/>
        </p:nvSpPr>
        <p:spPr>
          <a:xfrm>
            <a:off x="3059280" y="4149720"/>
            <a:ext cx="863280" cy="5745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File"/>
          <p:cNvSpPr/>
          <p:nvPr/>
        </p:nvSpPr>
        <p:spPr>
          <a:xfrm>
            <a:off x="2340000" y="4653000"/>
            <a:ext cx="863640" cy="5745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File"/>
          <p:cNvSpPr/>
          <p:nvPr/>
        </p:nvSpPr>
        <p:spPr>
          <a:xfrm>
            <a:off x="1403280" y="4797360"/>
            <a:ext cx="863640" cy="5749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356000" y="4508640"/>
            <a:ext cx="863640" cy="10080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File"/>
          <p:cNvSpPr/>
          <p:nvPr/>
        </p:nvSpPr>
        <p:spPr>
          <a:xfrm>
            <a:off x="6012000" y="5373720"/>
            <a:ext cx="863640" cy="5745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File"/>
          <p:cNvSpPr/>
          <p:nvPr/>
        </p:nvSpPr>
        <p:spPr>
          <a:xfrm>
            <a:off x="7667640" y="5950080"/>
            <a:ext cx="504720" cy="28548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948360" y="3933720"/>
            <a:ext cx="719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948360" y="4653000"/>
            <a:ext cx="719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948360" y="5734080"/>
            <a:ext cx="719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7308720" y="3933360"/>
            <a:ext cx="0" cy="358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7308360" y="4292640"/>
            <a:ext cx="358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7308360" y="5013360"/>
            <a:ext cx="358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7308360" y="5373720"/>
            <a:ext cx="358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7308360" y="6093000"/>
            <a:ext cx="358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7308720" y="4653000"/>
            <a:ext cx="0" cy="72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7308720" y="5733720"/>
            <a:ext cx="0" cy="358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cddrive"/>
          <p:cNvSpPr/>
          <p:nvPr/>
        </p:nvSpPr>
        <p:spPr>
          <a:xfrm>
            <a:off x="6732720" y="1700280"/>
            <a:ext cx="1809720" cy="904680"/>
          </a:xfrm>
          <a:prstGeom prst="pi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012000" y="2276640"/>
            <a:ext cx="6476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3564000" y="3357360"/>
            <a:ext cx="0" cy="647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3564000" y="3357720"/>
            <a:ext cx="2448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6012000" y="2276280"/>
            <a:ext cx="0" cy="1081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74840" y="6245280"/>
            <a:ext cx="4032000" cy="3988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フォルダの整理ができていない状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630760" y="6284880"/>
            <a:ext cx="2735280" cy="398880"/>
          </a:xfrm>
          <a:prstGeom prst="rect">
            <a:avLst/>
          </a:prstGeom>
          <a:noFill/>
          <a:ln w="381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カテゴリ別分類・階層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948360" y="2708280"/>
            <a:ext cx="151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外部メディ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.5.1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　暗号通信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187280" y="5373720"/>
            <a:ext cx="6769440" cy="1191240"/>
          </a:xfrm>
          <a:prstGeom prst="rect">
            <a:avLst/>
          </a:prstGeom>
          <a:noFill/>
          <a:ln w="28440">
            <a:solidFill>
              <a:srgbClr val="00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１．暗号の仕組みを複数のユーザで共有可能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２．仕組みを知っていても、鍵がなければ解読困難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３．鍵を安全に配送することができ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826920" y="4941720"/>
            <a:ext cx="4248360" cy="459720"/>
          </a:xfrm>
          <a:prstGeom prst="rect">
            <a:avLst/>
          </a:prstGeom>
          <a:solidFill>
            <a:srgbClr val="ccffcc"/>
          </a:solidFill>
          <a:ln w="28440">
            <a:solidFill>
              <a:srgbClr val="00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ネットワーク暗号に必要な条件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4716360" y="2133720"/>
            <a:ext cx="4105440" cy="216828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835280" y="2276640"/>
            <a:ext cx="2160360" cy="862560"/>
          </a:xfrm>
          <a:prstGeom prst="rect">
            <a:avLst/>
          </a:prstGeom>
          <a:noFill/>
          <a:ln w="284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通信の「盗聴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データの「改ざん」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84360" y="3357720"/>
            <a:ext cx="2087280" cy="459720"/>
          </a:xfrm>
          <a:prstGeom prst="rect">
            <a:avLst/>
          </a:prstGeom>
          <a:solidFill>
            <a:srgbClr val="99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通信の暗号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11280" y="1844640"/>
            <a:ext cx="3313080" cy="39888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ネットワーク上の脅威（攻撃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900000" y="2349360"/>
            <a:ext cx="792360" cy="935280"/>
          </a:xfrm>
          <a:prstGeom prst="downArrow">
            <a:avLst>
              <a:gd name="adj1" fmla="val 50000"/>
              <a:gd name="adj2" fmla="val 29509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042920" y="3860640"/>
            <a:ext cx="3888000" cy="862560"/>
          </a:xfrm>
          <a:prstGeom prst="rect">
            <a:avLst/>
          </a:prstGeom>
          <a:noFill/>
          <a:ln w="2844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・送信データを暗号化し隠蔽す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・暗号化・復号化には「鍵」が必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003640" y="314172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暗号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524720" y="314172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復号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867280" y="4292640"/>
            <a:ext cx="1800360" cy="785520"/>
          </a:xfrm>
          <a:prstGeom prst="rect">
            <a:avLst/>
          </a:prstGeom>
          <a:noFill/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隠蔽された文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［暗号文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19640" y="1484280"/>
            <a:ext cx="936720" cy="368280"/>
          </a:xfrm>
          <a:prstGeom prst="rect">
            <a:avLst/>
          </a:prstGeom>
          <a:solidFill>
            <a:srgbClr val="ffff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送信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236000" y="1484280"/>
            <a:ext cx="936360" cy="368280"/>
          </a:xfrm>
          <a:prstGeom prst="rect">
            <a:avLst/>
          </a:prstGeom>
          <a:solidFill>
            <a:srgbClr val="ffff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受信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1844640"/>
            <a:ext cx="9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［平文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8028000" y="1844640"/>
            <a:ext cx="9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［平文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.5.2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　暗号の仕組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24000" y="1773360"/>
            <a:ext cx="865080" cy="459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換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187280" y="1773360"/>
            <a:ext cx="5329440" cy="1191240"/>
          </a:xfrm>
          <a:prstGeom prst="rect">
            <a:avLst/>
          </a:prstGeom>
          <a:noFill/>
          <a:ln w="38160">
            <a:solidFill>
              <a:srgbClr val="00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ＭＳ ゴシック"/>
              </a:rPr>
              <a:t>平　文　　ＡＢＣＤＥ・・・ＸＹ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　　　　↓↓↓↓↓ 　　 ↓↓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ＭＳ ゴシック"/>
              </a:rPr>
              <a:t>暗号文　　ＫＧＷＱＢ・・・ＣＲＭ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7451640" y="1773360"/>
            <a:ext cx="1297080" cy="1206360"/>
          </a:xfrm>
          <a:prstGeom prst="rect">
            <a:avLst/>
          </a:prstGeom>
          <a:noFill/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ＭＳ ゴシック"/>
              </a:rPr>
              <a:t>ＣＡ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ゴシック"/>
              </a:rPr>
              <a:t>↓↓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ＭＳ ゴシック"/>
              </a:rPr>
              <a:t>ＷＫ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877080" y="1773360"/>
            <a:ext cx="576360" cy="459720"/>
          </a:xfrm>
          <a:prstGeom prst="rect">
            <a:avLst/>
          </a:prstGeom>
          <a:solidFill>
            <a:srgbClr val="ffff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187280" y="3141720"/>
            <a:ext cx="6985080" cy="846720"/>
          </a:xfrm>
          <a:prstGeom prst="rect">
            <a:avLst/>
          </a:prstGeom>
          <a:noFill/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・ある規則（変換テーブル）に基づいて文字を別な文字に変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・上記の換字暗号では変換テーブルが共通の「鍵」とな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24000" y="4292640"/>
            <a:ext cx="865080" cy="459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転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187280" y="4292640"/>
            <a:ext cx="6121440" cy="1191240"/>
          </a:xfrm>
          <a:prstGeom prst="rect">
            <a:avLst/>
          </a:prstGeom>
          <a:noFill/>
          <a:ln w="38160">
            <a:solidFill>
              <a:srgbClr val="00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ＭＳ ゴシック"/>
              </a:rPr>
              <a:t>平文　　ＫＩＮＤ　ＡＩＫＡ　ＧＡＫ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ＭＳ ゴシック"/>
              </a:rPr>
              <a:t>鍵　　　２４１３　２４１３　２４１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ＭＳ ゴシック"/>
              </a:rPr>
              <a:t>暗号文　ＮＫＤＩ　ＫＡＡＩ　ＫＧＵ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187280" y="5589720"/>
            <a:ext cx="7056720" cy="862560"/>
          </a:xfrm>
          <a:prstGeom prst="rect">
            <a:avLst/>
          </a:prstGeom>
          <a:noFill/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・文字の順序をある規則に従って入れ替え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・上記の転置暗号では「２４１３」（置き換えの規則）が「鍵」とな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5.5.3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　共通鍵暗号方式　－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S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547640" y="2349360"/>
            <a:ext cx="7345440" cy="1326240"/>
          </a:xfrm>
          <a:prstGeom prst="rect">
            <a:avLst/>
          </a:prstGeom>
          <a:noFill/>
          <a:ln w="28440">
            <a:solidFill>
              <a:srgbClr val="00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・共通鍵暗号方式の代表例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・</a:t>
            </a: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1970</a:t>
            </a: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年代、アメリカ商務省でネットワーク用に規格化（標準化）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・換字（１６段階）と転置（２回）を組み合わせて暗号化す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11280" y="2349360"/>
            <a:ext cx="936360" cy="459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ＤＥ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89080" y="4292640"/>
            <a:ext cx="1440000" cy="3585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こんにち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060720" y="4292640"/>
            <a:ext cx="1224000" cy="406440"/>
          </a:xfrm>
          <a:prstGeom prst="parallelogram">
            <a:avLst>
              <a:gd name="adj" fmla="val 33461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*FP$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629080" y="4508640"/>
            <a:ext cx="501480" cy="0"/>
          </a:xfrm>
          <a:prstGeom prst="line">
            <a:avLst/>
          </a:prstGeom>
          <a:ln w="5724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4160" rIns="7416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156360" y="4508640"/>
            <a:ext cx="504720" cy="0"/>
          </a:xfrm>
          <a:prstGeom prst="line">
            <a:avLst/>
          </a:prstGeom>
          <a:ln w="5724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4160" rIns="7416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356000" y="4292640"/>
            <a:ext cx="628920" cy="406440"/>
          </a:xfrm>
          <a:prstGeom prst="rightArrow">
            <a:avLst>
              <a:gd name="adj1" fmla="val 50000"/>
              <a:gd name="adj2" fmla="val 38685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661080" y="4292640"/>
            <a:ext cx="1440000" cy="3585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こんにち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005440" y="4292640"/>
            <a:ext cx="1224000" cy="406440"/>
          </a:xfrm>
          <a:prstGeom prst="parallelogram">
            <a:avLst>
              <a:gd name="adj" fmla="val 33461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*FP$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413080" y="4653000"/>
            <a:ext cx="936720" cy="936720"/>
          </a:xfrm>
          <a:prstGeom prst="upArrowCallout">
            <a:avLst>
              <a:gd name="adj1" fmla="val 25002"/>
              <a:gd name="adj2" fmla="val 25000"/>
              <a:gd name="adj3" fmla="val 16667"/>
              <a:gd name="adj4" fmla="val 6666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共通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869080" y="4651200"/>
            <a:ext cx="936360" cy="936720"/>
          </a:xfrm>
          <a:prstGeom prst="upArrowCallout">
            <a:avLst>
              <a:gd name="adj1" fmla="val 25002"/>
              <a:gd name="adj2" fmla="val 25000"/>
              <a:gd name="adj3" fmla="val 16673"/>
              <a:gd name="adj4" fmla="val 6666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共通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1476360" y="5157720"/>
            <a:ext cx="852480" cy="44604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2"/>
          <a:stretch/>
        </p:blipFill>
        <p:spPr>
          <a:xfrm>
            <a:off x="6948360" y="5157720"/>
            <a:ext cx="852480" cy="44604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2340000" y="386064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暗号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940360" y="386064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復号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140360" y="386064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通信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12720" y="3859200"/>
            <a:ext cx="936720" cy="368280"/>
          </a:xfrm>
          <a:prstGeom prst="rect">
            <a:avLst/>
          </a:prstGeom>
          <a:solidFill>
            <a:srgbClr val="ffff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送信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813800" y="3859200"/>
            <a:ext cx="936360" cy="368280"/>
          </a:xfrm>
          <a:prstGeom prst="rect">
            <a:avLst/>
          </a:prstGeom>
          <a:solidFill>
            <a:srgbClr val="ffff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受信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5734080"/>
            <a:ext cx="3384360" cy="79056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・鍵は安全な経路で交換が必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・通信の相手によって鍵を変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H="1" rot="5400000">
            <a:off x="6190920" y="5770080"/>
            <a:ext cx="576360" cy="503280"/>
          </a:xfrm>
          <a:custGeom>
            <a:avLst/>
            <a:gdLst>
              <a:gd name="textAreaLeft" fmla="*/ -360 w 576360"/>
              <a:gd name="textAreaRight" fmla="*/ 576360 w 576360"/>
              <a:gd name="textAreaTop" fmla="*/ 0 h 503280"/>
              <a:gd name="textAreaBottom" fmla="*/ 5036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rot="16200000">
            <a:off x="2303280" y="5770080"/>
            <a:ext cx="576360" cy="503280"/>
          </a:xfrm>
          <a:custGeom>
            <a:avLst/>
            <a:gdLst>
              <a:gd name="textAreaLeft" fmla="*/ 0 w 576360"/>
              <a:gd name="textAreaRight" fmla="*/ 576720 w 576360"/>
              <a:gd name="textAreaTop" fmla="*/ 0 h 503280"/>
              <a:gd name="textAreaBottom" fmla="*/ 5036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971640" y="1628640"/>
            <a:ext cx="7056360" cy="459720"/>
          </a:xfrm>
          <a:prstGeom prst="rect">
            <a:avLst/>
          </a:prstGeom>
          <a:solidFill>
            <a:srgbClr val="99ccff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共通鍵暗号：暗号化と復号化に共通の鍵を使用す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16200000">
            <a:off x="4356000" y="4365000"/>
            <a:ext cx="647640" cy="1511280"/>
          </a:xfrm>
          <a:custGeom>
            <a:avLst/>
            <a:gdLst>
              <a:gd name="textAreaLeft" fmla="*/ 101160 w 647640"/>
              <a:gd name="textAreaRight" fmla="*/ 567000 w 647640"/>
              <a:gd name="textAreaTop" fmla="*/ 377640 h 1511280"/>
              <a:gd name="textAreaBottom" fmla="*/ 1133640 h 1511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攻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5.5.4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　公開鍵暗号方式　－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SA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189080" y="4292640"/>
            <a:ext cx="1440000" cy="3585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こんにち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060720" y="4292640"/>
            <a:ext cx="1224000" cy="406440"/>
          </a:xfrm>
          <a:prstGeom prst="parallelogram">
            <a:avLst>
              <a:gd name="adj" fmla="val 33461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L$J2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629080" y="4508640"/>
            <a:ext cx="501480" cy="0"/>
          </a:xfrm>
          <a:prstGeom prst="line">
            <a:avLst/>
          </a:prstGeom>
          <a:ln w="572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4160" rIns="7416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156360" y="4508640"/>
            <a:ext cx="504720" cy="0"/>
          </a:xfrm>
          <a:prstGeom prst="line">
            <a:avLst/>
          </a:prstGeom>
          <a:ln w="5724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4160" rIns="7416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356000" y="4292640"/>
            <a:ext cx="628920" cy="406440"/>
          </a:xfrm>
          <a:prstGeom prst="rightArrow">
            <a:avLst>
              <a:gd name="adj1" fmla="val 50000"/>
              <a:gd name="adj2" fmla="val 38685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661080" y="4292640"/>
            <a:ext cx="1440000" cy="3585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こんにち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005440" y="4292640"/>
            <a:ext cx="1224000" cy="406440"/>
          </a:xfrm>
          <a:prstGeom prst="parallelogram">
            <a:avLst>
              <a:gd name="adj" fmla="val 33461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L$J2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413080" y="4653000"/>
            <a:ext cx="1079280" cy="936720"/>
          </a:xfrm>
          <a:prstGeom prst="upArrowCallout">
            <a:avLst>
              <a:gd name="adj1" fmla="val 28807"/>
              <a:gd name="adj2" fmla="val 28805"/>
              <a:gd name="adj3" fmla="val 16667"/>
              <a:gd name="adj4" fmla="val 66660"/>
            </a:avLst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b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公開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796000" y="4651200"/>
            <a:ext cx="1009440" cy="936720"/>
          </a:xfrm>
          <a:prstGeom prst="upArrowCallout">
            <a:avLst>
              <a:gd name="adj1" fmla="val 26943"/>
              <a:gd name="adj2" fmla="val 26941"/>
              <a:gd name="adj3" fmla="val 16667"/>
              <a:gd name="adj4" fmla="val 6666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b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秘密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6877080" y="5013360"/>
            <a:ext cx="852480" cy="44604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2340000" y="386064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暗号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940360" y="386064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復号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140360" y="386064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通信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95280" y="3860640"/>
            <a:ext cx="1584360" cy="368280"/>
          </a:xfrm>
          <a:prstGeom prst="rect">
            <a:avLst/>
          </a:prstGeom>
          <a:solidFill>
            <a:srgbClr val="66ffff"/>
          </a:solidFill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ＭＳ Ｐゴシック"/>
              </a:rPr>
              <a:t>送信者</a:t>
            </a:r>
            <a:r>
              <a:rPr b="1" lang="en-US" sz="1800" spc="-1" strike="noStrike">
                <a:solidFill>
                  <a:srgbClr val="000000"/>
                </a:solidFill>
                <a:latin typeface="ＭＳ Ｐゴシック"/>
              </a:rPr>
              <a:t>(Alic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451640" y="3860640"/>
            <a:ext cx="1441440" cy="368280"/>
          </a:xfrm>
          <a:prstGeom prst="rect">
            <a:avLst/>
          </a:prstGeom>
          <a:solidFill>
            <a:srgbClr val="66ffff"/>
          </a:solidFill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ＭＳ Ｐゴシック"/>
              </a:rPr>
              <a:t>受信者</a:t>
            </a:r>
            <a:r>
              <a:rPr b="1" lang="en-US" sz="1800" spc="-1" strike="noStrike">
                <a:solidFill>
                  <a:srgbClr val="000000"/>
                </a:solidFill>
                <a:latin typeface="ＭＳ Ｐゴシック"/>
              </a:rPr>
              <a:t>(Bo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203640" y="5805360"/>
            <a:ext cx="3097080" cy="86364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・秘密鍵は受信者だけが保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・公開鍵を送信者に配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50920" y="1628640"/>
            <a:ext cx="8675640" cy="459720"/>
          </a:xfrm>
          <a:prstGeom prst="rect">
            <a:avLst/>
          </a:prstGeom>
          <a:solidFill>
            <a:srgbClr val="99ccff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公開鍵暗号：２本の鍵を生成し、そのうちの１本を公開（配布）す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11280" y="2349360"/>
            <a:ext cx="936360" cy="459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ＲＳ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547640" y="2349360"/>
            <a:ext cx="6769440" cy="1326240"/>
          </a:xfrm>
          <a:prstGeom prst="rect">
            <a:avLst/>
          </a:prstGeom>
          <a:noFill/>
          <a:ln w="28440">
            <a:solidFill>
              <a:srgbClr val="00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・公開鍵暗号方式の代表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・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３人の発案者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R.Rivest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A.Shamir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L.Adleman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のイニシャル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・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鍵配送の安全性や本数増加の問題を解決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1258920" y="5013360"/>
            <a:ext cx="1081080" cy="57636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H="1" rot="5400000">
            <a:off x="6264000" y="5841360"/>
            <a:ext cx="576360" cy="503280"/>
          </a:xfrm>
          <a:custGeom>
            <a:avLst/>
            <a:gdLst>
              <a:gd name="textAreaLeft" fmla="*/ -360 w 576360"/>
              <a:gd name="textAreaRight" fmla="*/ 576360 w 576360"/>
              <a:gd name="textAreaTop" fmla="*/ 0 h 503280"/>
              <a:gd name="textAreaBottom" fmla="*/ 5036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16200000">
            <a:off x="2663640" y="5770080"/>
            <a:ext cx="576360" cy="503280"/>
          </a:xfrm>
          <a:custGeom>
            <a:avLst/>
            <a:gdLst>
              <a:gd name="textAreaLeft" fmla="*/ 0 w 576360"/>
              <a:gd name="textAreaRight" fmla="*/ 576720 w 576360"/>
              <a:gd name="textAreaTop" fmla="*/ 0 h 503280"/>
              <a:gd name="textAreaBottom" fmla="*/ 5036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rot="16200000">
            <a:off x="4356000" y="4365000"/>
            <a:ext cx="647640" cy="1511280"/>
          </a:xfrm>
          <a:custGeom>
            <a:avLst/>
            <a:gdLst>
              <a:gd name="textAreaLeft" fmla="*/ 101160 w 647640"/>
              <a:gd name="textAreaRight" fmla="*/ 567000 w 647640"/>
              <a:gd name="textAreaTop" fmla="*/ 377640 h 1511280"/>
              <a:gd name="textAreaBottom" fmla="*/ 1133640 h 1511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攻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5.5.5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　公開鍵の認証機関　－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7093080" y="1628640"/>
            <a:ext cx="1584360" cy="45972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偽装サイ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5796000" y="1989000"/>
            <a:ext cx="1657440" cy="135576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"/>
          <p:cNvPicPr/>
          <p:nvPr/>
        </p:nvPicPr>
        <p:blipFill>
          <a:blip r:embed="rId2"/>
          <a:stretch/>
        </p:blipFill>
        <p:spPr>
          <a:xfrm>
            <a:off x="971640" y="2082960"/>
            <a:ext cx="1733400" cy="134280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/>
          <p:nvPr/>
        </p:nvSpPr>
        <p:spPr>
          <a:xfrm flipH="1">
            <a:off x="2987280" y="2565360"/>
            <a:ext cx="23763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348000" y="1700280"/>
            <a:ext cx="180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公開鍵を配布（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なりすまし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843280" y="2924280"/>
            <a:ext cx="30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66"/>
                </a:solidFill>
                <a:latin typeface="Arial"/>
              </a:rPr>
              <a:t>公開鍵で暗号化して送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987640" y="2852640"/>
            <a:ext cx="237636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7451640" y="2708280"/>
            <a:ext cx="122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秘密鍵で複号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619280" y="1773360"/>
            <a:ext cx="1081080" cy="4597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ユー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3"/>
          <a:stretch/>
        </p:blipFill>
        <p:spPr>
          <a:xfrm>
            <a:off x="3708360" y="3789360"/>
            <a:ext cx="1368360" cy="136044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4"/>
          <a:stretch/>
        </p:blipFill>
        <p:spPr>
          <a:xfrm>
            <a:off x="5940360" y="5229360"/>
            <a:ext cx="1736640" cy="120168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5"/>
          <a:stretch/>
        </p:blipFill>
        <p:spPr>
          <a:xfrm>
            <a:off x="1042920" y="5157720"/>
            <a:ext cx="1733760" cy="1343160"/>
          </a:xfrm>
          <a:prstGeom prst="rect">
            <a:avLst/>
          </a:prstGeom>
          <a:ln w="0">
            <a:noFill/>
          </a:ln>
        </p:spPr>
      </p:pic>
      <p:sp>
        <p:nvSpPr>
          <p:cNvPr id="270" name=""/>
          <p:cNvSpPr/>
          <p:nvPr/>
        </p:nvSpPr>
        <p:spPr>
          <a:xfrm>
            <a:off x="3203640" y="5805360"/>
            <a:ext cx="23763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900000" y="4653000"/>
            <a:ext cx="1081080" cy="4597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ユー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093080" y="4941720"/>
            <a:ext cx="1295280" cy="45972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本サイ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2700000" y="4653000"/>
            <a:ext cx="1079640" cy="647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148360" y="4653000"/>
            <a:ext cx="1079280" cy="719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643280" y="3789360"/>
            <a:ext cx="1440000" cy="45972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認証機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5651640" y="4365720"/>
            <a:ext cx="187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公開鍵・秘密鍵証明書発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050920" y="4149720"/>
            <a:ext cx="151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本サイトの公開鍵入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2916360" y="6093000"/>
            <a:ext cx="28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公開鍵で暗号化して送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7667640" y="5734080"/>
            <a:ext cx="122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秘密鍵で複号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50920" y="3573360"/>
            <a:ext cx="856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50920" y="3716280"/>
            <a:ext cx="1871640" cy="368280"/>
          </a:xfrm>
          <a:prstGeom prst="rect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なりすましを防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3T00:16:05Z</dcterms:created>
  <dc:creator>T.Yamazumi</dc:creator>
  <dc:description/>
  <dc:language>en-US</dc:language>
  <cp:lastModifiedBy>T.Yamazumi</cp:lastModifiedBy>
  <dcterms:modified xsi:type="dcterms:W3CDTF">2005-12-15T02:06:10Z</dcterms:modified>
  <cp:revision>96</cp:revision>
  <dc:subject/>
  <dc:title>ネットワーク社会の 情報倫理</dc:title>
</cp:coreProperties>
</file>