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5C32-394B-4A3B-8825-0B4FA3E9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A85-79F6-4473-8ADD-7F54373A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F9F-2B0B-44E2-95FC-5198033A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BB2-0B71-4905-9DB4-AB4C4FEF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F67-3A4A-41AF-ADEF-73429931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371-5750-491E-A2BB-8F0C748D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6751-56E2-4F18-9DB7-46A5352C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FC3D-BAD7-4DA0-88E0-F9A29488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C431-C859-4317-B19D-418A0A97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6DB7-2AC1-4A80-B00C-B323EA39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29F7-C576-4AC4-BC7A-BA78798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E597-FF8F-4B65-B5B1-27FA0EA5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50D9-8C4D-4C44-A77C-54D00CBA9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00000" y="3716280"/>
            <a:ext cx="6705720" cy="914400"/>
            <a:chOff x="900000" y="3716280"/>
            <a:chExt cx="6705720" cy="914400"/>
          </a:xfrm>
        </p:grpSpPr>
        <p:sp>
          <p:nvSpPr>
            <p:cNvPr id="42" name=""/>
            <p:cNvSpPr/>
            <p:nvPr/>
          </p:nvSpPr>
          <p:spPr>
            <a:xfrm>
              <a:off x="900000" y="3716280"/>
              <a:ext cx="6705720" cy="9144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" name=""/>
                <p:cNvSpPr txBox="1"/>
                <p:nvPr/>
              </p:nvSpPr>
              <p:spPr>
                <a:xfrm>
                  <a:off x="1128600" y="3944880"/>
                  <a:ext cx="446040" cy="52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4" name=""/>
            <p:cNvSpPr/>
            <p:nvPr/>
          </p:nvSpPr>
          <p:spPr>
            <a:xfrm>
              <a:off x="2119320" y="394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動作関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3635280" y="3789360"/>
                  <a:ext cx="3673440" cy="7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1763640" y="404640"/>
            <a:ext cx="53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484360" y="981000"/>
                <a:ext cx="39625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"/>
          <p:cNvGrpSpPr/>
          <p:nvPr/>
        </p:nvGrpSpPr>
        <p:grpSpPr>
          <a:xfrm>
            <a:off x="900000" y="2060640"/>
            <a:ext cx="6705360" cy="609480"/>
            <a:chOff x="900000" y="2060640"/>
            <a:chExt cx="6705360" cy="609480"/>
          </a:xfrm>
        </p:grpSpPr>
        <p:sp>
          <p:nvSpPr>
            <p:cNvPr id="49" name=""/>
            <p:cNvSpPr/>
            <p:nvPr/>
          </p:nvSpPr>
          <p:spPr>
            <a:xfrm>
              <a:off x="900000" y="206064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" name=""/>
                <p:cNvSpPr txBox="1"/>
                <p:nvPr/>
              </p:nvSpPr>
              <p:spPr>
                <a:xfrm>
                  <a:off x="1052280" y="2060640"/>
                  <a:ext cx="48744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" name=""/>
            <p:cNvSpPr/>
            <p:nvPr/>
          </p:nvSpPr>
          <p:spPr>
            <a:xfrm>
              <a:off x="2118960" y="213696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900000" y="2924280"/>
            <a:ext cx="6705360" cy="609480"/>
            <a:chOff x="900000" y="2924280"/>
            <a:chExt cx="6705360" cy="609480"/>
          </a:xfrm>
        </p:grpSpPr>
        <p:sp>
          <p:nvSpPr>
            <p:cNvPr id="53" name=""/>
            <p:cNvSpPr/>
            <p:nvPr/>
          </p:nvSpPr>
          <p:spPr>
            <a:xfrm>
              <a:off x="900000" y="2924280"/>
              <a:ext cx="67053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" name=""/>
                <p:cNvSpPr txBox="1"/>
                <p:nvPr/>
              </p:nvSpPr>
              <p:spPr>
                <a:xfrm>
                  <a:off x="1128600" y="3000240"/>
                  <a:ext cx="406440" cy="487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" name=""/>
            <p:cNvSpPr/>
            <p:nvPr/>
          </p:nvSpPr>
          <p:spPr>
            <a:xfrm>
              <a:off x="2118960" y="3000240"/>
              <a:ext cx="31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入力記号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900000" y="4797360"/>
            <a:ext cx="6705360" cy="685800"/>
            <a:chOff x="900000" y="4797360"/>
            <a:chExt cx="6705360" cy="685800"/>
          </a:xfrm>
        </p:grpSpPr>
        <p:sp>
          <p:nvSpPr>
            <p:cNvPr id="57" name=""/>
            <p:cNvSpPr/>
            <p:nvPr/>
          </p:nvSpPr>
          <p:spPr>
            <a:xfrm>
              <a:off x="900000" y="487332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"/>
                <p:cNvSpPr txBox="1"/>
                <p:nvPr/>
              </p:nvSpPr>
              <p:spPr>
                <a:xfrm>
                  <a:off x="1128600" y="4797360"/>
                  <a:ext cx="52848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" name=""/>
            <p:cNvSpPr/>
            <p:nvPr/>
          </p:nvSpPr>
          <p:spPr>
            <a:xfrm>
              <a:off x="2195280" y="494964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初期状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4100400" y="4797360"/>
                  <a:ext cx="1299960" cy="65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∈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" name=""/>
          <p:cNvGrpSpPr/>
          <p:nvPr/>
        </p:nvGrpSpPr>
        <p:grpSpPr>
          <a:xfrm>
            <a:off x="900000" y="5661000"/>
            <a:ext cx="6705360" cy="611280"/>
            <a:chOff x="900000" y="5661000"/>
            <a:chExt cx="6705360" cy="611280"/>
          </a:xfrm>
        </p:grpSpPr>
        <p:sp>
          <p:nvSpPr>
            <p:cNvPr id="62" name=""/>
            <p:cNvSpPr/>
            <p:nvPr/>
          </p:nvSpPr>
          <p:spPr>
            <a:xfrm>
              <a:off x="900000" y="5661000"/>
              <a:ext cx="670536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"/>
                <p:cNvSpPr txBox="1"/>
                <p:nvPr/>
              </p:nvSpPr>
              <p:spPr>
                <a:xfrm>
                  <a:off x="1128600" y="5737320"/>
                  <a:ext cx="487080" cy="488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" name=""/>
            <p:cNvSpPr/>
            <p:nvPr/>
          </p:nvSpPr>
          <p:spPr>
            <a:xfrm>
              <a:off x="2195280" y="573732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受理状態の有限集合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395680" y="5661000"/>
                  <a:ext cx="1300320" cy="61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⊆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6" name=""/>
          <p:cNvSpPr/>
          <p:nvPr/>
        </p:nvSpPr>
        <p:spPr>
          <a:xfrm>
            <a:off x="4716360" y="3645000"/>
            <a:ext cx="1656000" cy="107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020000" y="2852640"/>
            <a:ext cx="1152360" cy="792360"/>
            <a:chOff x="7020000" y="2852640"/>
            <a:chExt cx="1152360" cy="792360"/>
          </a:xfrm>
        </p:grpSpPr>
        <p:sp>
          <p:nvSpPr>
            <p:cNvPr id="68" name=""/>
            <p:cNvSpPr/>
            <p:nvPr/>
          </p:nvSpPr>
          <p:spPr>
            <a:xfrm>
              <a:off x="7020000" y="2852640"/>
              <a:ext cx="1152360" cy="792360"/>
            </a:xfrm>
            <a:prstGeom prst="wedgeRoundRectCallout">
              <a:avLst>
                <a:gd name="adj1" fmla="val -111157"/>
                <a:gd name="adj2" fmla="val 75652"/>
                <a:gd name="adj3" fmla="val 16667"/>
              </a:avLst>
            </a:prstGeom>
            <a:solidFill>
              <a:srgbClr val="ffff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116840" y="3011400"/>
              <a:ext cx="91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注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250920" y="189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よって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に対して２つの遷移の可能性があるが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4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37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01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0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826920" y="5805360"/>
            <a:ext cx="61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2728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27280" y="249228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432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437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476360" y="189000"/>
                <a:ext cx="57117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059280" y="134136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2481120" y="1300320"/>
                <a:ext cx="316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826920" y="5300640"/>
            <a:ext cx="6840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様に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たとき受理状態に到達する遷移が可能な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受理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V="1">
            <a:off x="327672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2565360"/>
            <a:ext cx="718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466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471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1403280" y="189000"/>
                <a:ext cx="5748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900000" y="1197000"/>
            <a:ext cx="26654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2953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981160" y="1197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3060720" y="1281240"/>
                <a:ext cx="3873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176040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14520" y="1281240"/>
                <a:ext cx="451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971640" y="5877000"/>
            <a:ext cx="539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ることができないので，入力語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は拒否され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49440" y="12096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041480" y="1300320"/>
                <a:ext cx="3175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flipV="1">
            <a:off x="2627280" y="191592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27280" y="2565360"/>
            <a:ext cx="136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836640"/>
            <a:ext cx="489564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164360" y="981000"/>
            <a:ext cx="685800" cy="1067040"/>
            <a:chOff x="7164360" y="981000"/>
            <a:chExt cx="685800" cy="1067040"/>
          </a:xfrm>
        </p:grpSpPr>
        <p:sp>
          <p:nvSpPr>
            <p:cNvPr id="500" name=""/>
            <p:cNvSpPr/>
            <p:nvPr/>
          </p:nvSpPr>
          <p:spPr>
            <a:xfrm>
              <a:off x="7164360" y="98100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727400" y="166212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7093080" y="18446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6292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7236000" y="4510080"/>
            <a:ext cx="685800" cy="1066680"/>
            <a:chOff x="7236000" y="4510080"/>
            <a:chExt cx="685800" cy="1066680"/>
          </a:xfrm>
        </p:grpSpPr>
        <p:sp>
          <p:nvSpPr>
            <p:cNvPr id="505" name=""/>
            <p:cNvSpPr/>
            <p:nvPr/>
          </p:nvSpPr>
          <p:spPr>
            <a:xfrm>
              <a:off x="723600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727632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5506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3564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0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3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162920" y="3862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5794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6802560" y="105408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7378560" y="4078440"/>
                <a:ext cx="3924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89520" y="2827440"/>
                <a:ext cx="4539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7954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5867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7307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395280" y="5661000"/>
                <a:ext cx="814392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t xml:space="preserve">は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または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のみからなる語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ε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324000" y="5157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な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0920" y="623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であ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50920" y="33336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5291280" y="477720"/>
            <a:ext cx="685440" cy="1067040"/>
            <a:chOff x="5291280" y="477720"/>
            <a:chExt cx="685440" cy="1067040"/>
          </a:xfrm>
        </p:grpSpPr>
        <p:sp>
          <p:nvSpPr>
            <p:cNvPr id="525" name=""/>
            <p:cNvSpPr/>
            <p:nvPr/>
          </p:nvSpPr>
          <p:spPr>
            <a:xfrm>
              <a:off x="5291280" y="47772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5853600" y="115884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5219640" y="1341360"/>
            <a:ext cx="83844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89480" y="1414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5362560" y="4006800"/>
            <a:ext cx="685800" cy="1066680"/>
            <a:chOff x="5362560" y="4006800"/>
            <a:chExt cx="685800" cy="1066680"/>
          </a:xfrm>
        </p:grpSpPr>
        <p:sp>
          <p:nvSpPr>
            <p:cNvPr id="530" name=""/>
            <p:cNvSpPr/>
            <p:nvPr/>
          </p:nvSpPr>
          <p:spPr>
            <a:xfrm>
              <a:off x="5362560" y="4006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402880" y="41234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 flipV="1">
            <a:off x="3633840" y="1846440"/>
            <a:ext cx="1584360" cy="57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62200" y="285444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97160" y="233856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830680" y="218592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89480" y="335916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62560" y="34304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3921120" y="17748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4929120" y="550800"/>
                <a:ext cx="2923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505480" y="357516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3016080" y="232416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6081840" y="422280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3994200" y="26384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5433840" y="1487520"/>
                <a:ext cx="39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76360" y="1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空動作のある非決定性有限オートマト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050920" y="692280"/>
                <a:ext cx="41403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2" name=""/>
          <p:cNvGrpSpPr/>
          <p:nvPr/>
        </p:nvGrpSpPr>
        <p:grpSpPr>
          <a:xfrm>
            <a:off x="1116000" y="1341360"/>
            <a:ext cx="6400800" cy="609480"/>
            <a:chOff x="1116000" y="1341360"/>
            <a:chExt cx="6400800" cy="609480"/>
          </a:xfrm>
        </p:grpSpPr>
        <p:sp>
          <p:nvSpPr>
            <p:cNvPr id="73" name=""/>
            <p:cNvSpPr/>
            <p:nvPr/>
          </p:nvSpPr>
          <p:spPr>
            <a:xfrm>
              <a:off x="1116000" y="1341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" name=""/>
                <p:cNvSpPr txBox="1"/>
                <p:nvPr/>
              </p:nvSpPr>
              <p:spPr>
                <a:xfrm>
                  <a:off x="1403280" y="1393560"/>
                  <a:ext cx="2060640" cy="53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" name=""/>
          <p:cNvGrpSpPr/>
          <p:nvPr/>
        </p:nvGrpSpPr>
        <p:grpSpPr>
          <a:xfrm>
            <a:off x="1116000" y="1989000"/>
            <a:ext cx="6400800" cy="609840"/>
            <a:chOff x="1116000" y="1989000"/>
            <a:chExt cx="6400800" cy="609840"/>
          </a:xfrm>
        </p:grpSpPr>
        <p:sp>
          <p:nvSpPr>
            <p:cNvPr id="76" name=""/>
            <p:cNvSpPr/>
            <p:nvPr/>
          </p:nvSpPr>
          <p:spPr>
            <a:xfrm>
              <a:off x="1116000" y="1989000"/>
              <a:ext cx="640080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476360" y="1989000"/>
                  <a:ext cx="1584360" cy="57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Σ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0,1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"/>
          <p:cNvGrpSpPr/>
          <p:nvPr/>
        </p:nvGrpSpPr>
        <p:grpSpPr>
          <a:xfrm>
            <a:off x="1116000" y="5013360"/>
            <a:ext cx="6400800" cy="685800"/>
            <a:chOff x="1116000" y="5013360"/>
            <a:chExt cx="6400800" cy="685800"/>
          </a:xfrm>
        </p:grpSpPr>
        <p:sp>
          <p:nvSpPr>
            <p:cNvPr id="79" name=""/>
            <p:cNvSpPr/>
            <p:nvPr/>
          </p:nvSpPr>
          <p:spPr>
            <a:xfrm>
              <a:off x="1116000" y="5013360"/>
              <a:ext cx="640080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1619280" y="5013360"/>
                  <a:ext cx="11523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"/>
          <p:cNvGrpSpPr/>
          <p:nvPr/>
        </p:nvGrpSpPr>
        <p:grpSpPr>
          <a:xfrm>
            <a:off x="1116000" y="5805360"/>
            <a:ext cx="6400800" cy="609480"/>
            <a:chOff x="1116000" y="5805360"/>
            <a:chExt cx="6400800" cy="609480"/>
          </a:xfrm>
        </p:grpSpPr>
        <p:sp>
          <p:nvSpPr>
            <p:cNvPr id="82" name=""/>
            <p:cNvSpPr/>
            <p:nvPr/>
          </p:nvSpPr>
          <p:spPr>
            <a:xfrm>
              <a:off x="1116000" y="5805360"/>
              <a:ext cx="6400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1619280" y="5877000"/>
                  <a:ext cx="165744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r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"/>
          <p:cNvGrpSpPr/>
          <p:nvPr/>
        </p:nvGrpSpPr>
        <p:grpSpPr>
          <a:xfrm>
            <a:off x="1116000" y="2708280"/>
            <a:ext cx="6408720" cy="2230560"/>
            <a:chOff x="1116000" y="2708280"/>
            <a:chExt cx="6408720" cy="2230560"/>
          </a:xfrm>
        </p:grpSpPr>
        <p:sp>
          <p:nvSpPr>
            <p:cNvPr id="85" name=""/>
            <p:cNvSpPr/>
            <p:nvPr/>
          </p:nvSpPr>
          <p:spPr>
            <a:xfrm>
              <a:off x="1116000" y="2708280"/>
              <a:ext cx="6408720" cy="2230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1908000" y="3429000"/>
                  <a:ext cx="533412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p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q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q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  <m:r>
                            <m:t xml:space="preserve">,</m:t>
                          </m:r>
                        </m:e>
                        <m:e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d>
                            <m:dPr>
                              <m:begChr m:val="{"/>
                              <m:endChr m:val="}"/>
                            </m:dPr>
                            <m:e>
                              <m:r>
                                <m:t xml:space="preserve">r</m:t>
                              </m:r>
                            </m:e>
                          </m:d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δ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ε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φ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1403280" y="2781360"/>
                  <a:ext cx="396072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:</m:t>
                      </m:r>
                      <m:r>
                        <m:t xml:space="preserve">Q</m:t>
                      </m:r>
                      <m:r>
                        <m:t xml:space="preserve">×</m:t>
                      </m:r>
                      <m:r>
                        <m:t xml:space="preserve">(</m:t>
                      </m:r>
                      <m:r>
                        <m:t xml:space="preserve">Σ</m:t>
                      </m:r>
                      <m:r>
                        <m:t xml:space="preserve">∪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ε</m:t>
                          </m:r>
                        </m:e>
                      </m:d>
                      <m:r>
                        <m:t xml:space="preserve">)</m:t>
                      </m:r>
                      <m:r>
                        <m:t xml:space="preserve">→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Q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940360" y="4941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940360" y="4149720"/>
                <a:ext cx="2187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5651640" y="270828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796000" y="765000"/>
                <a:ext cx="2477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2" name=""/>
          <p:cNvGrpSpPr/>
          <p:nvPr/>
        </p:nvGrpSpPr>
        <p:grpSpPr>
          <a:xfrm>
            <a:off x="4284720" y="4869000"/>
            <a:ext cx="685800" cy="1066680"/>
            <a:chOff x="4284720" y="4869000"/>
            <a:chExt cx="685800" cy="1066680"/>
          </a:xfrm>
        </p:grpSpPr>
        <p:sp>
          <p:nvSpPr>
            <p:cNvPr id="93" name=""/>
            <p:cNvSpPr/>
            <p:nvPr/>
          </p:nvSpPr>
          <p:spPr>
            <a:xfrm>
              <a:off x="4284720" y="48690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4325040" y="498564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211640" y="1341360"/>
            <a:ext cx="685800" cy="1067040"/>
            <a:chOff x="4211640" y="1341360"/>
            <a:chExt cx="685800" cy="1067040"/>
          </a:xfrm>
        </p:grpSpPr>
        <p:sp>
          <p:nvSpPr>
            <p:cNvPr id="96" name=""/>
            <p:cNvSpPr/>
            <p:nvPr/>
          </p:nvSpPr>
          <p:spPr>
            <a:xfrm>
              <a:off x="4211640" y="1341360"/>
              <a:ext cx="68580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4774680" y="2022480"/>
              <a:ext cx="10224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47640" y="404640"/>
                <a:ext cx="34038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状態遷移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 flipV="1">
            <a:off x="2556000" y="270792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3716280"/>
            <a:ext cx="172728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200400"/>
            <a:ext cx="5331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304812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40360" y="22050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838080" cy="8384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429264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843280" y="263700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851280" y="1413000"/>
                <a:ext cx="2919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427640" y="443700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356000" y="234936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38240" y="3186000"/>
                <a:ext cx="45396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03640" y="508464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16360" y="3500280"/>
                <a:ext cx="293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4211640" y="227664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549360"/>
            <a:ext cx="338472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940360" y="765000"/>
                <a:ext cx="13827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5435640" y="549360"/>
            <a:ext cx="338436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156360" y="765000"/>
                <a:ext cx="19908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5508720" y="549360"/>
            <a:ext cx="338436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276640"/>
            <a:ext cx="3672000" cy="13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940360" y="278136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21964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012000" y="2781360"/>
                <a:ext cx="235080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5292720" y="2349360"/>
            <a:ext cx="3672000" cy="136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51640" y="4076640"/>
            <a:ext cx="316836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940360" y="4365720"/>
                <a:ext cx="206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940360" y="515772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580000" y="4076640"/>
            <a:ext cx="3168720" cy="19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156360" y="4581360"/>
                <a:ext cx="22287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156360" y="5373720"/>
                <a:ext cx="21877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5651640" y="4365720"/>
            <a:ext cx="3168360" cy="19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527120" y="227160"/>
                <a:ext cx="55641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入力語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rPr>
                        <m:lit/>
                        <m:nor/>
                      </m:rPr>
                      <m:t xml:space="preserve">に対する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の動作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9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40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43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84360" y="5805360"/>
                <a:ext cx="30416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428472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２通りの可能性あ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11280" y="5084640"/>
                <a:ext cx="218736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173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176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003640" y="227664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07672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 flipV="1">
            <a:off x="471636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0" y="1125360"/>
            <a:ext cx="1224000" cy="648000"/>
            <a:chOff x="4572000" y="1125360"/>
            <a:chExt cx="1224000" cy="648000"/>
          </a:xfrm>
        </p:grpSpPr>
        <p:sp>
          <p:nvSpPr>
            <p:cNvPr id="198" name=""/>
            <p:cNvSpPr/>
            <p:nvPr/>
          </p:nvSpPr>
          <p:spPr>
            <a:xfrm>
              <a:off x="4572000" y="1125360"/>
              <a:ext cx="1224000" cy="648000"/>
            </a:xfrm>
            <a:prstGeom prst="wedgeRoundRectCallout">
              <a:avLst>
                <a:gd name="adj1" fmla="val 32750"/>
                <a:gd name="adj2" fmla="val 171078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60920" y="123660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500720" y="4724280"/>
            <a:ext cx="1223640" cy="648000"/>
            <a:chOff x="4500720" y="4724280"/>
            <a:chExt cx="1223640" cy="648000"/>
          </a:xfrm>
        </p:grpSpPr>
        <p:sp>
          <p:nvSpPr>
            <p:cNvPr id="201" name=""/>
            <p:cNvSpPr/>
            <p:nvPr/>
          </p:nvSpPr>
          <p:spPr>
            <a:xfrm>
              <a:off x="4500720" y="4724280"/>
              <a:ext cx="1223640" cy="648000"/>
            </a:xfrm>
            <a:prstGeom prst="wedgeRoundRectCallout">
              <a:avLst>
                <a:gd name="adj1" fmla="val 37810"/>
                <a:gd name="adj2" fmla="val -194851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2000" y="4797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3333cc"/>
                  </a:solidFill>
                  <a:latin typeface="Times New Roman"/>
                </a:rPr>
                <a:t>場合２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82692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14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17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26920" y="5877000"/>
                <a:ext cx="24735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q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 flipV="1">
            <a:off x="197964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1152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4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4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 flipV="1">
            <a:off x="255600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556000" y="2492280"/>
            <a:ext cx="57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276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370560" y="982800"/>
            <a:ext cx="685800" cy="1066680"/>
            <a:chOff x="6370560" y="982800"/>
            <a:chExt cx="685800" cy="1066680"/>
          </a:xfrm>
        </p:grpSpPr>
        <p:sp>
          <p:nvSpPr>
            <p:cNvPr id="279" name=""/>
            <p:cNvSpPr/>
            <p:nvPr/>
          </p:nvSpPr>
          <p:spPr>
            <a:xfrm>
              <a:off x="6370560" y="98280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933240" y="1664280"/>
              <a:ext cx="10260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99280" y="1846440"/>
            <a:ext cx="83808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595008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入力語を読み終えて，受理状態に遷移し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32000" y="836640"/>
            <a:ext cx="4896000" cy="489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372360" y="981000"/>
            <a:ext cx="685440" cy="1067040"/>
            <a:chOff x="6372360" y="981000"/>
            <a:chExt cx="685440" cy="1067040"/>
          </a:xfrm>
        </p:grpSpPr>
        <p:sp>
          <p:nvSpPr>
            <p:cNvPr id="299" name=""/>
            <p:cNvSpPr/>
            <p:nvPr/>
          </p:nvSpPr>
          <p:spPr>
            <a:xfrm>
              <a:off x="6372360" y="981000"/>
              <a:ext cx="685440" cy="10670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6934680" y="1662120"/>
              <a:ext cx="101880" cy="28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300720" y="1844640"/>
            <a:ext cx="83844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370560" y="1917720"/>
            <a:ext cx="685800" cy="685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00000" y="1184400"/>
            <a:ext cx="2016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6462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32080" y="1184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2411280" y="1268280"/>
                <a:ext cx="3873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$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042920" y="1268280"/>
                <a:ext cx="453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1763640" y="1268280"/>
                <a:ext cx="452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755640" y="5805360"/>
                <a:ext cx="2106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3492360" y="595008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これ以上，遷移できな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258920" y="184428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58920" y="2492280"/>
            <a:ext cx="1873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6920" y="260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場合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443640" y="4510080"/>
            <a:ext cx="685800" cy="1066680"/>
            <a:chOff x="6443640" y="4510080"/>
            <a:chExt cx="685800" cy="1066680"/>
          </a:xfrm>
        </p:grpSpPr>
        <p:sp>
          <p:nvSpPr>
            <p:cNvPr id="315" name=""/>
            <p:cNvSpPr/>
            <p:nvPr/>
          </p:nvSpPr>
          <p:spPr>
            <a:xfrm>
              <a:off x="6443640" y="4510080"/>
              <a:ext cx="685800" cy="1066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483960" y="4626720"/>
              <a:ext cx="78120" cy="20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 flipV="1">
            <a:off x="4714920" y="2349000"/>
            <a:ext cx="1584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3280" y="3357720"/>
            <a:ext cx="172728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378240" y="2841480"/>
            <a:ext cx="5335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1760" y="2689200"/>
            <a:ext cx="838080" cy="838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70560" y="3862440"/>
            <a:ext cx="838440" cy="838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443640" y="3933720"/>
            <a:ext cx="685800" cy="68580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002200" y="227808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6010200" y="1054080"/>
                <a:ext cx="29232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6586560" y="4078440"/>
                <a:ext cx="392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4097160" y="2827440"/>
                <a:ext cx="45432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7162920" y="4726080"/>
                <a:ext cx="2048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075280" y="3141720"/>
                <a:ext cx="2937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515280" y="1990800"/>
                <a:ext cx="3952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8:12:54Z</dcterms:created>
  <dc:creator>米田政明</dc:creator>
  <dc:description/>
  <dc:language>en-US</dc:language>
  <cp:lastModifiedBy>政明</cp:lastModifiedBy>
  <dcterms:modified xsi:type="dcterms:W3CDTF">2004-10-11T16:32:05Z</dcterms:modified>
  <cp:revision>30</cp:revision>
  <dc:subject/>
  <dc:title>PowerPoint プレゼンテーション</dc:title>
</cp:coreProperties>
</file>