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4AE-3AD0-4F79-88BD-5160F00B4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ED8-4BE4-49E4-9238-D87D13AF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6A5-18A2-4A62-BF1F-31E2AFF5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433-2A92-4B33-9BA5-C4EF668F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B3C0-F372-46DD-9B02-D828DFF1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BC72-0CA9-469E-B39A-E542FADA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0A5-8A76-4A4B-B194-AA23867B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1AA7-FDD7-4D28-BFF5-7C78107C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85F8-96EF-44D9-B75D-35691371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F75-FB36-4903-B5A5-0FA51670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C32-149A-4BF4-A420-999C3CA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C1C-A9CE-4473-AB34-0DCC4CB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2E61-3FEA-4860-9587-D35E2DE6A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" name=""/>
          <p:cNvSpPr/>
          <p:nvPr/>
        </p:nvSpPr>
        <p:spPr>
          <a:xfrm>
            <a:off x="1187280" y="920880"/>
            <a:ext cx="6264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1187280" y="1484280"/>
            <a:ext cx="6264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403280" y="1557360"/>
                <a:ext cx="25178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,#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1187280" y="2060640"/>
            <a:ext cx="6264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49360" y="213192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187280" y="5950080"/>
            <a:ext cx="6264360" cy="57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602136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1187280" y="2637000"/>
            <a:ext cx="626436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465200" y="2735280"/>
                <a:ext cx="563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r>
                      <m:t xml:space="preserve">Q</m:t>
                    </m:r>
                    <m:r>
                      <m:t xml:space="preserve">×</m:t>
                    </m:r>
                    <m:sSup>
                      <m:e>
                        <m:r>
                          <m:t xml:space="preserve">Γ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073240" y="3400560"/>
                <a:ext cx="4842000" cy="22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#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0072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5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5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5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3995640" y="602136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3995640" y="6595560"/>
            <a:ext cx="244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2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716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03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0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0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0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4500720" y="602136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5219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66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66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67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1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2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5003640" y="6021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003640" y="6595560"/>
            <a:ext cx="1440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2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3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3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3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565164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78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79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79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822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823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746360" y="5380200"/>
                <a:ext cx="4290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</m:e>
                      <m:e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832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835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838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3019320" y="171288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3019320" y="2073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5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755640" y="260280"/>
                <a:ext cx="69343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pda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1187280" y="920880"/>
            <a:ext cx="6480360" cy="473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1476360" y="907920"/>
                <a:ext cx="20890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1187280" y="1557360"/>
            <a:ext cx="6480360" cy="503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3" name=""/>
              <p:cNvSpPr txBox="1"/>
              <p:nvPr/>
            </p:nvSpPr>
            <p:spPr>
              <a:xfrm>
                <a:off x="1442880" y="1603440"/>
                <a:ext cx="19782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4" name=""/>
          <p:cNvSpPr/>
          <p:nvPr/>
        </p:nvSpPr>
        <p:spPr>
          <a:xfrm>
            <a:off x="1187280" y="2206800"/>
            <a:ext cx="648036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449360" y="2278080"/>
                <a:ext cx="2575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1187280" y="5878440"/>
            <a:ext cx="6480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508040" y="5970600"/>
                <a:ext cx="1149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1187280" y="2852640"/>
            <a:ext cx="6480360" cy="288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1476360" y="2925720"/>
                <a:ext cx="54705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Q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の部分集合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Q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/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1692360" y="3573360"/>
                <a:ext cx="5684760" cy="19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ε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874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877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880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2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3041640" y="2630520"/>
                <a:ext cx="7304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03560" y="302256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2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601200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9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2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3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3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6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4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75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443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98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98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98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8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0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0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067280" y="2937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730920" y="3068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3141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847520" y="3744720"/>
            <a:ext cx="770760" cy="763560"/>
            <a:chOff x="1847520" y="3744720"/>
            <a:chExt cx="770760" cy="763560"/>
          </a:xfrm>
        </p:grpSpPr>
        <p:sp>
          <p:nvSpPr>
            <p:cNvPr id="56" name=""/>
            <p:cNvSpPr/>
            <p:nvPr/>
          </p:nvSpPr>
          <p:spPr>
            <a:xfrm flipV="1">
              <a:off x="1847520" y="3847320"/>
              <a:ext cx="15840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1012400">
              <a:off x="1877400" y="376596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356000" y="2562120"/>
            <a:ext cx="752400" cy="720720"/>
            <a:chOff x="4356000" y="2562120"/>
            <a:chExt cx="752400" cy="720720"/>
          </a:xfrm>
        </p:grpSpPr>
        <p:sp>
          <p:nvSpPr>
            <p:cNvPr id="59" name=""/>
            <p:cNvSpPr/>
            <p:nvPr/>
          </p:nvSpPr>
          <p:spPr>
            <a:xfrm flipH="1">
              <a:off x="4964400" y="294876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356000" y="25621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879560" y="2467080"/>
            <a:ext cx="752400" cy="720720"/>
            <a:chOff x="1879560" y="2467080"/>
            <a:chExt cx="752400" cy="720720"/>
          </a:xfrm>
        </p:grpSpPr>
        <p:sp>
          <p:nvSpPr>
            <p:cNvPr id="62" name=""/>
            <p:cNvSpPr/>
            <p:nvPr/>
          </p:nvSpPr>
          <p:spPr>
            <a:xfrm flipH="1">
              <a:off x="2487960" y="2853720"/>
              <a:ext cx="14400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79560" y="2467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267192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16160" y="3127320"/>
            <a:ext cx="49356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0880" y="30495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4720" y="3067200"/>
            <a:ext cx="83808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19280" y="1673280"/>
                <a:ext cx="1152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00720" y="3067200"/>
                <a:ext cx="385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92240" y="309564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00240" y="263052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329000" y="174636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356000" y="21081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65800" y="291132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6904080" y="3087720"/>
                <a:ext cx="504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>
            <a:off x="5121360" y="3475080"/>
            <a:ext cx="162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1646280" y="202104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87640" y="302256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63640" y="4508640"/>
                <a:ext cx="95724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763640" y="494172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84520" y="5373720"/>
                <a:ext cx="912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97120" y="576108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700360" y="476280"/>
                <a:ext cx="34034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755640" y="1413000"/>
            <a:ext cx="7488360" cy="49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5508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3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04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04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4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5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6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2" name=""/>
              <p:cNvSpPr txBox="1"/>
              <p:nvPr/>
            </p:nvSpPr>
            <p:spPr>
              <a:xfrm>
                <a:off x="5315040" y="6153120"/>
                <a:ext cx="393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3" name=""/>
          <p:cNvSpPr/>
          <p:nvPr/>
        </p:nvSpPr>
        <p:spPr>
          <a:xfrm>
            <a:off x="521964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9" name=""/>
          <p:cNvSpPr/>
          <p:nvPr/>
        </p:nvSpPr>
        <p:spPr>
          <a:xfrm flipV="1">
            <a:off x="4500720" y="6019920"/>
            <a:ext cx="1942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V="1">
            <a:off x="4500720" y="6595560"/>
            <a:ext cx="1942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93236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09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0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0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1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49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389480" y="5535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5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6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9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2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3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4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5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6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8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9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0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1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2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3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4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5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6" name=""/>
          <p:cNvGrpSpPr/>
          <p:nvPr/>
        </p:nvGrpSpPr>
        <p:grpSpPr>
          <a:xfrm>
            <a:off x="5219640" y="2637000"/>
            <a:ext cx="3672000" cy="1439640"/>
            <a:chOff x="5219640" y="2637000"/>
            <a:chExt cx="3672000" cy="1439640"/>
          </a:xfrm>
        </p:grpSpPr>
        <p:sp>
          <p:nvSpPr>
            <p:cNvPr id="1197" name=""/>
            <p:cNvSpPr/>
            <p:nvPr/>
          </p:nvSpPr>
          <p:spPr>
            <a:xfrm>
              <a:off x="5219640" y="2637000"/>
              <a:ext cx="3672000" cy="1439640"/>
            </a:xfrm>
            <a:prstGeom prst="wedgeRoundRectCallout">
              <a:avLst>
                <a:gd name="adj1" fmla="val -119564"/>
                <a:gd name="adj2" fmla="val 19347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364000" y="278136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２通りの遷移の可能性があるが，ここで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8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3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4" name=""/>
          <p:cNvSpPr/>
          <p:nvPr/>
        </p:nvSpPr>
        <p:spPr>
          <a:xfrm flipV="1">
            <a:off x="3348000" y="6019920"/>
            <a:ext cx="30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6595560"/>
            <a:ext cx="30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819600" y="5533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22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25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28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5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42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6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5219640" y="3573360"/>
            <a:ext cx="3672000" cy="1440000"/>
            <a:chOff x="5219640" y="3573360"/>
            <a:chExt cx="3672000" cy="1440000"/>
          </a:xfrm>
        </p:grpSpPr>
        <p:sp>
          <p:nvSpPr>
            <p:cNvPr id="1262" name=""/>
            <p:cNvSpPr/>
            <p:nvPr/>
          </p:nvSpPr>
          <p:spPr>
            <a:xfrm>
              <a:off x="5219640" y="3573360"/>
              <a:ext cx="3672000" cy="1440000"/>
            </a:xfrm>
            <a:prstGeom prst="wedgeRoundRectCallout">
              <a:avLst>
                <a:gd name="adj1" fmla="val -100495"/>
                <a:gd name="adj2" fmla="val -82523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391000" y="3676680"/>
              <a:ext cx="33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ここでも２通りの遷移の可能性があるが，今度はこちらの遷移を選ぶ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3675240" y="613584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5" name=""/>
          <p:cNvSpPr/>
          <p:nvPr/>
        </p:nvSpPr>
        <p:spPr>
          <a:xfrm>
            <a:off x="3564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1" name=""/>
          <p:cNvSpPr/>
          <p:nvPr/>
        </p:nvSpPr>
        <p:spPr>
          <a:xfrm flipV="1">
            <a:off x="3851280" y="6019920"/>
            <a:ext cx="2592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V="1">
            <a:off x="3851280" y="6595560"/>
            <a:ext cx="2592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2764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28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29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29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2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3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4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6" name=""/>
              <p:cNvSpPr txBox="1"/>
              <p:nvPr/>
            </p:nvSpPr>
            <p:spPr>
              <a:xfrm>
                <a:off x="4232160" y="6122880"/>
                <a:ext cx="3938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7" name=""/>
          <p:cNvSpPr/>
          <p:nvPr/>
        </p:nvSpPr>
        <p:spPr>
          <a:xfrm>
            <a:off x="4140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140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3" name=""/>
          <p:cNvSpPr/>
          <p:nvPr/>
        </p:nvSpPr>
        <p:spPr>
          <a:xfrm flipV="1">
            <a:off x="4427640" y="6019920"/>
            <a:ext cx="20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4427640" y="6595560"/>
            <a:ext cx="20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989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35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35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35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5" name=""/>
          <p:cNvSpPr/>
          <p:nvPr/>
        </p:nvSpPr>
        <p:spPr>
          <a:xfrm>
            <a:off x="471636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6" name=""/>
              <p:cNvSpPr txBox="1"/>
              <p:nvPr/>
            </p:nvSpPr>
            <p:spPr>
              <a:xfrm>
                <a:off x="4788000" y="6093000"/>
                <a:ext cx="3934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7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8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4643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03" name=""/>
          <p:cNvSpPr/>
          <p:nvPr/>
        </p:nvSpPr>
        <p:spPr>
          <a:xfrm flipV="1">
            <a:off x="4932360" y="6019920"/>
            <a:ext cx="1511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V="1">
            <a:off x="4932360" y="6595560"/>
            <a:ext cx="1511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5508720" y="555768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1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1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1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6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8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9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0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1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2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5315040" y="6093000"/>
                <a:ext cx="393480" cy="37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5" name=""/>
          <p:cNvSpPr/>
          <p:nvPr/>
        </p:nvSpPr>
        <p:spPr>
          <a:xfrm>
            <a:off x="5237280" y="60246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6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61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469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1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472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475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7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9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5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6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7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8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9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0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1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900000" y="260280"/>
            <a:ext cx="453564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419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1476360" y="333360"/>
                <a:ext cx="360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500364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2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514836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3922200" y="2491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427640" y="2491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6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17" name=""/>
          <p:cNvSpPr/>
          <p:nvPr/>
        </p:nvSpPr>
        <p:spPr>
          <a:xfrm flipV="1">
            <a:off x="5508720" y="6019920"/>
            <a:ext cx="93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5508720" y="6595560"/>
            <a:ext cx="93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084720" y="55515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525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528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531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7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8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9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0" name=""/>
              <p:cNvSpPr txBox="1"/>
              <p:nvPr/>
            </p:nvSpPr>
            <p:spPr>
              <a:xfrm>
                <a:off x="3060720" y="228924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1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2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3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4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5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6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7" name=""/>
              <p:cNvSpPr txBox="1"/>
              <p:nvPr/>
            </p:nvSpPr>
            <p:spPr>
              <a:xfrm>
                <a:off x="3081240" y="264960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8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9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0" name=""/>
              <p:cNvSpPr txBox="1"/>
              <p:nvPr/>
            </p:nvSpPr>
            <p:spPr>
              <a:xfrm>
                <a:off x="2556000" y="4597560"/>
                <a:ext cx="10792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1" name=""/>
              <p:cNvSpPr txBox="1"/>
              <p:nvPr/>
            </p:nvSpPr>
            <p:spPr>
              <a:xfrm>
                <a:off x="2556000" y="5024520"/>
                <a:ext cx="102060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2" name=""/>
          <p:cNvSpPr/>
          <p:nvPr/>
        </p:nvSpPr>
        <p:spPr>
          <a:xfrm>
            <a:off x="4930920" y="2476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3" name=""/>
              <p:cNvSpPr txBox="1"/>
              <p:nvPr/>
            </p:nvSpPr>
            <p:spPr>
              <a:xfrm>
                <a:off x="248436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4" name=""/>
              <p:cNvSpPr txBox="1"/>
              <p:nvPr/>
            </p:nvSpPr>
            <p:spPr>
              <a:xfrm>
                <a:off x="2992320" y="3096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5" name=""/>
              <p:cNvSpPr txBox="1"/>
              <p:nvPr/>
            </p:nvSpPr>
            <p:spPr>
              <a:xfrm>
                <a:off x="3505320" y="293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4498920" y="295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4008600" y="307800"/>
                <a:ext cx="3553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6227640" y="260280"/>
            <a:ext cx="2664000" cy="1584360"/>
            <a:chOff x="6227640" y="260280"/>
            <a:chExt cx="2664000" cy="1584360"/>
          </a:xfrm>
        </p:grpSpPr>
        <p:sp>
          <p:nvSpPr>
            <p:cNvPr id="1559" name=""/>
            <p:cNvSpPr/>
            <p:nvPr/>
          </p:nvSpPr>
          <p:spPr>
            <a:xfrm>
              <a:off x="6227640" y="260280"/>
              <a:ext cx="2664000" cy="1584360"/>
            </a:xfrm>
            <a:prstGeom prst="wedgeRoundRectCallout">
              <a:avLst>
                <a:gd name="adj1" fmla="val -15615"/>
                <a:gd name="adj2" fmla="val 101000"/>
                <a:gd name="adj3" fmla="val 16667"/>
              </a:avLst>
            </a:prstGeom>
            <a:solidFill>
              <a:srgbClr val="ff99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372360" y="47628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受理条件を満たす様相に到達することができた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1" name=""/>
              <p:cNvSpPr txBox="1"/>
              <p:nvPr/>
            </p:nvSpPr>
            <p:spPr>
              <a:xfrm>
                <a:off x="1851120" y="5380200"/>
                <a:ext cx="408132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w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0,1</m:t>
                                </m:r>
                              </m:e>
                            </m:d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2" name=""/>
          <p:cNvSpPr/>
          <p:nvPr/>
        </p:nvSpPr>
        <p:spPr>
          <a:xfrm>
            <a:off x="755640" y="5418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227640" y="5445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755640" y="692280"/>
            <a:ext cx="7416720" cy="4279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2560" y="20844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5640" y="215748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1918440" y="2760120"/>
            <a:ext cx="771840" cy="763920"/>
            <a:chOff x="1918440" y="2760120"/>
            <a:chExt cx="771840" cy="763920"/>
          </a:xfrm>
        </p:grpSpPr>
        <p:sp>
          <p:nvSpPr>
            <p:cNvPr id="1568" name=""/>
            <p:cNvSpPr/>
            <p:nvPr/>
          </p:nvSpPr>
          <p:spPr>
            <a:xfrm flipV="1">
              <a:off x="1918440" y="286308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1012400">
              <a:off x="1949040" y="278172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4427640" y="1577880"/>
            <a:ext cx="751320" cy="720720"/>
            <a:chOff x="4427640" y="1577880"/>
            <a:chExt cx="751320" cy="720720"/>
          </a:xfrm>
        </p:grpSpPr>
        <p:sp>
          <p:nvSpPr>
            <p:cNvPr id="1571" name=""/>
            <p:cNvSpPr/>
            <p:nvPr/>
          </p:nvSpPr>
          <p:spPr>
            <a:xfrm flipH="1">
              <a:off x="5035320" y="196488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27640" y="157788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3" name=""/>
          <p:cNvGrpSpPr/>
          <p:nvPr/>
        </p:nvGrpSpPr>
        <p:grpSpPr>
          <a:xfrm>
            <a:off x="1951200" y="1482840"/>
            <a:ext cx="751320" cy="720720"/>
            <a:chOff x="1951200" y="1482840"/>
            <a:chExt cx="751320" cy="720720"/>
          </a:xfrm>
        </p:grpSpPr>
        <p:sp>
          <p:nvSpPr>
            <p:cNvPr id="1574" name=""/>
            <p:cNvSpPr/>
            <p:nvPr/>
          </p:nvSpPr>
          <p:spPr>
            <a:xfrm flipH="1">
              <a:off x="2558880" y="1869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951200" y="1482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6" name=""/>
          <p:cNvSpPr/>
          <p:nvPr/>
        </p:nvSpPr>
        <p:spPr>
          <a:xfrm>
            <a:off x="274320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387440" y="214308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892160" y="20653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356000" y="2082960"/>
            <a:ext cx="838440" cy="792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"/>
              <p:cNvSpPr txBox="1"/>
              <p:nvPr/>
            </p:nvSpPr>
            <p:spPr>
              <a:xfrm>
                <a:off x="1042920" y="76356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"/>
              <p:cNvSpPr txBox="1"/>
              <p:nvPr/>
            </p:nvSpPr>
            <p:spPr>
              <a:xfrm>
                <a:off x="4572000" y="2082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2" name=""/>
              <p:cNvSpPr txBox="1"/>
              <p:nvPr/>
            </p:nvSpPr>
            <p:spPr>
              <a:xfrm>
                <a:off x="2063880" y="211140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3" name=""/>
              <p:cNvSpPr txBox="1"/>
              <p:nvPr/>
            </p:nvSpPr>
            <p:spPr>
              <a:xfrm>
                <a:off x="3060720" y="1712880"/>
                <a:ext cx="7286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3917880" y="83664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3924360" y="1195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5423040" y="197964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6975360" y="210348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8" name=""/>
          <p:cNvSpPr/>
          <p:nvPr/>
        </p:nvSpPr>
        <p:spPr>
          <a:xfrm>
            <a:off x="5192640" y="249084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1069920" y="112392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3081240" y="2073240"/>
                <a:ext cx="6890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2606760" y="324792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2606760" y="3641760"/>
                <a:ext cx="979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2627280" y="4021200"/>
                <a:ext cx="9129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2639880" y="444816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372360" y="260280"/>
                <a:ext cx="25254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10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13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16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116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V="1">
            <a:off x="5435640" y="6019920"/>
            <a:ext cx="1008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5435640" y="6595560"/>
            <a:ext cx="1008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83280" y="556092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168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171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174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619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5003640" y="6019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65959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26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29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32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124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03640" y="558972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281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284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287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 flipV="1">
            <a:off x="4572000" y="6019920"/>
            <a:ext cx="1871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572000" y="6595560"/>
            <a:ext cx="1871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627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2772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34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34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34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 flipV="1">
            <a:off x="4140360" y="6019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4140360" y="6595560"/>
            <a:ext cx="2303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313200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95640" y="5564160"/>
            <a:ext cx="0" cy="45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07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10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13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755640" y="1268280"/>
            <a:ext cx="7416720" cy="428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00000" y="260280"/>
            <a:ext cx="504036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1402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00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410920" y="262080"/>
            <a:ext cx="180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419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24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954080" y="306360"/>
                <a:ext cx="3495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527120" y="29844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971640" y="3207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508720" y="33336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2916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635280" y="83628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27640" y="26208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2620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08600" y="5549760"/>
            <a:ext cx="0" cy="459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02560" y="266076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75640" y="27338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918440" y="3336480"/>
            <a:ext cx="771840" cy="763920"/>
            <a:chOff x="1918440" y="3336480"/>
            <a:chExt cx="771840" cy="763920"/>
          </a:xfrm>
        </p:grpSpPr>
        <p:sp>
          <p:nvSpPr>
            <p:cNvPr id="473" name=""/>
            <p:cNvSpPr/>
            <p:nvPr/>
          </p:nvSpPr>
          <p:spPr>
            <a:xfrm flipV="1">
              <a:off x="1918440" y="3439440"/>
              <a:ext cx="15876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1012400">
              <a:off x="1949040" y="3358080"/>
              <a:ext cx="71928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427640" y="2154240"/>
            <a:ext cx="751320" cy="720720"/>
            <a:chOff x="4427640" y="2154240"/>
            <a:chExt cx="751320" cy="720720"/>
          </a:xfrm>
        </p:grpSpPr>
        <p:sp>
          <p:nvSpPr>
            <p:cNvPr id="476" name=""/>
            <p:cNvSpPr/>
            <p:nvPr/>
          </p:nvSpPr>
          <p:spPr>
            <a:xfrm flipH="1">
              <a:off x="5035320" y="2541240"/>
              <a:ext cx="143640" cy="23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27640" y="2154240"/>
              <a:ext cx="718920" cy="720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951200" y="2058840"/>
            <a:ext cx="751320" cy="720720"/>
            <a:chOff x="1951200" y="2058840"/>
            <a:chExt cx="751320" cy="720720"/>
          </a:xfrm>
        </p:grpSpPr>
        <p:sp>
          <p:nvSpPr>
            <p:cNvPr id="479" name=""/>
            <p:cNvSpPr/>
            <p:nvPr/>
          </p:nvSpPr>
          <p:spPr>
            <a:xfrm flipH="1">
              <a:off x="2558880" y="2445840"/>
              <a:ext cx="143640" cy="237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51200" y="2058840"/>
              <a:ext cx="718920" cy="72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274320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387440" y="2719440"/>
            <a:ext cx="493920" cy="23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92160" y="264168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56000" y="2658960"/>
            <a:ext cx="838440" cy="79236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1042920" y="1339920"/>
                <a:ext cx="11527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572000" y="2658960"/>
                <a:ext cx="3859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2063880" y="2687760"/>
                <a:ext cx="449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8" name=""/>
              <p:cNvSpPr txBox="1"/>
              <p:nvPr/>
            </p:nvSpPr>
            <p:spPr>
              <a:xfrm>
                <a:off x="3019320" y="228924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3917880" y="1413000"/>
                <a:ext cx="720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924360" y="1771560"/>
                <a:ext cx="677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ε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423040" y="2556000"/>
                <a:ext cx="988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6975360" y="2679840"/>
                <a:ext cx="5050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5192640" y="3067200"/>
            <a:ext cx="16239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069920" y="1700280"/>
                <a:ext cx="10875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Z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3019320" y="2649600"/>
                <a:ext cx="812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06760" y="3824280"/>
                <a:ext cx="95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2606760" y="4218120"/>
                <a:ext cx="97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2627280" y="4597560"/>
                <a:ext cx="9129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2639880" y="5024520"/>
                <a:ext cx="93672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0" name=""/>
          <p:cNvSpPr/>
          <p:nvPr/>
        </p:nvSpPr>
        <p:spPr>
          <a:xfrm>
            <a:off x="5435640" y="26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48436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3497400" y="32220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4010040" y="306360"/>
                <a:ext cx="3492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5003640" y="307800"/>
                <a:ext cx="349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4572000" y="306360"/>
                <a:ext cx="2444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987640" y="351000"/>
                <a:ext cx="34920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5867280" y="6093000"/>
                <a:ext cx="492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8" name=""/>
          <p:cNvSpPr/>
          <p:nvPr/>
        </p:nvSpPr>
        <p:spPr>
          <a:xfrm>
            <a:off x="3564000" y="6021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564000" y="6595560"/>
            <a:ext cx="287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9600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43640" y="60199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349960" y="6099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"/>
          <p:cNvSpPr/>
          <p:nvPr/>
        </p:nvSpPr>
        <p:spPr>
          <a:xfrm>
            <a:off x="4788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4859280" y="612612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428472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4373640" y="612936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859200" y="6132600"/>
                <a:ext cx="3636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3780000" y="602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4:43:30Z</dcterms:modified>
  <cp:revision>35</cp:revision>
  <dc:subject/>
  <dc:title>PowerPoint プレゼンテーション</dc:title>
</cp:coreProperties>
</file>