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E2A1-76BF-4B4C-9748-5093A12B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57F-2C24-48C2-A878-098C1B96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214-DC1F-4E5F-8B1D-FF33D7CB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A96-A4CD-4147-A493-13E123F6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3A8F-C190-44F8-AE4B-70CCC874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77E9-7E82-4FC3-B34A-210CFD0E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CA4-0E47-4D32-95B3-7BE2F71E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772-7BFD-4574-BE43-3B1A3E4E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43B-DFE6-45EC-A1FF-4B1457DF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090F-5841-4F91-B687-D4365BA9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4F0-2A39-47CB-86D5-3EA3FEC6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589-5085-4612-80FD-DB48E480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35EE-081C-4322-9959-400416470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99452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204160" y="6021000"/>
            <a:ext cx="456840" cy="451800"/>
            <a:chOff x="5204160" y="6021000"/>
            <a:chExt cx="456840" cy="451800"/>
          </a:xfrm>
        </p:grpSpPr>
        <p:sp>
          <p:nvSpPr>
            <p:cNvPr id="43" name=""/>
            <p:cNvSpPr/>
            <p:nvPr/>
          </p:nvSpPr>
          <p:spPr>
            <a:xfrm rot="10648800">
              <a:off x="521820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V="1">
              <a:off x="520416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499000" y="4498920"/>
            <a:ext cx="433440" cy="447120"/>
            <a:chOff x="5499000" y="4498920"/>
            <a:chExt cx="433440" cy="447120"/>
          </a:xfrm>
        </p:grpSpPr>
        <p:sp>
          <p:nvSpPr>
            <p:cNvPr id="46" name=""/>
            <p:cNvSpPr/>
            <p:nvPr/>
          </p:nvSpPr>
          <p:spPr>
            <a:xfrm rot="5400000">
              <a:off x="549900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555948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507640" y="1867320"/>
            <a:ext cx="464400" cy="464400"/>
            <a:chOff x="5507640" y="1867320"/>
            <a:chExt cx="464400" cy="464400"/>
          </a:xfrm>
        </p:grpSpPr>
        <p:sp>
          <p:nvSpPr>
            <p:cNvPr id="49" name=""/>
            <p:cNvSpPr/>
            <p:nvPr/>
          </p:nvSpPr>
          <p:spPr>
            <a:xfrm rot="5653800">
              <a:off x="552312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>
              <a:off x="557244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114880" y="398520"/>
            <a:ext cx="447120" cy="433440"/>
            <a:chOff x="5114880" y="398520"/>
            <a:chExt cx="447120" cy="433440"/>
          </a:xfrm>
        </p:grpSpPr>
        <p:sp>
          <p:nvSpPr>
            <p:cNvPr id="52" name=""/>
            <p:cNvSpPr/>
            <p:nvPr/>
          </p:nvSpPr>
          <p:spPr>
            <a:xfrm>
              <a:off x="511488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48892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243960" y="2895840"/>
            <a:ext cx="589680" cy="589320"/>
            <a:chOff x="3243960" y="2895840"/>
            <a:chExt cx="589680" cy="589320"/>
          </a:xfrm>
        </p:grpSpPr>
        <p:sp>
          <p:nvSpPr>
            <p:cNvPr id="55" name=""/>
            <p:cNvSpPr/>
            <p:nvPr/>
          </p:nvSpPr>
          <p:spPr>
            <a:xfrm rot="19849200">
              <a:off x="332172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4544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124000" y="2924280"/>
            <a:ext cx="447120" cy="433440"/>
            <a:chOff x="2124000" y="2924280"/>
            <a:chExt cx="447120" cy="433440"/>
          </a:xfrm>
        </p:grpSpPr>
        <p:sp>
          <p:nvSpPr>
            <p:cNvPr id="58" name=""/>
            <p:cNvSpPr/>
            <p:nvPr/>
          </p:nvSpPr>
          <p:spPr>
            <a:xfrm>
              <a:off x="212400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49804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576480" y="3440880"/>
            <a:ext cx="608400" cy="608400"/>
            <a:chOff x="6576480" y="3440880"/>
            <a:chExt cx="608400" cy="608400"/>
          </a:xfrm>
        </p:grpSpPr>
        <p:sp>
          <p:nvSpPr>
            <p:cNvPr id="61" name=""/>
            <p:cNvSpPr/>
            <p:nvPr/>
          </p:nvSpPr>
          <p:spPr>
            <a:xfrm rot="8455200">
              <a:off x="666360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666036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514836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7732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18728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512136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7672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696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3400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1020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2260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764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92580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92436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7000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3404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0880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5144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34204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535428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8812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8584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19708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37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9120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22144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22756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6572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66108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810108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7556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2144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62728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15116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18788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61672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65164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20576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97164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69236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69236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05928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98764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98764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044960" y="126828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044960" y="501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57200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64328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79600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79600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58000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58000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01200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1200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86440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65164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85792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65164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01200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1200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09308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709308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79280" y="189000"/>
                <a:ext cx="388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言語</m:t>
                        </m:r>
                        <m:r>
                          <m:t xml:space="preserve">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を受理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非決定性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3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0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0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0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0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0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0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0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1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1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1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1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1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1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1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2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2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2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2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2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2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2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3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3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3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3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4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4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4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4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5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5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5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5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5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5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6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6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6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6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6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6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6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7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7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7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8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8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8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8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9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9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9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9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9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9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9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0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0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0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0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0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0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0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133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136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139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142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145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148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151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8360" y="372960"/>
                <a:ext cx="20876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34880" y="981000"/>
                <a:ext cx="23036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baab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12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12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12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13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13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13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13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0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23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23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23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24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24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24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2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34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34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34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35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35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35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3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5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45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46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46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46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46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56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56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6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7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57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57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5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7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67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67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67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68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68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8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8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5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6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7" name=""/>
          <p:cNvSpPr/>
          <p:nvPr/>
        </p:nvSpPr>
        <p:spPr>
          <a:xfrm>
            <a:off x="2987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78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78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78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79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79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79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79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8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8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8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9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9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9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9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7" name=""/>
          <p:cNvSpPr/>
          <p:nvPr/>
        </p:nvSpPr>
        <p:spPr>
          <a:xfrm>
            <a:off x="385128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0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0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0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0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0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0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0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1971720" y="5942160"/>
                <a:ext cx="330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3230640" y="5950080"/>
                <a:ext cx="38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1494000" y="5948280"/>
                <a:ext cx="388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2825640" y="5950080"/>
                <a:ext cx="370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7" name=""/>
          <p:cNvSpPr/>
          <p:nvPr/>
        </p:nvSpPr>
        <p:spPr>
          <a:xfrm>
            <a:off x="341964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8" name=""/>
          <p:cNvGrpSpPr/>
          <p:nvPr/>
        </p:nvGrpSpPr>
        <p:grpSpPr>
          <a:xfrm>
            <a:off x="4067280" y="1341360"/>
            <a:ext cx="4176720" cy="1008000"/>
            <a:chOff x="4067280" y="1341360"/>
            <a:chExt cx="4176720" cy="1008000"/>
          </a:xfrm>
        </p:grpSpPr>
        <p:sp>
          <p:nvSpPr>
            <p:cNvPr id="3109" name=""/>
            <p:cNvSpPr/>
            <p:nvPr/>
          </p:nvSpPr>
          <p:spPr>
            <a:xfrm>
              <a:off x="4067280" y="1341360"/>
              <a:ext cx="4176720" cy="1008000"/>
            </a:xfrm>
            <a:prstGeom prst="wedgeRoundRectCallout">
              <a:avLst>
                <a:gd name="adj1" fmla="val 53726"/>
                <a:gd name="adj2" fmla="val 13803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4211640" y="1484280"/>
              <a:ext cx="395928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受理状態に遷移することができたので，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M</a:t>
              </a:r>
              <a:r>
                <a:rPr b="1" lang="ja-JP" sz="1800" spc="-1" strike="noStrike" baseline="-25000">
                  <a:solidFill>
                    <a:srgbClr val="333399"/>
                  </a:solidFill>
                  <a:latin typeface="Times New Roman"/>
                </a:rPr>
                <a:t>42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は入力語 </a:t>
              </a:r>
              <a:r>
                <a:rPr b="1" i="1" lang="ja-JP" sz="1800" spc="-1" strike="noStrike">
                  <a:solidFill>
                    <a:srgbClr val="333399"/>
                  </a:solidFill>
                  <a:latin typeface="Times New Roman"/>
                </a:rPr>
                <a:t>abaaba </a:t>
              </a:r>
              <a:r>
                <a:rPr b="0" lang="ja-JP" sz="1800" spc="-1" strike="noStrike">
                  <a:solidFill>
                    <a:srgbClr val="333399"/>
                  </a:solidFill>
                  <a:latin typeface="Arial"/>
                </a:rPr>
                <a:t>を受理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3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24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24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25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25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25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26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26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120680" y="5979960"/>
                <a:ext cx="2923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35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35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36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36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36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37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37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465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468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471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474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477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480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483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3059280" y="1844640"/>
            <a:ext cx="4249440" cy="936720"/>
            <a:chOff x="3059280" y="1844640"/>
            <a:chExt cx="4249440" cy="936720"/>
          </a:xfrm>
        </p:grpSpPr>
        <p:sp>
          <p:nvSpPr>
            <p:cNvPr id="573" name=""/>
            <p:cNvSpPr/>
            <p:nvPr/>
          </p:nvSpPr>
          <p:spPr>
            <a:xfrm>
              <a:off x="3059280" y="1844640"/>
              <a:ext cx="4249440" cy="936720"/>
            </a:xfrm>
            <a:prstGeom prst="wedgeRoundRectCallout">
              <a:avLst>
                <a:gd name="adj1" fmla="val -53587"/>
                <a:gd name="adj2" fmla="val 78643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32000" y="1989000"/>
              <a:ext cx="40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の時点で２通りの遷移が可能であるが，ここではこ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578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581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584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587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590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593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596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4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416320" y="5979960"/>
                <a:ext cx="318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4" name=""/>
          <p:cNvSpPr/>
          <p:nvPr/>
        </p:nvSpPr>
        <p:spPr>
          <a:xfrm>
            <a:off x="2556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059280" y="1844640"/>
            <a:ext cx="4249440" cy="863640"/>
            <a:chOff x="3059280" y="1844640"/>
            <a:chExt cx="4249440" cy="863640"/>
          </a:xfrm>
        </p:grpSpPr>
        <p:sp>
          <p:nvSpPr>
            <p:cNvPr id="686" name=""/>
            <p:cNvSpPr/>
            <p:nvPr/>
          </p:nvSpPr>
          <p:spPr>
            <a:xfrm>
              <a:off x="3059280" y="1844640"/>
              <a:ext cx="4249440" cy="863640"/>
            </a:xfrm>
            <a:prstGeom prst="wedgeRoundRectCallout">
              <a:avLst>
                <a:gd name="adj1" fmla="val -46935"/>
                <a:gd name="adj2" fmla="val 136212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03640" y="198900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ここでも２通りの遷移が可能であるが，今度はこちらの遷移を選択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69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69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69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70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70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70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70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7" name=""/>
          <p:cNvSpPr/>
          <p:nvPr/>
        </p:nvSpPr>
        <p:spPr>
          <a:xfrm>
            <a:off x="212400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80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80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80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81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81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81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81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7" name=""/>
          <p:cNvSpPr/>
          <p:nvPr/>
        </p:nvSpPr>
        <p:spPr>
          <a:xfrm>
            <a:off x="169236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73160" y="219240"/>
            <a:ext cx="878508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835488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5564520" y="6021000"/>
            <a:ext cx="456840" cy="451800"/>
            <a:chOff x="5564520" y="6021000"/>
            <a:chExt cx="456840" cy="451800"/>
          </a:xfrm>
        </p:grpSpPr>
        <p:sp>
          <p:nvSpPr>
            <p:cNvPr id="911" name=""/>
            <p:cNvSpPr/>
            <p:nvPr/>
          </p:nvSpPr>
          <p:spPr>
            <a:xfrm rot="10648800">
              <a:off x="5578560" y="6030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5564520" y="6098400"/>
              <a:ext cx="6660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5859360" y="4498920"/>
            <a:ext cx="433440" cy="447120"/>
            <a:chOff x="5859360" y="4498920"/>
            <a:chExt cx="433440" cy="447120"/>
          </a:xfrm>
        </p:grpSpPr>
        <p:sp>
          <p:nvSpPr>
            <p:cNvPr id="914" name=""/>
            <p:cNvSpPr/>
            <p:nvPr/>
          </p:nvSpPr>
          <p:spPr>
            <a:xfrm rot="5400000">
              <a:off x="5859360" y="4498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5919840" y="4872960"/>
              <a:ext cx="14436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5868000" y="1867320"/>
            <a:ext cx="464400" cy="464400"/>
            <a:chOff x="5868000" y="1867320"/>
            <a:chExt cx="464400" cy="464400"/>
          </a:xfrm>
        </p:grpSpPr>
        <p:sp>
          <p:nvSpPr>
            <p:cNvPr id="917" name=""/>
            <p:cNvSpPr/>
            <p:nvPr/>
          </p:nvSpPr>
          <p:spPr>
            <a:xfrm rot="5653800">
              <a:off x="5883480" y="188244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 flipV="1">
              <a:off x="5932800" y="2244960"/>
              <a:ext cx="138600" cy="8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5475240" y="398520"/>
            <a:ext cx="447120" cy="433440"/>
            <a:chOff x="5475240" y="398520"/>
            <a:chExt cx="447120" cy="433440"/>
          </a:xfrm>
        </p:grpSpPr>
        <p:sp>
          <p:nvSpPr>
            <p:cNvPr id="920" name=""/>
            <p:cNvSpPr/>
            <p:nvPr/>
          </p:nvSpPr>
          <p:spPr>
            <a:xfrm>
              <a:off x="5475240" y="3985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>
              <a:off x="5849280" y="6271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3604320" y="2895840"/>
            <a:ext cx="589680" cy="589320"/>
            <a:chOff x="3604320" y="2895840"/>
            <a:chExt cx="589680" cy="589320"/>
          </a:xfrm>
        </p:grpSpPr>
        <p:sp>
          <p:nvSpPr>
            <p:cNvPr id="923" name=""/>
            <p:cNvSpPr/>
            <p:nvPr/>
          </p:nvSpPr>
          <p:spPr>
            <a:xfrm rot="19849200">
              <a:off x="3682080" y="29739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105800" y="3088440"/>
              <a:ext cx="6480" cy="16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484360" y="2924280"/>
            <a:ext cx="447120" cy="433440"/>
            <a:chOff x="2484360" y="2924280"/>
            <a:chExt cx="447120" cy="433440"/>
          </a:xfrm>
        </p:grpSpPr>
        <p:sp>
          <p:nvSpPr>
            <p:cNvPr id="926" name=""/>
            <p:cNvSpPr/>
            <p:nvPr/>
          </p:nvSpPr>
          <p:spPr>
            <a:xfrm>
              <a:off x="2484360" y="292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2858400" y="315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6936840" y="3440880"/>
            <a:ext cx="608400" cy="608400"/>
            <a:chOff x="6936840" y="3440880"/>
            <a:chExt cx="608400" cy="608400"/>
          </a:xfrm>
        </p:grpSpPr>
        <p:sp>
          <p:nvSpPr>
            <p:cNvPr id="929" name=""/>
            <p:cNvSpPr/>
            <p:nvPr/>
          </p:nvSpPr>
          <p:spPr>
            <a:xfrm rot="8455200">
              <a:off x="7023960" y="3529080"/>
              <a:ext cx="433440" cy="431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 flipV="1">
              <a:off x="7020720" y="3723480"/>
              <a:ext cx="33840" cy="157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1" name=""/>
          <p:cNvSpPr/>
          <p:nvPr/>
        </p:nvSpPr>
        <p:spPr>
          <a:xfrm>
            <a:off x="5508720" y="56610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437680" y="326880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8720" y="292428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260360" y="3716280"/>
            <a:ext cx="0" cy="10810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1547640" y="357336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481720" y="45021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5437080" y="6922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67320" y="1839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894360" y="31989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470560" y="321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882960" y="320184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08000" y="32036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4286160" y="1125360"/>
            <a:ext cx="1222560" cy="2129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H="1" flipV="1">
            <a:off x="4284720" y="3644640"/>
            <a:ext cx="129528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530360" y="34732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7394400" y="3460680"/>
            <a:ext cx="93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969160" y="34750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411800" y="3448080"/>
            <a:ext cx="1039680" cy="7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59200" y="3462480"/>
            <a:ext cx="93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 flipV="1">
            <a:off x="5702400" y="1172880"/>
            <a:ext cx="9360" cy="655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714640" y="2317320"/>
            <a:ext cx="4680" cy="90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748480" y="5008680"/>
            <a:ext cx="7920" cy="64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724360" y="3716280"/>
            <a:ext cx="19080" cy="78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446200" y="320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557440" y="321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997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5551560" y="68724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5581800" y="184464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587920" y="4491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5626080" y="565452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7021440" y="3213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846144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1116000" y="32130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5581800" y="321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2987640" y="3573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4511520" y="3068640"/>
                <a:ext cx="682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4548240" y="351324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5977080" y="3083040"/>
                <a:ext cx="765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6012000" y="351324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7566120" y="3068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$/$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332000" y="422100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052720" y="220500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052720" y="256536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3419640" y="14842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3419640" y="184464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348000" y="2205000"/>
                <a:ext cx="766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48000" y="2565360"/>
                <a:ext cx="749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4356000" y="134136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4356000" y="486900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4932360" y="256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5003640" y="3933720"/>
                <a:ext cx="6159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487512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6156360" y="26028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156360" y="54936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940360" y="1125360"/>
                <a:ext cx="765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940360" y="141300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6372360" y="1916280"/>
                <a:ext cx="598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6372360" y="220500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6224760" y="592596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6012000" y="5084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218280" y="6269040"/>
                <a:ext cx="750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6012000" y="5373720"/>
                <a:ext cx="750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6372360" y="4221000"/>
                <a:ext cx="598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6372360" y="450864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7453440" y="3860640"/>
                <a:ext cx="765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7453440" y="4221000"/>
                <a:ext cx="7506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7" name=""/>
          <p:cNvSpPr/>
          <p:nvPr/>
        </p:nvSpPr>
        <p:spPr>
          <a:xfrm>
            <a:off x="250920" y="5300640"/>
            <a:ext cx="4176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26880" y="590724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26880" y="641196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5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047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47960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91124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344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77668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20832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639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1069920" y="5950080"/>
                <a:ext cx="352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9" name=""/>
          <p:cNvSpPr/>
          <p:nvPr/>
        </p:nvSpPr>
        <p:spPr>
          <a:xfrm>
            <a:off x="4071960" y="59072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1984320" y="5979960"/>
                <a:ext cx="304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11280" y="5950080"/>
                <a:ext cx="338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281400" y="5979960"/>
                <a:ext cx="3142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1525680" y="5948280"/>
                <a:ext cx="3236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2843280" y="595008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3686040" y="5970600"/>
                <a:ext cx="3319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655560" y="5961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7" name=""/>
          <p:cNvSpPr/>
          <p:nvPr/>
        </p:nvSpPr>
        <p:spPr>
          <a:xfrm>
            <a:off x="1258920" y="5445000"/>
            <a:ext cx="0" cy="433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5:46:46Z</dcterms:modified>
  <cp:revision>9</cp:revision>
  <dc:subject/>
  <dc:title>スライド 1</dc:title>
</cp:coreProperties>
</file>