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4C29-1EFD-4183-9820-C2D1980C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4258-438E-470F-9325-50FC3C21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A060-8C4C-476F-8D06-5E164875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90D4-1004-4528-AC6D-D89F1BE4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1E64-FC82-4A2A-B9B4-1C200F48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167D-A0FB-48AB-96CB-2CC9CA4C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EA0F-DF65-4F4A-A632-E05AB335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C200-94C5-43E6-BCFC-63B4EC6D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F260-BADB-42A5-8D61-AA23F9CB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5D58-05BC-4A3B-8B6A-94042F01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6B96-E430-4867-BC2A-5B41FDA4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9FE8-4E09-4395-9E6E-B462F446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706A-1F21-4F29-90A9-94CE6A556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非決定性プッシュダウン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547640" y="620640"/>
                <a:ext cx="54486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1187280" y="1341360"/>
            <a:ext cx="6264360" cy="544680"/>
            <a:chOff x="1187280" y="1341360"/>
            <a:chExt cx="6264360" cy="544680"/>
          </a:xfrm>
        </p:grpSpPr>
        <p:sp>
          <p:nvSpPr>
            <p:cNvPr id="44" name=""/>
            <p:cNvSpPr/>
            <p:nvPr/>
          </p:nvSpPr>
          <p:spPr>
            <a:xfrm>
              <a:off x="1187280" y="1341360"/>
              <a:ext cx="626436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476360" y="1341360"/>
                  <a:ext cx="4208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340000" y="134136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187280" y="1989000"/>
            <a:ext cx="6264360" cy="574560"/>
            <a:chOff x="1187280" y="1989000"/>
            <a:chExt cx="6264360" cy="574560"/>
          </a:xfrm>
        </p:grpSpPr>
        <p:sp>
          <p:nvSpPr>
            <p:cNvPr id="48" name=""/>
            <p:cNvSpPr/>
            <p:nvPr/>
          </p:nvSpPr>
          <p:spPr>
            <a:xfrm>
              <a:off x="1187280" y="198900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476360" y="2060640"/>
                  <a:ext cx="649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340000" y="20606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508640"/>
            <a:ext cx="6264360" cy="609480"/>
            <a:chOff x="1187280" y="4508640"/>
            <a:chExt cx="6264360" cy="609480"/>
          </a:xfrm>
        </p:grpSpPr>
        <p:sp>
          <p:nvSpPr>
            <p:cNvPr id="52" name=""/>
            <p:cNvSpPr/>
            <p:nvPr/>
          </p:nvSpPr>
          <p:spPr>
            <a:xfrm>
              <a:off x="1187280" y="450864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4508640"/>
                  <a:ext cx="468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411280" y="4581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64000" y="4508640"/>
                  <a:ext cx="10810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187280" y="3284640"/>
            <a:ext cx="6264360" cy="1123920"/>
            <a:chOff x="1187280" y="3284640"/>
            <a:chExt cx="6264360" cy="1123920"/>
          </a:xfrm>
        </p:grpSpPr>
        <p:sp>
          <p:nvSpPr>
            <p:cNvPr id="57" name=""/>
            <p:cNvSpPr/>
            <p:nvPr/>
          </p:nvSpPr>
          <p:spPr>
            <a:xfrm>
              <a:off x="1187280" y="3284640"/>
              <a:ext cx="6264360" cy="11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476360" y="3327480"/>
                  <a:ext cx="4064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411280" y="332748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1563840" y="3803760"/>
                  <a:ext cx="5730840" cy="58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Γ</m:t>
                              </m:r>
                            </m:e>
                            <m:sup/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1187280" y="2708280"/>
            <a:ext cx="6264360" cy="504720"/>
            <a:chOff x="1187280" y="2708280"/>
            <a:chExt cx="6264360" cy="504720"/>
          </a:xfrm>
        </p:grpSpPr>
        <p:sp>
          <p:nvSpPr>
            <p:cNvPr id="62" name=""/>
            <p:cNvSpPr/>
            <p:nvPr/>
          </p:nvSpPr>
          <p:spPr>
            <a:xfrm>
              <a:off x="1187280" y="270828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476360" y="2708280"/>
                  <a:ext cx="7142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411280" y="2708280"/>
              <a:ext cx="47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プッシュダウン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187280" y="5229360"/>
            <a:ext cx="6264360" cy="574560"/>
            <a:chOff x="1187280" y="5229360"/>
            <a:chExt cx="6264360" cy="574560"/>
          </a:xfrm>
        </p:grpSpPr>
        <p:sp>
          <p:nvSpPr>
            <p:cNvPr id="66" name=""/>
            <p:cNvSpPr/>
            <p:nvPr/>
          </p:nvSpPr>
          <p:spPr>
            <a:xfrm>
              <a:off x="1187280" y="522936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476360" y="5229360"/>
                  <a:ext cx="476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484360" y="52293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ボトムマーカ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5364000" y="5229360"/>
                  <a:ext cx="1068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1187280" y="5877000"/>
            <a:ext cx="6264360" cy="609480"/>
            <a:chOff x="1187280" y="5877000"/>
            <a:chExt cx="6264360" cy="609480"/>
          </a:xfrm>
        </p:grpSpPr>
        <p:sp>
          <p:nvSpPr>
            <p:cNvPr id="71" name=""/>
            <p:cNvSpPr/>
            <p:nvPr/>
          </p:nvSpPr>
          <p:spPr>
            <a:xfrm>
              <a:off x="1187280" y="587700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476360" y="5948280"/>
                  <a:ext cx="441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2411280" y="5948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5435640" y="5948280"/>
                  <a:ext cx="1068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6227640" y="3716280"/>
            <a:ext cx="1368720" cy="7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308720" y="2997360"/>
            <a:ext cx="1440000" cy="576000"/>
          </a:xfrm>
          <a:prstGeom prst="wedgeRoundRectCallout">
            <a:avLst>
              <a:gd name="adj1" fmla="val -43717"/>
              <a:gd name="adj2" fmla="val 90495"/>
              <a:gd name="adj3" fmla="val 16667"/>
            </a:avLst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注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7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67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68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68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68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69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69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3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5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75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75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76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76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76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76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1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2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83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83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83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83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84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84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5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0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90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90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91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91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91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92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5796000" y="836640"/>
            <a:ext cx="3097080" cy="1368360"/>
            <a:chOff x="5796000" y="836640"/>
            <a:chExt cx="3097080" cy="1368360"/>
          </a:xfrm>
        </p:grpSpPr>
        <p:sp>
          <p:nvSpPr>
            <p:cNvPr id="956" name=""/>
            <p:cNvSpPr/>
            <p:nvPr/>
          </p:nvSpPr>
          <p:spPr>
            <a:xfrm>
              <a:off x="5796000" y="836640"/>
              <a:ext cx="3097080" cy="1368360"/>
            </a:xfrm>
            <a:prstGeom prst="wedgeRoundRectCallout">
              <a:avLst>
                <a:gd name="adj1" fmla="val 24578"/>
                <a:gd name="adj2" fmla="val 159282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156360" y="907920"/>
              <a:ext cx="23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4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8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98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98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99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99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99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00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8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9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40" name=""/>
          <p:cNvGrpSpPr/>
          <p:nvPr/>
        </p:nvGrpSpPr>
        <p:grpSpPr>
          <a:xfrm>
            <a:off x="3708360" y="1916280"/>
            <a:ext cx="3527640" cy="1225440"/>
            <a:chOff x="3708360" y="1916280"/>
            <a:chExt cx="3527640" cy="1225440"/>
          </a:xfrm>
        </p:grpSpPr>
        <p:sp>
          <p:nvSpPr>
            <p:cNvPr id="1041" name=""/>
            <p:cNvSpPr/>
            <p:nvPr/>
          </p:nvSpPr>
          <p:spPr>
            <a:xfrm>
              <a:off x="3708360" y="1916280"/>
              <a:ext cx="3527640" cy="1225440"/>
            </a:xfrm>
            <a:prstGeom prst="wedgeRoundRectCallout">
              <a:avLst>
                <a:gd name="adj1" fmla="val -73041"/>
                <a:gd name="adj2" fmla="val 176425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824280" y="207972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遡って，今度は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6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07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07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07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07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08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08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1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3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8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1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9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51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152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4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155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158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161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164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167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9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9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1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3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23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3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23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23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24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24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24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24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5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5" name=""/>
          <p:cNvSpPr/>
          <p:nvPr/>
        </p:nvSpPr>
        <p:spPr>
          <a:xfrm>
            <a:off x="4427640" y="609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1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31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31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32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32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32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33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6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5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85" name=""/>
          <p:cNvSpPr/>
          <p:nvPr/>
        </p:nvSpPr>
        <p:spPr>
          <a:xfrm>
            <a:off x="4859280" y="6093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859280" y="666900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4952880" y="1142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39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39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40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40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40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41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5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2340000" y="3429000"/>
            <a:ext cx="2736720" cy="1368360"/>
            <a:chOff x="2340000" y="3429000"/>
            <a:chExt cx="2736720" cy="1368360"/>
          </a:xfrm>
        </p:grpSpPr>
        <p:sp>
          <p:nvSpPr>
            <p:cNvPr id="1448" name=""/>
            <p:cNvSpPr/>
            <p:nvPr/>
          </p:nvSpPr>
          <p:spPr>
            <a:xfrm>
              <a:off x="2340000" y="3429000"/>
              <a:ext cx="2736720" cy="1368360"/>
            </a:xfrm>
            <a:prstGeom prst="wedgeRoundRectCallout">
              <a:avLst>
                <a:gd name="adj1" fmla="val 73319"/>
                <a:gd name="adj2" fmla="val 59282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627280" y="371628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れ以上，遷移でき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116000" y="260280"/>
                <a:ext cx="577836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8" name=""/>
          <p:cNvGrpSpPr/>
          <p:nvPr/>
        </p:nvGrpSpPr>
        <p:grpSpPr>
          <a:xfrm>
            <a:off x="1187280" y="907920"/>
            <a:ext cx="6264360" cy="520560"/>
            <a:chOff x="1187280" y="907920"/>
            <a:chExt cx="6264360" cy="520560"/>
          </a:xfrm>
        </p:grpSpPr>
        <p:sp>
          <p:nvSpPr>
            <p:cNvPr id="79" name=""/>
            <p:cNvSpPr/>
            <p:nvPr/>
          </p:nvSpPr>
          <p:spPr>
            <a:xfrm>
              <a:off x="1187280" y="920520"/>
              <a:ext cx="6264360" cy="47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697040" y="907920"/>
                  <a:ext cx="3432240" cy="52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1187280" y="1484280"/>
            <a:ext cx="6264360" cy="515880"/>
            <a:chOff x="1187280" y="1484280"/>
            <a:chExt cx="6264360" cy="515880"/>
          </a:xfrm>
        </p:grpSpPr>
        <p:sp>
          <p:nvSpPr>
            <p:cNvPr id="82" name=""/>
            <p:cNvSpPr/>
            <p:nvPr/>
          </p:nvSpPr>
          <p:spPr>
            <a:xfrm>
              <a:off x="1187280" y="1484280"/>
              <a:ext cx="626436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619280" y="1557360"/>
                  <a:ext cx="260820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87280" y="2060640"/>
            <a:ext cx="6264360" cy="512280"/>
            <a:chOff x="1187280" y="2060640"/>
            <a:chExt cx="6264360" cy="512280"/>
          </a:xfrm>
        </p:grpSpPr>
        <p:sp>
          <p:nvSpPr>
            <p:cNvPr id="85" name=""/>
            <p:cNvSpPr/>
            <p:nvPr/>
          </p:nvSpPr>
          <p:spPr>
            <a:xfrm>
              <a:off x="1187280" y="206064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692360" y="2131920"/>
                  <a:ext cx="208908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" name=""/>
          <p:cNvGrpSpPr/>
          <p:nvPr/>
        </p:nvGrpSpPr>
        <p:grpSpPr>
          <a:xfrm>
            <a:off x="1187280" y="5950080"/>
            <a:ext cx="6264360" cy="576000"/>
            <a:chOff x="1187280" y="5950080"/>
            <a:chExt cx="6264360" cy="576000"/>
          </a:xfrm>
        </p:grpSpPr>
        <p:sp>
          <p:nvSpPr>
            <p:cNvPr id="88" name=""/>
            <p:cNvSpPr/>
            <p:nvPr/>
          </p:nvSpPr>
          <p:spPr>
            <a:xfrm>
              <a:off x="1187280" y="5950080"/>
              <a:ext cx="6264360" cy="57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1763640" y="6021360"/>
                  <a:ext cx="1201680" cy="4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" name=""/>
          <p:cNvGrpSpPr/>
          <p:nvPr/>
        </p:nvGrpSpPr>
        <p:grpSpPr>
          <a:xfrm>
            <a:off x="1187280" y="2637000"/>
            <a:ext cx="6264360" cy="3240000"/>
            <a:chOff x="1187280" y="2637000"/>
            <a:chExt cx="6264360" cy="3240000"/>
          </a:xfrm>
        </p:grpSpPr>
        <p:sp>
          <p:nvSpPr>
            <p:cNvPr id="91" name=""/>
            <p:cNvSpPr/>
            <p:nvPr/>
          </p:nvSpPr>
          <p:spPr>
            <a:xfrm>
              <a:off x="1187280" y="2637000"/>
              <a:ext cx="6264360" cy="3240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1547640" y="2708280"/>
                  <a:ext cx="547236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  <m:r>
                            <m:t xml:space="preserve">×</m:t>
                          </m:r>
                          <m:sSup>
                            <m:e>
                              <m:r>
                                <m:t xml:space="preserve">Γ</m:t>
                              </m:r>
                            </m:e>
                            <m:sup/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1835280" y="3357720"/>
                  <a:ext cx="5317920" cy="23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A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c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4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t xml:space="preserve">ε</m:t>
                              </m:r>
                              <m:r>
                                <m:t xml:space="preserve">)</m:t>
                              </m:r>
                            </m:e>
                          </m:d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q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"/>
          <p:cNvSpPr/>
          <p:nvPr/>
        </p:nvSpPr>
        <p:spPr>
          <a:xfrm>
            <a:off x="1619280" y="2349360"/>
            <a:ext cx="61214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b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，２通りの遷移の可能性があるが，受理条件を満たす様相（すなわち，入力を読み終え，状態が受理状態で，かつプッシュダウンスタックが空である様相）に到達する遷移が可能なので，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b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は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って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633680" y="0"/>
                <a:ext cx="55371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ccc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3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2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3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4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5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6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7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8" name=""/>
          <p:cNvSpPr/>
          <p:nvPr/>
        </p:nvSpPr>
        <p:spPr>
          <a:xfrm>
            <a:off x="5292720" y="609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V="1">
            <a:off x="900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78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479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482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4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485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7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488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491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494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6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7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4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 flipV="1">
            <a:off x="1403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55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55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56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56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56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57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3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4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5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9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2" name=""/>
          <p:cNvSpPr/>
          <p:nvPr/>
        </p:nvSpPr>
        <p:spPr>
          <a:xfrm>
            <a:off x="450072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500720" y="666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1908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2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633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636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8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639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1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642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4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645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648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1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7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2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4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3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4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5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6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7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8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9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2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12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713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5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716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8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719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722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725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7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728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0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51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1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2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3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4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6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7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8" name=""/>
          <p:cNvGrpSpPr/>
          <p:nvPr/>
        </p:nvGrpSpPr>
        <p:grpSpPr>
          <a:xfrm>
            <a:off x="4211640" y="3500280"/>
            <a:ext cx="3527280" cy="1728720"/>
            <a:chOff x="4211640" y="3500280"/>
            <a:chExt cx="3527280" cy="1728720"/>
          </a:xfrm>
        </p:grpSpPr>
        <p:sp>
          <p:nvSpPr>
            <p:cNvPr id="1769" name=""/>
            <p:cNvSpPr/>
            <p:nvPr/>
          </p:nvSpPr>
          <p:spPr>
            <a:xfrm>
              <a:off x="4211640" y="3500280"/>
              <a:ext cx="3527280" cy="1728720"/>
            </a:xfrm>
            <a:prstGeom prst="wedgeRoundRectCallout">
              <a:avLst>
                <a:gd name="adj1" fmla="val -86995"/>
                <a:gd name="adj2" fmla="val -6120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356000" y="3787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の時点で，２つの選択肢があるが，まず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87" name=""/>
          <p:cNvSpPr/>
          <p:nvPr/>
        </p:nvSpPr>
        <p:spPr>
          <a:xfrm>
            <a:off x="4356000" y="609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4356000" y="66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9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79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80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80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80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81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81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3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7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67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7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87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88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88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88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89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89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1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9" name=""/>
          <p:cNvGrpSpPr/>
          <p:nvPr/>
        </p:nvGrpSpPr>
        <p:grpSpPr>
          <a:xfrm>
            <a:off x="5364000" y="333360"/>
            <a:ext cx="2737080" cy="1368360"/>
            <a:chOff x="5364000" y="333360"/>
            <a:chExt cx="2737080" cy="1368360"/>
          </a:xfrm>
        </p:grpSpPr>
        <p:sp>
          <p:nvSpPr>
            <p:cNvPr id="1930" name=""/>
            <p:cNvSpPr/>
            <p:nvPr/>
          </p:nvSpPr>
          <p:spPr>
            <a:xfrm>
              <a:off x="5364000" y="333360"/>
              <a:ext cx="2737080" cy="1368360"/>
            </a:xfrm>
            <a:prstGeom prst="wedgeRoundRectCallout">
              <a:avLst>
                <a:gd name="adj1" fmla="val -102032"/>
                <a:gd name="adj2" fmla="val 126217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651640" y="62064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れ以上，遷移でき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9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5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8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58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1959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1962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4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1965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7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1968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0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1971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3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1974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6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97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8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9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0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1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2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3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14" name=""/>
          <p:cNvGrpSpPr/>
          <p:nvPr/>
        </p:nvGrpSpPr>
        <p:grpSpPr>
          <a:xfrm>
            <a:off x="4067280" y="2421000"/>
            <a:ext cx="3527280" cy="1295280"/>
            <a:chOff x="4067280" y="2421000"/>
            <a:chExt cx="3527280" cy="1295280"/>
          </a:xfrm>
        </p:grpSpPr>
        <p:sp>
          <p:nvSpPr>
            <p:cNvPr id="2015" name=""/>
            <p:cNvSpPr/>
            <p:nvPr/>
          </p:nvSpPr>
          <p:spPr>
            <a:xfrm>
              <a:off x="4067280" y="2421000"/>
              <a:ext cx="3527280" cy="1295280"/>
            </a:xfrm>
            <a:prstGeom prst="wedgeRoundRectCallout">
              <a:avLst>
                <a:gd name="adj1" fmla="val -83393"/>
                <a:gd name="adj2" fmla="val 124754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211640" y="263700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遡って，今度は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1" dur="500"/>
                                        <p:tgtEl>
                                          <p:spTgt spid="2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4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5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0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3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1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2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43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044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047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9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050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2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053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5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056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8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059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1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5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8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0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81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4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1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3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5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6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6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15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2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12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12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13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13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13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14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3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5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7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651640" y="4005360"/>
            <a:ext cx="751320" cy="720720"/>
            <a:chOff x="5651640" y="4005360"/>
            <a:chExt cx="751320" cy="720720"/>
          </a:xfrm>
        </p:grpSpPr>
        <p:sp>
          <p:nvSpPr>
            <p:cNvPr id="95" name=""/>
            <p:cNvSpPr/>
            <p:nvPr/>
          </p:nvSpPr>
          <p:spPr>
            <a:xfrm flipH="1">
              <a:off x="6259320" y="439236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51640" y="40053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274920" y="4005360"/>
            <a:ext cx="752400" cy="720720"/>
            <a:chOff x="3274920" y="4005360"/>
            <a:chExt cx="752400" cy="720720"/>
          </a:xfrm>
        </p:grpSpPr>
        <p:sp>
          <p:nvSpPr>
            <p:cNvPr id="98" name=""/>
            <p:cNvSpPr/>
            <p:nvPr/>
          </p:nvSpPr>
          <p:spPr>
            <a:xfrm flipH="1">
              <a:off x="3883320" y="4392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74920" y="4005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010880" y="4057560"/>
            <a:ext cx="770760" cy="763560"/>
            <a:chOff x="1010880" y="4057560"/>
            <a:chExt cx="770760" cy="763560"/>
          </a:xfrm>
        </p:grpSpPr>
        <p:sp>
          <p:nvSpPr>
            <p:cNvPr id="101" name=""/>
            <p:cNvSpPr/>
            <p:nvPr/>
          </p:nvSpPr>
          <p:spPr>
            <a:xfrm flipV="1">
              <a:off x="1010880" y="416016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1012400">
              <a:off x="1040760" y="407880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508720" y="1844640"/>
            <a:ext cx="751320" cy="720720"/>
            <a:chOff x="5508720" y="1844640"/>
            <a:chExt cx="751320" cy="720720"/>
          </a:xfrm>
        </p:grpSpPr>
        <p:sp>
          <p:nvSpPr>
            <p:cNvPr id="104" name=""/>
            <p:cNvSpPr/>
            <p:nvPr/>
          </p:nvSpPr>
          <p:spPr>
            <a:xfrm flipH="1">
              <a:off x="6116400" y="2231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08720" y="1844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132000" y="1916280"/>
            <a:ext cx="752400" cy="720720"/>
            <a:chOff x="3132000" y="1916280"/>
            <a:chExt cx="752400" cy="720720"/>
          </a:xfrm>
        </p:grpSpPr>
        <p:sp>
          <p:nvSpPr>
            <p:cNvPr id="107" name=""/>
            <p:cNvSpPr/>
            <p:nvPr/>
          </p:nvSpPr>
          <p:spPr>
            <a:xfrm flipH="1">
              <a:off x="3740400" y="23029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32000" y="19162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044720" y="2852640"/>
            <a:ext cx="751320" cy="720720"/>
            <a:chOff x="1044720" y="2852640"/>
            <a:chExt cx="751320" cy="720720"/>
          </a:xfrm>
        </p:grpSpPr>
        <p:sp>
          <p:nvSpPr>
            <p:cNvPr id="110" name=""/>
            <p:cNvSpPr/>
            <p:nvPr/>
          </p:nvSpPr>
          <p:spPr>
            <a:xfrm flipH="1">
              <a:off x="1652400" y="3239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44720" y="2852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124000" y="6021360"/>
                <a:ext cx="3527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268360" y="692280"/>
                <a:ext cx="40132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627280" y="0"/>
                <a:ext cx="3403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 flipV="1">
            <a:off x="1763640" y="299700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4760" y="278136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335772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3429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072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84920" y="353844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58000" y="3611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55640" y="2349360"/>
                <a:ext cx="11523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885080" y="3500280"/>
                <a:ext cx="54144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276720" y="24210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189080" y="350028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71640" y="4869000"/>
                <a:ext cx="9363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132000" y="1484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050920" y="2852640"/>
                <a:ext cx="7192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140360" y="2276640"/>
                <a:ext cx="96660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50872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4581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4581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724360" y="242100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867280" y="4581360"/>
                <a:ext cx="505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436920" y="4562640"/>
                <a:ext cx="4698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763640" y="4005360"/>
            <a:ext cx="15130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2997360"/>
            <a:ext cx="144000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443640" y="4149360"/>
            <a:ext cx="1297080" cy="67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40280" y="500868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54400" y="3573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284720" y="450864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364000" y="1413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580000" y="3645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588000" y="278136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6588000" y="3860640"/>
                <a:ext cx="9162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124000" y="386064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1116000" y="549360"/>
            <a:ext cx="532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56000" y="620640"/>
                <a:ext cx="12240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403280" y="54936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916360" y="620640"/>
                <a:ext cx="15494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1835280" y="549360"/>
            <a:ext cx="3960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5805360"/>
            <a:ext cx="5040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195640" y="6021360"/>
                <a:ext cx="36320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900000" y="5805360"/>
            <a:ext cx="6120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68360" y="6021360"/>
                <a:ext cx="4589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971640" y="5734080"/>
            <a:ext cx="648000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484360" y="6021360"/>
                <a:ext cx="33530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187280" y="5805360"/>
            <a:ext cx="59058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484360" y="6021360"/>
                <a:ext cx="36784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1403280" y="5734080"/>
            <a:ext cx="511344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700360" y="6021360"/>
                <a:ext cx="33480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476360" y="5805360"/>
            <a:ext cx="5327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771640" y="6021360"/>
                <a:ext cx="338292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1547640" y="5805360"/>
            <a:ext cx="5040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987640" y="6021360"/>
                <a:ext cx="30956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763640" y="5805360"/>
            <a:ext cx="496908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059280" y="6021360"/>
                <a:ext cx="32558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835280" y="5805360"/>
            <a:ext cx="518472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132000" y="6021360"/>
                <a:ext cx="3113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050920" y="5805360"/>
            <a:ext cx="493236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276720" y="6021360"/>
                <a:ext cx="34560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2195640" y="5805360"/>
            <a:ext cx="5256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7" name=""/>
          <p:cNvSpPr/>
          <p:nvPr/>
        </p:nvSpPr>
        <p:spPr>
          <a:xfrm>
            <a:off x="4427640" y="6093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3924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0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20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21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21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21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22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22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3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4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1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7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8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8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9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1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2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3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4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5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7" name=""/>
          <p:cNvSpPr/>
          <p:nvPr/>
        </p:nvSpPr>
        <p:spPr>
          <a:xfrm>
            <a:off x="5003640" y="6093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4427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87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288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0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291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3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294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6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297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9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300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2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303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25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8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9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5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6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7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6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7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8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9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0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1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2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3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4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55" name=""/>
          <p:cNvSpPr/>
          <p:nvPr/>
        </p:nvSpPr>
        <p:spPr>
          <a:xfrm>
            <a:off x="5580000" y="6093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580000" y="666900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V="1">
            <a:off x="4952880" y="11426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3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4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65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366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8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369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1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372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4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375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7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378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0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381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03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5651640" y="371628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13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3294000" y="666720"/>
                <a:ext cx="3142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7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8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9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0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1" name=""/>
          <p:cNvSpPr/>
          <p:nvPr/>
        </p:nvSpPr>
        <p:spPr>
          <a:xfrm>
            <a:off x="5508720" y="6093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V="1">
            <a:off x="4932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9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41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442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4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445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7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448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0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451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454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457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79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1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2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3" name=""/>
              <p:cNvSpPr txBox="1"/>
              <p:nvPr/>
            </p:nvSpPr>
            <p:spPr>
              <a:xfrm>
                <a:off x="5435640" y="1557360"/>
                <a:ext cx="96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4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5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6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7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88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1" name=""/>
          <p:cNvGrpSpPr/>
          <p:nvPr/>
        </p:nvGrpSpPr>
        <p:grpSpPr>
          <a:xfrm>
            <a:off x="5867280" y="549360"/>
            <a:ext cx="2592360" cy="1584360"/>
            <a:chOff x="5867280" y="549360"/>
            <a:chExt cx="2592360" cy="1584360"/>
          </a:xfrm>
        </p:grpSpPr>
        <p:sp>
          <p:nvSpPr>
            <p:cNvPr id="2492" name=""/>
            <p:cNvSpPr/>
            <p:nvPr/>
          </p:nvSpPr>
          <p:spPr>
            <a:xfrm>
              <a:off x="5867280" y="549360"/>
              <a:ext cx="2592360" cy="1584360"/>
            </a:xfrm>
            <a:prstGeom prst="wedgeRoundRectCallout">
              <a:avLst>
                <a:gd name="adj1" fmla="val 37689"/>
                <a:gd name="adj2" fmla="val 146791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6012000" y="765000"/>
              <a:ext cx="237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500"/>
                                        <p:tgtEl>
                                          <p:spTgt spid="2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"/>
          <p:cNvSpPr/>
          <p:nvPr/>
        </p:nvSpPr>
        <p:spPr>
          <a:xfrm>
            <a:off x="1619280" y="2349360"/>
            <a:ext cx="6265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c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対しても，２通りの遷移の可能性があるが，受理条件を満たす様相に到達する遷移が可能なので，入力語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aaabbccc</a:t>
            </a:r>
            <a:r>
              <a:rPr b="0" i="1" lang="ja-JP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も </a:t>
            </a:r>
            <a:r>
              <a:rPr b="1" i="1" lang="ja-JP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ja-JP" sz="2400" spc="-1" strike="noStrike" baseline="-25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によって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"/>
          <p:cNvSpPr/>
          <p:nvPr/>
        </p:nvSpPr>
        <p:spPr>
          <a:xfrm>
            <a:off x="395280" y="404640"/>
            <a:ext cx="8424720" cy="4104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6" name=""/>
          <p:cNvGrpSpPr/>
          <p:nvPr/>
        </p:nvGrpSpPr>
        <p:grpSpPr>
          <a:xfrm>
            <a:off x="5722920" y="2997360"/>
            <a:ext cx="752400" cy="720720"/>
            <a:chOff x="5722920" y="2997360"/>
            <a:chExt cx="752400" cy="720720"/>
          </a:xfrm>
        </p:grpSpPr>
        <p:sp>
          <p:nvSpPr>
            <p:cNvPr id="2497" name=""/>
            <p:cNvSpPr/>
            <p:nvPr/>
          </p:nvSpPr>
          <p:spPr>
            <a:xfrm flipH="1">
              <a:off x="633132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72292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9" name=""/>
          <p:cNvGrpSpPr/>
          <p:nvPr/>
        </p:nvGrpSpPr>
        <p:grpSpPr>
          <a:xfrm>
            <a:off x="3346560" y="2997360"/>
            <a:ext cx="751320" cy="720720"/>
            <a:chOff x="3346560" y="2997360"/>
            <a:chExt cx="751320" cy="720720"/>
          </a:xfrm>
        </p:grpSpPr>
        <p:sp>
          <p:nvSpPr>
            <p:cNvPr id="2500" name=""/>
            <p:cNvSpPr/>
            <p:nvPr/>
          </p:nvSpPr>
          <p:spPr>
            <a:xfrm flipH="1">
              <a:off x="3954240" y="338436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3346560" y="29973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2" name=""/>
          <p:cNvGrpSpPr/>
          <p:nvPr/>
        </p:nvGrpSpPr>
        <p:grpSpPr>
          <a:xfrm>
            <a:off x="1081800" y="3049200"/>
            <a:ext cx="771840" cy="763920"/>
            <a:chOff x="1081800" y="3049200"/>
            <a:chExt cx="771840" cy="763920"/>
          </a:xfrm>
        </p:grpSpPr>
        <p:sp>
          <p:nvSpPr>
            <p:cNvPr id="2503" name=""/>
            <p:cNvSpPr/>
            <p:nvPr/>
          </p:nvSpPr>
          <p:spPr>
            <a:xfrm flipV="1">
              <a:off x="1081800" y="315216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rot="11012400">
              <a:off x="1112400" y="30708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5" name=""/>
          <p:cNvGrpSpPr/>
          <p:nvPr/>
        </p:nvGrpSpPr>
        <p:grpSpPr>
          <a:xfrm>
            <a:off x="5580000" y="836640"/>
            <a:ext cx="752400" cy="720720"/>
            <a:chOff x="5580000" y="836640"/>
            <a:chExt cx="752400" cy="720720"/>
          </a:xfrm>
        </p:grpSpPr>
        <p:sp>
          <p:nvSpPr>
            <p:cNvPr id="2506" name=""/>
            <p:cNvSpPr/>
            <p:nvPr/>
          </p:nvSpPr>
          <p:spPr>
            <a:xfrm flipH="1">
              <a:off x="6188400" y="122328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580000" y="83664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8" name=""/>
          <p:cNvGrpSpPr/>
          <p:nvPr/>
        </p:nvGrpSpPr>
        <p:grpSpPr>
          <a:xfrm>
            <a:off x="3203640" y="907920"/>
            <a:ext cx="751320" cy="720720"/>
            <a:chOff x="3203640" y="907920"/>
            <a:chExt cx="751320" cy="720720"/>
          </a:xfrm>
        </p:grpSpPr>
        <p:sp>
          <p:nvSpPr>
            <p:cNvPr id="2509" name=""/>
            <p:cNvSpPr/>
            <p:nvPr/>
          </p:nvSpPr>
          <p:spPr>
            <a:xfrm flipH="1">
              <a:off x="3811320" y="12949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3203640" y="9079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1" name=""/>
          <p:cNvGrpSpPr/>
          <p:nvPr/>
        </p:nvGrpSpPr>
        <p:grpSpPr>
          <a:xfrm>
            <a:off x="1116000" y="1844640"/>
            <a:ext cx="752400" cy="720720"/>
            <a:chOff x="1116000" y="1844640"/>
            <a:chExt cx="752400" cy="720720"/>
          </a:xfrm>
        </p:grpSpPr>
        <p:sp>
          <p:nvSpPr>
            <p:cNvPr id="2512" name=""/>
            <p:cNvSpPr/>
            <p:nvPr/>
          </p:nvSpPr>
          <p:spPr>
            <a:xfrm flipH="1">
              <a:off x="1724400" y="223128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1116000" y="184464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 flipV="1">
            <a:off x="1835280" y="1989000"/>
            <a:ext cx="1368360" cy="7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3956040" y="177336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611280" y="234936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042920" y="2421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132000" y="141300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7756560" y="2530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7829640" y="26035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826920" y="13413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7956720" y="2492280"/>
                <a:ext cx="54108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3348000" y="141300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1260360" y="249228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1042920" y="3860640"/>
                <a:ext cx="936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3203640" y="47628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2122560" y="184464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4211640" y="126828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29" name=""/>
          <p:cNvSpPr/>
          <p:nvPr/>
        </p:nvSpPr>
        <p:spPr>
          <a:xfrm>
            <a:off x="5580000" y="141300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3274920" y="3573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5722920" y="357336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5796000" y="1413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5938920" y="3573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3508200" y="3554280"/>
                <a:ext cx="4701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35" name=""/>
          <p:cNvSpPr/>
          <p:nvPr/>
        </p:nvSpPr>
        <p:spPr>
          <a:xfrm>
            <a:off x="1835280" y="299736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372360" y="1989000"/>
            <a:ext cx="143964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 flipV="1">
            <a:off x="6515280" y="3141360"/>
            <a:ext cx="1296720" cy="671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4111560" y="400068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9" name=""/>
              <p:cNvSpPr txBox="1"/>
              <p:nvPr/>
            </p:nvSpPr>
            <p:spPr>
              <a:xfrm>
                <a:off x="3325680" y="256536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0" name=""/>
              <p:cNvSpPr txBox="1"/>
              <p:nvPr/>
            </p:nvSpPr>
            <p:spPr>
              <a:xfrm>
                <a:off x="4356000" y="350028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1" name=""/>
              <p:cNvSpPr txBox="1"/>
              <p:nvPr/>
            </p:nvSpPr>
            <p:spPr>
              <a:xfrm>
                <a:off x="5435640" y="40464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2" name=""/>
              <p:cNvSpPr txBox="1"/>
              <p:nvPr/>
            </p:nvSpPr>
            <p:spPr>
              <a:xfrm>
                <a:off x="5651640" y="263700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3" name=""/>
              <p:cNvSpPr txBox="1"/>
              <p:nvPr/>
            </p:nvSpPr>
            <p:spPr>
              <a:xfrm>
                <a:off x="6659640" y="177336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4" name=""/>
              <p:cNvSpPr txBox="1"/>
              <p:nvPr/>
            </p:nvSpPr>
            <p:spPr>
              <a:xfrm>
                <a:off x="6659640" y="285264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5" name=""/>
              <p:cNvSpPr txBox="1"/>
              <p:nvPr/>
            </p:nvSpPr>
            <p:spPr>
              <a:xfrm>
                <a:off x="2195640" y="285264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6" name=""/>
              <p:cNvSpPr txBox="1"/>
              <p:nvPr/>
            </p:nvSpPr>
            <p:spPr>
              <a:xfrm>
                <a:off x="476280" y="5373720"/>
                <a:ext cx="783108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または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7" name=""/>
          <p:cNvSpPr/>
          <p:nvPr/>
        </p:nvSpPr>
        <p:spPr>
          <a:xfrm>
            <a:off x="539640" y="4869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39640" y="6021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619280" y="0"/>
                <a:ext cx="5567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cc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292720" y="6093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900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7236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0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01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04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07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10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13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16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403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6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277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280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283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286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289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292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9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4500720" y="6093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00720" y="6669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190800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35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35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36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36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36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37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3995640" y="6093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95640" y="666900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41128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4328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435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438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441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444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447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450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35600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4427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90" name=""/>
          <p:cNvGrpSpPr/>
          <p:nvPr/>
        </p:nvGrpSpPr>
        <p:grpSpPr>
          <a:xfrm>
            <a:off x="4211640" y="3500280"/>
            <a:ext cx="3527280" cy="1728720"/>
            <a:chOff x="4211640" y="3500280"/>
            <a:chExt cx="3527280" cy="1728720"/>
          </a:xfrm>
        </p:grpSpPr>
        <p:sp>
          <p:nvSpPr>
            <p:cNvPr id="491" name=""/>
            <p:cNvSpPr/>
            <p:nvPr/>
          </p:nvSpPr>
          <p:spPr>
            <a:xfrm>
              <a:off x="4211640" y="3500280"/>
              <a:ext cx="3527280" cy="1728720"/>
            </a:xfrm>
            <a:prstGeom prst="wedgeRoundRectCallout">
              <a:avLst>
                <a:gd name="adj1" fmla="val -86995"/>
                <a:gd name="adj2" fmla="val -6120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56000" y="3787560"/>
              <a:ext cx="331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の時点で，２つの選択肢があるが，まず，こちらの遷移を選択する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4356000" y="609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356000" y="6669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291636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1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52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52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52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52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53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53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9" name=""/>
          <p:cNvSpPr/>
          <p:nvPr/>
        </p:nvSpPr>
        <p:spPr>
          <a:xfrm>
            <a:off x="493236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76720" y="6165720"/>
                <a:ext cx="34632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395280" y="1557360"/>
            <a:ext cx="8424720" cy="410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4360" y="549360"/>
            <a:ext cx="45370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1186920" y="54936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92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2195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203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708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27672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1763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125892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755640" y="62064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789440" y="620640"/>
                <a:ext cx="314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2773440" y="620640"/>
                <a:ext cx="3492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"/>
          <p:cNvSpPr/>
          <p:nvPr/>
        </p:nvSpPr>
        <p:spPr>
          <a:xfrm>
            <a:off x="2700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2268360" y="620640"/>
                <a:ext cx="36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6156360" y="6165720"/>
                <a:ext cx="49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9" name=""/>
          <p:cNvSpPr/>
          <p:nvPr/>
        </p:nvSpPr>
        <p:spPr>
          <a:xfrm>
            <a:off x="4932360" y="609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084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732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3419640" y="112536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96000" y="5661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4211640" y="54936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549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378000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4284720" y="620640"/>
                <a:ext cx="314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9" name=""/>
          <p:cNvGrpSpPr/>
          <p:nvPr/>
        </p:nvGrpSpPr>
        <p:grpSpPr>
          <a:xfrm>
            <a:off x="5722920" y="4149720"/>
            <a:ext cx="752400" cy="720720"/>
            <a:chOff x="5722920" y="4149720"/>
            <a:chExt cx="752400" cy="720720"/>
          </a:xfrm>
        </p:grpSpPr>
        <p:sp>
          <p:nvSpPr>
            <p:cNvPr id="600" name=""/>
            <p:cNvSpPr/>
            <p:nvPr/>
          </p:nvSpPr>
          <p:spPr>
            <a:xfrm flipH="1">
              <a:off x="6331320" y="45363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22920" y="4149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3346560" y="4149720"/>
            <a:ext cx="751320" cy="720720"/>
            <a:chOff x="3346560" y="4149720"/>
            <a:chExt cx="751320" cy="720720"/>
          </a:xfrm>
        </p:grpSpPr>
        <p:sp>
          <p:nvSpPr>
            <p:cNvPr id="603" name=""/>
            <p:cNvSpPr/>
            <p:nvPr/>
          </p:nvSpPr>
          <p:spPr>
            <a:xfrm flipH="1">
              <a:off x="3954240" y="453672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46560" y="414972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081800" y="4201560"/>
            <a:ext cx="771840" cy="763920"/>
            <a:chOff x="1081800" y="4201560"/>
            <a:chExt cx="771840" cy="763920"/>
          </a:xfrm>
        </p:grpSpPr>
        <p:sp>
          <p:nvSpPr>
            <p:cNvPr id="606" name=""/>
            <p:cNvSpPr/>
            <p:nvPr/>
          </p:nvSpPr>
          <p:spPr>
            <a:xfrm flipV="1">
              <a:off x="1081800" y="430452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1012400">
              <a:off x="1112400" y="42231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5580000" y="1989000"/>
            <a:ext cx="752400" cy="720720"/>
            <a:chOff x="5580000" y="1989000"/>
            <a:chExt cx="752400" cy="720720"/>
          </a:xfrm>
        </p:grpSpPr>
        <p:sp>
          <p:nvSpPr>
            <p:cNvPr id="609" name=""/>
            <p:cNvSpPr/>
            <p:nvPr/>
          </p:nvSpPr>
          <p:spPr>
            <a:xfrm flipH="1">
              <a:off x="6188400" y="237564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80000" y="198900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203640" y="2060640"/>
            <a:ext cx="751320" cy="720720"/>
            <a:chOff x="3203640" y="2060640"/>
            <a:chExt cx="751320" cy="720720"/>
          </a:xfrm>
        </p:grpSpPr>
        <p:sp>
          <p:nvSpPr>
            <p:cNvPr id="612" name=""/>
            <p:cNvSpPr/>
            <p:nvPr/>
          </p:nvSpPr>
          <p:spPr>
            <a:xfrm flipH="1">
              <a:off x="3811320" y="24476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203640" y="20606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116000" y="2997360"/>
            <a:ext cx="752400" cy="720720"/>
            <a:chOff x="1116000" y="2997360"/>
            <a:chExt cx="752400" cy="720720"/>
          </a:xfrm>
        </p:grpSpPr>
        <p:sp>
          <p:nvSpPr>
            <p:cNvPr id="615" name=""/>
            <p:cNvSpPr/>
            <p:nvPr/>
          </p:nvSpPr>
          <p:spPr>
            <a:xfrm flipH="1">
              <a:off x="1724400" y="338400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116000" y="299736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3956040" y="292572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11280" y="350208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042920" y="3573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32000" y="25653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756560" y="36831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829640" y="37558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826920" y="249408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7956720" y="3645000"/>
                <a:ext cx="54108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348000" y="25653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1260360" y="36450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042920" y="5013360"/>
                <a:ext cx="936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203640" y="1628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122560" y="2997360"/>
                <a:ext cx="7189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4211640" y="2421000"/>
                <a:ext cx="9669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1" name=""/>
          <p:cNvSpPr/>
          <p:nvPr/>
        </p:nvSpPr>
        <p:spPr>
          <a:xfrm>
            <a:off x="5580000" y="25653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74920" y="472608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722920" y="472608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796000" y="256536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938920" y="472608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3508200" y="4707000"/>
                <a:ext cx="4701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7" name=""/>
          <p:cNvSpPr/>
          <p:nvPr/>
        </p:nvSpPr>
        <p:spPr>
          <a:xfrm>
            <a:off x="6372360" y="3141720"/>
            <a:ext cx="143964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6515280" y="4294080"/>
            <a:ext cx="1296720" cy="67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11560" y="5153040"/>
            <a:ext cx="16272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3325680" y="3718080"/>
                <a:ext cx="7621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4356000" y="4653000"/>
                <a:ext cx="7700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435640" y="1557360"/>
                <a:ext cx="9666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651640" y="3789360"/>
                <a:ext cx="769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659640" y="2925720"/>
                <a:ext cx="9176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6659640" y="4005360"/>
                <a:ext cx="91584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2195640" y="4005360"/>
                <a:ext cx="7603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5508720" y="6093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651640" y="6165720"/>
                <a:ext cx="3459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 flipV="1">
            <a:off x="1835280" y="3141360"/>
            <a:ext cx="1368360" cy="71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835280" y="4149720"/>
            <a:ext cx="15127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4:32:37Z</dcterms:modified>
  <cp:revision>33</cp:revision>
  <dc:subject/>
  <dc:title>PowerPoint プレゼンテーション</dc:title>
</cp:coreProperties>
</file>