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9513-3F5D-45AE-89E7-416A776D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53B-4D1E-483A-8BCF-67D6378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BE1-BA86-4CC6-BD6E-D3E12771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BDD-838D-4905-99DE-22825D61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2B16-3BC6-4840-A120-40170695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26F-A62C-4475-AB3F-845FB500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04C6-AE00-4985-B204-726DED9E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C099-0814-494F-935F-B8FDB93F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71A-1503-4CC6-B913-D83315F3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76ED-EFDF-4D3C-B005-4A0FFFBF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1F1-BD82-4719-B1D6-37E9AB14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B9A-1BAA-40F5-A156-038D81BA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8EF7-D3D0-4A7E-96FB-C41E0EEA5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18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403280" y="620640"/>
                <a:ext cx="544824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" name=""/>
          <p:cNvGrpSpPr/>
          <p:nvPr/>
        </p:nvGrpSpPr>
        <p:grpSpPr>
          <a:xfrm>
            <a:off x="1187280" y="1341360"/>
            <a:ext cx="6264360" cy="544680"/>
            <a:chOff x="1187280" y="1341360"/>
            <a:chExt cx="6264360" cy="544680"/>
          </a:xfrm>
        </p:grpSpPr>
        <p:sp>
          <p:nvSpPr>
            <p:cNvPr id="44" name=""/>
            <p:cNvSpPr/>
            <p:nvPr/>
          </p:nvSpPr>
          <p:spPr>
            <a:xfrm>
              <a:off x="1187280" y="1341360"/>
              <a:ext cx="6264360" cy="544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1476360" y="1341360"/>
                  <a:ext cx="420840" cy="50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" name=""/>
            <p:cNvSpPr/>
            <p:nvPr/>
          </p:nvSpPr>
          <p:spPr>
            <a:xfrm>
              <a:off x="2340000" y="134136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187280" y="1989000"/>
            <a:ext cx="6264360" cy="574560"/>
            <a:chOff x="1187280" y="1989000"/>
            <a:chExt cx="6264360" cy="574560"/>
          </a:xfrm>
        </p:grpSpPr>
        <p:sp>
          <p:nvSpPr>
            <p:cNvPr id="48" name=""/>
            <p:cNvSpPr/>
            <p:nvPr/>
          </p:nvSpPr>
          <p:spPr>
            <a:xfrm>
              <a:off x="1187280" y="198900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1476360" y="2060640"/>
                  <a:ext cx="6494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2340000" y="2060640"/>
              <a:ext cx="30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187280" y="4508640"/>
            <a:ext cx="6264360" cy="609480"/>
            <a:chOff x="1187280" y="4508640"/>
            <a:chExt cx="6264360" cy="609480"/>
          </a:xfrm>
        </p:grpSpPr>
        <p:sp>
          <p:nvSpPr>
            <p:cNvPr id="52" name=""/>
            <p:cNvSpPr/>
            <p:nvPr/>
          </p:nvSpPr>
          <p:spPr>
            <a:xfrm>
              <a:off x="1187280" y="450864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476360" y="4508640"/>
                  <a:ext cx="46836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4" name=""/>
            <p:cNvSpPr/>
            <p:nvPr/>
          </p:nvSpPr>
          <p:spPr>
            <a:xfrm>
              <a:off x="2411280" y="45817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5364000" y="4508640"/>
                  <a:ext cx="108108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6" name=""/>
          <p:cNvGrpSpPr/>
          <p:nvPr/>
        </p:nvGrpSpPr>
        <p:grpSpPr>
          <a:xfrm>
            <a:off x="1187280" y="2708280"/>
            <a:ext cx="6264360" cy="504720"/>
            <a:chOff x="1187280" y="2708280"/>
            <a:chExt cx="6264360" cy="504720"/>
          </a:xfrm>
        </p:grpSpPr>
        <p:sp>
          <p:nvSpPr>
            <p:cNvPr id="57" name=""/>
            <p:cNvSpPr/>
            <p:nvPr/>
          </p:nvSpPr>
          <p:spPr>
            <a:xfrm>
              <a:off x="1187280" y="2708280"/>
              <a:ext cx="6264360" cy="5047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476360" y="2708280"/>
                  <a:ext cx="7142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411280" y="2708280"/>
              <a:ext cx="47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プッシュダウン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1187280" y="5229360"/>
            <a:ext cx="6264360" cy="574560"/>
            <a:chOff x="1187280" y="5229360"/>
            <a:chExt cx="6264360" cy="574560"/>
          </a:xfrm>
        </p:grpSpPr>
        <p:sp>
          <p:nvSpPr>
            <p:cNvPr id="61" name=""/>
            <p:cNvSpPr/>
            <p:nvPr/>
          </p:nvSpPr>
          <p:spPr>
            <a:xfrm>
              <a:off x="1187280" y="5229360"/>
              <a:ext cx="626436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476360" y="5229360"/>
                  <a:ext cx="47628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2484360" y="52293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ボトムマーカ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5364000" y="5229360"/>
                  <a:ext cx="106848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Γ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" name=""/>
          <p:cNvGrpSpPr/>
          <p:nvPr/>
        </p:nvGrpSpPr>
        <p:grpSpPr>
          <a:xfrm>
            <a:off x="1187280" y="5877000"/>
            <a:ext cx="6264360" cy="609480"/>
            <a:chOff x="1187280" y="5877000"/>
            <a:chExt cx="6264360" cy="609480"/>
          </a:xfrm>
        </p:grpSpPr>
        <p:sp>
          <p:nvSpPr>
            <p:cNvPr id="66" name=""/>
            <p:cNvSpPr/>
            <p:nvPr/>
          </p:nvSpPr>
          <p:spPr>
            <a:xfrm>
              <a:off x="1187280" y="5877000"/>
              <a:ext cx="6264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476360" y="5948280"/>
                  <a:ext cx="44136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2411280" y="5948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5435640" y="5948280"/>
                  <a:ext cx="10684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" name=""/>
          <p:cNvGrpSpPr/>
          <p:nvPr/>
        </p:nvGrpSpPr>
        <p:grpSpPr>
          <a:xfrm>
            <a:off x="1187280" y="3284640"/>
            <a:ext cx="6264360" cy="1123920"/>
            <a:chOff x="1187280" y="3284640"/>
            <a:chExt cx="6264360" cy="1123920"/>
          </a:xfrm>
        </p:grpSpPr>
        <p:sp>
          <p:nvSpPr>
            <p:cNvPr id="71" name=""/>
            <p:cNvSpPr/>
            <p:nvPr/>
          </p:nvSpPr>
          <p:spPr>
            <a:xfrm>
              <a:off x="1187280" y="3284640"/>
              <a:ext cx="6264360" cy="1123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1476360" y="3327480"/>
                  <a:ext cx="406440" cy="48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2411280" y="332748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76360" y="3832200"/>
                  <a:ext cx="59054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" name=""/>
          <p:cNvSpPr/>
          <p:nvPr/>
        </p:nvSpPr>
        <p:spPr>
          <a:xfrm>
            <a:off x="2411280" y="3716280"/>
            <a:ext cx="1368720" cy="792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08360" y="1628640"/>
            <a:ext cx="5256360" cy="2160720"/>
            <a:chOff x="3708360" y="1628640"/>
            <a:chExt cx="5256360" cy="2160720"/>
          </a:xfrm>
        </p:grpSpPr>
        <p:sp>
          <p:nvSpPr>
            <p:cNvPr id="77" name=""/>
            <p:cNvSpPr/>
            <p:nvPr/>
          </p:nvSpPr>
          <p:spPr>
            <a:xfrm>
              <a:off x="3708360" y="1628640"/>
              <a:ext cx="5256360" cy="2160720"/>
            </a:xfrm>
            <a:prstGeom prst="wedgeRoundRectCallout">
              <a:avLst>
                <a:gd name="adj1" fmla="val -48037"/>
                <a:gd name="adj2" fmla="val 60652"/>
                <a:gd name="adj3" fmla="val 16667"/>
              </a:avLst>
            </a:prstGeom>
            <a:solidFill>
              <a:srgbClr val="ffff00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924360" y="184464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" name=""/>
                <p:cNvSpPr txBox="1"/>
                <p:nvPr/>
              </p:nvSpPr>
              <p:spPr>
                <a:xfrm>
                  <a:off x="3924360" y="2708280"/>
                  <a:ext cx="1457280" cy="41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0" name=""/>
            <p:cNvSpPr/>
            <p:nvPr/>
          </p:nvSpPr>
          <p:spPr>
            <a:xfrm>
              <a:off x="5364000" y="1773360"/>
              <a:ext cx="34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が定義されているときは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51280" y="220500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ど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4643280" y="2349360"/>
                  <a:ext cx="30348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3" name=""/>
            <p:cNvSpPr/>
            <p:nvPr/>
          </p:nvSpPr>
          <p:spPr>
            <a:xfrm>
              <a:off x="4932360" y="2205000"/>
              <a:ext cx="201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に対しても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435640" y="2637000"/>
              <a:ext cx="302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は定義されていない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11640" y="3213000"/>
              <a:ext cx="43210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（動作の決定性が保証される。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1187280" y="333360"/>
                <a:ext cx="5737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8" name=""/>
          <p:cNvGrpSpPr/>
          <p:nvPr/>
        </p:nvGrpSpPr>
        <p:grpSpPr>
          <a:xfrm>
            <a:off x="1187280" y="1052640"/>
            <a:ext cx="6264360" cy="493560"/>
            <a:chOff x="1187280" y="1052640"/>
            <a:chExt cx="6264360" cy="493560"/>
          </a:xfrm>
        </p:grpSpPr>
        <p:sp>
          <p:nvSpPr>
            <p:cNvPr id="279" name=""/>
            <p:cNvSpPr/>
            <p:nvPr/>
          </p:nvSpPr>
          <p:spPr>
            <a:xfrm>
              <a:off x="1187280" y="1052640"/>
              <a:ext cx="6264360" cy="473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1692360" y="1052640"/>
                  <a:ext cx="208764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1" name=""/>
          <p:cNvGrpSpPr/>
          <p:nvPr/>
        </p:nvGrpSpPr>
        <p:grpSpPr>
          <a:xfrm>
            <a:off x="1187280" y="1700280"/>
            <a:ext cx="6264360" cy="514440"/>
            <a:chOff x="1187280" y="1700280"/>
            <a:chExt cx="6264360" cy="514440"/>
          </a:xfrm>
        </p:grpSpPr>
        <p:sp>
          <p:nvSpPr>
            <p:cNvPr id="282" name=""/>
            <p:cNvSpPr/>
            <p:nvPr/>
          </p:nvSpPr>
          <p:spPr>
            <a:xfrm>
              <a:off x="1187280" y="1700280"/>
              <a:ext cx="6264360" cy="50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92360" y="1771920"/>
                  <a:ext cx="2158920" cy="44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4" name=""/>
          <p:cNvGrpSpPr/>
          <p:nvPr/>
        </p:nvGrpSpPr>
        <p:grpSpPr>
          <a:xfrm>
            <a:off x="1187280" y="2349360"/>
            <a:ext cx="6264360" cy="513000"/>
            <a:chOff x="1187280" y="2349360"/>
            <a:chExt cx="6264360" cy="513000"/>
          </a:xfrm>
        </p:grpSpPr>
        <p:sp>
          <p:nvSpPr>
            <p:cNvPr id="285" name=""/>
            <p:cNvSpPr/>
            <p:nvPr/>
          </p:nvSpPr>
          <p:spPr>
            <a:xfrm>
              <a:off x="1187280" y="2349360"/>
              <a:ext cx="6264360" cy="505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1692360" y="2421000"/>
                  <a:ext cx="208908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Γ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7" name=""/>
          <p:cNvGrpSpPr/>
          <p:nvPr/>
        </p:nvGrpSpPr>
        <p:grpSpPr>
          <a:xfrm>
            <a:off x="1187280" y="5950080"/>
            <a:ext cx="6264360" cy="576000"/>
            <a:chOff x="1187280" y="5950080"/>
            <a:chExt cx="6264360" cy="576000"/>
          </a:xfrm>
        </p:grpSpPr>
        <p:sp>
          <p:nvSpPr>
            <p:cNvPr id="288" name=""/>
            <p:cNvSpPr/>
            <p:nvPr/>
          </p:nvSpPr>
          <p:spPr>
            <a:xfrm>
              <a:off x="1187280" y="5950080"/>
              <a:ext cx="6264360" cy="57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1835280" y="6022800"/>
                  <a:ext cx="1150920" cy="44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90" name=""/>
          <p:cNvGrpSpPr/>
          <p:nvPr/>
        </p:nvGrpSpPr>
        <p:grpSpPr>
          <a:xfrm>
            <a:off x="1187280" y="2997360"/>
            <a:ext cx="6264360" cy="2808000"/>
            <a:chOff x="1187280" y="2997360"/>
            <a:chExt cx="6264360" cy="2808000"/>
          </a:xfrm>
        </p:grpSpPr>
        <p:sp>
          <p:nvSpPr>
            <p:cNvPr id="291" name=""/>
            <p:cNvSpPr/>
            <p:nvPr/>
          </p:nvSpPr>
          <p:spPr>
            <a:xfrm>
              <a:off x="1187280" y="2997360"/>
              <a:ext cx="6264360" cy="2808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1692360" y="3068640"/>
                  <a:ext cx="5040360" cy="45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×</m:t>
                      </m:r>
                      <m:r>
                        <m:t xml:space="preserve">Γ</m:t>
                      </m:r>
                      <m:r>
                        <m:rPr>
                          <m:lit/>
                          <m:nor/>
                        </m:rPr>
                        <m:t xml:space="preserve">の部分集合</m:t>
                      </m:r>
                      <m:r>
                        <m:t xml:space="preserve">→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sSup>
                        <m:e>
                          <m:r>
                            <m:t xml:space="preserve">Γ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93" name=""/>
                <p:cNvSpPr txBox="1"/>
                <p:nvPr/>
              </p:nvSpPr>
              <p:spPr>
                <a:xfrm>
                  <a:off x="2411280" y="3573360"/>
                  <a:ext cx="2808360" cy="209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AA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547640" y="5589720"/>
                <a:ext cx="3502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700360" y="1197000"/>
                <a:ext cx="2735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1835280" y="4076640"/>
            <a:ext cx="685800" cy="1067040"/>
            <a:chOff x="1835280" y="4076640"/>
            <a:chExt cx="685800" cy="1067040"/>
          </a:xfrm>
        </p:grpSpPr>
        <p:sp>
          <p:nvSpPr>
            <p:cNvPr id="297" name=""/>
            <p:cNvSpPr/>
            <p:nvPr/>
          </p:nvSpPr>
          <p:spPr>
            <a:xfrm>
              <a:off x="183528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84572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169236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4284720" y="2565360"/>
            <a:ext cx="685800" cy="1066680"/>
            <a:chOff x="4284720" y="2565360"/>
            <a:chExt cx="685800" cy="1066680"/>
          </a:xfrm>
        </p:grpSpPr>
        <p:sp>
          <p:nvSpPr>
            <p:cNvPr id="301" name=""/>
            <p:cNvSpPr/>
            <p:nvPr/>
          </p:nvSpPr>
          <p:spPr>
            <a:xfrm>
              <a:off x="428472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82148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03520" y="42372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2590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835280" y="2565360"/>
            <a:ext cx="685800" cy="1066680"/>
            <a:chOff x="1835280" y="2565360"/>
            <a:chExt cx="685800" cy="1066680"/>
          </a:xfrm>
        </p:grpSpPr>
        <p:sp>
          <p:nvSpPr>
            <p:cNvPr id="307" name=""/>
            <p:cNvSpPr/>
            <p:nvPr/>
          </p:nvSpPr>
          <p:spPr>
            <a:xfrm>
              <a:off x="18352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6880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25892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1164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65964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84360" y="2421000"/>
                <a:ext cx="11620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87708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42764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190008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2556000" y="4581360"/>
                <a:ext cx="9874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84328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49236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21964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132000" y="1197000"/>
                <a:ext cx="1297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1908000" y="1052640"/>
            <a:ext cx="396108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419640" y="1197000"/>
                <a:ext cx="1726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2195640" y="1052640"/>
            <a:ext cx="3960720" cy="93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1763640" y="5589720"/>
                <a:ext cx="3729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1042920" y="5445000"/>
            <a:ext cx="504036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979640" y="5589720"/>
                <a:ext cx="3335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1258920" y="5445000"/>
            <a:ext cx="4753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2268360" y="5589720"/>
                <a:ext cx="3299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1476360" y="5445000"/>
            <a:ext cx="489744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56000" y="5589720"/>
                <a:ext cx="37288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1692360" y="5445000"/>
            <a:ext cx="51116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763640" y="189000"/>
                <a:ext cx="54007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3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3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3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45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46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46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0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1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1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55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56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56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97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0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1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1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5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5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65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66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26920" y="836640"/>
            <a:ext cx="4321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4637160" y="9270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6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22" name=""/>
          <p:cNvGrpSpPr/>
          <p:nvPr/>
        </p:nvGrpSpPr>
        <p:grpSpPr>
          <a:xfrm>
            <a:off x="5651640" y="260280"/>
            <a:ext cx="3166920" cy="2376720"/>
            <a:chOff x="5651640" y="260280"/>
            <a:chExt cx="3166920" cy="2376720"/>
          </a:xfrm>
        </p:grpSpPr>
        <p:sp>
          <p:nvSpPr>
            <p:cNvPr id="723" name=""/>
            <p:cNvSpPr/>
            <p:nvPr/>
          </p:nvSpPr>
          <p:spPr>
            <a:xfrm>
              <a:off x="5651640" y="260280"/>
              <a:ext cx="3166920" cy="2376720"/>
            </a:xfrm>
            <a:prstGeom prst="wedgeRoundRectCallout">
              <a:avLst>
                <a:gd name="adj1" fmla="val 10652"/>
                <a:gd name="adj2" fmla="val 84736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96000" y="476280"/>
              <a:ext cx="2952720" cy="1355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たとき，受理状態に遷移し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その時プッシュダウンスタックは空（ボトムマーカーのみ）な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受理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１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0" name=""/>
          <p:cNvGrpSpPr/>
          <p:nvPr/>
        </p:nvGrpSpPr>
        <p:grpSpPr>
          <a:xfrm>
            <a:off x="5435640" y="3284640"/>
            <a:ext cx="3206880" cy="1180440"/>
            <a:chOff x="5435640" y="3284640"/>
            <a:chExt cx="3206880" cy="118044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5435640" y="3284640"/>
                  <a:ext cx="320688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a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1854360" y="189000"/>
                <a:ext cx="52178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48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51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756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7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7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8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1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895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898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03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406728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9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0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2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44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47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52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2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3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826920" y="836640"/>
            <a:ext cx="3673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995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9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9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9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14" name=""/>
          <p:cNvGrpSpPr/>
          <p:nvPr/>
        </p:nvGrpSpPr>
        <p:grpSpPr>
          <a:xfrm>
            <a:off x="5867280" y="476280"/>
            <a:ext cx="2952720" cy="2521080"/>
            <a:chOff x="5867280" y="476280"/>
            <a:chExt cx="2952720" cy="2521080"/>
          </a:xfrm>
        </p:grpSpPr>
        <p:sp>
          <p:nvSpPr>
            <p:cNvPr id="1015" name=""/>
            <p:cNvSpPr/>
            <p:nvPr/>
          </p:nvSpPr>
          <p:spPr>
            <a:xfrm>
              <a:off x="5867280" y="476280"/>
              <a:ext cx="2952720" cy="2521080"/>
            </a:xfrm>
            <a:prstGeom prst="wedgeRoundRectCallout">
              <a:avLst>
                <a:gd name="adj1" fmla="val -66837"/>
                <a:gd name="adj2" fmla="val 73805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084000" y="620640"/>
              <a:ext cx="2583720" cy="16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は読み終えたが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受理状態ではなく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,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プッシュダウンスタックも空ではない。これ以上遷移できないので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は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1673280" y="189000"/>
                <a:ext cx="55832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aaabbbb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9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2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3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4" name=""/>
          <p:cNvSpPr/>
          <p:nvPr/>
        </p:nvSpPr>
        <p:spPr>
          <a:xfrm>
            <a:off x="529272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292720" y="666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1116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4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4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4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4584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6" name=""/>
              <p:cNvSpPr txBox="1"/>
              <p:nvPr/>
            </p:nvSpPr>
            <p:spPr>
              <a:xfrm>
                <a:off x="5219640" y="907920"/>
                <a:ext cx="31428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61563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1" name=""/>
          <p:cNvSpPr/>
          <p:nvPr/>
        </p:nvSpPr>
        <p:spPr>
          <a:xfrm>
            <a:off x="4932360" y="602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932360" y="666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692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586480" y="6118200"/>
                <a:ext cx="468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091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094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099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4584600" y="9684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5180040" y="939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8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211640" y="6021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211640" y="6669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2340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9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1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2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43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146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8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151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6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7" name=""/>
              <p:cNvSpPr txBox="1"/>
              <p:nvPr/>
            </p:nvSpPr>
            <p:spPr>
              <a:xfrm>
                <a:off x="4595760" y="9572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7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5180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0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3" name=""/>
          <p:cNvSpPr/>
          <p:nvPr/>
        </p:nvSpPr>
        <p:spPr>
          <a:xfrm>
            <a:off x="3780000" y="6021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780000" y="666900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2916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64328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435600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451400" y="614376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19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0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0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3203640" y="3429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4595760" y="94464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4360" y="16621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332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1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0560" y="166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90840" y="1843200"/>
                <a:ext cx="392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22480" y="184320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716360" y="17733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085760" y="1771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627280" y="1844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9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1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52070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3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4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4427640" y="6021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427640" y="666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564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1964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493236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5043600" y="6113520"/>
                <a:ext cx="399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4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25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25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4608360" y="93204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4" name=""/>
              <p:cNvSpPr txBox="1"/>
              <p:nvPr/>
            </p:nvSpPr>
            <p:spPr>
              <a:xfrm>
                <a:off x="5192640" y="92232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9" name=""/>
          <p:cNvSpPr/>
          <p:nvPr/>
        </p:nvSpPr>
        <p:spPr>
          <a:xfrm>
            <a:off x="5003640" y="6021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003640" y="6669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414036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79600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508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5554800" y="6105600"/>
                <a:ext cx="46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299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02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6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07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9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6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5607000" y="3429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459900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826920" y="836640"/>
            <a:ext cx="4824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36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204624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655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476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500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4008600" y="9669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217476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156528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55800" y="1000080"/>
                <a:ext cx="349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5194440" y="9414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394080" y="94788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32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2798640" y="941400"/>
                <a:ext cx="360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6143760" y="609300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9" name=""/>
          <p:cNvSpPr/>
          <p:nvPr/>
        </p:nvSpPr>
        <p:spPr>
          <a:xfrm>
            <a:off x="5508720" y="602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508720" y="666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084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732720" y="6021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4788000" y="148428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372360" y="558972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26920" y="191628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2222640" y="4076640"/>
            <a:ext cx="685800" cy="1067040"/>
            <a:chOff x="2222640" y="4076640"/>
            <a:chExt cx="685800" cy="1067040"/>
          </a:xfrm>
        </p:grpSpPr>
        <p:sp>
          <p:nvSpPr>
            <p:cNvPr id="1347" name=""/>
            <p:cNvSpPr/>
            <p:nvPr/>
          </p:nvSpPr>
          <p:spPr>
            <a:xfrm>
              <a:off x="2222640" y="407664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flipV="1">
              <a:off x="2233080" y="4195440"/>
              <a:ext cx="124920" cy="18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9" name=""/>
          <p:cNvGrpSpPr/>
          <p:nvPr/>
        </p:nvGrpSpPr>
        <p:grpSpPr>
          <a:xfrm>
            <a:off x="4672080" y="2565360"/>
            <a:ext cx="685800" cy="1066680"/>
            <a:chOff x="4672080" y="2565360"/>
            <a:chExt cx="685800" cy="1066680"/>
          </a:xfrm>
        </p:grpSpPr>
        <p:sp>
          <p:nvSpPr>
            <p:cNvPr id="1350" name=""/>
            <p:cNvSpPr/>
            <p:nvPr/>
          </p:nvSpPr>
          <p:spPr>
            <a:xfrm>
              <a:off x="467208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208840" y="331272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297828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41656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2222640" y="2565360"/>
            <a:ext cx="685800" cy="1066680"/>
            <a:chOff x="2222640" y="2565360"/>
            <a:chExt cx="685800" cy="1066680"/>
          </a:xfrm>
        </p:grpSpPr>
        <p:sp>
          <p:nvSpPr>
            <p:cNvPr id="1355" name=""/>
            <p:cNvSpPr/>
            <p:nvPr/>
          </p:nvSpPr>
          <p:spPr>
            <a:xfrm>
              <a:off x="2222640" y="2565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2756160" y="331200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7" name=""/>
          <p:cNvSpPr/>
          <p:nvPr/>
        </p:nvSpPr>
        <p:spPr>
          <a:xfrm>
            <a:off x="1646280" y="342900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2139840" y="342900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4599000" y="3500280"/>
            <a:ext cx="83808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47000" y="350028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120080" y="357336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1071720" y="2421000"/>
                <a:ext cx="1161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7264440" y="3500280"/>
                <a:ext cx="504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815000" y="350028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287440" y="3452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2943360" y="458136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230640" y="350028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879720" y="270828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651640" y="3357720"/>
                <a:ext cx="988920" cy="47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0" name=""/>
          <p:cNvSpPr/>
          <p:nvPr/>
        </p:nvSpPr>
        <p:spPr>
          <a:xfrm>
            <a:off x="5076720" y="836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24560" y="9540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72" name=""/>
          <p:cNvGrpSpPr/>
          <p:nvPr/>
        </p:nvGrpSpPr>
        <p:grpSpPr>
          <a:xfrm>
            <a:off x="5867280" y="549360"/>
            <a:ext cx="3097440" cy="2087640"/>
            <a:chOff x="5867280" y="549360"/>
            <a:chExt cx="3097440" cy="2087640"/>
          </a:xfrm>
        </p:grpSpPr>
        <p:sp>
          <p:nvSpPr>
            <p:cNvPr id="1373" name=""/>
            <p:cNvSpPr/>
            <p:nvPr/>
          </p:nvSpPr>
          <p:spPr>
            <a:xfrm>
              <a:off x="5867280" y="549360"/>
              <a:ext cx="3097440" cy="2087640"/>
            </a:xfrm>
            <a:prstGeom prst="wedgeRoundRectCallout">
              <a:avLst>
                <a:gd name="adj1" fmla="val -67685"/>
                <a:gd name="adj2" fmla="val 97148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012000" y="836640"/>
              <a:ext cx="2808000" cy="1050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を読み終えることができない（これ以上遷移できない）ので，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ja-JP" sz="2000" spc="-1" strike="noStrike" baseline="-25000">
                  <a:solidFill>
                    <a:srgbClr val="3333cc"/>
                  </a:solidFill>
                  <a:latin typeface="Times New Roman"/>
                </a:rPr>
                <a:t>31</a:t>
              </a:r>
              <a:r>
                <a:rPr b="0" lang="ja-JP" sz="2000" spc="-1" strike="noStrike" baseline="-25000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は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入力語 </a:t>
              </a:r>
              <a:r>
                <a:rPr b="1" i="1" lang="ja-JP" sz="2000" spc="-1" strike="noStrike">
                  <a:solidFill>
                    <a:srgbClr val="3333cc"/>
                  </a:solidFill>
                  <a:latin typeface="Times New Roman"/>
                </a:rPr>
                <a:t>aaabbbb</a:t>
              </a:r>
              <a:r>
                <a:rPr b="0" i="1" lang="ja-JP" sz="2000" spc="-1" strike="noStrike">
                  <a:solidFill>
                    <a:srgbClr val="3333cc"/>
                  </a:solidFill>
                  <a:latin typeface="ＭＳ Ｐゴシック"/>
                </a:rPr>
                <a:t> </a:t>
              </a:r>
              <a:r>
                <a:rPr b="0" lang="ja-JP" sz="2000" spc="-1" strike="noStrike">
                  <a:solidFill>
                    <a:srgbClr val="3333cc"/>
                  </a:solidFill>
                  <a:latin typeface="Times New Roman"/>
                </a:rPr>
                <a:t>を</a:t>
              </a:r>
              <a:r>
                <a:rPr b="0" lang="ja-JP" sz="2000" spc="-1" strike="noStrike">
                  <a:solidFill>
                    <a:srgbClr val="3333cc"/>
                  </a:solidFill>
                  <a:latin typeface="ＭＳ Ｐゴシック"/>
                </a:rPr>
                <a:t>拒否する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1835280" y="1197000"/>
            <a:ext cx="489744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同様に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だけから成る入力語は読み終えることはできるが，読み終えて遷移する状態は受理状態ではなく，かつその時のプッシュダウンスタックは空で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また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の後にいくつかの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て　　　　　　さらに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が来るような入力語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・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から始まる入力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，いずれも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はその入力語を読み終えることができな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124000" y="5300640"/>
                <a:ext cx="40323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77" name=""/>
          <p:cNvSpPr/>
          <p:nvPr/>
        </p:nvSpPr>
        <p:spPr>
          <a:xfrm>
            <a:off x="900000" y="5373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300720" y="544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826920" y="836640"/>
            <a:ext cx="7417080" cy="367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2222640" y="2997360"/>
            <a:ext cx="685800" cy="1066680"/>
            <a:chOff x="2222640" y="2997360"/>
            <a:chExt cx="685800" cy="1066680"/>
          </a:xfrm>
        </p:grpSpPr>
        <p:sp>
          <p:nvSpPr>
            <p:cNvPr id="1381" name=""/>
            <p:cNvSpPr/>
            <p:nvPr/>
          </p:nvSpPr>
          <p:spPr>
            <a:xfrm>
              <a:off x="2222640" y="299736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2233440" y="3115440"/>
              <a:ext cx="125280" cy="18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4672080" y="1486080"/>
            <a:ext cx="685800" cy="1066680"/>
            <a:chOff x="4672080" y="1486080"/>
            <a:chExt cx="685800" cy="1066680"/>
          </a:xfrm>
        </p:grpSpPr>
        <p:sp>
          <p:nvSpPr>
            <p:cNvPr id="1384" name=""/>
            <p:cNvSpPr/>
            <p:nvPr/>
          </p:nvSpPr>
          <p:spPr>
            <a:xfrm>
              <a:off x="467208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5208840" y="2233440"/>
              <a:ext cx="142920" cy="23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6" name=""/>
          <p:cNvSpPr/>
          <p:nvPr/>
        </p:nvSpPr>
        <p:spPr>
          <a:xfrm>
            <a:off x="297828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416560" y="280656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2222640" y="1486080"/>
            <a:ext cx="685800" cy="1066680"/>
            <a:chOff x="2222640" y="1486080"/>
            <a:chExt cx="685800" cy="1066680"/>
          </a:xfrm>
        </p:grpSpPr>
        <p:sp>
          <p:nvSpPr>
            <p:cNvPr id="1389" name=""/>
            <p:cNvSpPr/>
            <p:nvPr/>
          </p:nvSpPr>
          <p:spPr>
            <a:xfrm>
              <a:off x="2222640" y="1486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2756160" y="2232720"/>
              <a:ext cx="15192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1646280" y="234936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139840" y="2349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599000" y="24210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047000" y="2421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120080" y="24940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071720" y="1341360"/>
                <a:ext cx="11617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7264440" y="242100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4815000" y="24210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9" name=""/>
              <p:cNvSpPr txBox="1"/>
              <p:nvPr/>
            </p:nvSpPr>
            <p:spPr>
              <a:xfrm>
                <a:off x="2287440" y="2373480"/>
                <a:ext cx="44928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0" name=""/>
              <p:cNvSpPr txBox="1"/>
              <p:nvPr/>
            </p:nvSpPr>
            <p:spPr>
              <a:xfrm>
                <a:off x="2943360" y="3502080"/>
                <a:ext cx="9871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1" name=""/>
              <p:cNvSpPr txBox="1"/>
              <p:nvPr/>
            </p:nvSpPr>
            <p:spPr>
              <a:xfrm>
                <a:off x="3230640" y="2421000"/>
                <a:ext cx="7682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3879720" y="1628640"/>
                <a:ext cx="7686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5607000" y="234936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17520" y="1663560"/>
            <a:ext cx="44960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3684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63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3720" y="16635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3860640"/>
                <a:ext cx="431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924360" y="184464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56000" y="1844640"/>
                <a:ext cx="407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249880" y="177480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1692360" y="189000"/>
            <a:ext cx="504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決定性プッシュダウンオートマトン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１ステップの動作（２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587680" y="5281560"/>
                <a:ext cx="3841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796000" y="5229360"/>
                <a:ext cx="523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161928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35280" y="515772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35280" y="5805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8456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5435640" y="3357720"/>
            <a:ext cx="3279600" cy="1107360"/>
            <a:chOff x="5435640" y="3357720"/>
            <a:chExt cx="3279600" cy="1107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508720" y="3357720"/>
                  <a:ext cx="32065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,</m:t>
                      </m:r>
                      <m:r>
                        <m:t xml:space="preserve">ε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p</m:t>
                      </m:r>
                      <m:r>
                        <m:t xml:space="preserve">,</m:t>
                      </m:r>
                      <m:r>
                        <m:t xml:space="preserve">α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35640" y="400536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1160" y="1647720"/>
            <a:ext cx="44956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0048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099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1647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873520" y="3860640"/>
                <a:ext cx="5191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887640" y="1828800"/>
                <a:ext cx="3924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19280" y="1828800"/>
                <a:ext cx="408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213520" y="175896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987640" y="5300640"/>
                <a:ext cx="41904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588000" y="5229360"/>
                <a:ext cx="524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1582560" y="1757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515772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68360" y="5805360"/>
            <a:ext cx="489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16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876920" y="530064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2627280" y="53006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72360" y="3500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遷移す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411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06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54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9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52640" y="3773520"/>
                <a:ext cx="5619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56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457200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92360" y="5157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5805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初期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0592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1305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7800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594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34348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00720" y="3716280"/>
                <a:ext cx="42526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987640" y="5157720"/>
                <a:ext cx="568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183528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305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782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716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3141720"/>
            <a:ext cx="19814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77164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08000" y="3357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73520" y="3790800"/>
                <a:ext cx="51912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38240" y="1700280"/>
                <a:ext cx="488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58000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277164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924360" y="5229360"/>
                <a:ext cx="492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3995640" y="1700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515772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0920" y="5805360"/>
            <a:ext cx="244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00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348000" y="404640"/>
                <a:ext cx="3456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24829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55420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20364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536400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76712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248436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622600" y="5261040"/>
            <a:ext cx="28728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51520" y="3141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下，ステップを繰り返して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440" y="1628640"/>
            <a:ext cx="4176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827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3036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68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3141720"/>
            <a:ext cx="19810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284720" y="2349000"/>
            <a:ext cx="0" cy="79236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21080" y="3357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限制御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4344840" y="3773520"/>
                <a:ext cx="60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90400" y="1700280"/>
                <a:ext cx="489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140360" y="1700280"/>
                <a:ext cx="314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4643280" y="4437000"/>
            <a:ext cx="0" cy="7192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940360" y="5229360"/>
                <a:ext cx="4921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627280" y="1773360"/>
            <a:ext cx="45720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2108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状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13080" y="515772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13080" y="5805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6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672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87280" y="54936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動作停止時の様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72000" y="404640"/>
                <a:ext cx="230508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13508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06360" y="1700280"/>
                <a:ext cx="525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855800" y="1700280"/>
                <a:ext cx="5284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4016520" y="1628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419640" y="1700280"/>
                <a:ext cx="569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4429080" y="51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911840" y="5229360"/>
                <a:ext cx="617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4500720" y="5300640"/>
            <a:ext cx="288720" cy="4572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00720" y="1628640"/>
            <a:ext cx="2592360" cy="2529000"/>
            <a:chOff x="6300720" y="1628640"/>
            <a:chExt cx="2592360" cy="2529000"/>
          </a:xfrm>
        </p:grpSpPr>
        <mc:AlternateContent>
          <mc:Choice xmlns:a14="http://schemas.microsoft.com/office/drawing/2010/main" Requires="a14">
            <p:sp>
              <p:nvSpPr>
                <p:cNvPr id="275" name=""/>
                <p:cNvSpPr txBox="1"/>
                <p:nvPr/>
              </p:nvSpPr>
              <p:spPr>
                <a:xfrm>
                  <a:off x="6300720" y="1628640"/>
                  <a:ext cx="1522440" cy="14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∈</m:t>
                                </m:r>
                                <m:r>
                                  <m:t xml:space="preserve">F</m:t>
                                </m:r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ε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276" name=""/>
            <p:cNvSpPr/>
            <p:nvPr/>
          </p:nvSpPr>
          <p:spPr>
            <a:xfrm>
              <a:off x="6300720" y="3141720"/>
              <a:ext cx="25923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のとき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語を受理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 </cp:lastModifiedBy>
  <dcterms:modified xsi:type="dcterms:W3CDTF">2004-10-11T08:40:18Z</dcterms:modified>
  <cp:revision>31</cp:revision>
  <dc:subject/>
  <dc:title>PowerPoint プレゼンテーション</dc:title>
</cp:coreProperties>
</file>