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857B-B686-4C2C-88DB-B75FE268D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913A-B3FF-445E-A8C0-5624B422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C0F6-F5C6-45F8-894D-378D125BB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58B3-128E-460A-ABAF-9318ADBAF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6DAA-7704-40F0-9514-8DFA95B4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5E32-545B-4AF3-B191-56769F8C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55E6-8E38-4194-BAB5-62F6B3AE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11F4-E864-44B8-8A8A-DE5E469E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2519-570D-41E3-84A8-5B3AE2F3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CD19-F94F-4A11-8A5E-1848EA5C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5B2D-1CDB-461E-A7F9-4A540E0B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806F-0198-4815-B722-6904F8F8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B05B-B165-4E88-A99E-550D3FA0356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720" y="2895480"/>
            <a:ext cx="6705360" cy="914400"/>
            <a:chOff x="990720" y="2895480"/>
            <a:chExt cx="6705360" cy="914400"/>
          </a:xfrm>
        </p:grpSpPr>
        <p:sp>
          <p:nvSpPr>
            <p:cNvPr id="42" name=""/>
            <p:cNvSpPr/>
            <p:nvPr/>
          </p:nvSpPr>
          <p:spPr>
            <a:xfrm>
              <a:off x="990720" y="2895480"/>
              <a:ext cx="6705360" cy="914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" name=""/>
                <p:cNvSpPr txBox="1"/>
                <p:nvPr/>
              </p:nvSpPr>
              <p:spPr>
                <a:xfrm>
                  <a:off x="1219320" y="3124080"/>
                  <a:ext cx="446040" cy="5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4" name=""/>
            <p:cNvSpPr/>
            <p:nvPr/>
          </p:nvSpPr>
          <p:spPr>
            <a:xfrm>
              <a:off x="2209680" y="31240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4191120" y="2971800"/>
                  <a:ext cx="271764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Σ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" name=""/>
          <p:cNvSpPr/>
          <p:nvPr/>
        </p:nvSpPr>
        <p:spPr>
          <a:xfrm>
            <a:off x="838080" y="5335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4724280" y="380880"/>
                <a:ext cx="39625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" name=""/>
          <p:cNvGrpSpPr/>
          <p:nvPr/>
        </p:nvGrpSpPr>
        <p:grpSpPr>
          <a:xfrm>
            <a:off x="990720" y="1371600"/>
            <a:ext cx="6705360" cy="609480"/>
            <a:chOff x="990720" y="1371600"/>
            <a:chExt cx="6705360" cy="609480"/>
          </a:xfrm>
        </p:grpSpPr>
        <p:sp>
          <p:nvSpPr>
            <p:cNvPr id="49" name=""/>
            <p:cNvSpPr/>
            <p:nvPr/>
          </p:nvSpPr>
          <p:spPr>
            <a:xfrm>
              <a:off x="990720" y="137160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" name=""/>
                <p:cNvSpPr txBox="1"/>
                <p:nvPr/>
              </p:nvSpPr>
              <p:spPr>
                <a:xfrm>
                  <a:off x="1143000" y="1371600"/>
                  <a:ext cx="487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" name=""/>
            <p:cNvSpPr/>
            <p:nvPr/>
          </p:nvSpPr>
          <p:spPr>
            <a:xfrm>
              <a:off x="2209680" y="144792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90720" y="2133720"/>
            <a:ext cx="6705360" cy="609480"/>
            <a:chOff x="990720" y="2133720"/>
            <a:chExt cx="6705360" cy="609480"/>
          </a:xfrm>
        </p:grpSpPr>
        <p:sp>
          <p:nvSpPr>
            <p:cNvPr id="53" name=""/>
            <p:cNvSpPr/>
            <p:nvPr/>
          </p:nvSpPr>
          <p:spPr>
            <a:xfrm>
              <a:off x="990720" y="213372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1219320" y="2209680"/>
                  <a:ext cx="4064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" name=""/>
            <p:cNvSpPr/>
            <p:nvPr/>
          </p:nvSpPr>
          <p:spPr>
            <a:xfrm>
              <a:off x="2209680" y="220968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990720" y="3962520"/>
            <a:ext cx="6705360" cy="685800"/>
            <a:chOff x="990720" y="3962520"/>
            <a:chExt cx="6705360" cy="685800"/>
          </a:xfrm>
        </p:grpSpPr>
        <p:sp>
          <p:nvSpPr>
            <p:cNvPr id="57" name=""/>
            <p:cNvSpPr/>
            <p:nvPr/>
          </p:nvSpPr>
          <p:spPr>
            <a:xfrm>
              <a:off x="990720" y="403848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219320" y="3962520"/>
                  <a:ext cx="52848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286000" y="41148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4191120" y="3962520"/>
                  <a:ext cx="12999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"/>
          <p:cNvGrpSpPr/>
          <p:nvPr/>
        </p:nvGrpSpPr>
        <p:grpSpPr>
          <a:xfrm>
            <a:off x="990720" y="4952880"/>
            <a:ext cx="6705360" cy="611280"/>
            <a:chOff x="990720" y="4952880"/>
            <a:chExt cx="6705360" cy="611280"/>
          </a:xfrm>
        </p:grpSpPr>
        <p:sp>
          <p:nvSpPr>
            <p:cNvPr id="62" name=""/>
            <p:cNvSpPr/>
            <p:nvPr/>
          </p:nvSpPr>
          <p:spPr>
            <a:xfrm>
              <a:off x="990720" y="495288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219320" y="5029200"/>
                  <a:ext cx="4870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2286000" y="502920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5486400" y="4952880"/>
                  <a:ext cx="130032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" name=""/>
          <p:cNvSpPr/>
          <p:nvPr/>
        </p:nvSpPr>
        <p:spPr>
          <a:xfrm>
            <a:off x="6227640" y="2924280"/>
            <a:ext cx="792360" cy="79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740720" y="2205000"/>
            <a:ext cx="914400" cy="762120"/>
            <a:chOff x="7740720" y="2205000"/>
            <a:chExt cx="914400" cy="762120"/>
          </a:xfrm>
        </p:grpSpPr>
        <p:sp>
          <p:nvSpPr>
            <p:cNvPr id="68" name=""/>
            <p:cNvSpPr/>
            <p:nvPr/>
          </p:nvSpPr>
          <p:spPr>
            <a:xfrm>
              <a:off x="7740720" y="2205000"/>
              <a:ext cx="914400" cy="762120"/>
            </a:xfrm>
            <a:prstGeom prst="wedgeRoundRectCallout">
              <a:avLst>
                <a:gd name="adj1" fmla="val -116148"/>
                <a:gd name="adj2" fmla="val 79791"/>
                <a:gd name="adj3" fmla="val 16667"/>
              </a:avLst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816680" y="235728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注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4932360" y="5950080"/>
                <a:ext cx="2228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33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34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36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37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468360" y="1890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入力語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対して３つの遷移の可能性がある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6" name=""/>
          <p:cNvSpPr/>
          <p:nvPr/>
        </p:nvSpPr>
        <p:spPr>
          <a:xfrm flipV="1">
            <a:off x="169236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399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04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5529240" y="337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3224160" y="337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6" name=""/>
          <p:cNvSpPr/>
          <p:nvPr/>
        </p:nvSpPr>
        <p:spPr>
          <a:xfrm flipV="1">
            <a:off x="241128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429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34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5529240" y="337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3203640" y="3357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 flipV="1">
            <a:off x="305928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7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459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64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5508720" y="3357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3224160" y="337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1332000" y="83664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093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7795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653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1560600" y="988920"/>
                <a:ext cx="380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3618000" y="912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22464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2932200" y="106524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 flipV="1">
            <a:off x="3780000" y="1483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763640" y="580536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する遷移が可能なので，入力語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aa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55640" y="206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2065320" y="3970440"/>
            <a:ext cx="685800" cy="1066680"/>
            <a:chOff x="2065320" y="3970440"/>
            <a:chExt cx="685800" cy="1066680"/>
          </a:xfrm>
        </p:grpSpPr>
        <p:sp>
          <p:nvSpPr>
            <p:cNvPr id="490" name=""/>
            <p:cNvSpPr/>
            <p:nvPr/>
          </p:nvSpPr>
          <p:spPr>
            <a:xfrm>
              <a:off x="2065320" y="397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2127960" y="404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282744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265720" y="374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2065320" y="2446200"/>
            <a:ext cx="685800" cy="1067040"/>
            <a:chOff x="2065320" y="2446200"/>
            <a:chExt cx="685800" cy="1067040"/>
          </a:xfrm>
        </p:grpSpPr>
        <p:sp>
          <p:nvSpPr>
            <p:cNvPr id="495" name=""/>
            <p:cNvSpPr/>
            <p:nvPr/>
          </p:nvSpPr>
          <p:spPr>
            <a:xfrm>
              <a:off x="2065320" y="24462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2628720" y="318528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1455840" y="343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89000" y="328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427640" y="328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65920" y="32846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942240" y="336060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1712880" y="258588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5529240" y="337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3224160" y="337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7128000" y="346536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4656240" y="351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2230560" y="351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2792520" y="460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1614600" y="38088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1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19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520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525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1116000" y="595008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8" name=""/>
          <p:cNvSpPr/>
          <p:nvPr/>
        </p:nvSpPr>
        <p:spPr>
          <a:xfrm>
            <a:off x="4643280" y="60213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552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4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557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71" name=""/>
          <p:cNvGrpSpPr/>
          <p:nvPr/>
        </p:nvGrpSpPr>
        <p:grpSpPr>
          <a:xfrm>
            <a:off x="3780000" y="1916280"/>
            <a:ext cx="1512720" cy="720720"/>
            <a:chOff x="3780000" y="1916280"/>
            <a:chExt cx="1512720" cy="720720"/>
          </a:xfrm>
        </p:grpSpPr>
        <p:sp>
          <p:nvSpPr>
            <p:cNvPr id="572" name=""/>
            <p:cNvSpPr/>
            <p:nvPr/>
          </p:nvSpPr>
          <p:spPr>
            <a:xfrm>
              <a:off x="3780000" y="1916280"/>
              <a:ext cx="151272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33720" y="2027160"/>
              <a:ext cx="118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4643280" y="4653000"/>
            <a:ext cx="1513080" cy="720720"/>
            <a:chOff x="4643280" y="4653000"/>
            <a:chExt cx="1513080" cy="720720"/>
          </a:xfrm>
        </p:grpSpPr>
        <p:sp>
          <p:nvSpPr>
            <p:cNvPr id="575" name=""/>
            <p:cNvSpPr/>
            <p:nvPr/>
          </p:nvSpPr>
          <p:spPr>
            <a:xfrm>
              <a:off x="4643280" y="4653000"/>
              <a:ext cx="151308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788000" y="47642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5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51280" y="60213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ここでまた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900000" y="595008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8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591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596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6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10" name=""/>
          <p:cNvGrpSpPr/>
          <p:nvPr/>
        </p:nvGrpSpPr>
        <p:grpSpPr>
          <a:xfrm>
            <a:off x="3995640" y="1844640"/>
            <a:ext cx="1944360" cy="720720"/>
            <a:chOff x="3995640" y="1844640"/>
            <a:chExt cx="1944360" cy="720720"/>
          </a:xfrm>
        </p:grpSpPr>
        <p:sp>
          <p:nvSpPr>
            <p:cNvPr id="611" name=""/>
            <p:cNvSpPr/>
            <p:nvPr/>
          </p:nvSpPr>
          <p:spPr>
            <a:xfrm>
              <a:off x="3995640" y="1844640"/>
              <a:ext cx="194436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192920" y="1955520"/>
              <a:ext cx="15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4903920" y="4653000"/>
            <a:ext cx="1944360" cy="720720"/>
            <a:chOff x="4903920" y="4653000"/>
            <a:chExt cx="1944360" cy="720720"/>
          </a:xfrm>
        </p:grpSpPr>
        <p:sp>
          <p:nvSpPr>
            <p:cNvPr id="614" name=""/>
            <p:cNvSpPr/>
            <p:nvPr/>
          </p:nvSpPr>
          <p:spPr>
            <a:xfrm>
              <a:off x="4903920" y="4653000"/>
              <a:ext cx="194436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089680" y="4764240"/>
              <a:ext cx="15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4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2124000" y="5950080"/>
                <a:ext cx="2270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6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62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63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457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343400" y="345960"/>
                <a:ext cx="42512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2" name=""/>
          <p:cNvGrpSpPr/>
          <p:nvPr/>
        </p:nvGrpSpPr>
        <p:grpSpPr>
          <a:xfrm>
            <a:off x="990720" y="1066680"/>
            <a:ext cx="6400800" cy="609840"/>
            <a:chOff x="990720" y="1066680"/>
            <a:chExt cx="6400800" cy="609840"/>
          </a:xfrm>
        </p:grpSpPr>
        <p:sp>
          <p:nvSpPr>
            <p:cNvPr id="73" name=""/>
            <p:cNvSpPr/>
            <p:nvPr/>
          </p:nvSpPr>
          <p:spPr>
            <a:xfrm>
              <a:off x="990720" y="1066680"/>
              <a:ext cx="64008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1219320" y="1066680"/>
                  <a:ext cx="207144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" name=""/>
          <p:cNvGrpSpPr/>
          <p:nvPr/>
        </p:nvGrpSpPr>
        <p:grpSpPr>
          <a:xfrm>
            <a:off x="990720" y="1752480"/>
            <a:ext cx="6400800" cy="609480"/>
            <a:chOff x="990720" y="1752480"/>
            <a:chExt cx="6400800" cy="609480"/>
          </a:xfrm>
        </p:grpSpPr>
        <p:sp>
          <p:nvSpPr>
            <p:cNvPr id="76" name=""/>
            <p:cNvSpPr/>
            <p:nvPr/>
          </p:nvSpPr>
          <p:spPr>
            <a:xfrm>
              <a:off x="990720" y="1752480"/>
              <a:ext cx="6400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1219320" y="1752480"/>
                  <a:ext cx="1787400" cy="60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" name=""/>
          <p:cNvGrpSpPr/>
          <p:nvPr/>
        </p:nvGrpSpPr>
        <p:grpSpPr>
          <a:xfrm>
            <a:off x="990720" y="5105520"/>
            <a:ext cx="6400800" cy="685800"/>
            <a:chOff x="990720" y="5105520"/>
            <a:chExt cx="6400800" cy="685800"/>
          </a:xfrm>
        </p:grpSpPr>
        <p:sp>
          <p:nvSpPr>
            <p:cNvPr id="79" name=""/>
            <p:cNvSpPr/>
            <p:nvPr/>
          </p:nvSpPr>
          <p:spPr>
            <a:xfrm>
              <a:off x="990720" y="5105520"/>
              <a:ext cx="640080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1143000" y="5105520"/>
                  <a:ext cx="12207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"/>
          <p:cNvGrpSpPr/>
          <p:nvPr/>
        </p:nvGrpSpPr>
        <p:grpSpPr>
          <a:xfrm>
            <a:off x="990720" y="5867280"/>
            <a:ext cx="6400800" cy="635040"/>
            <a:chOff x="990720" y="5867280"/>
            <a:chExt cx="6400800" cy="635040"/>
          </a:xfrm>
        </p:grpSpPr>
        <p:sp>
          <p:nvSpPr>
            <p:cNvPr id="82" name=""/>
            <p:cNvSpPr/>
            <p:nvPr/>
          </p:nvSpPr>
          <p:spPr>
            <a:xfrm>
              <a:off x="990720" y="5867280"/>
              <a:ext cx="64008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143000" y="5943600"/>
                  <a:ext cx="1447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t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990720" y="2362320"/>
            <a:ext cx="6400800" cy="2678040"/>
            <a:chOff x="990720" y="2362320"/>
            <a:chExt cx="6400800" cy="2678040"/>
          </a:xfrm>
        </p:grpSpPr>
        <p:sp>
          <p:nvSpPr>
            <p:cNvPr id="85" name=""/>
            <p:cNvSpPr/>
            <p:nvPr/>
          </p:nvSpPr>
          <p:spPr>
            <a:xfrm>
              <a:off x="990720" y="2438640"/>
              <a:ext cx="6400800" cy="2590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1828800" y="3048120"/>
                  <a:ext cx="5311800" cy="199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r</m:t>
                              </m:r>
                              <m:r>
                                <m:t xml:space="preserve">,</m:t>
                              </m:r>
                              <m:r>
                                <m:t xml:space="preserve">s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r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t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s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1219320" y="2362320"/>
                  <a:ext cx="271620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Σ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6" name=""/>
          <p:cNvSpPr/>
          <p:nvPr/>
        </p:nvSpPr>
        <p:spPr>
          <a:xfrm flipV="1">
            <a:off x="3780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65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66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6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2556000" y="5877000"/>
                <a:ext cx="1985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8" name=""/>
          <p:cNvSpPr/>
          <p:nvPr/>
        </p:nvSpPr>
        <p:spPr>
          <a:xfrm>
            <a:off x="5003640" y="59500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，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692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697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9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4932360" y="5950080"/>
                <a:ext cx="2228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1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724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6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729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2771640" y="5877000"/>
                <a:ext cx="1944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2" name=""/>
          <p:cNvSpPr/>
          <p:nvPr/>
        </p:nvSpPr>
        <p:spPr>
          <a:xfrm>
            <a:off x="5148360" y="5950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，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75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76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3" name=""/>
          <p:cNvSpPr/>
          <p:nvPr/>
        </p:nvSpPr>
        <p:spPr>
          <a:xfrm>
            <a:off x="457200" y="3808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よって，入力語 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aab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対して３つの遷移の可能性がある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78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79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3" name=""/>
          <p:cNvSpPr/>
          <p:nvPr/>
        </p:nvSpPr>
        <p:spPr>
          <a:xfrm>
            <a:off x="457200" y="380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１の可能性は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81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82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4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84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85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4" name=""/>
          <p:cNvSpPr/>
          <p:nvPr/>
        </p:nvSpPr>
        <p:spPr>
          <a:xfrm flipV="1">
            <a:off x="3059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87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88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4" name=""/>
          <p:cNvSpPr/>
          <p:nvPr/>
        </p:nvSpPr>
        <p:spPr>
          <a:xfrm>
            <a:off x="2340000" y="58053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し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90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91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5" name=""/>
          <p:cNvSpPr/>
          <p:nvPr/>
        </p:nvSpPr>
        <p:spPr>
          <a:xfrm>
            <a:off x="457200" y="3808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２の可能性は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93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94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692360" y="5516640"/>
                <a:ext cx="2636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916360" y="1268280"/>
                <a:ext cx="20714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0" name=""/>
          <p:cNvGrpSpPr/>
          <p:nvPr/>
        </p:nvGrpSpPr>
        <p:grpSpPr>
          <a:xfrm>
            <a:off x="1828800" y="3733920"/>
            <a:ext cx="685800" cy="1066680"/>
            <a:chOff x="1828800" y="3733920"/>
            <a:chExt cx="685800" cy="1066680"/>
          </a:xfrm>
        </p:grpSpPr>
        <p:sp>
          <p:nvSpPr>
            <p:cNvPr id="91" name=""/>
            <p:cNvSpPr/>
            <p:nvPr/>
          </p:nvSpPr>
          <p:spPr>
            <a:xfrm>
              <a:off x="1828800" y="373392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1891440" y="380448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712960" y="457200"/>
                <a:ext cx="31845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2590920" y="35053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35053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828800" y="2209680"/>
            <a:ext cx="685800" cy="1067040"/>
            <a:chOff x="1828800" y="2209680"/>
            <a:chExt cx="685800" cy="1067040"/>
          </a:xfrm>
        </p:grpSpPr>
        <p:sp>
          <p:nvSpPr>
            <p:cNvPr id="97" name=""/>
            <p:cNvSpPr/>
            <p:nvPr/>
          </p:nvSpPr>
          <p:spPr>
            <a:xfrm>
              <a:off x="1828800" y="220968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2392200" y="2948760"/>
              <a:ext cx="98280" cy="19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1219320" y="32004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30481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30481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29400" y="304812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05720" y="31240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476360" y="2349360"/>
                <a:ext cx="2937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292720" y="3141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987640" y="314172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891480" y="3228840"/>
                <a:ext cx="304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419720" y="327672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994040" y="327672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556000" y="436572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979640" y="1052640"/>
            <a:ext cx="3816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203640" y="1268280"/>
                <a:ext cx="12207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2340000" y="1052640"/>
            <a:ext cx="3816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564000" y="1268280"/>
                <a:ext cx="1380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2700360" y="1052640"/>
            <a:ext cx="3816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5300640"/>
            <a:ext cx="4897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908000" y="5516640"/>
                <a:ext cx="2270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611280" y="5300640"/>
            <a:ext cx="4897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195640" y="5516640"/>
                <a:ext cx="2228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826920" y="5300640"/>
            <a:ext cx="4897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572000" y="4724280"/>
                <a:ext cx="198612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43280" y="5373720"/>
                <a:ext cx="1944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43280" y="6021360"/>
                <a:ext cx="19447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3995640" y="4724280"/>
            <a:ext cx="489744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6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96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97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2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6" name=""/>
          <p:cNvSpPr/>
          <p:nvPr/>
        </p:nvSpPr>
        <p:spPr>
          <a:xfrm>
            <a:off x="3708360" y="5950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3132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00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2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05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7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7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6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7" name=""/>
          <p:cNvSpPr/>
          <p:nvPr/>
        </p:nvSpPr>
        <p:spPr>
          <a:xfrm>
            <a:off x="457200" y="3808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３の可能性は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0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31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36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8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3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4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7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8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9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8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61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66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8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8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9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4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5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6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7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8" name=""/>
          <p:cNvSpPr/>
          <p:nvPr/>
        </p:nvSpPr>
        <p:spPr>
          <a:xfrm>
            <a:off x="3708360" y="5877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3132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1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092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4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097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9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3581280" y="129528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7" name=""/>
              <p:cNvSpPr txBox="1"/>
              <p:nvPr/>
            </p:nvSpPr>
            <p:spPr>
              <a:xfrm>
                <a:off x="2914560" y="1314360"/>
                <a:ext cx="3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15238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9" name=""/>
          <p:cNvSpPr/>
          <p:nvPr/>
        </p:nvSpPr>
        <p:spPr>
          <a:xfrm>
            <a:off x="457200" y="380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50920" y="587700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いずれも，入力語を読み終えたとき受理状態に到達しないか，入力語を読み終えることができないので，入力語 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aab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は拒否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123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5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7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128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0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6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7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468360" y="4797360"/>
                <a:ext cx="820584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w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は末尾が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であるような語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43" name=""/>
          <p:cNvSpPr/>
          <p:nvPr/>
        </p:nvSpPr>
        <p:spPr>
          <a:xfrm>
            <a:off x="539640" y="4292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539640" y="6021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55640" y="62064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2065320" y="2530440"/>
            <a:ext cx="685800" cy="1066680"/>
            <a:chOff x="2065320" y="2530440"/>
            <a:chExt cx="685800" cy="1066680"/>
          </a:xfrm>
        </p:grpSpPr>
        <p:sp>
          <p:nvSpPr>
            <p:cNvPr id="1147" name=""/>
            <p:cNvSpPr/>
            <p:nvPr/>
          </p:nvSpPr>
          <p:spPr>
            <a:xfrm>
              <a:off x="2065320" y="253044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2127960" y="260100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9" name=""/>
          <p:cNvSpPr/>
          <p:nvPr/>
        </p:nvSpPr>
        <p:spPr>
          <a:xfrm>
            <a:off x="2827440" y="230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265720" y="230184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1" name=""/>
          <p:cNvGrpSpPr/>
          <p:nvPr/>
        </p:nvGrpSpPr>
        <p:grpSpPr>
          <a:xfrm>
            <a:off x="2065320" y="1006560"/>
            <a:ext cx="685800" cy="1066680"/>
            <a:chOff x="2065320" y="1006560"/>
            <a:chExt cx="685800" cy="1066680"/>
          </a:xfrm>
        </p:grpSpPr>
        <p:sp>
          <p:nvSpPr>
            <p:cNvPr id="1152" name=""/>
            <p:cNvSpPr/>
            <p:nvPr/>
          </p:nvSpPr>
          <p:spPr>
            <a:xfrm>
              <a:off x="2065320" y="10065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2628720" y="174528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4" name=""/>
          <p:cNvSpPr/>
          <p:nvPr/>
        </p:nvSpPr>
        <p:spPr>
          <a:xfrm>
            <a:off x="1455840" y="199692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989000" y="184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42764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86592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942240" y="19209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1712880" y="114624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0" name=""/>
              <p:cNvSpPr txBox="1"/>
              <p:nvPr/>
            </p:nvSpPr>
            <p:spPr>
              <a:xfrm>
                <a:off x="5529240" y="193824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3224160" y="193824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7128000" y="202572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4656240" y="207324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2230560" y="207324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5" name=""/>
              <p:cNvSpPr txBox="1"/>
              <p:nvPr/>
            </p:nvSpPr>
            <p:spPr>
              <a:xfrm>
                <a:off x="2792520" y="316224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614600" y="380880"/>
                <a:ext cx="5379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baa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3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4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492360" y="6021360"/>
                <a:ext cx="22701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 flipV="1">
            <a:off x="1692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67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172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403280" y="602136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4716360" y="6093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41128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199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204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8" name=""/>
          <p:cNvGrpSpPr/>
          <p:nvPr/>
        </p:nvGrpSpPr>
        <p:grpSpPr>
          <a:xfrm>
            <a:off x="3780000" y="1916280"/>
            <a:ext cx="1512720" cy="720720"/>
            <a:chOff x="3780000" y="1916280"/>
            <a:chExt cx="1512720" cy="720720"/>
          </a:xfrm>
        </p:grpSpPr>
        <p:sp>
          <p:nvSpPr>
            <p:cNvPr id="219" name=""/>
            <p:cNvSpPr/>
            <p:nvPr/>
          </p:nvSpPr>
          <p:spPr>
            <a:xfrm>
              <a:off x="3780000" y="1916280"/>
              <a:ext cx="151272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33720" y="2027160"/>
              <a:ext cx="118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643280" y="4653000"/>
            <a:ext cx="1513080" cy="720720"/>
            <a:chOff x="4643280" y="4653000"/>
            <a:chExt cx="1513080" cy="720720"/>
          </a:xfrm>
        </p:grpSpPr>
        <p:sp>
          <p:nvSpPr>
            <p:cNvPr id="222" name=""/>
            <p:cNvSpPr/>
            <p:nvPr/>
          </p:nvSpPr>
          <p:spPr>
            <a:xfrm>
              <a:off x="4643280" y="4653000"/>
              <a:ext cx="151308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88000" y="47642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755640" y="5950080"/>
                <a:ext cx="2637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380880" y="304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780000" y="602136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ここでまた２通りの可能性が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13200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238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243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7" name=""/>
          <p:cNvGrpSpPr/>
          <p:nvPr/>
        </p:nvGrpSpPr>
        <p:grpSpPr>
          <a:xfrm>
            <a:off x="3995640" y="1844640"/>
            <a:ext cx="1944360" cy="720720"/>
            <a:chOff x="3995640" y="1844640"/>
            <a:chExt cx="1944360" cy="720720"/>
          </a:xfrm>
        </p:grpSpPr>
        <p:sp>
          <p:nvSpPr>
            <p:cNvPr id="258" name=""/>
            <p:cNvSpPr/>
            <p:nvPr/>
          </p:nvSpPr>
          <p:spPr>
            <a:xfrm>
              <a:off x="3995640" y="1844640"/>
              <a:ext cx="1944360" cy="720720"/>
            </a:xfrm>
            <a:prstGeom prst="wedgeRoundRectCallout">
              <a:avLst>
                <a:gd name="adj1" fmla="val -117050"/>
                <a:gd name="adj2" fmla="val 114319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92920" y="1955520"/>
              <a:ext cx="15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4903920" y="4653000"/>
            <a:ext cx="1944360" cy="720720"/>
            <a:chOff x="4903920" y="4653000"/>
            <a:chExt cx="1944360" cy="720720"/>
          </a:xfrm>
        </p:grpSpPr>
        <p:sp>
          <p:nvSpPr>
            <p:cNvPr id="261" name=""/>
            <p:cNvSpPr/>
            <p:nvPr/>
          </p:nvSpPr>
          <p:spPr>
            <a:xfrm>
              <a:off x="4903920" y="4653000"/>
              <a:ext cx="1944360" cy="720720"/>
            </a:xfrm>
            <a:prstGeom prst="wedgeRoundRectCallout">
              <a:avLst>
                <a:gd name="adj1" fmla="val -120199"/>
                <a:gd name="adj2" fmla="val -137004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89680" y="4764240"/>
              <a:ext cx="157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－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275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280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295280" y="114300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574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7432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29000" y="1143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523880" y="1295280"/>
                <a:ext cx="3812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3581280" y="1219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2096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2895480" y="1371600"/>
                <a:ext cx="381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30492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－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3708360" y="1844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5640" y="2349360"/>
            <a:ext cx="7632720" cy="3311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065320" y="4259160"/>
            <a:ext cx="685800" cy="1066680"/>
            <a:chOff x="2065320" y="4259160"/>
            <a:chExt cx="685800" cy="1066680"/>
          </a:xfrm>
        </p:grpSpPr>
        <p:sp>
          <p:nvSpPr>
            <p:cNvPr id="306" name=""/>
            <p:cNvSpPr/>
            <p:nvPr/>
          </p:nvSpPr>
          <p:spPr>
            <a:xfrm>
              <a:off x="2065320" y="42591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127960" y="4329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282744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265720" y="4030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065320" y="2735280"/>
            <a:ext cx="685800" cy="1066680"/>
            <a:chOff x="2065320" y="2735280"/>
            <a:chExt cx="685800" cy="1066680"/>
          </a:xfrm>
        </p:grpSpPr>
        <p:sp>
          <p:nvSpPr>
            <p:cNvPr id="311" name=""/>
            <p:cNvSpPr/>
            <p:nvPr/>
          </p:nvSpPr>
          <p:spPr>
            <a:xfrm>
              <a:off x="2065320" y="27352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2628720" y="3474000"/>
              <a:ext cx="98640" cy="19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1455840" y="37260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8900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27640" y="357336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65920" y="357336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942240" y="36496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1712880" y="2874960"/>
                <a:ext cx="2937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5529240" y="3666960"/>
                <a:ext cx="2919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3224160" y="3666960"/>
                <a:ext cx="2923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7128000" y="3754440"/>
                <a:ext cx="3045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4656240" y="3801960"/>
                <a:ext cx="3553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230560" y="3801960"/>
                <a:ext cx="3412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2792520" y="4890960"/>
                <a:ext cx="2635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 </cp:lastModifiedBy>
  <dcterms:modified xsi:type="dcterms:W3CDTF">2004-10-11T08:10:55Z</dcterms:modified>
  <cp:revision>26</cp:revision>
  <dc:subject/>
  <dc:title>PowerPoint プレゼンテーション</dc:title>
</cp:coreProperties>
</file>