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BB54-A668-453A-99A0-F35E79E4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8C7-910A-46F4-BEA6-10ADC9ED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3BFA-21A5-4C22-9175-9F383309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735-F6B0-408A-8609-4066D80E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55B-11C0-4764-BD4C-CBE590BF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4E1-99AD-4248-AE01-08D9A624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E3A-8B7D-4177-8E09-EE053CC3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0026-1AA8-429F-A7C3-59C0B2E1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2D7-ABB4-4276-A866-0A7946BE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B33-E4FF-41A5-9CE7-BA6DF7E6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4562-2E9A-428A-9163-A4700034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4CC-CA36-4ED6-B280-38EAF03D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60C2-B015-4200-929E-8F0B33F66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1754280"/>
            <a:ext cx="447120" cy="433440"/>
            <a:chOff x="6443640" y="1754280"/>
            <a:chExt cx="447120" cy="433440"/>
          </a:xfrm>
        </p:grpSpPr>
        <p:sp>
          <p:nvSpPr>
            <p:cNvPr id="42" name=""/>
            <p:cNvSpPr/>
            <p:nvPr/>
          </p:nvSpPr>
          <p:spPr>
            <a:xfrm>
              <a:off x="644364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81768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643280" y="1754280"/>
            <a:ext cx="447120" cy="433440"/>
            <a:chOff x="4643280" y="1754280"/>
            <a:chExt cx="447120" cy="433440"/>
          </a:xfrm>
        </p:grpSpPr>
        <p:sp>
          <p:nvSpPr>
            <p:cNvPr id="45" name=""/>
            <p:cNvSpPr/>
            <p:nvPr/>
          </p:nvSpPr>
          <p:spPr>
            <a:xfrm>
              <a:off x="464328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501732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4714920" y="3556080"/>
            <a:ext cx="447120" cy="433440"/>
            <a:chOff x="4714920" y="3556080"/>
            <a:chExt cx="447120" cy="433440"/>
          </a:xfrm>
        </p:grpSpPr>
        <p:sp>
          <p:nvSpPr>
            <p:cNvPr id="48" name=""/>
            <p:cNvSpPr/>
            <p:nvPr/>
          </p:nvSpPr>
          <p:spPr>
            <a:xfrm>
              <a:off x="471492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08896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987640" y="3556080"/>
            <a:ext cx="447120" cy="433440"/>
            <a:chOff x="2987640" y="3556080"/>
            <a:chExt cx="447120" cy="433440"/>
          </a:xfrm>
        </p:grpSpPr>
        <p:sp>
          <p:nvSpPr>
            <p:cNvPr id="51" name=""/>
            <p:cNvSpPr/>
            <p:nvPr/>
          </p:nvSpPr>
          <p:spPr>
            <a:xfrm>
              <a:off x="2987640" y="35560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61680" y="37846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914560" y="3843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755160" y="5802120"/>
            <a:ext cx="447120" cy="433080"/>
            <a:chOff x="3755160" y="5802120"/>
            <a:chExt cx="447120" cy="433080"/>
          </a:xfrm>
        </p:grpSpPr>
        <p:sp>
          <p:nvSpPr>
            <p:cNvPr id="55" name=""/>
            <p:cNvSpPr/>
            <p:nvPr/>
          </p:nvSpPr>
          <p:spPr>
            <a:xfrm rot="10800000">
              <a:off x="3768840" y="580212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755160" y="586296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515280" y="4203720"/>
            <a:ext cx="447120" cy="433440"/>
            <a:chOff x="6515280" y="4203720"/>
            <a:chExt cx="447120" cy="433440"/>
          </a:xfrm>
        </p:grpSpPr>
        <p:sp>
          <p:nvSpPr>
            <p:cNvPr id="58" name=""/>
            <p:cNvSpPr/>
            <p:nvPr/>
          </p:nvSpPr>
          <p:spPr>
            <a:xfrm rot="10800000">
              <a:off x="6528960" y="4203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515280" y="42642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914560" y="1754280"/>
            <a:ext cx="447120" cy="433440"/>
            <a:chOff x="2914560" y="1754280"/>
            <a:chExt cx="447120" cy="433440"/>
          </a:xfrm>
        </p:grpSpPr>
        <p:sp>
          <p:nvSpPr>
            <p:cNvPr id="61" name=""/>
            <p:cNvSpPr/>
            <p:nvPr/>
          </p:nvSpPr>
          <p:spPr>
            <a:xfrm>
              <a:off x="2914560" y="175428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288600" y="198288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65320" y="5373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33360" y="545472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28880" y="3591000"/>
            <a:ext cx="287280" cy="358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415880" y="4368960"/>
            <a:ext cx="12960" cy="987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6920" y="54277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3880" y="384804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73520" y="383868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43840" y="2820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4040" y="204480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00440" y="2031840"/>
            <a:ext cx="505080" cy="53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8160" y="38703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189320" y="4203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1658520" y="4274640"/>
            <a:ext cx="208620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931080" y="3198960"/>
            <a:ext cx="1162080" cy="804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3520" y="413244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76400" y="20336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987640" y="2043000"/>
                <a:ext cx="2890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714920" y="2043000"/>
                <a:ext cx="336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588000" y="3843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88000" y="38433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813120" y="54165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58920" y="5356080"/>
                <a:ext cx="3618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170920" y="283536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021120" y="38577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316160" y="387972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6515280" y="2043000"/>
                <a:ext cx="312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67280" y="1539720"/>
                <a:ext cx="5839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95240" y="463536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1440" y="117936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5219640" y="39146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 flipV="1">
            <a:off x="5180040" y="4132440"/>
            <a:ext cx="1303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9640" y="4132440"/>
            <a:ext cx="1250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94080" y="2298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2280" y="2313000"/>
            <a:ext cx="1319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8040" y="2506680"/>
            <a:ext cx="149868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19280" y="2451240"/>
            <a:ext cx="132552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86440" y="2413080"/>
            <a:ext cx="1176480" cy="577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72240" y="2535120"/>
            <a:ext cx="33480" cy="1303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38560" y="1179360"/>
                <a:ext cx="564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359080" y="153972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562200" y="190008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324400" y="1900080"/>
                <a:ext cx="5828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083280" y="1395360"/>
                <a:ext cx="533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51640" y="3700440"/>
                <a:ext cx="8305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38840" y="2835360"/>
                <a:ext cx="5479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722920" y="283536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94040" y="2835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914560" y="3195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14760" y="3195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498920" y="2835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619280" y="290844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13120" y="374508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689280" y="3740040"/>
                <a:ext cx="5493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72280" y="3735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78400" y="4203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2259000"/>
                <a:ext cx="717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334040" y="585936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54560" y="6180120"/>
                <a:ext cx="5173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999120" y="4491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020000" y="4797360"/>
                <a:ext cx="5173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020000" y="5130720"/>
                <a:ext cx="66672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7043760" y="5462640"/>
                <a:ext cx="6015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291280" y="4995720"/>
                <a:ext cx="566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81320" y="54151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251080" y="5067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4000" y="189000"/>
                <a:ext cx="26654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２進数の和を計算する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チューリング機械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06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06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06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07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07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07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08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17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18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18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18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19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19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19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2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3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29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29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29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30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30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30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31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40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41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41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1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2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2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42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6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52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52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53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53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53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54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4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7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64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64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64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65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65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65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66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9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6576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75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76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76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76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77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77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77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87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87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87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88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88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88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89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2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98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99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99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99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00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00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00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4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10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10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11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11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11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12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12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5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13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13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13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14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14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14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15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24000" y="692280"/>
                <a:ext cx="180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例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4000" y="1197000"/>
                <a:ext cx="2236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010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0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5076720" y="5950080"/>
                <a:ext cx="331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22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22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22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23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23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23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24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7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33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34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34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34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35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35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35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38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5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45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45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46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46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46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47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0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59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3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56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7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7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7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58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58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58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2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5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9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68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68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69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69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9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70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70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73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3668760" y="14652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5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80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80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80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81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81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81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82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5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7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1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91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92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92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92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93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93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93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6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3683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3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7" name=""/>
              <p:cNvSpPr txBox="1"/>
              <p:nvPr/>
            </p:nvSpPr>
            <p:spPr>
              <a:xfrm>
                <a:off x="2535120" y="5948280"/>
                <a:ext cx="227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03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03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03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04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04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04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05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8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9" name=""/>
          <p:cNvSpPr/>
          <p:nvPr/>
        </p:nvSpPr>
        <p:spPr>
          <a:xfrm>
            <a:off x="2627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3" name=""/>
              <p:cNvSpPr txBox="1"/>
              <p:nvPr/>
            </p:nvSpPr>
            <p:spPr>
              <a:xfrm>
                <a:off x="2511360" y="5948280"/>
                <a:ext cx="287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1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1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1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1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1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1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1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5" name=""/>
          <p:cNvSpPr/>
          <p:nvPr/>
        </p:nvSpPr>
        <p:spPr>
          <a:xfrm>
            <a:off x="305928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2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2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2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2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2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2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2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3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3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4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5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8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1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5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24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25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25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25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26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26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26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6160" y="1452600"/>
            <a:ext cx="1223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087880" y="5932440"/>
                <a:ext cx="333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521964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3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3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3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3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3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3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4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7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9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9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0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1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3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4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7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1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4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5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5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5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5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5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5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"/>
          <p:cNvSpPr/>
          <p:nvPr/>
        </p:nvSpPr>
        <p:spPr>
          <a:xfrm>
            <a:off x="36543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3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5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5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6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7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9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0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3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6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6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6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6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6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9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1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1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2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3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5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6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19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3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7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7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7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7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7" name=""/>
              <p:cNvSpPr txBox="1"/>
              <p:nvPr/>
            </p:nvSpPr>
            <p:spPr>
              <a:xfrm>
                <a:off x="4643280" y="5157720"/>
                <a:ext cx="6494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7" name=""/>
              <p:cNvSpPr txBox="1"/>
              <p:nvPr/>
            </p:nvSpPr>
            <p:spPr>
              <a:xfrm>
                <a:off x="2897280" y="5950080"/>
                <a:ext cx="360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8" name=""/>
              <p:cNvSpPr txBox="1"/>
              <p:nvPr/>
            </p:nvSpPr>
            <p:spPr>
              <a:xfrm>
                <a:off x="3767040" y="5965920"/>
                <a:ext cx="3412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9" name=""/>
              <p:cNvSpPr txBox="1"/>
              <p:nvPr/>
            </p:nvSpPr>
            <p:spPr>
              <a:xfrm>
                <a:off x="4179960" y="5956200"/>
                <a:ext cx="3826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2" name=""/>
              <p:cNvSpPr txBox="1"/>
              <p:nvPr/>
            </p:nvSpPr>
            <p:spPr>
              <a:xfrm>
                <a:off x="4643280" y="5950080"/>
                <a:ext cx="35892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5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9" name=""/>
              <p:cNvSpPr txBox="1"/>
              <p:nvPr/>
            </p:nvSpPr>
            <p:spPr>
              <a:xfrm>
                <a:off x="2476440" y="5934240"/>
                <a:ext cx="3621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43" name=""/>
          <p:cNvGrpSpPr/>
          <p:nvPr/>
        </p:nvGrpSpPr>
        <p:grpSpPr>
          <a:xfrm>
            <a:off x="2484360" y="2492280"/>
            <a:ext cx="2808360" cy="1079640"/>
            <a:chOff x="2484360" y="2492280"/>
            <a:chExt cx="2808360" cy="1079640"/>
          </a:xfrm>
        </p:grpSpPr>
        <p:sp>
          <p:nvSpPr>
            <p:cNvPr id="3844" name=""/>
            <p:cNvSpPr/>
            <p:nvPr/>
          </p:nvSpPr>
          <p:spPr>
            <a:xfrm>
              <a:off x="2484360" y="2492280"/>
              <a:ext cx="2808360" cy="1079640"/>
            </a:xfrm>
            <a:prstGeom prst="wedgeRoundRectCallout">
              <a:avLst>
                <a:gd name="adj1" fmla="val -71425"/>
                <a:gd name="adj2" fmla="val 14661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668680" y="2608200"/>
              <a:ext cx="2449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受理状態に遷移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99"/>
                  </a:solidFill>
                  <a:latin typeface="Arial"/>
                </a:rPr>
                <a:t>計算が終了した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36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36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37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37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37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38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38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4788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481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484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487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490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494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497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500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597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600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603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606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610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613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616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48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1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2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7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713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716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719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722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726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729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732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64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67020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8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601200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2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3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0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1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2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4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346560" y="5934240"/>
                <a:ext cx="32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6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492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829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832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835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838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842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845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848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fa080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9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0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0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1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2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1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392436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250920" y="189000"/>
            <a:ext cx="8713800" cy="648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6732720" y="907920"/>
            <a:ext cx="447120" cy="433440"/>
            <a:chOff x="6732720" y="907920"/>
            <a:chExt cx="447120" cy="433440"/>
          </a:xfrm>
        </p:grpSpPr>
        <p:sp>
          <p:nvSpPr>
            <p:cNvPr id="945" name=""/>
            <p:cNvSpPr/>
            <p:nvPr/>
          </p:nvSpPr>
          <p:spPr>
            <a:xfrm>
              <a:off x="673272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10676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932360" y="907920"/>
            <a:ext cx="447120" cy="433440"/>
            <a:chOff x="4932360" y="907920"/>
            <a:chExt cx="447120" cy="433440"/>
          </a:xfrm>
        </p:grpSpPr>
        <p:sp>
          <p:nvSpPr>
            <p:cNvPr id="948" name=""/>
            <p:cNvSpPr/>
            <p:nvPr/>
          </p:nvSpPr>
          <p:spPr>
            <a:xfrm>
              <a:off x="493236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530640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03640" y="2709720"/>
            <a:ext cx="447120" cy="433440"/>
            <a:chOff x="5003640" y="2709720"/>
            <a:chExt cx="447120" cy="433440"/>
          </a:xfrm>
        </p:grpSpPr>
        <p:sp>
          <p:nvSpPr>
            <p:cNvPr id="951" name=""/>
            <p:cNvSpPr/>
            <p:nvPr/>
          </p:nvSpPr>
          <p:spPr>
            <a:xfrm>
              <a:off x="500364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537768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3276720" y="2709720"/>
            <a:ext cx="447120" cy="433440"/>
            <a:chOff x="3276720" y="2709720"/>
            <a:chExt cx="447120" cy="433440"/>
          </a:xfrm>
        </p:grpSpPr>
        <p:sp>
          <p:nvSpPr>
            <p:cNvPr id="954" name=""/>
            <p:cNvSpPr/>
            <p:nvPr/>
          </p:nvSpPr>
          <p:spPr>
            <a:xfrm>
              <a:off x="3276720" y="27097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3650760" y="29383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3203640" y="2997360"/>
            <a:ext cx="50472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043520" y="4956120"/>
            <a:ext cx="447120" cy="433440"/>
            <a:chOff x="4043520" y="4956120"/>
            <a:chExt cx="447120" cy="433440"/>
          </a:xfrm>
        </p:grpSpPr>
        <p:sp>
          <p:nvSpPr>
            <p:cNvPr id="958" name=""/>
            <p:cNvSpPr/>
            <p:nvPr/>
          </p:nvSpPr>
          <p:spPr>
            <a:xfrm rot="10800000">
              <a:off x="4057200" y="4956120"/>
              <a:ext cx="433440" cy="433440"/>
            </a:xfrm>
            <a:prstGeom prst="ellipse">
              <a:avLst/>
            </a:prstGeom>
            <a:noFill/>
            <a:ln w="19080">
              <a:solidFill>
                <a:srgbClr val="fa08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4043520" y="5016600"/>
              <a:ext cx="73080" cy="144360"/>
            </a:xfrm>
            <a:prstGeom prst="line">
              <a:avLst/>
            </a:prstGeom>
            <a:ln w="19080">
              <a:solidFill>
                <a:srgbClr val="fa080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6804720" y="3357360"/>
            <a:ext cx="447120" cy="433080"/>
            <a:chOff x="6804720" y="3357360"/>
            <a:chExt cx="447120" cy="433080"/>
          </a:xfrm>
        </p:grpSpPr>
        <p:sp>
          <p:nvSpPr>
            <p:cNvPr id="961" name=""/>
            <p:cNvSpPr/>
            <p:nvPr/>
          </p:nvSpPr>
          <p:spPr>
            <a:xfrm rot="10800000">
              <a:off x="6818400" y="3357360"/>
              <a:ext cx="433440" cy="433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6804720" y="3418200"/>
              <a:ext cx="73080" cy="14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3203640" y="907920"/>
            <a:ext cx="447120" cy="433440"/>
            <a:chOff x="3203640" y="907920"/>
            <a:chExt cx="447120" cy="433440"/>
          </a:xfrm>
        </p:grpSpPr>
        <p:sp>
          <p:nvSpPr>
            <p:cNvPr id="964" name=""/>
            <p:cNvSpPr/>
            <p:nvPr/>
          </p:nvSpPr>
          <p:spPr>
            <a:xfrm>
              <a:off x="3203640" y="907920"/>
              <a:ext cx="433440" cy="4334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3577680" y="1136520"/>
              <a:ext cx="7308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1454040" y="452772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522440" y="4608360"/>
            <a:ext cx="360360" cy="3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317600" y="2744640"/>
            <a:ext cx="287280" cy="358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704600" y="3522600"/>
            <a:ext cx="12600" cy="987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995640" y="4581360"/>
            <a:ext cx="505080" cy="503280"/>
          </a:xfrm>
          <a:prstGeom prst="ellipse">
            <a:avLst/>
          </a:prstGeom>
          <a:solidFill>
            <a:srgbClr val="fa08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762600" y="30020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62600" y="299232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8332920" y="197496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92760" y="1198440"/>
            <a:ext cx="50508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889520" y="1185840"/>
            <a:ext cx="504720" cy="5349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496880" y="3024360"/>
            <a:ext cx="505080" cy="502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4478400" y="3357720"/>
            <a:ext cx="2324160" cy="145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H="1" flipV="1">
            <a:off x="1947960" y="3428640"/>
            <a:ext cx="2085840" cy="1312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7219800" y="2352600"/>
            <a:ext cx="1162080" cy="804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992240" y="328608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65480" y="1187280"/>
            <a:ext cx="504720" cy="503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3276720" y="1197000"/>
                <a:ext cx="28872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5003640" y="119700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6877080" y="2997360"/>
                <a:ext cx="3366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5076720" y="299736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102200" y="4570560"/>
                <a:ext cx="3124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1547640" y="4510080"/>
                <a:ext cx="3621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8459640" y="1989000"/>
                <a:ext cx="3366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9" name=""/>
              <p:cNvSpPr txBox="1"/>
              <p:nvPr/>
            </p:nvSpPr>
            <p:spPr>
              <a:xfrm>
                <a:off x="3309840" y="3011400"/>
                <a:ext cx="3128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0" name=""/>
              <p:cNvSpPr txBox="1"/>
              <p:nvPr/>
            </p:nvSpPr>
            <p:spPr>
              <a:xfrm>
                <a:off x="1604880" y="303372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6804000" y="1197000"/>
                <a:ext cx="3128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2" name=""/>
              <p:cNvSpPr txBox="1"/>
              <p:nvPr/>
            </p:nvSpPr>
            <p:spPr>
              <a:xfrm>
                <a:off x="4356000" y="693720"/>
                <a:ext cx="5842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1084320" y="378936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4" name=""/>
              <p:cNvSpPr txBox="1"/>
              <p:nvPr/>
            </p:nvSpPr>
            <p:spPr>
              <a:xfrm>
                <a:off x="4340160" y="333360"/>
                <a:ext cx="6494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5508720" y="3068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 flipV="1">
            <a:off x="5468760" y="3285720"/>
            <a:ext cx="130356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708360" y="3286080"/>
            <a:ext cx="1251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668760" y="1452600"/>
            <a:ext cx="1224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391000" y="1467000"/>
            <a:ext cx="131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307120" y="1660680"/>
            <a:ext cx="1498320" cy="14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1908000" y="1604880"/>
            <a:ext cx="1325880" cy="1465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175520" y="1566720"/>
            <a:ext cx="1176480" cy="578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6961320" y="1689120"/>
            <a:ext cx="33120" cy="130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2627280" y="333360"/>
                <a:ext cx="5652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2647800" y="693720"/>
                <a:ext cx="501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6" name=""/>
              <p:cNvSpPr txBox="1"/>
              <p:nvPr/>
            </p:nvSpPr>
            <p:spPr>
              <a:xfrm>
                <a:off x="3851280" y="105408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5613480" y="1054080"/>
                <a:ext cx="5824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8" name=""/>
              <p:cNvSpPr txBox="1"/>
              <p:nvPr/>
            </p:nvSpPr>
            <p:spPr>
              <a:xfrm>
                <a:off x="6372360" y="549360"/>
                <a:ext cx="533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9" name=""/>
              <p:cNvSpPr txBox="1"/>
              <p:nvPr/>
            </p:nvSpPr>
            <p:spPr>
              <a:xfrm>
                <a:off x="7740720" y="2854440"/>
                <a:ext cx="8301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￠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27920" y="1989000"/>
                <a:ext cx="547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6084720" y="1989000"/>
                <a:ext cx="5810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3182760" y="1989000"/>
                <a:ext cx="5652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3203640" y="2349360"/>
                <a:ext cx="5014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4803840" y="23493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5" name=""/>
              <p:cNvSpPr txBox="1"/>
              <p:nvPr/>
            </p:nvSpPr>
            <p:spPr>
              <a:xfrm>
                <a:off x="4788000" y="1989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6" name=""/>
              <p:cNvSpPr txBox="1"/>
              <p:nvPr/>
            </p:nvSpPr>
            <p:spPr>
              <a:xfrm>
                <a:off x="1908000" y="2062080"/>
                <a:ext cx="5511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2301840" y="2898720"/>
                <a:ext cx="6159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8" name=""/>
              <p:cNvSpPr txBox="1"/>
              <p:nvPr/>
            </p:nvSpPr>
            <p:spPr>
              <a:xfrm>
                <a:off x="3978360" y="2894040"/>
                <a:ext cx="54936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9" name=""/>
              <p:cNvSpPr txBox="1"/>
              <p:nvPr/>
            </p:nvSpPr>
            <p:spPr>
              <a:xfrm>
                <a:off x="5661000" y="2889360"/>
                <a:ext cx="617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5667480" y="3357720"/>
                <a:ext cx="5508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1" name=""/>
              <p:cNvSpPr txBox="1"/>
              <p:nvPr/>
            </p:nvSpPr>
            <p:spPr>
              <a:xfrm>
                <a:off x="7669080" y="1413000"/>
                <a:ext cx="7178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￠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2" name=""/>
              <p:cNvSpPr txBox="1"/>
              <p:nvPr/>
            </p:nvSpPr>
            <p:spPr>
              <a:xfrm>
                <a:off x="4643280" y="4869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3" name=""/>
              <p:cNvSpPr txBox="1"/>
              <p:nvPr/>
            </p:nvSpPr>
            <p:spPr>
              <a:xfrm>
                <a:off x="4643280" y="5157720"/>
                <a:ext cx="5176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7288200" y="3645000"/>
                <a:ext cx="5810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7308720" y="3951360"/>
                <a:ext cx="51768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6" name=""/>
              <p:cNvSpPr txBox="1"/>
              <p:nvPr/>
            </p:nvSpPr>
            <p:spPr>
              <a:xfrm>
                <a:off x="7308720" y="4284720"/>
                <a:ext cx="66672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7" name=""/>
              <p:cNvSpPr txBox="1"/>
              <p:nvPr/>
            </p:nvSpPr>
            <p:spPr>
              <a:xfrm>
                <a:off x="7332840" y="4616280"/>
                <a:ext cx="60156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8" name=""/>
              <p:cNvSpPr txBox="1"/>
              <p:nvPr/>
            </p:nvSpPr>
            <p:spPr>
              <a:xfrm>
                <a:off x="5580000" y="414972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9" name=""/>
              <p:cNvSpPr txBox="1"/>
              <p:nvPr/>
            </p:nvSpPr>
            <p:spPr>
              <a:xfrm>
                <a:off x="2570040" y="4568760"/>
                <a:ext cx="584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0" name=""/>
              <p:cNvSpPr txBox="1"/>
              <p:nvPr/>
            </p:nvSpPr>
            <p:spPr>
              <a:xfrm>
                <a:off x="2540160" y="4221000"/>
                <a:ext cx="6490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1" name=""/>
          <p:cNvSpPr/>
          <p:nvPr/>
        </p:nvSpPr>
        <p:spPr>
          <a:xfrm>
            <a:off x="324000" y="5516640"/>
            <a:ext cx="6048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39640" y="5877000"/>
            <a:ext cx="5565960" cy="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20560" y="6391440"/>
            <a:ext cx="55897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436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868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30048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73212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165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59756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2920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5460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892840" y="5892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3" name=""/>
              <p:cNvSpPr txBox="1"/>
              <p:nvPr/>
            </p:nvSpPr>
            <p:spPr>
              <a:xfrm>
                <a:off x="2914560" y="5932440"/>
                <a:ext cx="2937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4" name=""/>
              <p:cNvSpPr txBox="1"/>
              <p:nvPr/>
            </p:nvSpPr>
            <p:spPr>
              <a:xfrm>
                <a:off x="3819600" y="5965920"/>
                <a:ext cx="27468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5" name=""/>
              <p:cNvSpPr txBox="1"/>
              <p:nvPr/>
            </p:nvSpPr>
            <p:spPr>
              <a:xfrm>
                <a:off x="4211640" y="5956200"/>
                <a:ext cx="3189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5076720" y="5950080"/>
                <a:ext cx="347760" cy="38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7" name=""/>
              <p:cNvSpPr txBox="1"/>
              <p:nvPr/>
            </p:nvSpPr>
            <p:spPr>
              <a:xfrm>
                <a:off x="3346560" y="5948280"/>
                <a:ext cx="32364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4643280" y="5950080"/>
                <a:ext cx="2955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9" name=""/>
              <p:cNvSpPr txBox="1"/>
              <p:nvPr/>
            </p:nvSpPr>
            <p:spPr>
              <a:xfrm>
                <a:off x="5506920" y="5956200"/>
                <a:ext cx="3319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2046240" y="5934240"/>
                <a:ext cx="344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￠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1" name=""/>
          <p:cNvSpPr/>
          <p:nvPr/>
        </p:nvSpPr>
        <p:spPr>
          <a:xfrm>
            <a:off x="4356000" y="5589720"/>
            <a:ext cx="0" cy="288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971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47492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979640" y="5883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5" name=""/>
              <p:cNvSpPr txBox="1"/>
              <p:nvPr/>
            </p:nvSpPr>
            <p:spPr>
              <a:xfrm>
                <a:off x="2487600" y="593424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046160" y="5948280"/>
                <a:ext cx="3650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7" name=""/>
              <p:cNvSpPr txBox="1"/>
              <p:nvPr/>
            </p:nvSpPr>
            <p:spPr>
              <a:xfrm>
                <a:off x="1557360" y="5934240"/>
                <a:ext cx="366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8" name=""/>
              <p:cNvSpPr txBox="1"/>
              <p:nvPr/>
            </p:nvSpPr>
            <p:spPr>
              <a:xfrm>
                <a:off x="501480" y="6062760"/>
                <a:ext cx="420840" cy="1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0:13:52Z</dcterms:created>
  <dc:creator>政明</dc:creator>
  <dc:description/>
  <dc:language>en-US</dc:language>
  <cp:lastModifiedBy>政明</cp:lastModifiedBy>
  <dcterms:modified xsi:type="dcterms:W3CDTF">2004-10-11T17:03:32Z</dcterms:modified>
  <cp:revision>17</cp:revision>
  <dc:subject/>
  <dc:title>スライド 1</dc:title>
</cp:coreProperties>
</file>