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4D77-345F-4FAD-B231-B401584C7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2FD2-0A3D-49AE-8182-DADC7553D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C67D-003A-4743-BA21-9B9BD79FE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8810-2994-40D9-BBEA-7A48ED21C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C2F4-17E5-48BA-820E-AFDCDAAB7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6656-D6B7-45D9-9DBC-77B589154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4C86-09CD-436A-A305-66EF0CC16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352D-62B4-43ED-882F-28BA4B2FB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336A-33DD-4600-B5F5-EB967783F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E64A-4C5B-47A3-9955-C5FCB6F7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D0A2-6727-4C1C-B98E-DD3C9B64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DCC5-9589-4733-9D3B-CF03073D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AE112-1C3C-467E-AA56-ED5D7D279ED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720" y="2895480"/>
            <a:ext cx="6705360" cy="914400"/>
            <a:chOff x="990720" y="2895480"/>
            <a:chExt cx="6705360" cy="914400"/>
          </a:xfrm>
        </p:grpSpPr>
        <p:sp>
          <p:nvSpPr>
            <p:cNvPr id="42" name=""/>
            <p:cNvSpPr/>
            <p:nvPr/>
          </p:nvSpPr>
          <p:spPr>
            <a:xfrm>
              <a:off x="990720" y="2895480"/>
              <a:ext cx="6705360" cy="9144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" name=""/>
                <p:cNvSpPr txBox="1"/>
                <p:nvPr/>
              </p:nvSpPr>
              <p:spPr>
                <a:xfrm>
                  <a:off x="1219320" y="3124080"/>
                  <a:ext cx="446040" cy="52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4" name=""/>
            <p:cNvSpPr/>
            <p:nvPr/>
          </p:nvSpPr>
          <p:spPr>
            <a:xfrm>
              <a:off x="2209680" y="31240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動作関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4191120" y="2971800"/>
                  <a:ext cx="2717640" cy="73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Σ</m:t>
                      </m:r>
                      <m:r>
                        <m:t xml:space="preserve">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Q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6" name=""/>
          <p:cNvSpPr/>
          <p:nvPr/>
        </p:nvSpPr>
        <p:spPr>
          <a:xfrm>
            <a:off x="838080" y="53352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非決定性有限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4724280" y="380880"/>
                <a:ext cx="396252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8" name=""/>
          <p:cNvGrpSpPr/>
          <p:nvPr/>
        </p:nvGrpSpPr>
        <p:grpSpPr>
          <a:xfrm>
            <a:off x="990720" y="1371600"/>
            <a:ext cx="6705360" cy="609480"/>
            <a:chOff x="990720" y="1371600"/>
            <a:chExt cx="6705360" cy="609480"/>
          </a:xfrm>
        </p:grpSpPr>
        <p:sp>
          <p:nvSpPr>
            <p:cNvPr id="49" name=""/>
            <p:cNvSpPr/>
            <p:nvPr/>
          </p:nvSpPr>
          <p:spPr>
            <a:xfrm>
              <a:off x="990720" y="1371600"/>
              <a:ext cx="6705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" name=""/>
                <p:cNvSpPr txBox="1"/>
                <p:nvPr/>
              </p:nvSpPr>
              <p:spPr>
                <a:xfrm>
                  <a:off x="1143000" y="1371600"/>
                  <a:ext cx="4874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1" name=""/>
            <p:cNvSpPr/>
            <p:nvPr/>
          </p:nvSpPr>
          <p:spPr>
            <a:xfrm>
              <a:off x="2209680" y="144792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990720" y="2133720"/>
            <a:ext cx="6705360" cy="609480"/>
            <a:chOff x="990720" y="2133720"/>
            <a:chExt cx="6705360" cy="609480"/>
          </a:xfrm>
        </p:grpSpPr>
        <p:sp>
          <p:nvSpPr>
            <p:cNvPr id="53" name=""/>
            <p:cNvSpPr/>
            <p:nvPr/>
          </p:nvSpPr>
          <p:spPr>
            <a:xfrm>
              <a:off x="990720" y="2133720"/>
              <a:ext cx="6705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" name=""/>
                <p:cNvSpPr txBox="1"/>
                <p:nvPr/>
              </p:nvSpPr>
              <p:spPr>
                <a:xfrm>
                  <a:off x="1219320" y="2209680"/>
                  <a:ext cx="406440" cy="48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5" name=""/>
            <p:cNvSpPr/>
            <p:nvPr/>
          </p:nvSpPr>
          <p:spPr>
            <a:xfrm>
              <a:off x="2209680" y="220968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入力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990720" y="3962520"/>
            <a:ext cx="6705360" cy="685800"/>
            <a:chOff x="990720" y="3962520"/>
            <a:chExt cx="6705360" cy="685800"/>
          </a:xfrm>
        </p:grpSpPr>
        <p:sp>
          <p:nvSpPr>
            <p:cNvPr id="57" name=""/>
            <p:cNvSpPr/>
            <p:nvPr/>
          </p:nvSpPr>
          <p:spPr>
            <a:xfrm>
              <a:off x="990720" y="4038480"/>
              <a:ext cx="670536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" name=""/>
                <p:cNvSpPr txBox="1"/>
                <p:nvPr/>
              </p:nvSpPr>
              <p:spPr>
                <a:xfrm>
                  <a:off x="1219320" y="3962520"/>
                  <a:ext cx="52848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9" name=""/>
            <p:cNvSpPr/>
            <p:nvPr/>
          </p:nvSpPr>
          <p:spPr>
            <a:xfrm>
              <a:off x="2286000" y="411480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初期状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"/>
                <p:cNvSpPr txBox="1"/>
                <p:nvPr/>
              </p:nvSpPr>
              <p:spPr>
                <a:xfrm>
                  <a:off x="4191120" y="3962520"/>
                  <a:ext cx="129996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" name=""/>
          <p:cNvGrpSpPr/>
          <p:nvPr/>
        </p:nvGrpSpPr>
        <p:grpSpPr>
          <a:xfrm>
            <a:off x="990720" y="4952880"/>
            <a:ext cx="6705360" cy="611280"/>
            <a:chOff x="990720" y="4952880"/>
            <a:chExt cx="6705360" cy="611280"/>
          </a:xfrm>
        </p:grpSpPr>
        <p:sp>
          <p:nvSpPr>
            <p:cNvPr id="62" name=""/>
            <p:cNvSpPr/>
            <p:nvPr/>
          </p:nvSpPr>
          <p:spPr>
            <a:xfrm>
              <a:off x="990720" y="4952880"/>
              <a:ext cx="670536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" name=""/>
                <p:cNvSpPr txBox="1"/>
                <p:nvPr/>
              </p:nvSpPr>
              <p:spPr>
                <a:xfrm>
                  <a:off x="1219320" y="5029200"/>
                  <a:ext cx="48708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4" name=""/>
            <p:cNvSpPr/>
            <p:nvPr/>
          </p:nvSpPr>
          <p:spPr>
            <a:xfrm>
              <a:off x="2286000" y="502920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受理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5486400" y="4952880"/>
                  <a:ext cx="1300320" cy="61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⊆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6" name=""/>
          <p:cNvSpPr/>
          <p:nvPr/>
        </p:nvSpPr>
        <p:spPr>
          <a:xfrm>
            <a:off x="6227640" y="2924280"/>
            <a:ext cx="792360" cy="79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7740720" y="2205000"/>
            <a:ext cx="914400" cy="762120"/>
            <a:chOff x="7740720" y="2205000"/>
            <a:chExt cx="914400" cy="762120"/>
          </a:xfrm>
        </p:grpSpPr>
        <p:sp>
          <p:nvSpPr>
            <p:cNvPr id="68" name=""/>
            <p:cNvSpPr/>
            <p:nvPr/>
          </p:nvSpPr>
          <p:spPr>
            <a:xfrm>
              <a:off x="7740720" y="2205000"/>
              <a:ext cx="914400" cy="762120"/>
            </a:xfrm>
            <a:prstGeom prst="wedgeRoundRectCallout">
              <a:avLst>
                <a:gd name="adj1" fmla="val -116148"/>
                <a:gd name="adj2" fmla="val 79791"/>
                <a:gd name="adj3" fmla="val 16667"/>
              </a:avLst>
            </a:prstGeom>
            <a:solidFill>
              <a:srgbClr val="ffff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816680" y="235728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注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4932360" y="5950080"/>
                <a:ext cx="2228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34" name=""/>
          <p:cNvSpPr/>
          <p:nvPr/>
        </p:nvSpPr>
        <p:spPr>
          <a:xfrm>
            <a:off x="380880" y="304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3059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338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343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5" name=""/>
          <p:cNvSpPr/>
          <p:nvPr/>
        </p:nvSpPr>
        <p:spPr>
          <a:xfrm flipV="1">
            <a:off x="3708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368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373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468360" y="1890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よって，入力語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aa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に対して３つの遷移の可能性があるが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332000" y="836640"/>
            <a:ext cx="28191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093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795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4653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1560600" y="98892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3618000" y="9129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22464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29322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6" name=""/>
          <p:cNvSpPr/>
          <p:nvPr/>
        </p:nvSpPr>
        <p:spPr>
          <a:xfrm flipV="1">
            <a:off x="1692360" y="1483920"/>
            <a:ext cx="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55640" y="206064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2065320" y="3970440"/>
            <a:ext cx="685800" cy="1066680"/>
            <a:chOff x="2065320" y="3970440"/>
            <a:chExt cx="685800" cy="1066680"/>
          </a:xfrm>
        </p:grpSpPr>
        <p:sp>
          <p:nvSpPr>
            <p:cNvPr id="399" name=""/>
            <p:cNvSpPr/>
            <p:nvPr/>
          </p:nvSpPr>
          <p:spPr>
            <a:xfrm>
              <a:off x="2065320" y="397044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2127960" y="4041000"/>
              <a:ext cx="78120" cy="201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2827440" y="374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265720" y="374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2065320" y="2446200"/>
            <a:ext cx="685800" cy="1067040"/>
            <a:chOff x="2065320" y="2446200"/>
            <a:chExt cx="685800" cy="1067040"/>
          </a:xfrm>
        </p:grpSpPr>
        <p:sp>
          <p:nvSpPr>
            <p:cNvPr id="404" name=""/>
            <p:cNvSpPr/>
            <p:nvPr/>
          </p:nvSpPr>
          <p:spPr>
            <a:xfrm>
              <a:off x="2065320" y="244620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2628720" y="3185280"/>
              <a:ext cx="9828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1455840" y="343692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989000" y="328464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27640" y="328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65920" y="328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942240" y="336060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1712880" y="2585880"/>
                <a:ext cx="29376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5529240" y="337824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3224160" y="337824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7128000" y="346536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4656240" y="351324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2230560" y="351324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2792520" y="460224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1332000" y="836640"/>
            <a:ext cx="28191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093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7795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4653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1560600" y="98892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3618000" y="9129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22464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29322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6" name=""/>
          <p:cNvSpPr/>
          <p:nvPr/>
        </p:nvSpPr>
        <p:spPr>
          <a:xfrm flipV="1">
            <a:off x="2411280" y="1483920"/>
            <a:ext cx="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55640" y="206064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2065320" y="3970440"/>
            <a:ext cx="685800" cy="1066680"/>
            <a:chOff x="2065320" y="3970440"/>
            <a:chExt cx="685800" cy="1066680"/>
          </a:xfrm>
        </p:grpSpPr>
        <p:sp>
          <p:nvSpPr>
            <p:cNvPr id="429" name=""/>
            <p:cNvSpPr/>
            <p:nvPr/>
          </p:nvSpPr>
          <p:spPr>
            <a:xfrm>
              <a:off x="2065320" y="397044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2127960" y="404100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2827440" y="374184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265720" y="374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2065320" y="2446200"/>
            <a:ext cx="685800" cy="1067040"/>
            <a:chOff x="2065320" y="2446200"/>
            <a:chExt cx="685800" cy="1067040"/>
          </a:xfrm>
        </p:grpSpPr>
        <p:sp>
          <p:nvSpPr>
            <p:cNvPr id="434" name=""/>
            <p:cNvSpPr/>
            <p:nvPr/>
          </p:nvSpPr>
          <p:spPr>
            <a:xfrm>
              <a:off x="2065320" y="244620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28720" y="3185280"/>
              <a:ext cx="9828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1455840" y="343692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989000" y="328464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427640" y="328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65920" y="328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942240" y="336060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1712880" y="2585880"/>
                <a:ext cx="29376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5529240" y="337824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3203640" y="33577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7128000" y="346536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4656240" y="351324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2230560" y="351324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2792520" y="460224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 flipV="1">
            <a:off x="3059280" y="1483920"/>
            <a:ext cx="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332000" y="836640"/>
            <a:ext cx="28191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093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7795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4653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3" name=""/>
              <p:cNvSpPr txBox="1"/>
              <p:nvPr/>
            </p:nvSpPr>
            <p:spPr>
              <a:xfrm>
                <a:off x="1560600" y="98892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3618000" y="9129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22464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29322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7" name=""/>
          <p:cNvSpPr/>
          <p:nvPr/>
        </p:nvSpPr>
        <p:spPr>
          <a:xfrm>
            <a:off x="755640" y="206064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2065320" y="3970440"/>
            <a:ext cx="685800" cy="1066680"/>
            <a:chOff x="2065320" y="3970440"/>
            <a:chExt cx="685800" cy="1066680"/>
          </a:xfrm>
        </p:grpSpPr>
        <p:sp>
          <p:nvSpPr>
            <p:cNvPr id="459" name=""/>
            <p:cNvSpPr/>
            <p:nvPr/>
          </p:nvSpPr>
          <p:spPr>
            <a:xfrm>
              <a:off x="2065320" y="397044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2127960" y="404100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2827440" y="374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265720" y="374184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2065320" y="2446200"/>
            <a:ext cx="685800" cy="1067040"/>
            <a:chOff x="2065320" y="2446200"/>
            <a:chExt cx="685800" cy="1067040"/>
          </a:xfrm>
        </p:grpSpPr>
        <p:sp>
          <p:nvSpPr>
            <p:cNvPr id="464" name=""/>
            <p:cNvSpPr/>
            <p:nvPr/>
          </p:nvSpPr>
          <p:spPr>
            <a:xfrm>
              <a:off x="2065320" y="244620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2628720" y="3185280"/>
              <a:ext cx="9828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1455840" y="343692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989000" y="3284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427640" y="32846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65920" y="328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942240" y="336060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1712880" y="2585880"/>
                <a:ext cx="29376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5508720" y="33577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3224160" y="337824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7128000" y="346536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4656240" y="351324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2230560" y="351324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2792520" y="460224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1332000" y="836640"/>
            <a:ext cx="28191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093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7795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4653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1560600" y="98892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3618000" y="9129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22464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29322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6" name=""/>
          <p:cNvSpPr/>
          <p:nvPr/>
        </p:nvSpPr>
        <p:spPr>
          <a:xfrm flipV="1">
            <a:off x="3780000" y="1483920"/>
            <a:ext cx="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763640" y="5805360"/>
            <a:ext cx="61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入力語を読み終えたとき受理状態に到達する遷移が可能なので，入力語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aa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は受理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55640" y="206064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2065320" y="3970440"/>
            <a:ext cx="685800" cy="1066680"/>
            <a:chOff x="2065320" y="3970440"/>
            <a:chExt cx="685800" cy="1066680"/>
          </a:xfrm>
        </p:grpSpPr>
        <p:sp>
          <p:nvSpPr>
            <p:cNvPr id="490" name=""/>
            <p:cNvSpPr/>
            <p:nvPr/>
          </p:nvSpPr>
          <p:spPr>
            <a:xfrm>
              <a:off x="2065320" y="397044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2127960" y="404100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2827440" y="374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265720" y="374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2065320" y="2446200"/>
            <a:ext cx="685800" cy="1067040"/>
            <a:chOff x="2065320" y="2446200"/>
            <a:chExt cx="685800" cy="1067040"/>
          </a:xfrm>
        </p:grpSpPr>
        <p:sp>
          <p:nvSpPr>
            <p:cNvPr id="495" name=""/>
            <p:cNvSpPr/>
            <p:nvPr/>
          </p:nvSpPr>
          <p:spPr>
            <a:xfrm>
              <a:off x="2065320" y="244620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2628720" y="3185280"/>
              <a:ext cx="9828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1455840" y="343692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989000" y="3284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427640" y="328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865920" y="32846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942240" y="336060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1712880" y="2585880"/>
                <a:ext cx="29376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5529240" y="337824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3224160" y="337824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7128000" y="346536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4656240" y="351324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2230560" y="351324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2792520" y="460224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1614600" y="380880"/>
                <a:ext cx="5379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ab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1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19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520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525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1116000" y="5950080"/>
                <a:ext cx="2637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48" name=""/>
          <p:cNvSpPr/>
          <p:nvPr/>
        </p:nvSpPr>
        <p:spPr>
          <a:xfrm>
            <a:off x="4643280" y="60213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２通りの可能性が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1692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552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557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71" name=""/>
          <p:cNvGrpSpPr/>
          <p:nvPr/>
        </p:nvGrpSpPr>
        <p:grpSpPr>
          <a:xfrm>
            <a:off x="3780000" y="1916280"/>
            <a:ext cx="1512720" cy="720720"/>
            <a:chOff x="3780000" y="1916280"/>
            <a:chExt cx="1512720" cy="720720"/>
          </a:xfrm>
        </p:grpSpPr>
        <p:sp>
          <p:nvSpPr>
            <p:cNvPr id="572" name=""/>
            <p:cNvSpPr/>
            <p:nvPr/>
          </p:nvSpPr>
          <p:spPr>
            <a:xfrm>
              <a:off x="3780000" y="1916280"/>
              <a:ext cx="1512720" cy="720720"/>
            </a:xfrm>
            <a:prstGeom prst="wedgeRoundRectCallout">
              <a:avLst>
                <a:gd name="adj1" fmla="val -117050"/>
                <a:gd name="adj2" fmla="val 114319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933720" y="2027160"/>
              <a:ext cx="118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4643280" y="4653000"/>
            <a:ext cx="1513080" cy="720720"/>
            <a:chOff x="4643280" y="4653000"/>
            <a:chExt cx="1513080" cy="720720"/>
          </a:xfrm>
        </p:grpSpPr>
        <p:sp>
          <p:nvSpPr>
            <p:cNvPr id="575" name=""/>
            <p:cNvSpPr/>
            <p:nvPr/>
          </p:nvSpPr>
          <p:spPr>
            <a:xfrm>
              <a:off x="4643280" y="4653000"/>
              <a:ext cx="1513080" cy="720720"/>
            </a:xfrm>
            <a:prstGeom prst="wedgeRoundRectCallout">
              <a:avLst>
                <a:gd name="adj1" fmla="val -120199"/>
                <a:gd name="adj2" fmla="val -137004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788000" y="476424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7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2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5" name=""/>
          <p:cNvSpPr/>
          <p:nvPr/>
        </p:nvSpPr>
        <p:spPr>
          <a:xfrm>
            <a:off x="380880" y="304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851280" y="602136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ここでまた２通りの可能性が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7" name=""/>
              <p:cNvSpPr txBox="1"/>
              <p:nvPr/>
            </p:nvSpPr>
            <p:spPr>
              <a:xfrm>
                <a:off x="900000" y="5950080"/>
                <a:ext cx="2637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88" name=""/>
          <p:cNvSpPr/>
          <p:nvPr/>
        </p:nvSpPr>
        <p:spPr>
          <a:xfrm flipV="1">
            <a:off x="2411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591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596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3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4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5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6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10" name=""/>
          <p:cNvGrpSpPr/>
          <p:nvPr/>
        </p:nvGrpSpPr>
        <p:grpSpPr>
          <a:xfrm>
            <a:off x="3995640" y="1844640"/>
            <a:ext cx="1944360" cy="720720"/>
            <a:chOff x="3995640" y="1844640"/>
            <a:chExt cx="1944360" cy="720720"/>
          </a:xfrm>
        </p:grpSpPr>
        <p:sp>
          <p:nvSpPr>
            <p:cNvPr id="611" name=""/>
            <p:cNvSpPr/>
            <p:nvPr/>
          </p:nvSpPr>
          <p:spPr>
            <a:xfrm>
              <a:off x="3995640" y="1844640"/>
              <a:ext cx="1944360" cy="720720"/>
            </a:xfrm>
            <a:prstGeom prst="wedgeRoundRectCallout">
              <a:avLst>
                <a:gd name="adj1" fmla="val -117050"/>
                <a:gd name="adj2" fmla="val 114319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192920" y="1955520"/>
              <a:ext cx="151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－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4903920" y="4653000"/>
            <a:ext cx="1944360" cy="720720"/>
            <a:chOff x="4903920" y="4653000"/>
            <a:chExt cx="1944360" cy="720720"/>
          </a:xfrm>
        </p:grpSpPr>
        <p:sp>
          <p:nvSpPr>
            <p:cNvPr id="614" name=""/>
            <p:cNvSpPr/>
            <p:nvPr/>
          </p:nvSpPr>
          <p:spPr>
            <a:xfrm>
              <a:off x="4903920" y="4653000"/>
              <a:ext cx="1944360" cy="720720"/>
            </a:xfrm>
            <a:prstGeom prst="wedgeRoundRectCallout">
              <a:avLst>
                <a:gd name="adj1" fmla="val -120199"/>
                <a:gd name="adj2" fmla="val -137004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089680" y="4764240"/>
              <a:ext cx="157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－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4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9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4" name=""/>
          <p:cNvSpPr/>
          <p:nvPr/>
        </p:nvSpPr>
        <p:spPr>
          <a:xfrm>
            <a:off x="30492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－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2124000" y="5950080"/>
                <a:ext cx="2270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26" name=""/>
          <p:cNvSpPr/>
          <p:nvPr/>
        </p:nvSpPr>
        <p:spPr>
          <a:xfrm flipV="1">
            <a:off x="3059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629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3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634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6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457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非決定性有限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4343400" y="345960"/>
                <a:ext cx="425124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2" name=""/>
          <p:cNvGrpSpPr/>
          <p:nvPr/>
        </p:nvGrpSpPr>
        <p:grpSpPr>
          <a:xfrm>
            <a:off x="990720" y="1066680"/>
            <a:ext cx="6400800" cy="609840"/>
            <a:chOff x="990720" y="1066680"/>
            <a:chExt cx="6400800" cy="609840"/>
          </a:xfrm>
        </p:grpSpPr>
        <p:sp>
          <p:nvSpPr>
            <p:cNvPr id="73" name=""/>
            <p:cNvSpPr/>
            <p:nvPr/>
          </p:nvSpPr>
          <p:spPr>
            <a:xfrm>
              <a:off x="990720" y="1066680"/>
              <a:ext cx="640080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1219320" y="1066680"/>
                  <a:ext cx="207144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5" name=""/>
          <p:cNvGrpSpPr/>
          <p:nvPr/>
        </p:nvGrpSpPr>
        <p:grpSpPr>
          <a:xfrm>
            <a:off x="990720" y="1752480"/>
            <a:ext cx="6400800" cy="609480"/>
            <a:chOff x="990720" y="1752480"/>
            <a:chExt cx="6400800" cy="609480"/>
          </a:xfrm>
        </p:grpSpPr>
        <p:sp>
          <p:nvSpPr>
            <p:cNvPr id="76" name=""/>
            <p:cNvSpPr/>
            <p:nvPr/>
          </p:nvSpPr>
          <p:spPr>
            <a:xfrm>
              <a:off x="990720" y="1752480"/>
              <a:ext cx="64008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" name=""/>
                <p:cNvSpPr txBox="1"/>
                <p:nvPr/>
              </p:nvSpPr>
              <p:spPr>
                <a:xfrm>
                  <a:off x="1219320" y="1752480"/>
                  <a:ext cx="178740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8" name=""/>
          <p:cNvGrpSpPr/>
          <p:nvPr/>
        </p:nvGrpSpPr>
        <p:grpSpPr>
          <a:xfrm>
            <a:off x="990720" y="5105520"/>
            <a:ext cx="6400800" cy="685800"/>
            <a:chOff x="990720" y="5105520"/>
            <a:chExt cx="6400800" cy="685800"/>
          </a:xfrm>
        </p:grpSpPr>
        <p:sp>
          <p:nvSpPr>
            <p:cNvPr id="79" name=""/>
            <p:cNvSpPr/>
            <p:nvPr/>
          </p:nvSpPr>
          <p:spPr>
            <a:xfrm>
              <a:off x="990720" y="5105520"/>
              <a:ext cx="640080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" name=""/>
                <p:cNvSpPr txBox="1"/>
                <p:nvPr/>
              </p:nvSpPr>
              <p:spPr>
                <a:xfrm>
                  <a:off x="1143000" y="5105520"/>
                  <a:ext cx="122076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1" name=""/>
          <p:cNvGrpSpPr/>
          <p:nvPr/>
        </p:nvGrpSpPr>
        <p:grpSpPr>
          <a:xfrm>
            <a:off x="990720" y="5867280"/>
            <a:ext cx="6400800" cy="635040"/>
            <a:chOff x="990720" y="5867280"/>
            <a:chExt cx="6400800" cy="635040"/>
          </a:xfrm>
        </p:grpSpPr>
        <p:sp>
          <p:nvSpPr>
            <p:cNvPr id="82" name=""/>
            <p:cNvSpPr/>
            <p:nvPr/>
          </p:nvSpPr>
          <p:spPr>
            <a:xfrm>
              <a:off x="990720" y="5867280"/>
              <a:ext cx="640080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1143000" y="5943600"/>
                  <a:ext cx="14479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4" name=""/>
          <p:cNvGrpSpPr/>
          <p:nvPr/>
        </p:nvGrpSpPr>
        <p:grpSpPr>
          <a:xfrm>
            <a:off x="990720" y="2362320"/>
            <a:ext cx="6400800" cy="2678040"/>
            <a:chOff x="990720" y="2362320"/>
            <a:chExt cx="6400800" cy="2678040"/>
          </a:xfrm>
        </p:grpSpPr>
        <p:sp>
          <p:nvSpPr>
            <p:cNvPr id="85" name=""/>
            <p:cNvSpPr/>
            <p:nvPr/>
          </p:nvSpPr>
          <p:spPr>
            <a:xfrm>
              <a:off x="990720" y="2438640"/>
              <a:ext cx="6400800" cy="2590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" name=""/>
                <p:cNvSpPr txBox="1"/>
                <p:nvPr/>
              </p:nvSpPr>
              <p:spPr>
                <a:xfrm>
                  <a:off x="1828800" y="3048120"/>
                  <a:ext cx="5311800" cy="199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r</m:t>
                              </m:r>
                              <m:r>
                                <m:t xml:space="preserve">,</m:t>
                              </m:r>
                              <m:r>
                                <m:t xml:space="preserve">s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r</m:t>
                              </m:r>
                            </m:e>
                          </m:d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t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φ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φ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φ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7" name=""/>
                <p:cNvSpPr txBox="1"/>
                <p:nvPr/>
              </p:nvSpPr>
              <p:spPr>
                <a:xfrm>
                  <a:off x="1219320" y="2362320"/>
                  <a:ext cx="2716200" cy="73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Σ</m:t>
                      </m:r>
                      <m:r>
                        <m:t xml:space="preserve">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Q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6" name=""/>
          <p:cNvSpPr/>
          <p:nvPr/>
        </p:nvSpPr>
        <p:spPr>
          <a:xfrm flipV="1">
            <a:off x="378000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659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664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5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6" name=""/>
          <p:cNvSpPr/>
          <p:nvPr/>
        </p:nvSpPr>
        <p:spPr>
          <a:xfrm>
            <a:off x="30492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－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2556000" y="5877000"/>
                <a:ext cx="1985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8" name=""/>
          <p:cNvSpPr/>
          <p:nvPr/>
        </p:nvSpPr>
        <p:spPr>
          <a:xfrm>
            <a:off x="5003640" y="595008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これ以上，遷移でき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059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692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697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4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5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9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0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7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8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9" name=""/>
          <p:cNvSpPr/>
          <p:nvPr/>
        </p:nvSpPr>
        <p:spPr>
          <a:xfrm>
            <a:off x="380880" y="304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0" name=""/>
              <p:cNvSpPr txBox="1"/>
              <p:nvPr/>
            </p:nvSpPr>
            <p:spPr>
              <a:xfrm>
                <a:off x="4932360" y="5950080"/>
                <a:ext cx="2228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21" name=""/>
          <p:cNvSpPr/>
          <p:nvPr/>
        </p:nvSpPr>
        <p:spPr>
          <a:xfrm flipV="1">
            <a:off x="2411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3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724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6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729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1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1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0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2771640" y="5877000"/>
                <a:ext cx="1944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2" name=""/>
          <p:cNvSpPr/>
          <p:nvPr/>
        </p:nvSpPr>
        <p:spPr>
          <a:xfrm>
            <a:off x="5148360" y="59500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これ以上，遷移でき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3059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756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8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761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8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3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0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1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3" name=""/>
          <p:cNvSpPr/>
          <p:nvPr/>
        </p:nvSpPr>
        <p:spPr>
          <a:xfrm>
            <a:off x="457200" y="3808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よって，入力語 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aab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対して３つの遷移の可能性があるが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5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786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8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0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791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3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8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9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0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1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2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3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4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9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0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3" name=""/>
          <p:cNvSpPr/>
          <p:nvPr/>
        </p:nvSpPr>
        <p:spPr>
          <a:xfrm>
            <a:off x="457200" y="3808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１の可能性は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V="1">
            <a:off x="1692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817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9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822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4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9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0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1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2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3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4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5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0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2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3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4" name=""/>
          <p:cNvSpPr/>
          <p:nvPr/>
        </p:nvSpPr>
        <p:spPr>
          <a:xfrm flipV="1">
            <a:off x="2411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847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9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852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4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0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1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2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3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4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4" name=""/>
          <p:cNvSpPr/>
          <p:nvPr/>
        </p:nvSpPr>
        <p:spPr>
          <a:xfrm flipV="1">
            <a:off x="3059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877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9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1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882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4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9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0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1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2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3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4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5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2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4" name=""/>
          <p:cNvSpPr/>
          <p:nvPr/>
        </p:nvSpPr>
        <p:spPr>
          <a:xfrm>
            <a:off x="2340000" y="58053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入力語を読み終えたとき受理状態に到達し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V="1">
            <a:off x="3708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7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908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0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913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0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1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2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3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4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5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6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1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2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3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4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5" name=""/>
          <p:cNvSpPr/>
          <p:nvPr/>
        </p:nvSpPr>
        <p:spPr>
          <a:xfrm>
            <a:off x="457200" y="3808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２の可能性は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1692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8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939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1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3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944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6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1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2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3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4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5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6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7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1692360" y="5516640"/>
                <a:ext cx="26366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916360" y="1268280"/>
                <a:ext cx="20714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90" name=""/>
          <p:cNvGrpSpPr/>
          <p:nvPr/>
        </p:nvGrpSpPr>
        <p:grpSpPr>
          <a:xfrm>
            <a:off x="1828800" y="3733920"/>
            <a:ext cx="685800" cy="1066680"/>
            <a:chOff x="1828800" y="3733920"/>
            <a:chExt cx="685800" cy="1066680"/>
          </a:xfrm>
        </p:grpSpPr>
        <p:sp>
          <p:nvSpPr>
            <p:cNvPr id="91" name=""/>
            <p:cNvSpPr/>
            <p:nvPr/>
          </p:nvSpPr>
          <p:spPr>
            <a:xfrm>
              <a:off x="1828800" y="373392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1891440" y="380448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712960" y="457200"/>
                <a:ext cx="31845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2590920" y="35053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35053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828800" y="2209680"/>
            <a:ext cx="685800" cy="1067040"/>
            <a:chOff x="1828800" y="2209680"/>
            <a:chExt cx="685800" cy="1067040"/>
          </a:xfrm>
        </p:grpSpPr>
        <p:sp>
          <p:nvSpPr>
            <p:cNvPr id="97" name=""/>
            <p:cNvSpPr/>
            <p:nvPr/>
          </p:nvSpPr>
          <p:spPr>
            <a:xfrm>
              <a:off x="1828800" y="220968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2392200" y="2948760"/>
              <a:ext cx="9828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1219320" y="32004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30481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1120" y="30481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629400" y="30481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05720" y="31240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476360" y="2349360"/>
                <a:ext cx="29376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292720" y="31417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987640" y="31417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6891480" y="32288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419720" y="32767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994040" y="32767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556000" y="436572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979640" y="1052640"/>
            <a:ext cx="381636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3203640" y="1268280"/>
                <a:ext cx="12207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2340000" y="1052640"/>
            <a:ext cx="381636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564000" y="1268280"/>
                <a:ext cx="1380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2700360" y="1052640"/>
            <a:ext cx="381636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5300640"/>
            <a:ext cx="48974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908000" y="5516640"/>
                <a:ext cx="2270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611280" y="5300640"/>
            <a:ext cx="48974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195640" y="5516640"/>
                <a:ext cx="2228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826920" y="5300640"/>
            <a:ext cx="48974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572000" y="4724280"/>
                <a:ext cx="19861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643280" y="5373720"/>
                <a:ext cx="1944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643280" y="6021360"/>
                <a:ext cx="1944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3995640" y="4724280"/>
            <a:ext cx="489744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2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3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4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6" name=""/>
          <p:cNvSpPr/>
          <p:nvPr/>
        </p:nvSpPr>
        <p:spPr>
          <a:xfrm flipV="1">
            <a:off x="2411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8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969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1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974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6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1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2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3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4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5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6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7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2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3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4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5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6" name=""/>
          <p:cNvSpPr/>
          <p:nvPr/>
        </p:nvSpPr>
        <p:spPr>
          <a:xfrm>
            <a:off x="3708360" y="59500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これ以上遷移でき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313200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9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000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2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005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7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4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5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6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7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8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3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4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5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6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7" name=""/>
          <p:cNvSpPr/>
          <p:nvPr/>
        </p:nvSpPr>
        <p:spPr>
          <a:xfrm>
            <a:off x="457200" y="3808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３の可能性は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1692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0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031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3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5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036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8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3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4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5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6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7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8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9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4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5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6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8" name=""/>
          <p:cNvSpPr/>
          <p:nvPr/>
        </p:nvSpPr>
        <p:spPr>
          <a:xfrm flipV="1">
            <a:off x="2411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061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3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5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066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8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3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4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5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6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7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8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9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4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5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6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7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8" name=""/>
          <p:cNvSpPr/>
          <p:nvPr/>
        </p:nvSpPr>
        <p:spPr>
          <a:xfrm>
            <a:off x="3708360" y="58770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これ以上遷移でき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V="1">
            <a:off x="313200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1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092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4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6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097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9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4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5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6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7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8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9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0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5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6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7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8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9" name=""/>
          <p:cNvSpPr/>
          <p:nvPr/>
        </p:nvSpPr>
        <p:spPr>
          <a:xfrm>
            <a:off x="457200" y="380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よって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50920" y="5877000"/>
            <a:ext cx="85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いずれも，入力語を読み終えたとき受理状態に到達しないか，入力語を読み終えることができないので，入力語 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aab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は拒否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2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123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5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7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128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0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5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6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7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8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9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0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1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42" name=""/>
              <p:cNvSpPr txBox="1"/>
              <p:nvPr/>
            </p:nvSpPr>
            <p:spPr>
              <a:xfrm>
                <a:off x="468360" y="4797360"/>
                <a:ext cx="8205840" cy="12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w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は末尾が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であるような語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L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43" name=""/>
          <p:cNvSpPr/>
          <p:nvPr/>
        </p:nvSpPr>
        <p:spPr>
          <a:xfrm>
            <a:off x="539640" y="42926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な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539640" y="60213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55640" y="62064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6" name=""/>
          <p:cNvGrpSpPr/>
          <p:nvPr/>
        </p:nvGrpSpPr>
        <p:grpSpPr>
          <a:xfrm>
            <a:off x="2065320" y="2530440"/>
            <a:ext cx="685800" cy="1066680"/>
            <a:chOff x="2065320" y="2530440"/>
            <a:chExt cx="685800" cy="1066680"/>
          </a:xfrm>
        </p:grpSpPr>
        <p:sp>
          <p:nvSpPr>
            <p:cNvPr id="1147" name=""/>
            <p:cNvSpPr/>
            <p:nvPr/>
          </p:nvSpPr>
          <p:spPr>
            <a:xfrm>
              <a:off x="2065320" y="253044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V="1">
              <a:off x="2127960" y="260100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9" name=""/>
          <p:cNvSpPr/>
          <p:nvPr/>
        </p:nvSpPr>
        <p:spPr>
          <a:xfrm>
            <a:off x="2827440" y="230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265720" y="230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1" name=""/>
          <p:cNvGrpSpPr/>
          <p:nvPr/>
        </p:nvGrpSpPr>
        <p:grpSpPr>
          <a:xfrm>
            <a:off x="2065320" y="1006560"/>
            <a:ext cx="685800" cy="1066680"/>
            <a:chOff x="2065320" y="1006560"/>
            <a:chExt cx="685800" cy="1066680"/>
          </a:xfrm>
        </p:grpSpPr>
        <p:sp>
          <p:nvSpPr>
            <p:cNvPr id="1152" name=""/>
            <p:cNvSpPr/>
            <p:nvPr/>
          </p:nvSpPr>
          <p:spPr>
            <a:xfrm>
              <a:off x="2065320" y="10065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2628720" y="174528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4" name=""/>
          <p:cNvSpPr/>
          <p:nvPr/>
        </p:nvSpPr>
        <p:spPr>
          <a:xfrm>
            <a:off x="1455840" y="199692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1989000" y="1844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427640" y="184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6865920" y="184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6942240" y="19209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9" name=""/>
              <p:cNvSpPr txBox="1"/>
              <p:nvPr/>
            </p:nvSpPr>
            <p:spPr>
              <a:xfrm>
                <a:off x="1712880" y="114624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0" name=""/>
              <p:cNvSpPr txBox="1"/>
              <p:nvPr/>
            </p:nvSpPr>
            <p:spPr>
              <a:xfrm>
                <a:off x="5529240" y="193824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1" name=""/>
              <p:cNvSpPr txBox="1"/>
              <p:nvPr/>
            </p:nvSpPr>
            <p:spPr>
              <a:xfrm>
                <a:off x="3224160" y="193824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2" name=""/>
              <p:cNvSpPr txBox="1"/>
              <p:nvPr/>
            </p:nvSpPr>
            <p:spPr>
              <a:xfrm>
                <a:off x="7128000" y="202572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3" name=""/>
              <p:cNvSpPr txBox="1"/>
              <p:nvPr/>
            </p:nvSpPr>
            <p:spPr>
              <a:xfrm>
                <a:off x="4656240" y="207324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4" name=""/>
              <p:cNvSpPr txBox="1"/>
              <p:nvPr/>
            </p:nvSpPr>
            <p:spPr>
              <a:xfrm>
                <a:off x="2230560" y="207324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5" name=""/>
              <p:cNvSpPr txBox="1"/>
              <p:nvPr/>
            </p:nvSpPr>
            <p:spPr>
              <a:xfrm>
                <a:off x="2792520" y="316224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1614600" y="380880"/>
                <a:ext cx="5379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baa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5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36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41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3492360" y="6021360"/>
                <a:ext cx="2270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 flipV="1">
            <a:off x="1692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67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72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403280" y="6021360"/>
                <a:ext cx="2637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4716360" y="60930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２通りの可能性が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411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99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204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8" name=""/>
          <p:cNvGrpSpPr/>
          <p:nvPr/>
        </p:nvGrpSpPr>
        <p:grpSpPr>
          <a:xfrm>
            <a:off x="3780000" y="1916280"/>
            <a:ext cx="1512720" cy="720720"/>
            <a:chOff x="3780000" y="1916280"/>
            <a:chExt cx="1512720" cy="720720"/>
          </a:xfrm>
        </p:grpSpPr>
        <p:sp>
          <p:nvSpPr>
            <p:cNvPr id="219" name=""/>
            <p:cNvSpPr/>
            <p:nvPr/>
          </p:nvSpPr>
          <p:spPr>
            <a:xfrm>
              <a:off x="3780000" y="1916280"/>
              <a:ext cx="1512720" cy="720720"/>
            </a:xfrm>
            <a:prstGeom prst="wedgeRoundRectCallout">
              <a:avLst>
                <a:gd name="adj1" fmla="val -117050"/>
                <a:gd name="adj2" fmla="val 114319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33720" y="2027160"/>
              <a:ext cx="118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4643280" y="4653000"/>
            <a:ext cx="1513080" cy="720720"/>
            <a:chOff x="4643280" y="4653000"/>
            <a:chExt cx="1513080" cy="720720"/>
          </a:xfrm>
        </p:grpSpPr>
        <p:sp>
          <p:nvSpPr>
            <p:cNvPr id="222" name=""/>
            <p:cNvSpPr/>
            <p:nvPr/>
          </p:nvSpPr>
          <p:spPr>
            <a:xfrm>
              <a:off x="4643280" y="4653000"/>
              <a:ext cx="1513080" cy="720720"/>
            </a:xfrm>
            <a:prstGeom prst="wedgeRoundRectCallout">
              <a:avLst>
                <a:gd name="adj1" fmla="val -120199"/>
                <a:gd name="adj2" fmla="val -137004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788000" y="476424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755640" y="5950080"/>
                <a:ext cx="2637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380880" y="304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780000" y="602136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ここでまた２通りの可能性が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313200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238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243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7" name=""/>
          <p:cNvGrpSpPr/>
          <p:nvPr/>
        </p:nvGrpSpPr>
        <p:grpSpPr>
          <a:xfrm>
            <a:off x="3995640" y="1844640"/>
            <a:ext cx="1944360" cy="720720"/>
            <a:chOff x="3995640" y="1844640"/>
            <a:chExt cx="1944360" cy="720720"/>
          </a:xfrm>
        </p:grpSpPr>
        <p:sp>
          <p:nvSpPr>
            <p:cNvPr id="258" name=""/>
            <p:cNvSpPr/>
            <p:nvPr/>
          </p:nvSpPr>
          <p:spPr>
            <a:xfrm>
              <a:off x="3995640" y="1844640"/>
              <a:ext cx="1944360" cy="720720"/>
            </a:xfrm>
            <a:prstGeom prst="wedgeRoundRectCallout">
              <a:avLst>
                <a:gd name="adj1" fmla="val -117050"/>
                <a:gd name="adj2" fmla="val 114319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192920" y="1955520"/>
              <a:ext cx="151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－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4903920" y="4653000"/>
            <a:ext cx="1944360" cy="720720"/>
            <a:chOff x="4903920" y="4653000"/>
            <a:chExt cx="1944360" cy="720720"/>
          </a:xfrm>
        </p:grpSpPr>
        <p:sp>
          <p:nvSpPr>
            <p:cNvPr id="261" name=""/>
            <p:cNvSpPr/>
            <p:nvPr/>
          </p:nvSpPr>
          <p:spPr>
            <a:xfrm>
              <a:off x="4903920" y="4653000"/>
              <a:ext cx="1944360" cy="720720"/>
            </a:xfrm>
            <a:prstGeom prst="wedgeRoundRectCallout">
              <a:avLst>
                <a:gd name="adj1" fmla="val -120199"/>
                <a:gd name="adj2" fmla="val -137004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89680" y="4764240"/>
              <a:ext cx="157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－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30492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－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708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275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280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30492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－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3708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306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311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08:12:54Z</dcterms:created>
  <dc:creator>米田政明</dc:creator>
  <dc:description/>
  <dc:language>en-US</dc:language>
  <cp:lastModifiedBy> </cp:lastModifiedBy>
  <dcterms:modified xsi:type="dcterms:W3CDTF">2004-10-11T08:10:55Z</dcterms:modified>
  <cp:revision>26</cp:revision>
  <dc:subject/>
  <dc:title>PowerPoint プレゼンテーション</dc:title>
</cp:coreProperties>
</file>