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3BBC-65D1-4D68-AB0A-3929CB33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7BC9-F000-46CB-9133-D9466C33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86C6-23DD-413D-9148-2F951D3AD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68C6-96C4-4238-A933-D68102E3F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30ED-9530-4AD9-9452-D9C86877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C52D-FA03-43B2-83E3-E7D43828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50B4-91DA-4E4C-BF2F-B4A50253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0CCC-C7C7-4481-9829-227DB00D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0352-F36D-48B8-8137-AF62E894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1D0F-D750-42E9-B1B3-31259E81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2AE3-44C9-47EF-9692-0A551052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AD72-89C9-4C0A-89E8-E662E6AD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9B90-EAF5-420E-A82B-489AFA0D9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9452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204160" y="6021000"/>
            <a:ext cx="456840" cy="451800"/>
            <a:chOff x="5204160" y="6021000"/>
            <a:chExt cx="456840" cy="451800"/>
          </a:xfrm>
        </p:grpSpPr>
        <p:sp>
          <p:nvSpPr>
            <p:cNvPr id="43" name=""/>
            <p:cNvSpPr/>
            <p:nvPr/>
          </p:nvSpPr>
          <p:spPr>
            <a:xfrm rot="10648800">
              <a:off x="521820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520416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5499000" y="4498920"/>
            <a:ext cx="433440" cy="447120"/>
            <a:chOff x="5499000" y="4498920"/>
            <a:chExt cx="433440" cy="447120"/>
          </a:xfrm>
        </p:grpSpPr>
        <p:sp>
          <p:nvSpPr>
            <p:cNvPr id="46" name=""/>
            <p:cNvSpPr/>
            <p:nvPr/>
          </p:nvSpPr>
          <p:spPr>
            <a:xfrm rot="5400000">
              <a:off x="549900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 flipV="1">
              <a:off x="555948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5507640" y="1867320"/>
            <a:ext cx="464400" cy="464400"/>
            <a:chOff x="5507640" y="1867320"/>
            <a:chExt cx="464400" cy="464400"/>
          </a:xfrm>
        </p:grpSpPr>
        <p:sp>
          <p:nvSpPr>
            <p:cNvPr id="49" name=""/>
            <p:cNvSpPr/>
            <p:nvPr/>
          </p:nvSpPr>
          <p:spPr>
            <a:xfrm rot="5653800">
              <a:off x="552312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>
              <a:off x="557244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114880" y="398520"/>
            <a:ext cx="447120" cy="433440"/>
            <a:chOff x="5114880" y="398520"/>
            <a:chExt cx="447120" cy="433440"/>
          </a:xfrm>
        </p:grpSpPr>
        <p:sp>
          <p:nvSpPr>
            <p:cNvPr id="52" name=""/>
            <p:cNvSpPr/>
            <p:nvPr/>
          </p:nvSpPr>
          <p:spPr>
            <a:xfrm>
              <a:off x="511488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48892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243960" y="2895840"/>
            <a:ext cx="589680" cy="589320"/>
            <a:chOff x="3243960" y="2895840"/>
            <a:chExt cx="589680" cy="589320"/>
          </a:xfrm>
        </p:grpSpPr>
        <p:sp>
          <p:nvSpPr>
            <p:cNvPr id="55" name=""/>
            <p:cNvSpPr/>
            <p:nvPr/>
          </p:nvSpPr>
          <p:spPr>
            <a:xfrm rot="19849200">
              <a:off x="332172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74544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124000" y="2924280"/>
            <a:ext cx="447120" cy="433440"/>
            <a:chOff x="2124000" y="2924280"/>
            <a:chExt cx="447120" cy="433440"/>
          </a:xfrm>
        </p:grpSpPr>
        <p:sp>
          <p:nvSpPr>
            <p:cNvPr id="58" name=""/>
            <p:cNvSpPr/>
            <p:nvPr/>
          </p:nvSpPr>
          <p:spPr>
            <a:xfrm>
              <a:off x="212400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49804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576480" y="3440880"/>
            <a:ext cx="608400" cy="608400"/>
            <a:chOff x="6576480" y="3440880"/>
            <a:chExt cx="608400" cy="608400"/>
          </a:xfrm>
        </p:grpSpPr>
        <p:sp>
          <p:nvSpPr>
            <p:cNvPr id="61" name=""/>
            <p:cNvSpPr/>
            <p:nvPr/>
          </p:nvSpPr>
          <p:spPr>
            <a:xfrm rot="8455200">
              <a:off x="666360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666036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514836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7732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18728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512136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0696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3400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1020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2260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764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92580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92436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7000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3404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60880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5144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9884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534204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535428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8812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6400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8584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19708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63708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19120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22144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22756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26572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66108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810108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7556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22144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62728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15116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18788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61672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65164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720576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97164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69236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69236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05928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05928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98764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98764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044960" y="126828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044960" y="501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57200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64328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79600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79600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58000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58000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01200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01200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86440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65164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85792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65164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01200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01200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709308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709308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79280" y="189000"/>
                <a:ext cx="3888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言語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w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を受理する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非決定性チューリング機械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02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02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02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03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03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03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03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1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7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13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13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13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14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14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14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14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2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24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24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24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25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25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25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25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3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35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35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35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36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36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36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36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4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46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46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46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47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47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47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47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5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57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57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57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58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58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58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58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6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68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68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68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69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69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69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69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7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7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79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79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79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80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80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80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80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90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90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90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91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91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91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91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9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01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01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01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02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02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02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02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0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33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36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39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42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45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48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51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68360" y="372960"/>
                <a:ext cx="20876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120680" y="5979960"/>
                <a:ext cx="29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125892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34880" y="981000"/>
                <a:ext cx="23036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abaab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12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12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12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13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13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13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13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1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7" name=""/>
          <p:cNvSpPr/>
          <p:nvPr/>
        </p:nvSpPr>
        <p:spPr>
          <a:xfrm>
            <a:off x="3419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23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23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23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24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24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24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24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34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34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34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35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35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35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35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3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45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45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45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46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46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46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46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56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56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56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57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57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57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57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5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67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67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67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68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68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68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68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6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78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78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78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79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79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79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79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7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7" name=""/>
          <p:cNvSpPr/>
          <p:nvPr/>
        </p:nvSpPr>
        <p:spPr>
          <a:xfrm>
            <a:off x="3419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89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89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89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90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90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90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90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8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7" name=""/>
          <p:cNvSpPr/>
          <p:nvPr/>
        </p:nvSpPr>
        <p:spPr>
          <a:xfrm>
            <a:off x="385128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300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300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300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301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301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301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301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9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7" name=""/>
          <p:cNvSpPr/>
          <p:nvPr/>
        </p:nvSpPr>
        <p:spPr>
          <a:xfrm>
            <a:off x="3419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8" name=""/>
          <p:cNvGrpSpPr/>
          <p:nvPr/>
        </p:nvGrpSpPr>
        <p:grpSpPr>
          <a:xfrm>
            <a:off x="4067280" y="1341360"/>
            <a:ext cx="4176720" cy="1008000"/>
            <a:chOff x="4067280" y="1341360"/>
            <a:chExt cx="4176720" cy="1008000"/>
          </a:xfrm>
        </p:grpSpPr>
        <p:sp>
          <p:nvSpPr>
            <p:cNvPr id="3109" name=""/>
            <p:cNvSpPr/>
            <p:nvPr/>
          </p:nvSpPr>
          <p:spPr>
            <a:xfrm>
              <a:off x="4067280" y="1341360"/>
              <a:ext cx="4176720" cy="1008000"/>
            </a:xfrm>
            <a:prstGeom prst="wedgeRoundRectCallout">
              <a:avLst>
                <a:gd name="adj1" fmla="val 53726"/>
                <a:gd name="adj2" fmla="val 138032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4211640" y="1484280"/>
              <a:ext cx="395928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受理状態に遷移することができたので，</a:t>
              </a:r>
              <a:r>
                <a:rPr b="1" i="1" lang="ja-JP" sz="1800" spc="-1" strike="noStrike">
                  <a:solidFill>
                    <a:srgbClr val="333399"/>
                  </a:solidFill>
                  <a:latin typeface="Times New Roman"/>
                </a:rPr>
                <a:t>M</a:t>
              </a:r>
              <a:r>
                <a:rPr b="1" lang="ja-JP" sz="1800" spc="-1" strike="noStrike" baseline="-25000">
                  <a:solidFill>
                    <a:srgbClr val="333399"/>
                  </a:solidFill>
                  <a:latin typeface="Times New Roman"/>
                </a:rPr>
                <a:t>42 </a:t>
              </a: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は入力語 </a:t>
              </a:r>
              <a:r>
                <a:rPr b="1" i="1" lang="ja-JP" sz="1800" spc="-1" strike="noStrike">
                  <a:solidFill>
                    <a:srgbClr val="333399"/>
                  </a:solidFill>
                  <a:latin typeface="Times New Roman"/>
                </a:rPr>
                <a:t>abaaba </a:t>
              </a: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を受理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3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45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48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51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54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57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60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63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1120680" y="5979960"/>
                <a:ext cx="29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125892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355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358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361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364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367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370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373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1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1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465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468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471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474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477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480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483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0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63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1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3059280" y="1844640"/>
            <a:ext cx="4249440" cy="936720"/>
            <a:chOff x="3059280" y="1844640"/>
            <a:chExt cx="4249440" cy="936720"/>
          </a:xfrm>
        </p:grpSpPr>
        <p:sp>
          <p:nvSpPr>
            <p:cNvPr id="573" name=""/>
            <p:cNvSpPr/>
            <p:nvPr/>
          </p:nvSpPr>
          <p:spPr>
            <a:xfrm>
              <a:off x="3059280" y="1844640"/>
              <a:ext cx="4249440" cy="936720"/>
            </a:xfrm>
            <a:prstGeom prst="wedgeRoundRectCallout">
              <a:avLst>
                <a:gd name="adj1" fmla="val -53587"/>
                <a:gd name="adj2" fmla="val 78643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132000" y="1989000"/>
              <a:ext cx="40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この時点で２通りの遷移が可能であるが，ここではこの遷移を選択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578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581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584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587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590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593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596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4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76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4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3059280" y="1844640"/>
            <a:ext cx="4249440" cy="863640"/>
            <a:chOff x="3059280" y="1844640"/>
            <a:chExt cx="4249440" cy="863640"/>
          </a:xfrm>
        </p:grpSpPr>
        <p:sp>
          <p:nvSpPr>
            <p:cNvPr id="686" name=""/>
            <p:cNvSpPr/>
            <p:nvPr/>
          </p:nvSpPr>
          <p:spPr>
            <a:xfrm>
              <a:off x="3059280" y="1844640"/>
              <a:ext cx="4249440" cy="863640"/>
            </a:xfrm>
            <a:prstGeom prst="wedgeRoundRectCallout">
              <a:avLst>
                <a:gd name="adj1" fmla="val -46935"/>
                <a:gd name="adj2" fmla="val 136212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203640" y="1989000"/>
              <a:ext cx="39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ここでも２通りの遷移が可能であるが，今度はこちらの遷移を選択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69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69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69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70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70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70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70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8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80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80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80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81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81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81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81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9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7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91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91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91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92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92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92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92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0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7" name=""/>
          <p:cNvSpPr/>
          <p:nvPr/>
        </p:nvSpPr>
        <p:spPr>
          <a:xfrm>
            <a:off x="125892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0:13:52Z</dcterms:created>
  <dc:creator>政明</dc:creator>
  <dc:description/>
  <dc:language>en-US</dc:language>
  <cp:lastModifiedBy>政明</cp:lastModifiedBy>
  <dcterms:modified xsi:type="dcterms:W3CDTF">2004-10-11T15:46:46Z</dcterms:modified>
  <cp:revision>9</cp:revision>
  <dc:subject/>
  <dc:title>スライド 1</dc:title>
</cp:coreProperties>
</file>