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CA86-84FA-4253-9274-3C17B457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5030-5D6F-4C2D-A2F8-C8B43209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31C8-9518-4C47-ADBA-4F3BE3C7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0DE9-BA5E-4A30-A42D-AEA5CDF19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4899-5E99-4568-8FF3-353CE118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183B-4D59-4476-AB68-D4B092DF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8939-FB58-423F-8FDD-4734282D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C004-EFE2-4028-B43B-D2B11B1C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6DD2-CF9C-4005-AE11-79CFC9CE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E62E-AB10-4138-91B3-F047A482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BCC2-4408-424C-8D56-844CAE9E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F13F-B375-44E5-957E-85620A8B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3CF8-9CC9-490F-B417-82AB6345D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00000" y="3716280"/>
            <a:ext cx="6705720" cy="914400"/>
            <a:chOff x="900000" y="3716280"/>
            <a:chExt cx="6705720" cy="914400"/>
          </a:xfrm>
        </p:grpSpPr>
        <p:sp>
          <p:nvSpPr>
            <p:cNvPr id="42" name=""/>
            <p:cNvSpPr/>
            <p:nvPr/>
          </p:nvSpPr>
          <p:spPr>
            <a:xfrm>
              <a:off x="900000" y="3716280"/>
              <a:ext cx="6705720" cy="914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1128600" y="3944880"/>
                  <a:ext cx="4460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" name=""/>
            <p:cNvSpPr/>
            <p:nvPr/>
          </p:nvSpPr>
          <p:spPr>
            <a:xfrm>
              <a:off x="2119320" y="39448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3635280" y="3789360"/>
                  <a:ext cx="367344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" name=""/>
          <p:cNvSpPr/>
          <p:nvPr/>
        </p:nvSpPr>
        <p:spPr>
          <a:xfrm>
            <a:off x="1763640" y="404640"/>
            <a:ext cx="53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空動作のある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484360" y="981000"/>
                <a:ext cx="39625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" name=""/>
          <p:cNvGrpSpPr/>
          <p:nvPr/>
        </p:nvGrpSpPr>
        <p:grpSpPr>
          <a:xfrm>
            <a:off x="900000" y="2060640"/>
            <a:ext cx="6705360" cy="609480"/>
            <a:chOff x="900000" y="2060640"/>
            <a:chExt cx="6705360" cy="609480"/>
          </a:xfrm>
        </p:grpSpPr>
        <p:sp>
          <p:nvSpPr>
            <p:cNvPr id="49" name=""/>
            <p:cNvSpPr/>
            <p:nvPr/>
          </p:nvSpPr>
          <p:spPr>
            <a:xfrm>
              <a:off x="900000" y="206064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1052280" y="206064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" name=""/>
            <p:cNvSpPr/>
            <p:nvPr/>
          </p:nvSpPr>
          <p:spPr>
            <a:xfrm>
              <a:off x="2118960" y="213696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00000" y="2924280"/>
            <a:ext cx="6705360" cy="609480"/>
            <a:chOff x="900000" y="2924280"/>
            <a:chExt cx="6705360" cy="609480"/>
          </a:xfrm>
        </p:grpSpPr>
        <p:sp>
          <p:nvSpPr>
            <p:cNvPr id="53" name=""/>
            <p:cNvSpPr/>
            <p:nvPr/>
          </p:nvSpPr>
          <p:spPr>
            <a:xfrm>
              <a:off x="900000" y="292428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1128600" y="3000240"/>
                  <a:ext cx="4064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2118960" y="300024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900000" y="4797360"/>
            <a:ext cx="6705360" cy="685800"/>
            <a:chOff x="900000" y="4797360"/>
            <a:chExt cx="6705360" cy="685800"/>
          </a:xfrm>
        </p:grpSpPr>
        <p:sp>
          <p:nvSpPr>
            <p:cNvPr id="57" name=""/>
            <p:cNvSpPr/>
            <p:nvPr/>
          </p:nvSpPr>
          <p:spPr>
            <a:xfrm>
              <a:off x="900000" y="487332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128600" y="479736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195280" y="494964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4100400" y="4797360"/>
                  <a:ext cx="12999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900000" y="5661000"/>
            <a:ext cx="6705360" cy="611280"/>
            <a:chOff x="900000" y="5661000"/>
            <a:chExt cx="6705360" cy="611280"/>
          </a:xfrm>
        </p:grpSpPr>
        <p:sp>
          <p:nvSpPr>
            <p:cNvPr id="62" name=""/>
            <p:cNvSpPr/>
            <p:nvPr/>
          </p:nvSpPr>
          <p:spPr>
            <a:xfrm>
              <a:off x="900000" y="566100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128600" y="5737320"/>
                  <a:ext cx="4870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195280" y="573732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395680" y="5661000"/>
                  <a:ext cx="130032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" name=""/>
          <p:cNvSpPr/>
          <p:nvPr/>
        </p:nvSpPr>
        <p:spPr>
          <a:xfrm>
            <a:off x="4716360" y="3645000"/>
            <a:ext cx="1656000" cy="1079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020000" y="2852640"/>
            <a:ext cx="1152360" cy="792360"/>
            <a:chOff x="7020000" y="2852640"/>
            <a:chExt cx="1152360" cy="792360"/>
          </a:xfrm>
        </p:grpSpPr>
        <p:sp>
          <p:nvSpPr>
            <p:cNvPr id="68" name=""/>
            <p:cNvSpPr/>
            <p:nvPr/>
          </p:nvSpPr>
          <p:spPr>
            <a:xfrm>
              <a:off x="7020000" y="2852640"/>
              <a:ext cx="1152360" cy="792360"/>
            </a:xfrm>
            <a:prstGeom prst="wedgeRoundRectCallout">
              <a:avLst>
                <a:gd name="adj1" fmla="val -111157"/>
                <a:gd name="adj2" fmla="val 75652"/>
                <a:gd name="adj3" fmla="val 16667"/>
              </a:avLst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116840" y="3011400"/>
              <a:ext cx="91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注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>
            <a:off x="250920" y="189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対して２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34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4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37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7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 flipV="1">
            <a:off x="197964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79640" y="249228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40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40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826920" y="5805360"/>
            <a:ext cx="61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62728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27280" y="249228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432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437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476360" y="189000"/>
                <a:ext cx="57117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111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900000" y="1197000"/>
            <a:ext cx="2665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953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9811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059280" y="1341360"/>
                <a:ext cx="387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76040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481120" y="1300320"/>
                <a:ext cx="31608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826920" y="5300640"/>
            <a:ext cx="6840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同様に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49440" y="12096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04148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2" name=""/>
          <p:cNvSpPr/>
          <p:nvPr/>
        </p:nvSpPr>
        <p:spPr>
          <a:xfrm flipV="1">
            <a:off x="3276720" y="191592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76720" y="2565360"/>
            <a:ext cx="71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924360" y="836640"/>
            <a:ext cx="489564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164360" y="981000"/>
            <a:ext cx="685800" cy="1067040"/>
            <a:chOff x="7164360" y="981000"/>
            <a:chExt cx="685800" cy="1067040"/>
          </a:xfrm>
        </p:grpSpPr>
        <p:sp>
          <p:nvSpPr>
            <p:cNvPr id="466" name=""/>
            <p:cNvSpPr/>
            <p:nvPr/>
          </p:nvSpPr>
          <p:spPr>
            <a:xfrm>
              <a:off x="7164360" y="9810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7727400" y="166212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09308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16292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7236000" y="4510080"/>
            <a:ext cx="685800" cy="1066680"/>
            <a:chOff x="7236000" y="4510080"/>
            <a:chExt cx="685800" cy="1066680"/>
          </a:xfrm>
        </p:grpSpPr>
        <p:sp>
          <p:nvSpPr>
            <p:cNvPr id="471" name=""/>
            <p:cNvSpPr/>
            <p:nvPr/>
          </p:nvSpPr>
          <p:spPr>
            <a:xfrm>
              <a:off x="723600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27632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 flipV="1">
            <a:off x="5506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43564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70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03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162920" y="3862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3600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794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6802560" y="105408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7378560" y="4078440"/>
                <a:ext cx="3924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4889520" y="2827440"/>
                <a:ext cx="4539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7954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867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7307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1403280" y="189000"/>
                <a:ext cx="57484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7" name=""/>
          <p:cNvSpPr/>
          <p:nvPr/>
        </p:nvSpPr>
        <p:spPr>
          <a:xfrm>
            <a:off x="900000" y="1197000"/>
            <a:ext cx="2665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2953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9811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3060720" y="1281240"/>
                <a:ext cx="387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176040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2414520" y="1281240"/>
                <a:ext cx="4510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971640" y="5877000"/>
            <a:ext cx="539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ることができない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拒否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49440" y="12096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04148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 flipV="1">
            <a:off x="2627280" y="191592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627280" y="2565360"/>
            <a:ext cx="1368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924360" y="836640"/>
            <a:ext cx="489564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164360" y="981000"/>
            <a:ext cx="685800" cy="1067040"/>
            <a:chOff x="7164360" y="981000"/>
            <a:chExt cx="685800" cy="1067040"/>
          </a:xfrm>
        </p:grpSpPr>
        <p:sp>
          <p:nvSpPr>
            <p:cNvPr id="500" name=""/>
            <p:cNvSpPr/>
            <p:nvPr/>
          </p:nvSpPr>
          <p:spPr>
            <a:xfrm>
              <a:off x="7164360" y="9810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7727400" y="166212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709308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16292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7236000" y="4510080"/>
            <a:ext cx="685800" cy="1066680"/>
            <a:chOff x="7236000" y="4510080"/>
            <a:chExt cx="685800" cy="1066680"/>
          </a:xfrm>
        </p:grpSpPr>
        <p:sp>
          <p:nvSpPr>
            <p:cNvPr id="505" name=""/>
            <p:cNvSpPr/>
            <p:nvPr/>
          </p:nvSpPr>
          <p:spPr>
            <a:xfrm>
              <a:off x="723600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727632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 flipV="1">
            <a:off x="5506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3564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70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03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162920" y="3862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23600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794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6802560" y="105408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7378560" y="4078440"/>
                <a:ext cx="3924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4889520" y="2827440"/>
                <a:ext cx="4539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7954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5867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7307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395280" y="5661000"/>
                <a:ext cx="81439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 </m:t>
                        </m:r>
                        <m:r>
                          <m:t xml:space="preserve">は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または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のみからなる語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1" name=""/>
          <p:cNvSpPr/>
          <p:nvPr/>
        </p:nvSpPr>
        <p:spPr>
          <a:xfrm>
            <a:off x="324000" y="5157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50920" y="623736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050920" y="33336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5291280" y="477720"/>
            <a:ext cx="685440" cy="1067040"/>
            <a:chOff x="5291280" y="477720"/>
            <a:chExt cx="685440" cy="1067040"/>
          </a:xfrm>
        </p:grpSpPr>
        <p:sp>
          <p:nvSpPr>
            <p:cNvPr id="525" name=""/>
            <p:cNvSpPr/>
            <p:nvPr/>
          </p:nvSpPr>
          <p:spPr>
            <a:xfrm>
              <a:off x="5291280" y="47772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5853600" y="115884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5219640" y="1341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289480" y="14144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5362560" y="4006800"/>
            <a:ext cx="685800" cy="1066680"/>
            <a:chOff x="5362560" y="4006800"/>
            <a:chExt cx="685800" cy="1066680"/>
          </a:xfrm>
        </p:grpSpPr>
        <p:sp>
          <p:nvSpPr>
            <p:cNvPr id="530" name=""/>
            <p:cNvSpPr/>
            <p:nvPr/>
          </p:nvSpPr>
          <p:spPr>
            <a:xfrm>
              <a:off x="5362560" y="4006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5402880" y="412344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 flipV="1">
            <a:off x="3633840" y="1846440"/>
            <a:ext cx="158436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62200" y="285444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97160" y="233856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30680" y="218592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289480" y="335916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62560" y="34304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3921120" y="177480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4929120" y="550800"/>
                <a:ext cx="2923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5505480" y="357516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3016080" y="232416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6081840" y="422280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994200" y="263844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5433840" y="1487520"/>
                <a:ext cx="395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76360" y="1890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空動作のある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050920" y="692280"/>
                <a:ext cx="4140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1116000" y="1341360"/>
            <a:ext cx="6400800" cy="609480"/>
            <a:chOff x="1116000" y="1341360"/>
            <a:chExt cx="6400800" cy="609480"/>
          </a:xfrm>
        </p:grpSpPr>
        <p:sp>
          <p:nvSpPr>
            <p:cNvPr id="73" name=""/>
            <p:cNvSpPr/>
            <p:nvPr/>
          </p:nvSpPr>
          <p:spPr>
            <a:xfrm>
              <a:off x="1116000" y="134136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403280" y="1393560"/>
                  <a:ext cx="206064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" name=""/>
          <p:cNvGrpSpPr/>
          <p:nvPr/>
        </p:nvGrpSpPr>
        <p:grpSpPr>
          <a:xfrm>
            <a:off x="1116000" y="1989000"/>
            <a:ext cx="6400800" cy="609840"/>
            <a:chOff x="1116000" y="1989000"/>
            <a:chExt cx="6400800" cy="609840"/>
          </a:xfrm>
        </p:grpSpPr>
        <p:sp>
          <p:nvSpPr>
            <p:cNvPr id="76" name=""/>
            <p:cNvSpPr/>
            <p:nvPr/>
          </p:nvSpPr>
          <p:spPr>
            <a:xfrm>
              <a:off x="1116000" y="198900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1476360" y="1989000"/>
                  <a:ext cx="1584360" cy="57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,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" name=""/>
          <p:cNvGrpSpPr/>
          <p:nvPr/>
        </p:nvGrpSpPr>
        <p:grpSpPr>
          <a:xfrm>
            <a:off x="1116000" y="5013360"/>
            <a:ext cx="6400800" cy="685800"/>
            <a:chOff x="1116000" y="5013360"/>
            <a:chExt cx="6400800" cy="685800"/>
          </a:xfrm>
        </p:grpSpPr>
        <p:sp>
          <p:nvSpPr>
            <p:cNvPr id="79" name=""/>
            <p:cNvSpPr/>
            <p:nvPr/>
          </p:nvSpPr>
          <p:spPr>
            <a:xfrm>
              <a:off x="1116000" y="5013360"/>
              <a:ext cx="640080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619280" y="5013360"/>
                  <a:ext cx="11523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1116000" y="5805360"/>
            <a:ext cx="6400800" cy="609480"/>
            <a:chOff x="1116000" y="5805360"/>
            <a:chExt cx="6400800" cy="609480"/>
          </a:xfrm>
        </p:grpSpPr>
        <p:sp>
          <p:nvSpPr>
            <p:cNvPr id="82" name=""/>
            <p:cNvSpPr/>
            <p:nvPr/>
          </p:nvSpPr>
          <p:spPr>
            <a:xfrm>
              <a:off x="1116000" y="580536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619280" y="5877000"/>
                  <a:ext cx="165744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1116000" y="2708280"/>
            <a:ext cx="6408720" cy="2230560"/>
            <a:chOff x="1116000" y="2708280"/>
            <a:chExt cx="6408720" cy="2230560"/>
          </a:xfrm>
        </p:grpSpPr>
        <p:sp>
          <p:nvSpPr>
            <p:cNvPr id="85" name=""/>
            <p:cNvSpPr/>
            <p:nvPr/>
          </p:nvSpPr>
          <p:spPr>
            <a:xfrm>
              <a:off x="1116000" y="2708280"/>
              <a:ext cx="6408720" cy="223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908000" y="3429000"/>
                  <a:ext cx="5334120" cy="13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q</m:t>
                              </m:r>
                              <m:r>
                                <m:t xml:space="preserve">,</m:t>
                              </m:r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q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1403280" y="2781360"/>
                  <a:ext cx="396072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940360" y="494172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940360" y="4149720"/>
                <a:ext cx="2187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651640" y="2708280"/>
                <a:ext cx="3041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796000" y="765000"/>
                <a:ext cx="24778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2" name=""/>
          <p:cNvGrpSpPr/>
          <p:nvPr/>
        </p:nvGrpSpPr>
        <p:grpSpPr>
          <a:xfrm>
            <a:off x="4284720" y="4869000"/>
            <a:ext cx="685800" cy="1066680"/>
            <a:chOff x="4284720" y="4869000"/>
            <a:chExt cx="685800" cy="1066680"/>
          </a:xfrm>
        </p:grpSpPr>
        <p:sp>
          <p:nvSpPr>
            <p:cNvPr id="93" name=""/>
            <p:cNvSpPr/>
            <p:nvPr/>
          </p:nvSpPr>
          <p:spPr>
            <a:xfrm>
              <a:off x="4284720" y="48690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4325040" y="498564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211640" y="1341360"/>
            <a:ext cx="685800" cy="1067040"/>
            <a:chOff x="4211640" y="1341360"/>
            <a:chExt cx="685800" cy="1067040"/>
          </a:xfrm>
        </p:grpSpPr>
        <p:sp>
          <p:nvSpPr>
            <p:cNvPr id="96" name=""/>
            <p:cNvSpPr/>
            <p:nvPr/>
          </p:nvSpPr>
          <p:spPr>
            <a:xfrm>
              <a:off x="4211640" y="134136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4774680" y="202248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547640" y="404640"/>
                <a:ext cx="34038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 flipV="1">
            <a:off x="2556000" y="270792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84360" y="3716280"/>
            <a:ext cx="1727280" cy="7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004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30481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40360" y="2205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11640" y="422100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4720" y="42926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843280" y="263700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851280" y="141300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427640" y="443700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356000" y="234936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38240" y="3186000"/>
                <a:ext cx="45396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003640" y="508464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916360" y="3500280"/>
                <a:ext cx="2934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4211640" y="227664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549360"/>
            <a:ext cx="338472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940360" y="765000"/>
                <a:ext cx="13827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5435640" y="549360"/>
            <a:ext cx="338436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156360" y="765000"/>
                <a:ext cx="19908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5508720" y="549360"/>
            <a:ext cx="3384360" cy="11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2276640"/>
            <a:ext cx="3672000" cy="13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940360" y="278136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219640" y="2349360"/>
            <a:ext cx="367200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012000" y="2781360"/>
                <a:ext cx="23508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292720" y="2349360"/>
            <a:ext cx="367200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51640" y="4076640"/>
            <a:ext cx="3168360" cy="18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940360" y="4365720"/>
                <a:ext cx="20671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940360" y="515772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5580000" y="4076640"/>
            <a:ext cx="3168720" cy="19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156360" y="4581360"/>
                <a:ext cx="22287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156360" y="5373720"/>
                <a:ext cx="2187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651640" y="4365720"/>
            <a:ext cx="3168360" cy="19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527120" y="227160"/>
                <a:ext cx="5564160" cy="59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9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140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143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84360" y="5805360"/>
                <a:ext cx="3041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4284720" y="59500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あ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11280" y="5084640"/>
                <a:ext cx="21873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173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176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003640" y="227664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07672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 flipV="1">
            <a:off x="471636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0" y="1125360"/>
            <a:ext cx="1224000" cy="648000"/>
            <a:chOff x="4572000" y="1125360"/>
            <a:chExt cx="1224000" cy="648000"/>
          </a:xfrm>
        </p:grpSpPr>
        <p:sp>
          <p:nvSpPr>
            <p:cNvPr id="198" name=""/>
            <p:cNvSpPr/>
            <p:nvPr/>
          </p:nvSpPr>
          <p:spPr>
            <a:xfrm>
              <a:off x="4572000" y="1125360"/>
              <a:ext cx="1224000" cy="648000"/>
            </a:xfrm>
            <a:prstGeom prst="wedgeRoundRectCallout">
              <a:avLst>
                <a:gd name="adj1" fmla="val 32750"/>
                <a:gd name="adj2" fmla="val 171078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60920" y="123660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500720" y="4724280"/>
            <a:ext cx="1223640" cy="648000"/>
            <a:chOff x="4500720" y="4724280"/>
            <a:chExt cx="1223640" cy="648000"/>
          </a:xfrm>
        </p:grpSpPr>
        <p:sp>
          <p:nvSpPr>
            <p:cNvPr id="201" name=""/>
            <p:cNvSpPr/>
            <p:nvPr/>
          </p:nvSpPr>
          <p:spPr>
            <a:xfrm>
              <a:off x="4500720" y="4724280"/>
              <a:ext cx="1223640" cy="648000"/>
            </a:xfrm>
            <a:prstGeom prst="wedgeRoundRectCallout">
              <a:avLst>
                <a:gd name="adj1" fmla="val 37810"/>
                <a:gd name="adj2" fmla="val -194851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72000" y="479736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826920" y="260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14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17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826920" y="587700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826920" y="587700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 flipV="1">
            <a:off x="197964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79640" y="249228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4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49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 flipV="1">
            <a:off x="255600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56000" y="2492280"/>
            <a:ext cx="57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7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79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6920" y="595008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て，受理状態に遷移し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299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755640" y="580536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3492360" y="5950080"/>
            <a:ext cx="37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6920" y="260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15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6:32:05Z</dcterms:modified>
  <cp:revision>30</cp:revision>
  <dc:subject/>
  <dc:title>PowerPoint プレゼンテーション</dc:title>
</cp:coreProperties>
</file>