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D8AA-C8F3-4C4C-AEB1-06720B306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FDB1-7607-42DD-9AF4-A1054119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3E82-854A-464D-B6EF-91E05914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45A2-DF2E-48B7-A26B-D85990C66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2D19-AEB2-444F-A164-35B69672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58DA-1750-48FD-AD96-9E8C41B6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6168-79E2-4595-BCB7-90C440E8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AB1D-81D9-4CFF-987C-BB17E60F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4E78-DAE7-4645-B580-DCF23389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7738-7B0B-44E0-B250-4AD33FC7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3E56-6E09-440C-8C60-A5762C74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EC48-44C5-4806-BAF9-A66D977C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A141-2A3F-46E7-9DBE-D30990C95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755640" y="260280"/>
                <a:ext cx="6934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da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1187280" y="920880"/>
            <a:ext cx="6264360" cy="473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476360" y="907920"/>
                <a:ext cx="20890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1187280" y="1484280"/>
            <a:ext cx="626436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403280" y="1557360"/>
                <a:ext cx="25178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  <m:r>
                          <m:rPr>
                            <m:lit/>
                            <m:nor/>
                          </m:rPr>
                          <m:t xml:space="preserve">,#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187280" y="2060640"/>
            <a:ext cx="626436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449360" y="2131920"/>
                <a:ext cx="25750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1187280" y="5950080"/>
            <a:ext cx="6264360" cy="57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547640" y="6021360"/>
                <a:ext cx="1149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1187280" y="2637000"/>
            <a:ext cx="626436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465200" y="2735280"/>
                <a:ext cx="56390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Q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の部分集合</m:t>
                    </m:r>
                    <m:r>
                      <m:t xml:space="preserve">→</m:t>
                    </m:r>
                    <m:r>
                      <m:t xml:space="preserve">Q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Γ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073240" y="3400560"/>
                <a:ext cx="4842000" cy="22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#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#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4140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00720" y="55641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53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54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54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6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4" name=""/>
          <p:cNvSpPr/>
          <p:nvPr/>
        </p:nvSpPr>
        <p:spPr>
          <a:xfrm>
            <a:off x="3995640" y="6021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3995640" y="6595560"/>
            <a:ext cx="244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0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2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4716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00364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60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60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60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8" name=""/>
          <p:cNvSpPr/>
          <p:nvPr/>
        </p:nvSpPr>
        <p:spPr>
          <a:xfrm>
            <a:off x="4500720" y="602136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4500720" y="6595560"/>
            <a:ext cx="19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5219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508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665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668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671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2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0" name=""/>
          <p:cNvSpPr/>
          <p:nvPr/>
        </p:nvSpPr>
        <p:spPr>
          <a:xfrm>
            <a:off x="500364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003640" y="6595560"/>
            <a:ext cx="1440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5651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2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730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733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736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50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7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5651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0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788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791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794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08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5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9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0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1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822" name=""/>
          <p:cNvGrpSpPr/>
          <p:nvPr/>
        </p:nvGrpSpPr>
        <p:grpSpPr>
          <a:xfrm>
            <a:off x="6227640" y="260280"/>
            <a:ext cx="2664000" cy="1584360"/>
            <a:chOff x="6227640" y="260280"/>
            <a:chExt cx="2664000" cy="1584360"/>
          </a:xfrm>
        </p:grpSpPr>
        <p:sp>
          <p:nvSpPr>
            <p:cNvPr id="823" name=""/>
            <p:cNvSpPr/>
            <p:nvPr/>
          </p:nvSpPr>
          <p:spPr>
            <a:xfrm>
              <a:off x="6227640" y="260280"/>
              <a:ext cx="2664000" cy="1584360"/>
            </a:xfrm>
            <a:prstGeom prst="wedgeRoundRectCallout">
              <a:avLst>
                <a:gd name="adj1" fmla="val -15615"/>
                <a:gd name="adj2" fmla="val 101000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372360" y="47628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746360" y="5380200"/>
                <a:ext cx="42908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</m:e>
                      <m:e/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6" name=""/>
          <p:cNvSpPr/>
          <p:nvPr/>
        </p:nvSpPr>
        <p:spPr>
          <a:xfrm>
            <a:off x="755640" y="5418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227640" y="54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55640" y="692280"/>
            <a:ext cx="7416720" cy="427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02560" y="20844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75640" y="21574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1918440" y="2760120"/>
            <a:ext cx="771840" cy="763920"/>
            <a:chOff x="1918440" y="2760120"/>
            <a:chExt cx="771840" cy="763920"/>
          </a:xfrm>
        </p:grpSpPr>
        <p:sp>
          <p:nvSpPr>
            <p:cNvPr id="832" name=""/>
            <p:cNvSpPr/>
            <p:nvPr/>
          </p:nvSpPr>
          <p:spPr>
            <a:xfrm flipV="1">
              <a:off x="1918440" y="286308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rot="11012400">
              <a:off x="1949040" y="2781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4427640" y="1577880"/>
            <a:ext cx="751320" cy="720720"/>
            <a:chOff x="4427640" y="1577880"/>
            <a:chExt cx="751320" cy="720720"/>
          </a:xfrm>
        </p:grpSpPr>
        <p:sp>
          <p:nvSpPr>
            <p:cNvPr id="835" name=""/>
            <p:cNvSpPr/>
            <p:nvPr/>
          </p:nvSpPr>
          <p:spPr>
            <a:xfrm flipH="1">
              <a:off x="5035320" y="196488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427640" y="157788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1951200" y="1482840"/>
            <a:ext cx="751320" cy="720720"/>
            <a:chOff x="1951200" y="1482840"/>
            <a:chExt cx="751320" cy="720720"/>
          </a:xfrm>
        </p:grpSpPr>
        <p:sp>
          <p:nvSpPr>
            <p:cNvPr id="838" name=""/>
            <p:cNvSpPr/>
            <p:nvPr/>
          </p:nvSpPr>
          <p:spPr>
            <a:xfrm flipH="1">
              <a:off x="2558880" y="1869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51200" y="1482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274320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387440" y="214308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92160" y="20653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356000" y="208296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4" name=""/>
              <p:cNvSpPr txBox="1"/>
              <p:nvPr/>
            </p:nvSpPr>
            <p:spPr>
              <a:xfrm>
                <a:off x="1042920" y="7635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4572000" y="2082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2063880" y="21114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3019320" y="171288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3917880" y="836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3924360" y="1195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5423040" y="197964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6975360" y="210348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2" name=""/>
          <p:cNvSpPr/>
          <p:nvPr/>
        </p:nvSpPr>
        <p:spPr>
          <a:xfrm>
            <a:off x="519264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1069920" y="112392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3019320" y="2073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2606760" y="324792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2606760" y="364176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2627280" y="4021200"/>
                <a:ext cx="9129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2639880" y="444816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755640" y="260280"/>
                <a:ext cx="6934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da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0" name=""/>
          <p:cNvSpPr/>
          <p:nvPr/>
        </p:nvSpPr>
        <p:spPr>
          <a:xfrm>
            <a:off x="1187280" y="920880"/>
            <a:ext cx="6480360" cy="473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1476360" y="907920"/>
                <a:ext cx="20890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2" name=""/>
          <p:cNvSpPr/>
          <p:nvPr/>
        </p:nvSpPr>
        <p:spPr>
          <a:xfrm>
            <a:off x="1187280" y="1557360"/>
            <a:ext cx="648036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1442880" y="1603440"/>
                <a:ext cx="19782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4" name=""/>
          <p:cNvSpPr/>
          <p:nvPr/>
        </p:nvSpPr>
        <p:spPr>
          <a:xfrm>
            <a:off x="1187280" y="2206800"/>
            <a:ext cx="648036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1449360" y="2278080"/>
                <a:ext cx="25750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6" name=""/>
          <p:cNvSpPr/>
          <p:nvPr/>
        </p:nvSpPr>
        <p:spPr>
          <a:xfrm>
            <a:off x="1187280" y="5878440"/>
            <a:ext cx="6480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1508040" y="5970600"/>
                <a:ext cx="1149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8" name=""/>
          <p:cNvSpPr/>
          <p:nvPr/>
        </p:nvSpPr>
        <p:spPr>
          <a:xfrm>
            <a:off x="1187280" y="2852640"/>
            <a:ext cx="6480360" cy="288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1476360" y="2925720"/>
                <a:ext cx="54705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Q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の部分集合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Q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Γ</m:t>
                            </m:r>
                          </m:e>
                          <m:sup/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1692360" y="3573360"/>
                <a:ext cx="5684760" cy="19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6730920" y="3068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804000" y="3141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1847520" y="3744720"/>
            <a:ext cx="770760" cy="763560"/>
            <a:chOff x="1847520" y="3744720"/>
            <a:chExt cx="770760" cy="763560"/>
          </a:xfrm>
        </p:grpSpPr>
        <p:sp>
          <p:nvSpPr>
            <p:cNvPr id="874" name=""/>
            <p:cNvSpPr/>
            <p:nvPr/>
          </p:nvSpPr>
          <p:spPr>
            <a:xfrm flipV="1">
              <a:off x="1847520" y="384732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rot="11012400">
              <a:off x="1877400" y="37659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4356000" y="2562120"/>
            <a:ext cx="752400" cy="720720"/>
            <a:chOff x="4356000" y="2562120"/>
            <a:chExt cx="752400" cy="720720"/>
          </a:xfrm>
        </p:grpSpPr>
        <p:sp>
          <p:nvSpPr>
            <p:cNvPr id="877" name=""/>
            <p:cNvSpPr/>
            <p:nvPr/>
          </p:nvSpPr>
          <p:spPr>
            <a:xfrm flipH="1">
              <a:off x="4964400" y="29487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356000" y="25621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1879560" y="2467080"/>
            <a:ext cx="752400" cy="720720"/>
            <a:chOff x="1879560" y="2467080"/>
            <a:chExt cx="752400" cy="720720"/>
          </a:xfrm>
        </p:grpSpPr>
        <p:sp>
          <p:nvSpPr>
            <p:cNvPr id="880" name=""/>
            <p:cNvSpPr/>
            <p:nvPr/>
          </p:nvSpPr>
          <p:spPr>
            <a:xfrm flipH="1">
              <a:off x="2487960" y="28537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879560" y="2467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267192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316160" y="312732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820880" y="30495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284720" y="30672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1619280" y="1673280"/>
                <a:ext cx="1152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4500720" y="30672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1992240" y="309564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3041640" y="2630520"/>
                <a:ext cx="7304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4329000" y="174636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4356000" y="21081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5365800" y="291132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6904080" y="308772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4" name=""/>
          <p:cNvSpPr/>
          <p:nvPr/>
        </p:nvSpPr>
        <p:spPr>
          <a:xfrm>
            <a:off x="512136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1646280" y="202104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3103560" y="302256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1763640" y="4508640"/>
                <a:ext cx="9572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1763640" y="494172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1784520" y="5373720"/>
                <a:ext cx="912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797120" y="576108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700360" y="47628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2" name=""/>
          <p:cNvSpPr/>
          <p:nvPr/>
        </p:nvSpPr>
        <p:spPr>
          <a:xfrm>
            <a:off x="755640" y="1413000"/>
            <a:ext cx="7488360" cy="49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6012000" y="260280"/>
                <a:ext cx="25254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9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92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93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93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4067280" y="2937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0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5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44364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98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98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98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8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0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0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4067280" y="2937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30920" y="3068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04000" y="3141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847520" y="3744720"/>
            <a:ext cx="770760" cy="763560"/>
            <a:chOff x="1847520" y="3744720"/>
            <a:chExt cx="770760" cy="763560"/>
          </a:xfrm>
        </p:grpSpPr>
        <p:sp>
          <p:nvSpPr>
            <p:cNvPr id="56" name=""/>
            <p:cNvSpPr/>
            <p:nvPr/>
          </p:nvSpPr>
          <p:spPr>
            <a:xfrm flipV="1">
              <a:off x="1847520" y="384732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1012400">
              <a:off x="1877400" y="37659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356000" y="2562120"/>
            <a:ext cx="752400" cy="720720"/>
            <a:chOff x="4356000" y="2562120"/>
            <a:chExt cx="752400" cy="720720"/>
          </a:xfrm>
        </p:grpSpPr>
        <p:sp>
          <p:nvSpPr>
            <p:cNvPr id="59" name=""/>
            <p:cNvSpPr/>
            <p:nvPr/>
          </p:nvSpPr>
          <p:spPr>
            <a:xfrm flipH="1">
              <a:off x="4964400" y="29487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56000" y="25621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879560" y="2467080"/>
            <a:ext cx="752400" cy="720720"/>
            <a:chOff x="1879560" y="2467080"/>
            <a:chExt cx="752400" cy="720720"/>
          </a:xfrm>
        </p:grpSpPr>
        <p:sp>
          <p:nvSpPr>
            <p:cNvPr id="62" name=""/>
            <p:cNvSpPr/>
            <p:nvPr/>
          </p:nvSpPr>
          <p:spPr>
            <a:xfrm flipH="1">
              <a:off x="2487960" y="28537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79560" y="2467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267192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16160" y="312732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0880" y="30495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4720" y="30672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619280" y="1673280"/>
                <a:ext cx="1152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500720" y="30672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992240" y="309564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000240" y="263052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329000" y="174636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356000" y="21081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365800" y="291132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904080" y="308772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512136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646280" y="202104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987640" y="302256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763640" y="4508640"/>
                <a:ext cx="9572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763640" y="494172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784520" y="5373720"/>
                <a:ext cx="912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797120" y="576108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700360" y="47628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755640" y="1413000"/>
            <a:ext cx="7488360" cy="49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1619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5003640" y="6019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003640" y="6595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508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03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04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04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4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5315040" y="6153120"/>
                <a:ext cx="3934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3" name=""/>
          <p:cNvSpPr/>
          <p:nvPr/>
        </p:nvSpPr>
        <p:spPr>
          <a:xfrm>
            <a:off x="521964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1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2124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9" name=""/>
          <p:cNvSpPr/>
          <p:nvPr/>
        </p:nvSpPr>
        <p:spPr>
          <a:xfrm flipV="1">
            <a:off x="4500720" y="6019920"/>
            <a:ext cx="194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4500720" y="6595560"/>
            <a:ext cx="19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932360" y="5535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09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0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0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1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3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2627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9" name=""/>
          <p:cNvSpPr/>
          <p:nvPr/>
        </p:nvSpPr>
        <p:spPr>
          <a:xfrm flipV="1">
            <a:off x="3851280" y="6019920"/>
            <a:ext cx="2592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3851280" y="6595560"/>
            <a:ext cx="2592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389480" y="5535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15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6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6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7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3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9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1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3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5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5219640" y="2637000"/>
            <a:ext cx="3672000" cy="1439640"/>
            <a:chOff x="5219640" y="2637000"/>
            <a:chExt cx="3672000" cy="1439640"/>
          </a:xfrm>
        </p:grpSpPr>
        <p:sp>
          <p:nvSpPr>
            <p:cNvPr id="1197" name=""/>
            <p:cNvSpPr/>
            <p:nvPr/>
          </p:nvSpPr>
          <p:spPr>
            <a:xfrm>
              <a:off x="5219640" y="2637000"/>
              <a:ext cx="3672000" cy="1439640"/>
            </a:xfrm>
            <a:prstGeom prst="wedgeRoundRectCallout">
              <a:avLst>
                <a:gd name="adj1" fmla="val -119564"/>
                <a:gd name="adj2" fmla="val 19347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364000" y="2781360"/>
              <a:ext cx="33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２通りの遷移の可能性があるが，ここではこちらの遷移を選ぶ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5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6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9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3132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4" name=""/>
          <p:cNvSpPr/>
          <p:nvPr/>
        </p:nvSpPr>
        <p:spPr>
          <a:xfrm flipV="1">
            <a:off x="3348000" y="6019920"/>
            <a:ext cx="309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3348000" y="6595560"/>
            <a:ext cx="309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819600" y="5533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1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222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225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228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0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4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7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9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0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1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42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3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7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8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9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0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1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2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3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5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6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8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0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5219640" y="3573360"/>
            <a:ext cx="3672000" cy="1440000"/>
            <a:chOff x="5219640" y="3573360"/>
            <a:chExt cx="3672000" cy="1440000"/>
          </a:xfrm>
        </p:grpSpPr>
        <p:sp>
          <p:nvSpPr>
            <p:cNvPr id="1262" name=""/>
            <p:cNvSpPr/>
            <p:nvPr/>
          </p:nvSpPr>
          <p:spPr>
            <a:xfrm>
              <a:off x="5219640" y="3573360"/>
              <a:ext cx="3672000" cy="1440000"/>
            </a:xfrm>
            <a:prstGeom prst="wedgeRoundRectCallout">
              <a:avLst>
                <a:gd name="adj1" fmla="val -100495"/>
                <a:gd name="adj2" fmla="val -8252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391000" y="3676680"/>
              <a:ext cx="33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こでも２通りの遷移の可能性があるが，今度はこちらの遷移を選ぶ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3675240" y="613584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5" name=""/>
          <p:cNvSpPr/>
          <p:nvPr/>
        </p:nvSpPr>
        <p:spPr>
          <a:xfrm>
            <a:off x="3564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3635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1" name=""/>
          <p:cNvSpPr/>
          <p:nvPr/>
        </p:nvSpPr>
        <p:spPr>
          <a:xfrm flipV="1">
            <a:off x="3851280" y="6019920"/>
            <a:ext cx="2592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3851280" y="6595560"/>
            <a:ext cx="2592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42764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28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29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29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2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3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4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5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6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7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6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8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4140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3" name=""/>
          <p:cNvSpPr/>
          <p:nvPr/>
        </p:nvSpPr>
        <p:spPr>
          <a:xfrm flipV="1">
            <a:off x="4427640" y="6019920"/>
            <a:ext cx="201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4427640" y="6595560"/>
            <a:ext cx="201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98960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35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35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35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3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8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9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0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1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2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3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4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5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6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7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8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4643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3" name=""/>
          <p:cNvSpPr/>
          <p:nvPr/>
        </p:nvSpPr>
        <p:spPr>
          <a:xfrm flipV="1">
            <a:off x="4932360" y="6019920"/>
            <a:ext cx="1511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flipV="1">
            <a:off x="4932360" y="6595560"/>
            <a:ext cx="1511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508720" y="555768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41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41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41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3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7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8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9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0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1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2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3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5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5148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1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084720" y="55515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46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47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47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5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2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5148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7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084720" y="55515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525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528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531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3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1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4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5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6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7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8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9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0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1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2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3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4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5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6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7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8" name=""/>
          <p:cNvGrpSpPr/>
          <p:nvPr/>
        </p:nvGrpSpPr>
        <p:grpSpPr>
          <a:xfrm>
            <a:off x="6227640" y="260280"/>
            <a:ext cx="2664000" cy="1584360"/>
            <a:chOff x="6227640" y="260280"/>
            <a:chExt cx="2664000" cy="1584360"/>
          </a:xfrm>
        </p:grpSpPr>
        <p:sp>
          <p:nvSpPr>
            <p:cNvPr id="1559" name=""/>
            <p:cNvSpPr/>
            <p:nvPr/>
          </p:nvSpPr>
          <p:spPr>
            <a:xfrm>
              <a:off x="6227640" y="260280"/>
              <a:ext cx="2664000" cy="1584360"/>
            </a:xfrm>
            <a:prstGeom prst="wedgeRoundRectCallout">
              <a:avLst>
                <a:gd name="adj1" fmla="val -15615"/>
                <a:gd name="adj2" fmla="val 101000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372360" y="47628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1" name=""/>
              <p:cNvSpPr txBox="1"/>
              <p:nvPr/>
            </p:nvSpPr>
            <p:spPr>
              <a:xfrm>
                <a:off x="1851120" y="5380200"/>
                <a:ext cx="40813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w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2" name=""/>
          <p:cNvSpPr/>
          <p:nvPr/>
        </p:nvSpPr>
        <p:spPr>
          <a:xfrm>
            <a:off x="755640" y="5418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227640" y="54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55640" y="692280"/>
            <a:ext cx="7416720" cy="427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802560" y="20844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875640" y="21574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7" name=""/>
          <p:cNvGrpSpPr/>
          <p:nvPr/>
        </p:nvGrpSpPr>
        <p:grpSpPr>
          <a:xfrm>
            <a:off x="1918440" y="2760120"/>
            <a:ext cx="771840" cy="763920"/>
            <a:chOff x="1918440" y="2760120"/>
            <a:chExt cx="771840" cy="763920"/>
          </a:xfrm>
        </p:grpSpPr>
        <p:sp>
          <p:nvSpPr>
            <p:cNvPr id="1568" name=""/>
            <p:cNvSpPr/>
            <p:nvPr/>
          </p:nvSpPr>
          <p:spPr>
            <a:xfrm flipV="1">
              <a:off x="1918440" y="286308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rot="11012400">
              <a:off x="1949040" y="2781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0" name=""/>
          <p:cNvGrpSpPr/>
          <p:nvPr/>
        </p:nvGrpSpPr>
        <p:grpSpPr>
          <a:xfrm>
            <a:off x="4427640" y="1577880"/>
            <a:ext cx="751320" cy="720720"/>
            <a:chOff x="4427640" y="1577880"/>
            <a:chExt cx="751320" cy="720720"/>
          </a:xfrm>
        </p:grpSpPr>
        <p:sp>
          <p:nvSpPr>
            <p:cNvPr id="1571" name=""/>
            <p:cNvSpPr/>
            <p:nvPr/>
          </p:nvSpPr>
          <p:spPr>
            <a:xfrm flipH="1">
              <a:off x="5035320" y="196488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427640" y="157788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3" name=""/>
          <p:cNvGrpSpPr/>
          <p:nvPr/>
        </p:nvGrpSpPr>
        <p:grpSpPr>
          <a:xfrm>
            <a:off x="1951200" y="1482840"/>
            <a:ext cx="751320" cy="720720"/>
            <a:chOff x="1951200" y="1482840"/>
            <a:chExt cx="751320" cy="720720"/>
          </a:xfrm>
        </p:grpSpPr>
        <p:sp>
          <p:nvSpPr>
            <p:cNvPr id="1574" name=""/>
            <p:cNvSpPr/>
            <p:nvPr/>
          </p:nvSpPr>
          <p:spPr>
            <a:xfrm flipH="1">
              <a:off x="2558880" y="1869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951200" y="1482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6" name=""/>
          <p:cNvSpPr/>
          <p:nvPr/>
        </p:nvSpPr>
        <p:spPr>
          <a:xfrm>
            <a:off x="274320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1387440" y="214308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1892160" y="20653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356000" y="208296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0" name=""/>
              <p:cNvSpPr txBox="1"/>
              <p:nvPr/>
            </p:nvSpPr>
            <p:spPr>
              <a:xfrm>
                <a:off x="1042920" y="7635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4572000" y="2082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2" name=""/>
              <p:cNvSpPr txBox="1"/>
              <p:nvPr/>
            </p:nvSpPr>
            <p:spPr>
              <a:xfrm>
                <a:off x="2063880" y="21114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3" name=""/>
              <p:cNvSpPr txBox="1"/>
              <p:nvPr/>
            </p:nvSpPr>
            <p:spPr>
              <a:xfrm>
                <a:off x="3060720" y="171288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3917880" y="836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3924360" y="1195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5423040" y="197964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7" name=""/>
              <p:cNvSpPr txBox="1"/>
              <p:nvPr/>
            </p:nvSpPr>
            <p:spPr>
              <a:xfrm>
                <a:off x="6975360" y="210348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8" name=""/>
          <p:cNvSpPr/>
          <p:nvPr/>
        </p:nvSpPr>
        <p:spPr>
          <a:xfrm>
            <a:off x="519264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9" name=""/>
              <p:cNvSpPr txBox="1"/>
              <p:nvPr/>
            </p:nvSpPr>
            <p:spPr>
              <a:xfrm>
                <a:off x="1069920" y="112392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3081240" y="207324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2606760" y="324792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2606760" y="364176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3" name=""/>
              <p:cNvSpPr txBox="1"/>
              <p:nvPr/>
            </p:nvSpPr>
            <p:spPr>
              <a:xfrm>
                <a:off x="2627280" y="4021200"/>
                <a:ext cx="9129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4" name=""/>
              <p:cNvSpPr txBox="1"/>
              <p:nvPr/>
            </p:nvSpPr>
            <p:spPr>
              <a:xfrm>
                <a:off x="2639880" y="444816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372360" y="260280"/>
                <a:ext cx="25254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 flipV="1">
            <a:off x="5435640" y="6019920"/>
            <a:ext cx="10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435640" y="6595560"/>
            <a:ext cx="100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10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3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6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 flipV="1">
            <a:off x="5435640" y="6019920"/>
            <a:ext cx="10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435640" y="6595560"/>
            <a:ext cx="100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68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71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74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619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5003640" y="6019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03640" y="6595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08720" y="5589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226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229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232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124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03640" y="5589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28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28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28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 flipV="1">
            <a:off x="4572000" y="6019920"/>
            <a:ext cx="1871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572000" y="6595560"/>
            <a:ext cx="1871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627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27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34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34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34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 flipV="1">
            <a:off x="4140360" y="6019920"/>
            <a:ext cx="2303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4140360" y="6595560"/>
            <a:ext cx="2303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3132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95640" y="55641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40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41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41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4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3564000" y="6021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3564000" y="6595560"/>
            <a:ext cx="28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0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3859200" y="613260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3780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3635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0860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47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47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47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8" name=""/>
          <p:cNvSpPr/>
          <p:nvPr/>
        </p:nvSpPr>
        <p:spPr>
          <a:xfrm>
            <a:off x="3564000" y="6021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564000" y="6595560"/>
            <a:ext cx="28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6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3859200" y="613260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3780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4:43:30Z</dcterms:modified>
  <cp:revision>35</cp:revision>
  <dc:subject/>
  <dc:title>PowerPoint プレゼンテーション</dc:title>
</cp:coreProperties>
</file>