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1836-3DFC-4DFF-8579-49C48FD0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BFF1-A73F-4B2F-9A15-6161AF06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91B0-D48E-42F8-A3AD-8D828916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EF35-BA38-47F8-AB31-48681D51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6581-D507-407D-BC17-8BFFD5DF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5DCD-52BB-41AE-87E8-831888F6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FF7D-A8D6-4E31-A4AF-2B6D230C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52F2-0F53-4E75-95E4-5A314A10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537A-6FE7-42DF-B0FD-73F53AC3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0B7B-C4CB-40EB-AAC8-FE9A3BB6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B4BF-D40B-4A85-8CA2-A193B8A0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1A1-890C-4529-A0F7-ACF6E242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65BF-56A2-4ECF-9BBC-FDB34EE67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00000" y="3716280"/>
            <a:ext cx="6705720" cy="914400"/>
            <a:chOff x="900000" y="3716280"/>
            <a:chExt cx="6705720" cy="914400"/>
          </a:xfrm>
        </p:grpSpPr>
        <p:sp>
          <p:nvSpPr>
            <p:cNvPr id="42" name=""/>
            <p:cNvSpPr/>
            <p:nvPr/>
          </p:nvSpPr>
          <p:spPr>
            <a:xfrm>
              <a:off x="900000" y="3716280"/>
              <a:ext cx="670572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128600" y="39448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119320" y="3944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3635280" y="3789360"/>
                  <a:ext cx="36734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1763640" y="404640"/>
            <a:ext cx="53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484360" y="98100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00000" y="2060640"/>
            <a:ext cx="6705360" cy="609480"/>
            <a:chOff x="900000" y="206064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00000" y="206064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052280" y="206064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118960" y="213696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00000" y="2924280"/>
            <a:ext cx="6705360" cy="609480"/>
            <a:chOff x="900000" y="292428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00000" y="292428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128600" y="300024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118960" y="300024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00000" y="4797360"/>
            <a:ext cx="6705360" cy="685800"/>
            <a:chOff x="900000" y="479736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00000" y="487332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128600" y="479736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195280" y="494964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00400" y="479736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00000" y="5661000"/>
            <a:ext cx="6705360" cy="611280"/>
            <a:chOff x="900000" y="566100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00000" y="566100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128600" y="573732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195280" y="573732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395680" y="566100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4716360" y="3645000"/>
            <a:ext cx="1656000" cy="107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020000" y="2852640"/>
            <a:ext cx="1152360" cy="792360"/>
            <a:chOff x="7020000" y="2852640"/>
            <a:chExt cx="1152360" cy="792360"/>
          </a:xfrm>
        </p:grpSpPr>
        <p:sp>
          <p:nvSpPr>
            <p:cNvPr id="68" name=""/>
            <p:cNvSpPr/>
            <p:nvPr/>
          </p:nvSpPr>
          <p:spPr>
            <a:xfrm>
              <a:off x="7020000" y="2852640"/>
              <a:ext cx="1152360" cy="792360"/>
            </a:xfrm>
            <a:prstGeom prst="wedgeRoundRectCallout">
              <a:avLst>
                <a:gd name="adj1" fmla="val -111157"/>
                <a:gd name="adj2" fmla="val 75652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16840" y="3011400"/>
              <a:ext cx="91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250920" y="1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２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4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7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0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0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826920" y="580536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62728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27280" y="249228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32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37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476360" y="189000"/>
                <a:ext cx="57117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059280" y="134136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481120" y="1300320"/>
                <a:ext cx="316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826920" y="5300640"/>
            <a:ext cx="684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様に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 flipV="1">
            <a:off x="327672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256536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466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471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1403280" y="189000"/>
                <a:ext cx="5748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060720" y="128124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14520" y="1281240"/>
                <a:ext cx="451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971640" y="5877000"/>
            <a:ext cx="53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ることができない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flipV="1">
            <a:off x="262728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27280" y="2565360"/>
            <a:ext cx="1368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500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505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95280" y="5661000"/>
                <a:ext cx="8143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は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のみからなる語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324000" y="5157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0920" y="62373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0920" y="33336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291280" y="477720"/>
            <a:ext cx="685440" cy="1067040"/>
            <a:chOff x="5291280" y="477720"/>
            <a:chExt cx="685440" cy="1067040"/>
          </a:xfrm>
        </p:grpSpPr>
        <p:sp>
          <p:nvSpPr>
            <p:cNvPr id="525" name=""/>
            <p:cNvSpPr/>
            <p:nvPr/>
          </p:nvSpPr>
          <p:spPr>
            <a:xfrm>
              <a:off x="5291280" y="47772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5853600" y="115884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5219640" y="1341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89480" y="1414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5362560" y="4006800"/>
            <a:ext cx="685800" cy="1066680"/>
            <a:chOff x="5362560" y="4006800"/>
            <a:chExt cx="685800" cy="1066680"/>
          </a:xfrm>
        </p:grpSpPr>
        <p:sp>
          <p:nvSpPr>
            <p:cNvPr id="530" name=""/>
            <p:cNvSpPr/>
            <p:nvPr/>
          </p:nvSpPr>
          <p:spPr>
            <a:xfrm>
              <a:off x="5362560" y="4006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5402880" y="41234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 flipV="1">
            <a:off x="3633840" y="1846440"/>
            <a:ext cx="158436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62200" y="285444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97160" y="233856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30680" y="218592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89480" y="335916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62560" y="3430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921120" y="17748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929120" y="550800"/>
                <a:ext cx="2923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505480" y="357516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016080" y="232416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081840" y="422280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994200" y="26384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5433840" y="1487520"/>
                <a:ext cx="395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76360" y="189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050920" y="692280"/>
                <a:ext cx="414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1116000" y="1341360"/>
            <a:ext cx="6400800" cy="609480"/>
            <a:chOff x="1116000" y="1341360"/>
            <a:chExt cx="6400800" cy="609480"/>
          </a:xfrm>
        </p:grpSpPr>
        <p:sp>
          <p:nvSpPr>
            <p:cNvPr id="73" name=""/>
            <p:cNvSpPr/>
            <p:nvPr/>
          </p:nvSpPr>
          <p:spPr>
            <a:xfrm>
              <a:off x="1116000" y="1341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03280" y="1393560"/>
                  <a:ext cx="20606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1116000" y="1989000"/>
            <a:ext cx="6400800" cy="609840"/>
            <a:chOff x="1116000" y="1989000"/>
            <a:chExt cx="6400800" cy="609840"/>
          </a:xfrm>
        </p:grpSpPr>
        <p:sp>
          <p:nvSpPr>
            <p:cNvPr id="76" name=""/>
            <p:cNvSpPr/>
            <p:nvPr/>
          </p:nvSpPr>
          <p:spPr>
            <a:xfrm>
              <a:off x="1116000" y="198900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476360" y="1989000"/>
                  <a:ext cx="158436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,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1116000" y="5013360"/>
            <a:ext cx="6400800" cy="685800"/>
            <a:chOff x="1116000" y="501336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1116000" y="501336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19280" y="5013360"/>
                  <a:ext cx="11523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16000" y="5805360"/>
            <a:ext cx="6400800" cy="609480"/>
            <a:chOff x="1116000" y="5805360"/>
            <a:chExt cx="6400800" cy="609480"/>
          </a:xfrm>
        </p:grpSpPr>
        <p:sp>
          <p:nvSpPr>
            <p:cNvPr id="82" name=""/>
            <p:cNvSpPr/>
            <p:nvPr/>
          </p:nvSpPr>
          <p:spPr>
            <a:xfrm>
              <a:off x="1116000" y="5805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5877000"/>
                  <a:ext cx="165744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16000" y="2708280"/>
            <a:ext cx="6408720" cy="2230560"/>
            <a:chOff x="1116000" y="2708280"/>
            <a:chExt cx="6408720" cy="2230560"/>
          </a:xfrm>
        </p:grpSpPr>
        <p:sp>
          <p:nvSpPr>
            <p:cNvPr id="85" name=""/>
            <p:cNvSpPr/>
            <p:nvPr/>
          </p:nvSpPr>
          <p:spPr>
            <a:xfrm>
              <a:off x="1116000" y="2708280"/>
              <a:ext cx="6408720" cy="223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908000" y="3429000"/>
                  <a:ext cx="533412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  <m:r>
                                <m:t xml:space="preserve">,</m:t>
                              </m:r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403280" y="2781360"/>
                  <a:ext cx="396072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940360" y="4941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940360" y="4149720"/>
                <a:ext cx="2187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651640" y="270828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796000" y="765000"/>
                <a:ext cx="2477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2" name=""/>
          <p:cNvGrpSpPr/>
          <p:nvPr/>
        </p:nvGrpSpPr>
        <p:grpSpPr>
          <a:xfrm>
            <a:off x="4284720" y="4869000"/>
            <a:ext cx="685800" cy="1066680"/>
            <a:chOff x="4284720" y="4869000"/>
            <a:chExt cx="685800" cy="1066680"/>
          </a:xfrm>
        </p:grpSpPr>
        <p:sp>
          <p:nvSpPr>
            <p:cNvPr id="93" name=""/>
            <p:cNvSpPr/>
            <p:nvPr/>
          </p:nvSpPr>
          <p:spPr>
            <a:xfrm>
              <a:off x="4284720" y="48690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325040" y="49856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211640" y="1341360"/>
            <a:ext cx="685800" cy="1067040"/>
            <a:chOff x="4211640" y="1341360"/>
            <a:chExt cx="685800" cy="1067040"/>
          </a:xfrm>
        </p:grpSpPr>
        <p:sp>
          <p:nvSpPr>
            <p:cNvPr id="96" name=""/>
            <p:cNvSpPr/>
            <p:nvPr/>
          </p:nvSpPr>
          <p:spPr>
            <a:xfrm>
              <a:off x="4211640" y="134136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4774680" y="202248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547640" y="40464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V="1">
            <a:off x="2556000" y="270792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3716280"/>
            <a:ext cx="172728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2205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422100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42926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43280" y="26370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851280" y="141300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27640" y="443700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356000" y="234936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38240" y="3186000"/>
                <a:ext cx="4539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03640" y="508464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16360" y="3500280"/>
                <a:ext cx="2934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4211640" y="227664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549360"/>
            <a:ext cx="3384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940360" y="765000"/>
                <a:ext cx="1382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435640" y="549360"/>
            <a:ext cx="3384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156360" y="765000"/>
                <a:ext cx="1990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508720" y="549360"/>
            <a:ext cx="338436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276640"/>
            <a:ext cx="3672000" cy="13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940360" y="278136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21964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12000" y="2781360"/>
                <a:ext cx="2350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29272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4076640"/>
            <a:ext cx="316836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940360" y="4365720"/>
                <a:ext cx="2067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940360" y="5157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580000" y="4076640"/>
            <a:ext cx="316872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156360" y="4581360"/>
                <a:ext cx="2228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156360" y="5373720"/>
                <a:ext cx="2187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651640" y="4365720"/>
            <a:ext cx="3168360" cy="19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527120" y="227160"/>
                <a:ext cx="556416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40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43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84360" y="580536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284720" y="5950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あ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11280" y="5084640"/>
                <a:ext cx="2187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73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76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003640" y="22766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07672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 flipV="1">
            <a:off x="471636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0" y="1125360"/>
            <a:ext cx="1224000" cy="648000"/>
            <a:chOff x="4572000" y="1125360"/>
            <a:chExt cx="1224000" cy="648000"/>
          </a:xfrm>
        </p:grpSpPr>
        <p:sp>
          <p:nvSpPr>
            <p:cNvPr id="198" name=""/>
            <p:cNvSpPr/>
            <p:nvPr/>
          </p:nvSpPr>
          <p:spPr>
            <a:xfrm>
              <a:off x="4572000" y="1125360"/>
              <a:ext cx="1224000" cy="648000"/>
            </a:xfrm>
            <a:prstGeom prst="wedgeRoundRectCallout">
              <a:avLst>
                <a:gd name="adj1" fmla="val 32750"/>
                <a:gd name="adj2" fmla="val 171078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60920" y="12366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500720" y="4724280"/>
            <a:ext cx="1223640" cy="648000"/>
            <a:chOff x="4500720" y="4724280"/>
            <a:chExt cx="1223640" cy="648000"/>
          </a:xfrm>
        </p:grpSpPr>
        <p:sp>
          <p:nvSpPr>
            <p:cNvPr id="201" name=""/>
            <p:cNvSpPr/>
            <p:nvPr/>
          </p:nvSpPr>
          <p:spPr>
            <a:xfrm>
              <a:off x="4500720" y="4724280"/>
              <a:ext cx="1223640" cy="648000"/>
            </a:xfrm>
            <a:prstGeom prst="wedgeRoundRectCallout">
              <a:avLst>
                <a:gd name="adj1" fmla="val 37810"/>
                <a:gd name="adj2" fmla="val -194851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0" y="4797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826920" y="26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14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17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4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 flipV="1">
            <a:off x="255600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249228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7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595008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て，受理状態に遷移し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299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55640" y="580536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3492360" y="595008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" y="260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15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6:32:05Z</dcterms:modified>
  <cp:revision>30</cp:revision>
  <dc:subject/>
  <dc:title>PowerPoint プレゼンテーション</dc:title>
</cp:coreProperties>
</file>