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903A-68BF-4247-AB8A-54D6045C1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FCE3-5D22-4F7A-A52D-EE8DA44E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9D00-18C8-4532-B105-5B8946334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601C-6370-426C-86CA-E7EC8193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D104-10A3-4E89-92F2-F9249C5F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25F7-C7C3-4E56-887F-CAEDE498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B8C0-8FE8-4E61-8491-1C7F4D0F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31BE-7506-40C3-9974-89831A05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5BBC-DDEA-4F15-A892-01123A80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2715-1EC3-4764-86C8-7B48BCC7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1FB8-2306-4B10-9D53-D57E2D55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4ACE-C602-4064-AECF-C5132352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F906-389A-46C5-9DD4-36D9AAA9B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443640" y="1754280"/>
            <a:ext cx="447120" cy="433440"/>
            <a:chOff x="6443640" y="1754280"/>
            <a:chExt cx="447120" cy="433440"/>
          </a:xfrm>
        </p:grpSpPr>
        <p:sp>
          <p:nvSpPr>
            <p:cNvPr id="42" name=""/>
            <p:cNvSpPr/>
            <p:nvPr/>
          </p:nvSpPr>
          <p:spPr>
            <a:xfrm>
              <a:off x="644364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681768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643280" y="1754280"/>
            <a:ext cx="447120" cy="433440"/>
            <a:chOff x="4643280" y="1754280"/>
            <a:chExt cx="447120" cy="433440"/>
          </a:xfrm>
        </p:grpSpPr>
        <p:sp>
          <p:nvSpPr>
            <p:cNvPr id="45" name=""/>
            <p:cNvSpPr/>
            <p:nvPr/>
          </p:nvSpPr>
          <p:spPr>
            <a:xfrm>
              <a:off x="464328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01732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4714920" y="3556080"/>
            <a:ext cx="447120" cy="433440"/>
            <a:chOff x="4714920" y="3556080"/>
            <a:chExt cx="447120" cy="433440"/>
          </a:xfrm>
        </p:grpSpPr>
        <p:sp>
          <p:nvSpPr>
            <p:cNvPr id="48" name=""/>
            <p:cNvSpPr/>
            <p:nvPr/>
          </p:nvSpPr>
          <p:spPr>
            <a:xfrm>
              <a:off x="4714920" y="35560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088960" y="37846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987640" y="3556080"/>
            <a:ext cx="447120" cy="433440"/>
            <a:chOff x="2987640" y="3556080"/>
            <a:chExt cx="447120" cy="433440"/>
          </a:xfrm>
        </p:grpSpPr>
        <p:sp>
          <p:nvSpPr>
            <p:cNvPr id="51" name=""/>
            <p:cNvSpPr/>
            <p:nvPr/>
          </p:nvSpPr>
          <p:spPr>
            <a:xfrm>
              <a:off x="2987640" y="35560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361680" y="37846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914560" y="3843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755160" y="5802120"/>
            <a:ext cx="447120" cy="433080"/>
            <a:chOff x="3755160" y="5802120"/>
            <a:chExt cx="447120" cy="433080"/>
          </a:xfrm>
        </p:grpSpPr>
        <p:sp>
          <p:nvSpPr>
            <p:cNvPr id="55" name=""/>
            <p:cNvSpPr/>
            <p:nvPr/>
          </p:nvSpPr>
          <p:spPr>
            <a:xfrm rot="10800000">
              <a:off x="3768840" y="580212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755160" y="586296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515280" y="4203720"/>
            <a:ext cx="447120" cy="433440"/>
            <a:chOff x="6515280" y="4203720"/>
            <a:chExt cx="447120" cy="433440"/>
          </a:xfrm>
        </p:grpSpPr>
        <p:sp>
          <p:nvSpPr>
            <p:cNvPr id="58" name=""/>
            <p:cNvSpPr/>
            <p:nvPr/>
          </p:nvSpPr>
          <p:spPr>
            <a:xfrm rot="10800000">
              <a:off x="6528960" y="4203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6515280" y="42642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914560" y="1754280"/>
            <a:ext cx="447120" cy="433440"/>
            <a:chOff x="2914560" y="1754280"/>
            <a:chExt cx="447120" cy="433440"/>
          </a:xfrm>
        </p:grpSpPr>
        <p:sp>
          <p:nvSpPr>
            <p:cNvPr id="61" name=""/>
            <p:cNvSpPr/>
            <p:nvPr/>
          </p:nvSpPr>
          <p:spPr>
            <a:xfrm>
              <a:off x="291456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328860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65320" y="53737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33360" y="545472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28880" y="359100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415880" y="4368960"/>
            <a:ext cx="12960" cy="987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6920" y="54277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73880" y="38480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73520" y="38386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43840" y="2820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4040" y="204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00440" y="2031840"/>
            <a:ext cx="505080" cy="53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08160" y="38703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189320" y="4203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1658520" y="4274640"/>
            <a:ext cx="208620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931080" y="3198960"/>
            <a:ext cx="1162080" cy="804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03520" y="413244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76400" y="203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987640" y="204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714920" y="204300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588000" y="3843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788000" y="38433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813120" y="54165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258920" y="5356080"/>
                <a:ext cx="3618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8170920" y="283536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021120" y="38577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316160" y="387972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515280" y="204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067280" y="1539720"/>
                <a:ext cx="5839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95240" y="463536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051440" y="117936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219640" y="39146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 flipV="1">
            <a:off x="5180040" y="4132440"/>
            <a:ext cx="1303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19640" y="4132440"/>
            <a:ext cx="1250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94080" y="2298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2280" y="2313000"/>
            <a:ext cx="1319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18040" y="2506680"/>
            <a:ext cx="149868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619280" y="2451240"/>
            <a:ext cx="132552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86440" y="2413080"/>
            <a:ext cx="1176480" cy="577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72240" y="2535120"/>
            <a:ext cx="33480" cy="1303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338560" y="1179360"/>
                <a:ext cx="5648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359080" y="153972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562200" y="190008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324400" y="1900080"/>
                <a:ext cx="5828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083280" y="1395360"/>
                <a:ext cx="533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451640" y="3700440"/>
                <a:ext cx="830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738840" y="2835360"/>
                <a:ext cx="547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722920" y="283536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894040" y="2835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914560" y="3195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514760" y="3195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498920" y="283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619280" y="290844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013120" y="374508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689280" y="374004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372280" y="3735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378400" y="4203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380360" y="2259000"/>
                <a:ext cx="717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334040" y="585936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54560" y="6180120"/>
                <a:ext cx="517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999120" y="4491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020000" y="4797360"/>
                <a:ext cx="517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020000" y="513072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043760" y="5462640"/>
                <a:ext cx="6015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291280" y="4995720"/>
                <a:ext cx="5666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281320" y="54151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251080" y="5067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24000" y="189000"/>
                <a:ext cx="26654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２進数の和を計算する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チューリング機械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06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06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06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07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07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07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08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1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7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17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18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18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18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19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19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19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2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3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29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29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29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30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30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30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31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4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9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40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41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41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41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42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42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42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6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5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52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52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53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53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53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54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54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7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3656160" y="1452600"/>
            <a:ext cx="122364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1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64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64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64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65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65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65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66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9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36576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7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75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76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76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76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77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77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77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0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3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87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87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87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88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88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88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89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2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9" name=""/>
          <p:cNvSpPr/>
          <p:nvPr/>
        </p:nvSpPr>
        <p:spPr>
          <a:xfrm>
            <a:off x="2627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98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99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99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99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00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00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00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4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5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9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10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10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11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11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11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12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12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5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1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5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3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3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3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4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4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4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5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24000" y="692280"/>
                <a:ext cx="18000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24000" y="1197000"/>
                <a:ext cx="2236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0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076720" y="5950080"/>
                <a:ext cx="331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22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22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22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23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23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23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24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7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7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33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34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34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34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35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35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35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8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3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7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45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45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45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46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46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46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47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0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9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3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56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57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57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57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58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58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58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2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5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9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68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68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69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69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69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70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70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3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3668760" y="14652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3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4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5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1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5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80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80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80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81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81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81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82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5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9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0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1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7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1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91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92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92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92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93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93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93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96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>
            <a:off x="3683160" y="1452600"/>
            <a:ext cx="122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6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7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3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7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03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03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03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04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04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04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05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8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2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3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9" name=""/>
          <p:cNvSpPr/>
          <p:nvPr/>
        </p:nvSpPr>
        <p:spPr>
          <a:xfrm>
            <a:off x="2627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3" name=""/>
              <p:cNvSpPr txBox="1"/>
              <p:nvPr/>
            </p:nvSpPr>
            <p:spPr>
              <a:xfrm>
                <a:off x="2511360" y="5948280"/>
                <a:ext cx="2872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14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15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15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15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16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16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16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0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8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9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5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9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26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26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27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27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27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28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28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1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3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4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5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1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5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4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5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5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5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6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6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6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56160" y="1452600"/>
            <a:ext cx="122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5087880" y="5932440"/>
                <a:ext cx="33336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5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38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38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38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39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39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39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40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3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9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0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1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7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1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49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50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50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50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51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51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51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4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6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7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3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7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61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61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61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62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62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62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63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66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2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3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19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3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72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73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73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73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74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74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74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78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8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9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5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9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43" name=""/>
          <p:cNvGrpSpPr/>
          <p:nvPr/>
        </p:nvGrpSpPr>
        <p:grpSpPr>
          <a:xfrm>
            <a:off x="2484360" y="2492280"/>
            <a:ext cx="2808360" cy="1079640"/>
            <a:chOff x="2484360" y="2492280"/>
            <a:chExt cx="2808360" cy="1079640"/>
          </a:xfrm>
        </p:grpSpPr>
        <p:sp>
          <p:nvSpPr>
            <p:cNvPr id="3844" name=""/>
            <p:cNvSpPr/>
            <p:nvPr/>
          </p:nvSpPr>
          <p:spPr>
            <a:xfrm>
              <a:off x="2484360" y="2492280"/>
              <a:ext cx="2808360" cy="1079640"/>
            </a:xfrm>
            <a:prstGeom prst="wedgeRoundRectCallout">
              <a:avLst>
                <a:gd name="adj1" fmla="val -71425"/>
                <a:gd name="adj2" fmla="val 146615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2668680" y="2608200"/>
              <a:ext cx="2449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99"/>
                  </a:solidFill>
                  <a:latin typeface="Arial"/>
                </a:rPr>
                <a:t>受理状態に遷移し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99"/>
                  </a:solidFill>
                  <a:latin typeface="Arial"/>
                </a:rPr>
                <a:t>計算が終了した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6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6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7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7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7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8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8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1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48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48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48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49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49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49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50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7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59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60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60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60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61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61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61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4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3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71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71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71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72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72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72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73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6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82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83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83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83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84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84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84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8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94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94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95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95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95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96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96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9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1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0:13:52Z</dcterms:created>
  <dc:creator>政明</dc:creator>
  <dc:description/>
  <dc:language>en-US</dc:language>
  <cp:lastModifiedBy>政明</cp:lastModifiedBy>
  <dcterms:modified xsi:type="dcterms:W3CDTF">2004-10-11T17:03:32Z</dcterms:modified>
  <cp:revision>17</cp:revision>
  <dc:subject/>
  <dc:title>スライド 1</dc:title>
</cp:coreProperties>
</file>