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BF8-56F7-41CD-8BA7-15007959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B65E-D06C-40ED-A63D-B4045A87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D9C6-9166-4661-B2FF-E9417741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A9B-B9D4-4652-B4E0-3D0D5BC6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E4AC-35EB-47F8-884C-9FC4E343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AC5-F36E-4DF6-B0FE-182E1FEE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B8B-C96A-4373-AFD5-7CCD9C55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4C9-712E-4CE6-A27B-5E862924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2F1-05B6-4B9D-9478-2572A7A7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660-3892-41C1-94F8-A7985096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905-9750-4808-8794-304F812C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1008-EA7A-4ED2-9D57-914AECD3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885D-205D-4A09-AC71-5213D32C2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403280" y="620640"/>
                <a:ext cx="54482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57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1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66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71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76360" y="3832200"/>
                  <a:ext cx="59054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241128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08360" y="1628640"/>
            <a:ext cx="5256360" cy="2160720"/>
            <a:chOff x="3708360" y="1628640"/>
            <a:chExt cx="5256360" cy="2160720"/>
          </a:xfrm>
        </p:grpSpPr>
        <p:sp>
          <p:nvSpPr>
            <p:cNvPr id="77" name=""/>
            <p:cNvSpPr/>
            <p:nvPr/>
          </p:nvSpPr>
          <p:spPr>
            <a:xfrm>
              <a:off x="3708360" y="1628640"/>
              <a:ext cx="5256360" cy="2160720"/>
            </a:xfrm>
            <a:prstGeom prst="wedgeRoundRectCallout">
              <a:avLst>
                <a:gd name="adj1" fmla="val -48037"/>
                <a:gd name="adj2" fmla="val 60652"/>
                <a:gd name="adj3" fmla="val 16667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924360" y="184464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3924360" y="270828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5364000" y="1773360"/>
              <a:ext cx="34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が定義されているときは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1280" y="220500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ど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643280" y="2349360"/>
                  <a:ext cx="30348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4932360" y="220500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に対しても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35640" y="2637000"/>
              <a:ext cx="30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は定義されてい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11640" y="3213000"/>
              <a:ext cx="43210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（動作の決定性が保証される。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187280" y="333360"/>
                <a:ext cx="5737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8" name=""/>
          <p:cNvGrpSpPr/>
          <p:nvPr/>
        </p:nvGrpSpPr>
        <p:grpSpPr>
          <a:xfrm>
            <a:off x="1187280" y="1052640"/>
            <a:ext cx="6264360" cy="493560"/>
            <a:chOff x="1187280" y="1052640"/>
            <a:chExt cx="6264360" cy="493560"/>
          </a:xfrm>
        </p:grpSpPr>
        <p:sp>
          <p:nvSpPr>
            <p:cNvPr id="279" name=""/>
            <p:cNvSpPr/>
            <p:nvPr/>
          </p:nvSpPr>
          <p:spPr>
            <a:xfrm>
              <a:off x="1187280" y="105264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1692360" y="1052640"/>
                  <a:ext cx="208764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1" name=""/>
          <p:cNvGrpSpPr/>
          <p:nvPr/>
        </p:nvGrpSpPr>
        <p:grpSpPr>
          <a:xfrm>
            <a:off x="1187280" y="1700280"/>
            <a:ext cx="6264360" cy="514440"/>
            <a:chOff x="1187280" y="1700280"/>
            <a:chExt cx="6264360" cy="514440"/>
          </a:xfrm>
        </p:grpSpPr>
        <p:sp>
          <p:nvSpPr>
            <p:cNvPr id="282" name=""/>
            <p:cNvSpPr/>
            <p:nvPr/>
          </p:nvSpPr>
          <p:spPr>
            <a:xfrm>
              <a:off x="1187280" y="1700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1692360" y="1771920"/>
                  <a:ext cx="21589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4" name=""/>
          <p:cNvGrpSpPr/>
          <p:nvPr/>
        </p:nvGrpSpPr>
        <p:grpSpPr>
          <a:xfrm>
            <a:off x="1187280" y="2349360"/>
            <a:ext cx="6264360" cy="513000"/>
            <a:chOff x="1187280" y="2349360"/>
            <a:chExt cx="6264360" cy="513000"/>
          </a:xfrm>
        </p:grpSpPr>
        <p:sp>
          <p:nvSpPr>
            <p:cNvPr id="285" name=""/>
            <p:cNvSpPr/>
            <p:nvPr/>
          </p:nvSpPr>
          <p:spPr>
            <a:xfrm>
              <a:off x="1187280" y="2349360"/>
              <a:ext cx="6264360" cy="505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1692360" y="2421000"/>
                  <a:ext cx="208908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2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1835280" y="6022800"/>
                  <a:ext cx="1150920" cy="44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0" name=""/>
          <p:cNvGrpSpPr/>
          <p:nvPr/>
        </p:nvGrpSpPr>
        <p:grpSpPr>
          <a:xfrm>
            <a:off x="1187280" y="2997360"/>
            <a:ext cx="6264360" cy="2808000"/>
            <a:chOff x="1187280" y="2997360"/>
            <a:chExt cx="6264360" cy="2808000"/>
          </a:xfrm>
        </p:grpSpPr>
        <p:sp>
          <p:nvSpPr>
            <p:cNvPr id="291" name=""/>
            <p:cNvSpPr/>
            <p:nvPr/>
          </p:nvSpPr>
          <p:spPr>
            <a:xfrm>
              <a:off x="1187280" y="2997360"/>
              <a:ext cx="6264360" cy="28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1692360" y="3068640"/>
                  <a:ext cx="504036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2411280" y="3573360"/>
                  <a:ext cx="2808360" cy="209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547640" y="5589720"/>
                <a:ext cx="3502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00360" y="1197000"/>
                <a:ext cx="27352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1835280" y="4076640"/>
            <a:ext cx="685800" cy="1067040"/>
            <a:chOff x="1835280" y="4076640"/>
            <a:chExt cx="685800" cy="1067040"/>
          </a:xfrm>
        </p:grpSpPr>
        <p:sp>
          <p:nvSpPr>
            <p:cNvPr id="297" name=""/>
            <p:cNvSpPr/>
            <p:nvPr/>
          </p:nvSpPr>
          <p:spPr>
            <a:xfrm>
              <a:off x="183528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84572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69236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284720" y="2565360"/>
            <a:ext cx="685800" cy="1066680"/>
            <a:chOff x="4284720" y="2565360"/>
            <a:chExt cx="685800" cy="1066680"/>
          </a:xfrm>
        </p:grpSpPr>
        <p:sp>
          <p:nvSpPr>
            <p:cNvPr id="301" name=""/>
            <p:cNvSpPr/>
            <p:nvPr/>
          </p:nvSpPr>
          <p:spPr>
            <a:xfrm>
              <a:off x="428472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82148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603520" y="42372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835280" y="2565360"/>
            <a:ext cx="685800" cy="1066680"/>
            <a:chOff x="1835280" y="2565360"/>
            <a:chExt cx="685800" cy="1066680"/>
          </a:xfrm>
        </p:grpSpPr>
        <p:sp>
          <p:nvSpPr>
            <p:cNvPr id="307" name=""/>
            <p:cNvSpPr/>
            <p:nvPr/>
          </p:nvSpPr>
          <p:spPr>
            <a:xfrm>
              <a:off x="18352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36880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25892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1164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964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272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84360" y="2421000"/>
                <a:ext cx="1162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87708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42764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90008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556000" y="4581360"/>
                <a:ext cx="9874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84328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49236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21964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132000" y="1197000"/>
                <a:ext cx="1297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1908000" y="1052640"/>
            <a:ext cx="39610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419640" y="1197000"/>
                <a:ext cx="1726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219564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6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763640" y="5589720"/>
                <a:ext cx="3729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1042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979640" y="5589720"/>
                <a:ext cx="3335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1258920" y="544500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68360" y="5589720"/>
                <a:ext cx="3299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1476360" y="5445000"/>
            <a:ext cx="48974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56000" y="5589720"/>
                <a:ext cx="3728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692360" y="5445000"/>
            <a:ext cx="5111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189000"/>
                <a:ext cx="5400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3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3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3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5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6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6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0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1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1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5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5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6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2" name=""/>
          <p:cNvGrpSpPr/>
          <p:nvPr/>
        </p:nvGrpSpPr>
        <p:grpSpPr>
          <a:xfrm>
            <a:off x="5651640" y="260280"/>
            <a:ext cx="3166920" cy="2376720"/>
            <a:chOff x="5651640" y="260280"/>
            <a:chExt cx="3166920" cy="2376720"/>
          </a:xfrm>
        </p:grpSpPr>
        <p:sp>
          <p:nvSpPr>
            <p:cNvPr id="723" name=""/>
            <p:cNvSpPr/>
            <p:nvPr/>
          </p:nvSpPr>
          <p:spPr>
            <a:xfrm>
              <a:off x="5651640" y="260280"/>
              <a:ext cx="3166920" cy="2376720"/>
            </a:xfrm>
            <a:prstGeom prst="wedgeRoundRectCallout">
              <a:avLst>
                <a:gd name="adj1" fmla="val 10652"/>
                <a:gd name="adj2" fmla="val 84736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96000" y="476280"/>
              <a:ext cx="2952720" cy="1355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たとき，受理状態に遷移し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その時プッシュダウンスタックは空（ボトムマーカーのみ）な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受理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5435640" y="3284640"/>
            <a:ext cx="3206880" cy="1180440"/>
            <a:chOff x="5435640" y="3284640"/>
            <a:chExt cx="3206880" cy="118044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5435640" y="3284640"/>
                  <a:ext cx="32068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1854360" y="189000"/>
                <a:ext cx="5217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48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51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2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1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1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2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1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4" name=""/>
          <p:cNvGrpSpPr/>
          <p:nvPr/>
        </p:nvGrpSpPr>
        <p:grpSpPr>
          <a:xfrm>
            <a:off x="5867280" y="476280"/>
            <a:ext cx="2952720" cy="2521080"/>
            <a:chOff x="5867280" y="476280"/>
            <a:chExt cx="2952720" cy="2521080"/>
          </a:xfrm>
        </p:grpSpPr>
        <p:sp>
          <p:nvSpPr>
            <p:cNvPr id="1015" name=""/>
            <p:cNvSpPr/>
            <p:nvPr/>
          </p:nvSpPr>
          <p:spPr>
            <a:xfrm>
              <a:off x="5867280" y="476280"/>
              <a:ext cx="2952720" cy="2521080"/>
            </a:xfrm>
            <a:prstGeom prst="wedgeRoundRectCallout">
              <a:avLst>
                <a:gd name="adj1" fmla="val -66837"/>
                <a:gd name="adj2" fmla="val 73805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84000" y="620640"/>
              <a:ext cx="2583720" cy="16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は読み終えたが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受理状態ではなく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プッシュダウンスタックも空ではない。これ以上遷移できないので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は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1673280" y="189000"/>
                <a:ext cx="5583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9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4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4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4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584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1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4584600" y="9684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5180040" y="939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4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14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15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6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7" name=""/>
              <p:cNvSpPr txBox="1"/>
              <p:nvPr/>
            </p:nvSpPr>
            <p:spPr>
              <a:xfrm>
                <a:off x="4595760" y="9572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180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0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9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0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0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4595760" y="9446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16621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332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31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05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90840" y="1843200"/>
                <a:ext cx="392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22480" y="184320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16360" y="17733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085760" y="1771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627280" y="1844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5207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4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5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5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4608360" y="93204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192640" y="922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9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459900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51944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34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5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5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2456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72" name=""/>
          <p:cNvGrpSpPr/>
          <p:nvPr/>
        </p:nvGrpSpPr>
        <p:grpSpPr>
          <a:xfrm>
            <a:off x="5867280" y="549360"/>
            <a:ext cx="3097440" cy="2087640"/>
            <a:chOff x="5867280" y="549360"/>
            <a:chExt cx="3097440" cy="2087640"/>
          </a:xfrm>
        </p:grpSpPr>
        <p:sp>
          <p:nvSpPr>
            <p:cNvPr id="1373" name=""/>
            <p:cNvSpPr/>
            <p:nvPr/>
          </p:nvSpPr>
          <p:spPr>
            <a:xfrm>
              <a:off x="5867280" y="549360"/>
              <a:ext cx="3097440" cy="2087640"/>
            </a:xfrm>
            <a:prstGeom prst="wedgeRoundRectCallout">
              <a:avLst>
                <a:gd name="adj1" fmla="val -67685"/>
                <a:gd name="adj2" fmla="val 97148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012000" y="836640"/>
              <a:ext cx="2808000" cy="1050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ることができない（これ以上遷移できない）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1835280" y="1197000"/>
            <a:ext cx="48974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同様に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だけから成る入力語は読み終えることはできるが，読み終えて遷移する状態は受理状態ではなく，かつその時のプッシュダウンスタックは空で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また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後に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て　　　　　　さらに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るような入力語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から始まる入力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いずれ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その入力語を読み終えることができ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124000" y="5300640"/>
                <a:ext cx="4032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7" name=""/>
          <p:cNvSpPr/>
          <p:nvPr/>
        </p:nvSpPr>
        <p:spPr>
          <a:xfrm>
            <a:off x="900000" y="537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00720" y="5445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26920" y="83664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2222640" y="2997360"/>
            <a:ext cx="685800" cy="1066680"/>
            <a:chOff x="2222640" y="2997360"/>
            <a:chExt cx="685800" cy="1066680"/>
          </a:xfrm>
        </p:grpSpPr>
        <p:sp>
          <p:nvSpPr>
            <p:cNvPr id="1381" name=""/>
            <p:cNvSpPr/>
            <p:nvPr/>
          </p:nvSpPr>
          <p:spPr>
            <a:xfrm>
              <a:off x="2222640" y="2997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2233440" y="3115440"/>
              <a:ext cx="12528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4672080" y="1486080"/>
            <a:ext cx="685800" cy="1066680"/>
            <a:chOff x="4672080" y="1486080"/>
            <a:chExt cx="685800" cy="1066680"/>
          </a:xfrm>
        </p:grpSpPr>
        <p:sp>
          <p:nvSpPr>
            <p:cNvPr id="1384" name=""/>
            <p:cNvSpPr/>
            <p:nvPr/>
          </p:nvSpPr>
          <p:spPr>
            <a:xfrm>
              <a:off x="467208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5208840" y="223344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6" name=""/>
          <p:cNvSpPr/>
          <p:nvPr/>
        </p:nvSpPr>
        <p:spPr>
          <a:xfrm>
            <a:off x="297828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41656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2222640" y="1486080"/>
            <a:ext cx="685800" cy="1066680"/>
            <a:chOff x="2222640" y="1486080"/>
            <a:chExt cx="685800" cy="1066680"/>
          </a:xfrm>
        </p:grpSpPr>
        <p:sp>
          <p:nvSpPr>
            <p:cNvPr id="1389" name=""/>
            <p:cNvSpPr/>
            <p:nvPr/>
          </p:nvSpPr>
          <p:spPr>
            <a:xfrm>
              <a:off x="222264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2756160" y="223272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1646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139840" y="2349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59900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047000" y="2421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120080" y="249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071720" y="1341360"/>
                <a:ext cx="1161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7264440" y="2421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481500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2287440" y="2373480"/>
                <a:ext cx="44928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2943360" y="350208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3230640" y="2421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3879720" y="162864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5607000" y="234936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２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" name=""/>
          <p:cNvGrpSpPr/>
          <p:nvPr/>
        </p:nvGrpSpPr>
        <p:grpSpPr>
          <a:xfrm>
            <a:off x="5435640" y="3357720"/>
            <a:ext cx="3279600" cy="1107360"/>
            <a:chOff x="5435640" y="3357720"/>
            <a:chExt cx="3279600" cy="110736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508720" y="3357720"/>
                  <a:ext cx="32065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1160" y="16477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0048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099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673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87640" y="1828800"/>
                <a:ext cx="392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19280" y="1828800"/>
                <a:ext cx="408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213520" y="1758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582560" y="1757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411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06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54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9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52640" y="3773520"/>
                <a:ext cx="5619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56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5600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457200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92360" y="5157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5805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期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0592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1305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7800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94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4348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00720" y="3716280"/>
                <a:ext cx="42526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987640" y="5157720"/>
                <a:ext cx="568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835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30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73520" y="3790800"/>
                <a:ext cx="519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3824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58000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24360" y="5229360"/>
                <a:ext cx="492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99564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515772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0920" y="580536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00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2482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55420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364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3640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76712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2600" y="52610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51520" y="3141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ステップを繰り返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44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8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68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1417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28472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1080" y="3357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344840" y="3773520"/>
                <a:ext cx="605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0400" y="1700280"/>
                <a:ext cx="489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140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464328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94036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627280" y="177336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108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13080" y="51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13080" y="5805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7280" y="549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動作停止時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72000" y="404640"/>
                <a:ext cx="2305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1350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063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8558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016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41964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42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911840" y="5229360"/>
                <a:ext cx="617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4500720" y="5300640"/>
            <a:ext cx="28872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300720" y="1628640"/>
            <a:ext cx="2592360" cy="2529000"/>
            <a:chOff x="6300720" y="1628640"/>
            <a:chExt cx="2592360" cy="2529000"/>
          </a:xfrm>
        </p:grpSpPr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6300720" y="1628640"/>
                  <a:ext cx="1522440" cy="14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F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ε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6300720" y="3141720"/>
              <a:ext cx="2592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語を受理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40:18Z</dcterms:modified>
  <cp:revision>31</cp:revision>
  <dc:subject/>
  <dc:title>PowerPoint プレゼンテーション</dc:title>
</cp:coreProperties>
</file>