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1FFF-4BAC-4164-8950-61DE325F9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9F29-F97D-4F9A-879B-0AC50F9CE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15C7-565C-44AB-84C4-CDBAD46F1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EEA0-EF1F-40E2-B8FB-235D5043A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3EBA-1071-4B05-9ED3-364AB141C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9EFA-A50E-4726-B126-2EA873FB1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A601-4B15-454B-8B89-811D010AF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FC71-88F5-495A-AB19-94737694A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0688-E7A2-468A-82EF-1E442ECB5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AC53-48D4-4DB8-B8ED-B09D4AF8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63CB-1C39-4580-A363-7E9D9890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2297-A8E2-4871-B899-960A1886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814C1-4B74-4C97-BB04-E1F1A7F53D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5335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3733920" y="380880"/>
                <a:ext cx="396216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" name=""/>
          <p:cNvGrpSpPr/>
          <p:nvPr/>
        </p:nvGrpSpPr>
        <p:grpSpPr>
          <a:xfrm>
            <a:off x="990720" y="1371600"/>
            <a:ext cx="6629400" cy="609480"/>
            <a:chOff x="990720" y="1371600"/>
            <a:chExt cx="6629400" cy="609480"/>
          </a:xfrm>
        </p:grpSpPr>
        <p:sp>
          <p:nvSpPr>
            <p:cNvPr id="44" name=""/>
            <p:cNvSpPr/>
            <p:nvPr/>
          </p:nvSpPr>
          <p:spPr>
            <a:xfrm>
              <a:off x="990720" y="1371600"/>
              <a:ext cx="66294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1143000" y="1371600"/>
                  <a:ext cx="4874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6" name=""/>
            <p:cNvSpPr/>
            <p:nvPr/>
          </p:nvSpPr>
          <p:spPr>
            <a:xfrm>
              <a:off x="2209680" y="144792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990720" y="2209680"/>
            <a:ext cx="6629400" cy="609480"/>
            <a:chOff x="990720" y="2209680"/>
            <a:chExt cx="6629400" cy="609480"/>
          </a:xfrm>
        </p:grpSpPr>
        <p:sp>
          <p:nvSpPr>
            <p:cNvPr id="48" name=""/>
            <p:cNvSpPr/>
            <p:nvPr/>
          </p:nvSpPr>
          <p:spPr>
            <a:xfrm>
              <a:off x="990720" y="2209680"/>
              <a:ext cx="66294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" name=""/>
                <p:cNvSpPr txBox="1"/>
                <p:nvPr/>
              </p:nvSpPr>
              <p:spPr>
                <a:xfrm>
                  <a:off x="1182600" y="2270160"/>
                  <a:ext cx="406440" cy="48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" name=""/>
            <p:cNvSpPr/>
            <p:nvPr/>
          </p:nvSpPr>
          <p:spPr>
            <a:xfrm>
              <a:off x="2209680" y="228600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入力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990720" y="3886200"/>
            <a:ext cx="6629400" cy="650880"/>
            <a:chOff x="990720" y="3886200"/>
            <a:chExt cx="6629400" cy="650880"/>
          </a:xfrm>
        </p:grpSpPr>
        <p:sp>
          <p:nvSpPr>
            <p:cNvPr id="52" name=""/>
            <p:cNvSpPr/>
            <p:nvPr/>
          </p:nvSpPr>
          <p:spPr>
            <a:xfrm>
              <a:off x="990720" y="3886200"/>
              <a:ext cx="66294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" name=""/>
                <p:cNvSpPr txBox="1"/>
                <p:nvPr/>
              </p:nvSpPr>
              <p:spPr>
                <a:xfrm>
                  <a:off x="1219320" y="3886200"/>
                  <a:ext cx="52848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4" name=""/>
            <p:cNvSpPr/>
            <p:nvPr/>
          </p:nvSpPr>
          <p:spPr>
            <a:xfrm>
              <a:off x="2286000" y="403848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初期状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3957480" y="3886200"/>
                  <a:ext cx="130032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6" name=""/>
          <p:cNvGrpSpPr/>
          <p:nvPr/>
        </p:nvGrpSpPr>
        <p:grpSpPr>
          <a:xfrm>
            <a:off x="990720" y="4800600"/>
            <a:ext cx="6629400" cy="611280"/>
            <a:chOff x="990720" y="4800600"/>
            <a:chExt cx="6629400" cy="611280"/>
          </a:xfrm>
        </p:grpSpPr>
        <p:grpSp>
          <p:nvGrpSpPr>
            <p:cNvPr id="57" name=""/>
            <p:cNvGrpSpPr/>
            <p:nvPr/>
          </p:nvGrpSpPr>
          <p:grpSpPr>
            <a:xfrm>
              <a:off x="990720" y="4800600"/>
              <a:ext cx="6629400" cy="609480"/>
              <a:chOff x="990720" y="4800600"/>
              <a:chExt cx="6629400" cy="609480"/>
            </a:xfrm>
          </p:grpSpPr>
          <p:sp>
            <p:nvSpPr>
              <p:cNvPr id="58" name=""/>
              <p:cNvSpPr/>
              <p:nvPr/>
            </p:nvSpPr>
            <p:spPr>
              <a:xfrm>
                <a:off x="990720" y="4800600"/>
                <a:ext cx="6629400" cy="609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9" name=""/>
                  <p:cNvSpPr txBox="1"/>
                  <p:nvPr/>
                </p:nvSpPr>
                <p:spPr>
                  <a:xfrm>
                    <a:off x="1219320" y="4860720"/>
                    <a:ext cx="487080" cy="488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F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0" name=""/>
              <p:cNvSpPr/>
              <p:nvPr/>
            </p:nvSpPr>
            <p:spPr>
              <a:xfrm>
                <a:off x="2286000" y="4800600"/>
                <a:ext cx="3124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受理状態の有限集合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1" name=""/>
                <p:cNvSpPr txBox="1"/>
                <p:nvPr/>
              </p:nvSpPr>
              <p:spPr>
                <a:xfrm>
                  <a:off x="5562720" y="4800600"/>
                  <a:ext cx="1299960" cy="61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⊆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2" name=""/>
          <p:cNvGrpSpPr/>
          <p:nvPr/>
        </p:nvGrpSpPr>
        <p:grpSpPr>
          <a:xfrm>
            <a:off x="990720" y="3048120"/>
            <a:ext cx="6629400" cy="685800"/>
            <a:chOff x="990720" y="3048120"/>
            <a:chExt cx="6629400" cy="685800"/>
          </a:xfrm>
        </p:grpSpPr>
        <p:sp>
          <p:nvSpPr>
            <p:cNvPr id="63" name=""/>
            <p:cNvSpPr/>
            <p:nvPr/>
          </p:nvSpPr>
          <p:spPr>
            <a:xfrm>
              <a:off x="990720" y="3048120"/>
              <a:ext cx="66294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" name=""/>
                <p:cNvSpPr txBox="1"/>
                <p:nvPr/>
              </p:nvSpPr>
              <p:spPr>
                <a:xfrm>
                  <a:off x="1163520" y="3164040"/>
                  <a:ext cx="446040" cy="52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5" name=""/>
            <p:cNvSpPr/>
            <p:nvPr/>
          </p:nvSpPr>
          <p:spPr>
            <a:xfrm>
              <a:off x="2286000" y="320040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動作関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" name=""/>
                <p:cNvSpPr txBox="1"/>
                <p:nvPr/>
              </p:nvSpPr>
              <p:spPr>
                <a:xfrm>
                  <a:off x="3809880" y="3124440"/>
                  <a:ext cx="255456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Σ</m:t>
                      </m:r>
                      <m:r>
                        <m:t xml:space="preserve">→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7" name=""/>
          <p:cNvSpPr/>
          <p:nvPr/>
        </p:nvSpPr>
        <p:spPr>
          <a:xfrm>
            <a:off x="1981080" y="57913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これは形式的定義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95680" y="25909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548640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0" y="27432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5303880" y="3200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3886200" y="914400"/>
                <a:ext cx="6858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762120" y="4876920"/>
                <a:ext cx="7696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のとき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は入力語</m:t>
                    </m:r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を受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762120" y="5562720"/>
                <a:ext cx="76611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∉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のとき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は入力語</m:t>
                    </m:r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を拒否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838080" y="5335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3589200" y="380880"/>
                <a:ext cx="425160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1" name=""/>
          <p:cNvGrpSpPr/>
          <p:nvPr/>
        </p:nvGrpSpPr>
        <p:grpSpPr>
          <a:xfrm>
            <a:off x="990720" y="1143000"/>
            <a:ext cx="6172200" cy="609480"/>
            <a:chOff x="990720" y="1143000"/>
            <a:chExt cx="6172200" cy="609480"/>
          </a:xfrm>
        </p:grpSpPr>
        <p:sp>
          <p:nvSpPr>
            <p:cNvPr id="222" name=""/>
            <p:cNvSpPr/>
            <p:nvPr/>
          </p:nvSpPr>
          <p:spPr>
            <a:xfrm>
              <a:off x="990720" y="1143000"/>
              <a:ext cx="61722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3" name=""/>
                <p:cNvSpPr txBox="1"/>
                <p:nvPr/>
              </p:nvSpPr>
              <p:spPr>
                <a:xfrm>
                  <a:off x="1219320" y="1143000"/>
                  <a:ext cx="20714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4" name=""/>
          <p:cNvGrpSpPr/>
          <p:nvPr/>
        </p:nvGrpSpPr>
        <p:grpSpPr>
          <a:xfrm>
            <a:off x="990720" y="1905120"/>
            <a:ext cx="6172200" cy="608040"/>
            <a:chOff x="990720" y="1905120"/>
            <a:chExt cx="6172200" cy="608040"/>
          </a:xfrm>
        </p:grpSpPr>
        <p:sp>
          <p:nvSpPr>
            <p:cNvPr id="225" name=""/>
            <p:cNvSpPr/>
            <p:nvPr/>
          </p:nvSpPr>
          <p:spPr>
            <a:xfrm>
              <a:off x="990720" y="1905120"/>
              <a:ext cx="6172200" cy="5331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6" name=""/>
                <p:cNvSpPr txBox="1"/>
                <p:nvPr/>
              </p:nvSpPr>
              <p:spPr>
                <a:xfrm>
                  <a:off x="1219320" y="1905120"/>
                  <a:ext cx="178740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7" name=""/>
          <p:cNvGrpSpPr/>
          <p:nvPr/>
        </p:nvGrpSpPr>
        <p:grpSpPr>
          <a:xfrm>
            <a:off x="990720" y="2666880"/>
            <a:ext cx="6172200" cy="2387880"/>
            <a:chOff x="990720" y="2666880"/>
            <a:chExt cx="6172200" cy="2387880"/>
          </a:xfrm>
        </p:grpSpPr>
        <p:grpSp>
          <p:nvGrpSpPr>
            <p:cNvPr id="228" name=""/>
            <p:cNvGrpSpPr/>
            <p:nvPr/>
          </p:nvGrpSpPr>
          <p:grpSpPr>
            <a:xfrm>
              <a:off x="990720" y="2666880"/>
              <a:ext cx="6172200" cy="2286000"/>
              <a:chOff x="990720" y="2666880"/>
              <a:chExt cx="6172200" cy="2286000"/>
            </a:xfrm>
          </p:grpSpPr>
          <p:sp>
            <p:nvSpPr>
              <p:cNvPr id="229" name=""/>
              <p:cNvSpPr/>
              <p:nvPr/>
            </p:nvSpPr>
            <p:spPr>
              <a:xfrm>
                <a:off x="990720" y="2666880"/>
                <a:ext cx="6172200" cy="2286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30" name=""/>
                  <p:cNvSpPr txBox="1"/>
                  <p:nvPr/>
                </p:nvSpPr>
                <p:spPr>
                  <a:xfrm>
                    <a:off x="1219320" y="2666880"/>
                    <a:ext cx="2554200" cy="609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  <m:r>
                          <m:t xml:space="preserve">:</m:t>
                        </m:r>
                        <m:r>
                          <m:t xml:space="preserve">Q</m:t>
                        </m:r>
                        <m:r>
                          <m:t xml:space="preserve">×</m:t>
                        </m:r>
                        <m:r>
                          <m:t xml:space="preserve">Σ</m:t>
                        </m:r>
                        <m:r>
                          <m:t xml:space="preserve">→</m:t>
                        </m:r>
                        <m:r>
                          <m:t xml:space="preserve">Q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2514600" y="3200400"/>
                  <a:ext cx="3962520" cy="185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2" name=""/>
          <p:cNvGrpSpPr/>
          <p:nvPr/>
        </p:nvGrpSpPr>
        <p:grpSpPr>
          <a:xfrm>
            <a:off x="990720" y="5105520"/>
            <a:ext cx="6172200" cy="650880"/>
            <a:chOff x="990720" y="5105520"/>
            <a:chExt cx="6172200" cy="650880"/>
          </a:xfrm>
        </p:grpSpPr>
        <p:sp>
          <p:nvSpPr>
            <p:cNvPr id="233" name=""/>
            <p:cNvSpPr/>
            <p:nvPr/>
          </p:nvSpPr>
          <p:spPr>
            <a:xfrm>
              <a:off x="990720" y="5105520"/>
              <a:ext cx="61722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4" name=""/>
                <p:cNvSpPr txBox="1"/>
                <p:nvPr/>
              </p:nvSpPr>
              <p:spPr>
                <a:xfrm>
                  <a:off x="1295280" y="5105520"/>
                  <a:ext cx="122076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5" name=""/>
          <p:cNvGrpSpPr/>
          <p:nvPr/>
        </p:nvGrpSpPr>
        <p:grpSpPr>
          <a:xfrm>
            <a:off x="990720" y="5867280"/>
            <a:ext cx="6172200" cy="635040"/>
            <a:chOff x="990720" y="5867280"/>
            <a:chExt cx="6172200" cy="635040"/>
          </a:xfrm>
        </p:grpSpPr>
        <p:sp>
          <p:nvSpPr>
            <p:cNvPr id="236" name=""/>
            <p:cNvSpPr/>
            <p:nvPr/>
          </p:nvSpPr>
          <p:spPr>
            <a:xfrm>
              <a:off x="990720" y="5867280"/>
              <a:ext cx="617220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7" name=""/>
                <p:cNvSpPr txBox="1"/>
                <p:nvPr/>
              </p:nvSpPr>
              <p:spPr>
                <a:xfrm>
                  <a:off x="1371600" y="5943600"/>
                  <a:ext cx="14479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362320" y="190512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1055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7524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26668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9810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2819520" y="4191120"/>
                <a:ext cx="387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3200400" y="205740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25146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52578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38862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45720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1523880" y="457200"/>
                <a:ext cx="55627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baa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3429000" y="5715000"/>
                <a:ext cx="19875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362320" y="190512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1055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4382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3526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6668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3505320" y="4191120"/>
                <a:ext cx="3873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3200400" y="205740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25146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52578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38862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45720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3449520" y="5715000"/>
                <a:ext cx="19465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362320" y="190512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1055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240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40384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4191120" y="4191120"/>
                <a:ext cx="387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3200400" y="205740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25146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52578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38862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45720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3429000" y="5715000"/>
                <a:ext cx="19875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2362320" y="190512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055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8620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480060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11480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4952880" y="4191120"/>
                <a:ext cx="3873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3200400" y="205740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25146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52578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38862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45720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3468600" y="5715000"/>
                <a:ext cx="19065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2362320" y="190512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1055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4956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54100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7242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5638680" y="4114800"/>
                <a:ext cx="30168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3200400" y="205740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25146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52578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38862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45720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1066680" y="5715000"/>
                <a:ext cx="70977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∈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であるから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は入力語</m:t>
                    </m:r>
                    <m:r>
                      <m:rPr>
                        <m:lit/>
                        <m:nor/>
                      </m:rPr>
                      <m:t xml:space="preserve">abaa</m:t>
                    </m:r>
                    <m:r>
                      <m:rPr>
                        <m:lit/>
                        <m:nor/>
                      </m:rPr>
                      <m:t xml:space="preserve">を受理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2362320" y="190512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7524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26668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810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819520" y="4191120"/>
                <a:ext cx="387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3200400" y="2133720"/>
                <a:ext cx="3175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2514600" y="2057400"/>
                <a:ext cx="3808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45720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3886200" y="2057400"/>
                <a:ext cx="285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1614600" y="457200"/>
                <a:ext cx="5379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bab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3449520" y="5715000"/>
                <a:ext cx="19465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2362320" y="190512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4382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33526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59092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3505320" y="4191120"/>
                <a:ext cx="387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3200400" y="2133720"/>
                <a:ext cx="3175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2514600" y="2057400"/>
                <a:ext cx="3808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45720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3886200" y="2057400"/>
                <a:ext cx="285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3429000" y="5715000"/>
                <a:ext cx="19875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2362320" y="190512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1240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40384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3526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4191120" y="4191120"/>
                <a:ext cx="3873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3200400" y="2133720"/>
                <a:ext cx="3175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2514600" y="2057400"/>
                <a:ext cx="3808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45720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3886200" y="2057400"/>
                <a:ext cx="285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3449520" y="5715000"/>
                <a:ext cx="19465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25909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160020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371600" y="3200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3886200" y="914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362320" y="190512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098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47242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0384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4876920" y="4191120"/>
                <a:ext cx="387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3200400" y="2133720"/>
                <a:ext cx="3175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2514600" y="2057400"/>
                <a:ext cx="3808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45720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3886200" y="2057400"/>
                <a:ext cx="285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1138320" y="5715000"/>
                <a:ext cx="69530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∉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であるから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は入力語</m:t>
                    </m:r>
                    <m:r>
                      <m:rPr>
                        <m:lit/>
                        <m:nor/>
                      </m:rPr>
                      <m:t xml:space="preserve">bab</m:t>
                    </m:r>
                    <m:r>
                      <m:rPr>
                        <m:lit/>
                        <m:nor/>
                      </m:rPr>
                      <m:t xml:space="preserve">を拒否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2916360" y="5445000"/>
                <a:ext cx="19875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2771640" y="1268280"/>
                <a:ext cx="20718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69" name=""/>
          <p:cNvGrpSpPr/>
          <p:nvPr/>
        </p:nvGrpSpPr>
        <p:grpSpPr>
          <a:xfrm>
            <a:off x="2286000" y="3048120"/>
            <a:ext cx="4648320" cy="1828800"/>
            <a:chOff x="2286000" y="3048120"/>
            <a:chExt cx="4648320" cy="1828800"/>
          </a:xfrm>
        </p:grpSpPr>
        <p:sp>
          <p:nvSpPr>
            <p:cNvPr id="370" name=""/>
            <p:cNvSpPr/>
            <p:nvPr/>
          </p:nvSpPr>
          <p:spPr>
            <a:xfrm>
              <a:off x="2286000" y="3048120"/>
              <a:ext cx="4648320" cy="18288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 flipV="1">
              <a:off x="2361600" y="4191120"/>
              <a:ext cx="146520" cy="158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2438280" y="3505320"/>
            <a:ext cx="1905120" cy="914400"/>
            <a:chOff x="2438280" y="3505320"/>
            <a:chExt cx="1905120" cy="914400"/>
          </a:xfrm>
        </p:grpSpPr>
        <p:sp>
          <p:nvSpPr>
            <p:cNvPr id="373" name=""/>
            <p:cNvSpPr/>
            <p:nvPr/>
          </p:nvSpPr>
          <p:spPr>
            <a:xfrm>
              <a:off x="2438280" y="3505320"/>
              <a:ext cx="1905120" cy="9144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 flipV="1">
              <a:off x="2450520" y="4112640"/>
              <a:ext cx="188640" cy="105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2209680" y="2971800"/>
            <a:ext cx="48006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6705720" y="2590920"/>
            <a:ext cx="685800" cy="1066680"/>
            <a:chOff x="6705720" y="2590920"/>
            <a:chExt cx="685800" cy="1066680"/>
          </a:xfrm>
        </p:grpSpPr>
        <p:sp>
          <p:nvSpPr>
            <p:cNvPr id="377" name=""/>
            <p:cNvSpPr/>
            <p:nvPr/>
          </p:nvSpPr>
          <p:spPr>
            <a:xfrm>
              <a:off x="6705720" y="259092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7289280" y="3279960"/>
              <a:ext cx="7308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2730600" y="457200"/>
                <a:ext cx="3147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0" name=""/>
          <p:cNvSpPr/>
          <p:nvPr/>
        </p:nvSpPr>
        <p:spPr>
          <a:xfrm>
            <a:off x="259092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02920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1828800" y="2590920"/>
            <a:ext cx="685800" cy="1066680"/>
            <a:chOff x="1828800" y="2590920"/>
            <a:chExt cx="685800" cy="1066680"/>
          </a:xfrm>
        </p:grpSpPr>
        <p:sp>
          <p:nvSpPr>
            <p:cNvPr id="383" name=""/>
            <p:cNvSpPr/>
            <p:nvPr/>
          </p:nvSpPr>
          <p:spPr>
            <a:xfrm>
              <a:off x="1828800" y="259092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2392200" y="3329640"/>
              <a:ext cx="9828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1219320" y="358128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75248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91120" y="34290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629400" y="34290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705720" y="35053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1676520" y="236232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3352680" y="397656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5705640" y="427680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6477120" y="251460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5257800" y="358128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2971800" y="358128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6891480" y="361008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4419720" y="365760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1994040" y="365760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9" name=""/>
          <p:cNvSpPr/>
          <p:nvPr/>
        </p:nvSpPr>
        <p:spPr>
          <a:xfrm>
            <a:off x="1908000" y="1125360"/>
            <a:ext cx="33832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3203640" y="1268280"/>
                <a:ext cx="12207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1" name=""/>
          <p:cNvSpPr/>
          <p:nvPr/>
        </p:nvSpPr>
        <p:spPr>
          <a:xfrm>
            <a:off x="2268360" y="1125360"/>
            <a:ext cx="33832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3635280" y="1268280"/>
                <a:ext cx="13813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03" name=""/>
          <p:cNvSpPr/>
          <p:nvPr/>
        </p:nvSpPr>
        <p:spPr>
          <a:xfrm>
            <a:off x="2556000" y="1125360"/>
            <a:ext cx="338292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116000" y="5157720"/>
            <a:ext cx="57596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3132000" y="5445000"/>
                <a:ext cx="19465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6" name=""/>
          <p:cNvSpPr/>
          <p:nvPr/>
        </p:nvSpPr>
        <p:spPr>
          <a:xfrm>
            <a:off x="1403280" y="5157720"/>
            <a:ext cx="57596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3348000" y="5445000"/>
                <a:ext cx="19051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8" name=""/>
          <p:cNvSpPr/>
          <p:nvPr/>
        </p:nvSpPr>
        <p:spPr>
          <a:xfrm>
            <a:off x="1692360" y="5157720"/>
            <a:ext cx="575928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3564000" y="5445000"/>
                <a:ext cx="2106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0" name=""/>
          <p:cNvSpPr/>
          <p:nvPr/>
        </p:nvSpPr>
        <p:spPr>
          <a:xfrm>
            <a:off x="1979640" y="5157720"/>
            <a:ext cx="575928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3780000" y="5445000"/>
                <a:ext cx="18637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2" name=""/>
          <p:cNvSpPr/>
          <p:nvPr/>
        </p:nvSpPr>
        <p:spPr>
          <a:xfrm>
            <a:off x="2268360" y="5229360"/>
            <a:ext cx="57596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3995640" y="5445000"/>
                <a:ext cx="19051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4" name=""/>
          <p:cNvSpPr/>
          <p:nvPr/>
        </p:nvSpPr>
        <p:spPr>
          <a:xfrm>
            <a:off x="2556000" y="5229360"/>
            <a:ext cx="575928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1523880" y="380880"/>
                <a:ext cx="55627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baa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>
            <a:off x="685800" y="114300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8380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2" name=""/>
          <p:cNvSpPr/>
          <p:nvPr/>
        </p:nvSpPr>
        <p:spPr>
          <a:xfrm flipV="1">
            <a:off x="104292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685800" y="114300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8380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3" name=""/>
          <p:cNvSpPr/>
          <p:nvPr/>
        </p:nvSpPr>
        <p:spPr>
          <a:xfrm flipV="1">
            <a:off x="169236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3348000" y="422100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685800" y="114300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8380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0" name=""/>
          <p:cNvSpPr/>
          <p:nvPr/>
        </p:nvSpPr>
        <p:spPr>
          <a:xfrm flipV="1">
            <a:off x="241128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685800" y="114300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8380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7" name=""/>
          <p:cNvSpPr/>
          <p:nvPr/>
        </p:nvSpPr>
        <p:spPr>
          <a:xfrm flipV="1">
            <a:off x="305928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685800" y="114300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8380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468360" y="5950080"/>
                <a:ext cx="7912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は受理状態であるから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は入力語</m:t>
                    </m:r>
                    <m:r>
                      <m:rPr>
                        <m:lit/>
                        <m:nor/>
                      </m:rPr>
                      <m:t xml:space="preserve">abaa</m:t>
                    </m:r>
                    <m:r>
                      <m:rPr>
                        <m:lit/>
                        <m:nor/>
                      </m:rPr>
                      <m:t xml:space="preserve">を受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5" name=""/>
          <p:cNvSpPr/>
          <p:nvPr/>
        </p:nvSpPr>
        <p:spPr>
          <a:xfrm flipV="1">
            <a:off x="370836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9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0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1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02" name=""/>
              <p:cNvSpPr txBox="1"/>
              <p:nvPr/>
            </p:nvSpPr>
            <p:spPr>
              <a:xfrm>
                <a:off x="1614600" y="380880"/>
                <a:ext cx="5379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bab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3" name=""/>
          <p:cNvSpPr/>
          <p:nvPr/>
        </p:nvSpPr>
        <p:spPr>
          <a:xfrm>
            <a:off x="685800" y="114300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9810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668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8571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281952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0" name=""/>
              <p:cNvSpPr txBox="1"/>
              <p:nvPr/>
            </p:nvSpPr>
            <p:spPr>
              <a:xfrm>
                <a:off x="2209680" y="129528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1" name=""/>
          <p:cNvSpPr/>
          <p:nvPr/>
        </p:nvSpPr>
        <p:spPr>
          <a:xfrm flipV="1">
            <a:off x="1042920" y="18144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1619280" y="263700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1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685800" y="114300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9810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6668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8571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281952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2209680" y="129528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6" name=""/>
          <p:cNvSpPr/>
          <p:nvPr/>
        </p:nvSpPr>
        <p:spPr>
          <a:xfrm flipV="1">
            <a:off x="169236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4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9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0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685800" y="114300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9810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6668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8571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281952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2209680" y="129528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1" name=""/>
          <p:cNvSpPr/>
          <p:nvPr/>
        </p:nvSpPr>
        <p:spPr>
          <a:xfrm flipV="1">
            <a:off x="234000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9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0" name=""/>
              <p:cNvSpPr txBox="1"/>
              <p:nvPr/>
            </p:nvSpPr>
            <p:spPr>
              <a:xfrm>
                <a:off x="3348000" y="422100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1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2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3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4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5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25909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60020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371600" y="3200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2743200" y="4724280"/>
                <a:ext cx="304812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3886200" y="914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685800" y="114300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9810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6668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2" name=""/>
              <p:cNvSpPr txBox="1"/>
              <p:nvPr/>
            </p:nvSpPr>
            <p:spPr>
              <a:xfrm>
                <a:off x="8571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3" name=""/>
              <p:cNvSpPr txBox="1"/>
              <p:nvPr/>
            </p:nvSpPr>
            <p:spPr>
              <a:xfrm>
                <a:off x="281952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2209680" y="129528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539640" y="6021360"/>
                <a:ext cx="77756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は受理状態でないから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は入力語</m:t>
                    </m:r>
                    <m:r>
                      <m:rPr>
                        <m:lit/>
                        <m:nor/>
                      </m:rPr>
                      <m:t xml:space="preserve">bab</m:t>
                    </m:r>
                    <m:r>
                      <m:rPr>
                        <m:lit/>
                        <m:nor/>
                      </m:rPr>
                      <m:t xml:space="preserve">を拒否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7" name=""/>
          <p:cNvSpPr/>
          <p:nvPr/>
        </p:nvSpPr>
        <p:spPr>
          <a:xfrm flipV="1">
            <a:off x="298764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1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3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44" name=""/>
              <p:cNvSpPr txBox="1"/>
              <p:nvPr/>
            </p:nvSpPr>
            <p:spPr>
              <a:xfrm>
                <a:off x="457200" y="4800600"/>
                <a:ext cx="8205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rPr>
                            <m:lit/>
                            <m:nor/>
                          </m:rPr>
                          <m:t xml:space="preserve">は末尾が</m:t>
                        </m:r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  <m:r>
                          <m:rPr>
                            <m:lit/>
                            <m:nor/>
                          </m:rPr>
                          <m:t xml:space="preserve">であるような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5" name=""/>
          <p:cNvSpPr/>
          <p:nvPr/>
        </p:nvSpPr>
        <p:spPr>
          <a:xfrm>
            <a:off x="539640" y="42926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な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68360" y="5445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84360" y="54936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438280" y="208296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286000" y="162576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209680" y="154944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590920" y="2463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029200" y="2463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828800" y="1168560"/>
            <a:ext cx="685800" cy="10666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H="1">
            <a:off x="2392200" y="190728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705720" y="1168560"/>
            <a:ext cx="685800" cy="10666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219320" y="215892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1752480" y="2006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191120" y="2006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629400" y="2006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705720" y="20829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7249320" y="192024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H="1" flipV="1">
            <a:off x="2450520" y="2690640"/>
            <a:ext cx="188640" cy="105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H="1" flipV="1">
            <a:off x="2361600" y="276876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4" name=""/>
              <p:cNvSpPr txBox="1"/>
              <p:nvPr/>
            </p:nvSpPr>
            <p:spPr>
              <a:xfrm>
                <a:off x="1676520" y="9399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5" name=""/>
              <p:cNvSpPr txBox="1"/>
              <p:nvPr/>
            </p:nvSpPr>
            <p:spPr>
              <a:xfrm>
                <a:off x="3352680" y="255420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6" name=""/>
              <p:cNvSpPr txBox="1"/>
              <p:nvPr/>
            </p:nvSpPr>
            <p:spPr>
              <a:xfrm>
                <a:off x="5705640" y="285444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7" name=""/>
              <p:cNvSpPr txBox="1"/>
              <p:nvPr/>
            </p:nvSpPr>
            <p:spPr>
              <a:xfrm>
                <a:off x="6477120" y="109224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8" name=""/>
              <p:cNvSpPr txBox="1"/>
              <p:nvPr/>
            </p:nvSpPr>
            <p:spPr>
              <a:xfrm>
                <a:off x="5292720" y="206208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9" name=""/>
              <p:cNvSpPr txBox="1"/>
              <p:nvPr/>
            </p:nvSpPr>
            <p:spPr>
              <a:xfrm>
                <a:off x="2987640" y="206208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6891480" y="218772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4419720" y="223524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1994040" y="223524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19320" y="2590920"/>
            <a:ext cx="19810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20968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7160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998720" y="3200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886200" y="914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19320" y="2590920"/>
            <a:ext cx="19810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20968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998720" y="3200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717640" y="4724280"/>
                <a:ext cx="309888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886200" y="914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28800" y="2590920"/>
            <a:ext cx="19810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81952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0512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590920" y="3200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3886200" y="914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28800" y="2590920"/>
            <a:ext cx="19810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281952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90512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2590920" y="3200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717640" y="4724280"/>
                <a:ext cx="309888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886200" y="914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132000" y="321300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下，同様にして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86200" y="2590920"/>
            <a:ext cx="19810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487692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038480" y="28195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4602240" y="3200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3886200" y="914400"/>
                <a:ext cx="6858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517840" y="4724280"/>
                <a:ext cx="349884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08:12:54Z</dcterms:created>
  <dc:creator>米田政明</dc:creator>
  <dc:description/>
  <dc:language>en-US</dc:language>
  <cp:lastModifiedBy> </cp:lastModifiedBy>
  <dcterms:modified xsi:type="dcterms:W3CDTF">2004-10-11T07:42:56Z</dcterms:modified>
  <cp:revision>21</cp:revision>
  <dc:subject/>
  <dc:title>PowerPoint プレゼンテーション</dc:title>
</cp:coreProperties>
</file>