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B903-DAFB-4B20-981E-D8C1CBD8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DF2-AA62-436B-BDDE-E9DA4D56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98D6-5BE1-403A-8337-3D27022F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0F7-EE41-4FFB-BAD3-235EDA0E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A8D3-DE9B-4D0B-8F7E-6BC41673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D8AB-4315-425D-B747-921AB379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6439-A6AA-44CC-8D08-2FD908C3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AD9-1E42-4EEB-90D3-5F0A20F0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ACB-D194-45DD-97E3-A459F6DB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820A-F496-4B28-A04D-1FEF84FB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F31-5AB1-4E1A-8553-C5F7FD8E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1106-D4F6-496E-8D97-84F73FC1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C0F9-15E5-4D9E-B9D1-F8D092670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187280" y="920880"/>
            <a:ext cx="6264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1484280"/>
            <a:ext cx="6264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03280" y="1557360"/>
                <a:ext cx="25178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,#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7280" y="2060640"/>
            <a:ext cx="6264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49360" y="213192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187280" y="5950080"/>
            <a:ext cx="6264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47640" y="602136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187280" y="2637000"/>
            <a:ext cx="626436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465200" y="2735280"/>
                <a:ext cx="563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r>
                      <m:t xml:space="preserve">Q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Γ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73240" y="3400560"/>
                <a:ext cx="484200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0072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5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5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5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3995640" y="602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995640" y="6595560"/>
            <a:ext cx="244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716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03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0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0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0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500720" y="60213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219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6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6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7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2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500364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003640" y="6595560"/>
            <a:ext cx="144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3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3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3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8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9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9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22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823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746360" y="5380200"/>
                <a:ext cx="4290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</m:e>
                      <m:e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832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835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838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3019320" y="171288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2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3019320" y="2073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1187280" y="920880"/>
            <a:ext cx="6480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1187280" y="1557360"/>
            <a:ext cx="6480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1442880" y="1603440"/>
                <a:ext cx="1978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1187280" y="2206800"/>
            <a:ext cx="6480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1449360" y="227808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1187280" y="5878440"/>
            <a:ext cx="6480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1508040" y="597060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1187280" y="2852640"/>
            <a:ext cx="648036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1476360" y="2925720"/>
                <a:ext cx="5470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Q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/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692360" y="3573360"/>
                <a:ext cx="568476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874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877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880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041640" y="2630520"/>
                <a:ext cx="730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4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03560" y="302256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601200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9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2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3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3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0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5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43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8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8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8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56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59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62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000240" y="263052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987640" y="302256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0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0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5315040" y="6153120"/>
                <a:ext cx="393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3" name=""/>
          <p:cNvSpPr/>
          <p:nvPr/>
        </p:nvSpPr>
        <p:spPr>
          <a:xfrm>
            <a:off x="5219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 flipV="1">
            <a:off x="4500720" y="601992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3236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9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0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0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38948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5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6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5219640" y="2637000"/>
            <a:ext cx="3672000" cy="1439640"/>
            <a:chOff x="5219640" y="2637000"/>
            <a:chExt cx="3672000" cy="1439640"/>
          </a:xfrm>
        </p:grpSpPr>
        <p:sp>
          <p:nvSpPr>
            <p:cNvPr id="1197" name=""/>
            <p:cNvSpPr/>
            <p:nvPr/>
          </p:nvSpPr>
          <p:spPr>
            <a:xfrm>
              <a:off x="5219640" y="2637000"/>
              <a:ext cx="3672000" cy="1439640"/>
            </a:xfrm>
            <a:prstGeom prst="wedgeRoundRectCallout">
              <a:avLst>
                <a:gd name="adj1" fmla="val -119564"/>
                <a:gd name="adj2" fmla="val 1934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64000" y="278136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２通りの遷移の可能性があるが，ここで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4" name=""/>
          <p:cNvSpPr/>
          <p:nvPr/>
        </p:nvSpPr>
        <p:spPr>
          <a:xfrm flipV="1">
            <a:off x="3348000" y="6019920"/>
            <a:ext cx="309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6595560"/>
            <a:ext cx="309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19600" y="5533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22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25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28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2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9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6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0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5219640" y="3573360"/>
            <a:ext cx="3672000" cy="1440000"/>
            <a:chOff x="5219640" y="3573360"/>
            <a:chExt cx="3672000" cy="1440000"/>
          </a:xfrm>
        </p:grpSpPr>
        <p:sp>
          <p:nvSpPr>
            <p:cNvPr id="1262" name=""/>
            <p:cNvSpPr/>
            <p:nvPr/>
          </p:nvSpPr>
          <p:spPr>
            <a:xfrm>
              <a:off x="5219640" y="3573360"/>
              <a:ext cx="3672000" cy="1440000"/>
            </a:xfrm>
            <a:prstGeom prst="wedgeRoundRectCallout">
              <a:avLst>
                <a:gd name="adj1" fmla="val -100495"/>
                <a:gd name="adj2" fmla="val -8252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391000" y="367668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こでも２通りの遷移の可能性があるが，今度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3675240" y="613584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3564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27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8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9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9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3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3" name=""/>
          <p:cNvSpPr/>
          <p:nvPr/>
        </p:nvSpPr>
        <p:spPr>
          <a:xfrm flipV="1">
            <a:off x="4427640" y="6019920"/>
            <a:ext cx="20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4427640" y="6595560"/>
            <a:ext cx="20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989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35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35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35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7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4643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3" name=""/>
          <p:cNvSpPr/>
          <p:nvPr/>
        </p:nvSpPr>
        <p:spPr>
          <a:xfrm flipV="1">
            <a:off x="4932360" y="6019920"/>
            <a:ext cx="151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4932360" y="6595560"/>
            <a:ext cx="151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508720" y="555768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1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1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1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1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6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7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7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2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52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52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53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7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1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2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5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8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1559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1851120" y="5380200"/>
                <a:ext cx="4081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2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1568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1571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1574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3060720" y="171288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8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3081240" y="207324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37236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6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7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7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26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29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32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8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8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8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 flipV="1">
            <a:off x="4572000" y="6019920"/>
            <a:ext cx="18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572000" y="6595560"/>
            <a:ext cx="18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27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34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34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34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 flipV="1">
            <a:off x="4140360" y="6019920"/>
            <a:ext cx="230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140360" y="6595560"/>
            <a:ext cx="2303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9564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0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1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1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08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7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7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7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43:30Z</dcterms:modified>
  <cp:revision>35</cp:revision>
  <dc:subject/>
  <dc:title>PowerPoint プレゼンテーション</dc:title>
</cp:coreProperties>
</file>