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E9C4-69BA-4C8C-A075-B8A6B39E0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C3E2-F86D-408A-9A00-B950AE10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C6D3-FADE-47FD-BF0A-7FD1BD774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901B-FF28-48CD-8389-EEC3DCC7F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E492-74EE-4912-BB4B-3844C90A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349A-AC24-41F5-9929-EDFC78AD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0742-D8CF-400E-8345-05EBA6E3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C4F6-4B77-4323-9CC9-6743DADE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E08A-134E-4890-AE43-00B523E0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377D-9D68-436C-821D-7613D2DF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3794-7C79-4588-870A-B43982B0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5E06-DA77-4794-8C9A-3E925705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8235-B5D7-4D6A-ABF7-E2C84F987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755640" y="260280"/>
                <a:ext cx="69343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da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1187280" y="920880"/>
            <a:ext cx="6264360" cy="473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476360" y="907920"/>
                <a:ext cx="20890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1187280" y="1484280"/>
            <a:ext cx="626436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403280" y="1557360"/>
                <a:ext cx="25178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  <m:r>
                          <m:rPr>
                            <m:lit/>
                            <m:nor/>
                          </m:rPr>
                          <m:t xml:space="preserve">,#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187280" y="2060640"/>
            <a:ext cx="626436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449360" y="2131920"/>
                <a:ext cx="25750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1187280" y="5950080"/>
            <a:ext cx="6264360" cy="57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547640" y="6021360"/>
                <a:ext cx="11494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1187280" y="2637000"/>
            <a:ext cx="6264360" cy="32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465200" y="2735280"/>
                <a:ext cx="56390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Q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Σ</m:t>
                    </m:r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Γ</m:t>
                    </m:r>
                    <m:r>
                      <m:rPr>
                        <m:lit/>
                        <m:nor/>
                      </m:rPr>
                      <m:t xml:space="preserve">の部分集合</m:t>
                    </m:r>
                    <m:r>
                      <m:t xml:space="preserve">→</m:t>
                    </m:r>
                    <m:r>
                      <m:t xml:space="preserve">Q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Γ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073240" y="3400560"/>
                <a:ext cx="4842000" cy="22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#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#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4140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00720" y="55641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53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54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54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6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4" name=""/>
          <p:cNvSpPr/>
          <p:nvPr/>
        </p:nvSpPr>
        <p:spPr>
          <a:xfrm>
            <a:off x="3995640" y="60213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3995640" y="6595560"/>
            <a:ext cx="244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0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2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4716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00364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60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60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60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0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38" name=""/>
          <p:cNvSpPr/>
          <p:nvPr/>
        </p:nvSpPr>
        <p:spPr>
          <a:xfrm>
            <a:off x="4500720" y="602136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4500720" y="6595560"/>
            <a:ext cx="19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4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7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521964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50872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665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668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671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2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0" name=""/>
          <p:cNvSpPr/>
          <p:nvPr/>
        </p:nvSpPr>
        <p:spPr>
          <a:xfrm>
            <a:off x="500364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003640" y="6595560"/>
            <a:ext cx="1440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565164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2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730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733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736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50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7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565164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0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788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791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794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2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7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08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5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9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0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1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822" name=""/>
          <p:cNvGrpSpPr/>
          <p:nvPr/>
        </p:nvGrpSpPr>
        <p:grpSpPr>
          <a:xfrm>
            <a:off x="6227640" y="260280"/>
            <a:ext cx="2664000" cy="1584360"/>
            <a:chOff x="6227640" y="260280"/>
            <a:chExt cx="2664000" cy="1584360"/>
          </a:xfrm>
        </p:grpSpPr>
        <p:sp>
          <p:nvSpPr>
            <p:cNvPr id="823" name=""/>
            <p:cNvSpPr/>
            <p:nvPr/>
          </p:nvSpPr>
          <p:spPr>
            <a:xfrm>
              <a:off x="6227640" y="260280"/>
              <a:ext cx="2664000" cy="1584360"/>
            </a:xfrm>
            <a:prstGeom prst="wedgeRoundRectCallout">
              <a:avLst>
                <a:gd name="adj1" fmla="val -15615"/>
                <a:gd name="adj2" fmla="val 101000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372360" y="47628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746360" y="5380200"/>
                <a:ext cx="42908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</m:e>
                      <m:e/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6" name=""/>
          <p:cNvSpPr/>
          <p:nvPr/>
        </p:nvSpPr>
        <p:spPr>
          <a:xfrm>
            <a:off x="755640" y="5418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227640" y="54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55640" y="692280"/>
            <a:ext cx="7416720" cy="427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802560" y="20844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875640" y="21574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1918440" y="2760120"/>
            <a:ext cx="771840" cy="763920"/>
            <a:chOff x="1918440" y="2760120"/>
            <a:chExt cx="771840" cy="763920"/>
          </a:xfrm>
        </p:grpSpPr>
        <p:sp>
          <p:nvSpPr>
            <p:cNvPr id="832" name=""/>
            <p:cNvSpPr/>
            <p:nvPr/>
          </p:nvSpPr>
          <p:spPr>
            <a:xfrm flipV="1">
              <a:off x="1918440" y="286308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rot="11012400">
              <a:off x="1949040" y="2781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4427640" y="1577880"/>
            <a:ext cx="751320" cy="720720"/>
            <a:chOff x="4427640" y="1577880"/>
            <a:chExt cx="751320" cy="720720"/>
          </a:xfrm>
        </p:grpSpPr>
        <p:sp>
          <p:nvSpPr>
            <p:cNvPr id="835" name=""/>
            <p:cNvSpPr/>
            <p:nvPr/>
          </p:nvSpPr>
          <p:spPr>
            <a:xfrm flipH="1">
              <a:off x="5035320" y="196488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427640" y="157788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1951200" y="1482840"/>
            <a:ext cx="751320" cy="720720"/>
            <a:chOff x="1951200" y="1482840"/>
            <a:chExt cx="751320" cy="720720"/>
          </a:xfrm>
        </p:grpSpPr>
        <p:sp>
          <p:nvSpPr>
            <p:cNvPr id="838" name=""/>
            <p:cNvSpPr/>
            <p:nvPr/>
          </p:nvSpPr>
          <p:spPr>
            <a:xfrm flipH="1">
              <a:off x="2558880" y="1869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51200" y="1482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274320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387440" y="214308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892160" y="20653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356000" y="208296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4" name=""/>
              <p:cNvSpPr txBox="1"/>
              <p:nvPr/>
            </p:nvSpPr>
            <p:spPr>
              <a:xfrm>
                <a:off x="1042920" y="76356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4572000" y="2082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2063880" y="21114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7" name=""/>
              <p:cNvSpPr txBox="1"/>
              <p:nvPr/>
            </p:nvSpPr>
            <p:spPr>
              <a:xfrm>
                <a:off x="3019320" y="171288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3917880" y="836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3924360" y="1195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5423040" y="197964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"/>
              <p:cNvSpPr txBox="1"/>
              <p:nvPr/>
            </p:nvSpPr>
            <p:spPr>
              <a:xfrm>
                <a:off x="6975360" y="210348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2" name=""/>
          <p:cNvSpPr/>
          <p:nvPr/>
        </p:nvSpPr>
        <p:spPr>
          <a:xfrm>
            <a:off x="519264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1069920" y="112392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3019320" y="2073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2606760" y="324792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2606760" y="364176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2627280" y="4021200"/>
                <a:ext cx="9129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2639880" y="444816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755640" y="260280"/>
                <a:ext cx="69343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da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0" name=""/>
          <p:cNvSpPr/>
          <p:nvPr/>
        </p:nvSpPr>
        <p:spPr>
          <a:xfrm>
            <a:off x="1187280" y="920880"/>
            <a:ext cx="6480360" cy="473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1476360" y="907920"/>
                <a:ext cx="20890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2" name=""/>
          <p:cNvSpPr/>
          <p:nvPr/>
        </p:nvSpPr>
        <p:spPr>
          <a:xfrm>
            <a:off x="1187280" y="1557360"/>
            <a:ext cx="648036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1442880" y="1603440"/>
                <a:ext cx="19782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4" name=""/>
          <p:cNvSpPr/>
          <p:nvPr/>
        </p:nvSpPr>
        <p:spPr>
          <a:xfrm>
            <a:off x="1187280" y="2206800"/>
            <a:ext cx="648036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1449360" y="2278080"/>
                <a:ext cx="25750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6" name=""/>
          <p:cNvSpPr/>
          <p:nvPr/>
        </p:nvSpPr>
        <p:spPr>
          <a:xfrm>
            <a:off x="1187280" y="5878440"/>
            <a:ext cx="6480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1508040" y="5970600"/>
                <a:ext cx="11494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8" name=""/>
          <p:cNvSpPr/>
          <p:nvPr/>
        </p:nvSpPr>
        <p:spPr>
          <a:xfrm>
            <a:off x="1187280" y="2852640"/>
            <a:ext cx="6480360" cy="288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1476360" y="2925720"/>
                <a:ext cx="54705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Q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Σ</m:t>
                    </m:r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Γ</m:t>
                    </m:r>
                    <m:r>
                      <m:rPr>
                        <m:lit/>
                        <m:nor/>
                      </m:rPr>
                      <m:t xml:space="preserve">の部分集合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Q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Γ</m:t>
                            </m:r>
                          </m:e>
                          <m:sup/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1692360" y="3573360"/>
                <a:ext cx="5684760" cy="19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A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6730920" y="3068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804000" y="3141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1847520" y="3744720"/>
            <a:ext cx="770760" cy="763560"/>
            <a:chOff x="1847520" y="3744720"/>
            <a:chExt cx="770760" cy="763560"/>
          </a:xfrm>
        </p:grpSpPr>
        <p:sp>
          <p:nvSpPr>
            <p:cNvPr id="874" name=""/>
            <p:cNvSpPr/>
            <p:nvPr/>
          </p:nvSpPr>
          <p:spPr>
            <a:xfrm flipV="1">
              <a:off x="1847520" y="3847320"/>
              <a:ext cx="1584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rot="11012400">
              <a:off x="1877400" y="37659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4356000" y="2562120"/>
            <a:ext cx="752400" cy="720720"/>
            <a:chOff x="4356000" y="2562120"/>
            <a:chExt cx="752400" cy="720720"/>
          </a:xfrm>
        </p:grpSpPr>
        <p:sp>
          <p:nvSpPr>
            <p:cNvPr id="877" name=""/>
            <p:cNvSpPr/>
            <p:nvPr/>
          </p:nvSpPr>
          <p:spPr>
            <a:xfrm flipH="1">
              <a:off x="4964400" y="29487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356000" y="25621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1879560" y="2467080"/>
            <a:ext cx="752400" cy="720720"/>
            <a:chOff x="1879560" y="2467080"/>
            <a:chExt cx="752400" cy="720720"/>
          </a:xfrm>
        </p:grpSpPr>
        <p:sp>
          <p:nvSpPr>
            <p:cNvPr id="880" name=""/>
            <p:cNvSpPr/>
            <p:nvPr/>
          </p:nvSpPr>
          <p:spPr>
            <a:xfrm flipH="1">
              <a:off x="2487960" y="285372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879560" y="2467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267192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316160" y="312732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820880" y="30495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284720" y="30672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1619280" y="1673280"/>
                <a:ext cx="1152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4500720" y="30672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1992240" y="309564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3041640" y="2630520"/>
                <a:ext cx="7304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4329000" y="174636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4356000" y="21081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5365800" y="291132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6904080" y="308772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4" name=""/>
          <p:cNvSpPr/>
          <p:nvPr/>
        </p:nvSpPr>
        <p:spPr>
          <a:xfrm>
            <a:off x="512136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1646280" y="202104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3103560" y="302256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"/>
              <p:cNvSpPr txBox="1"/>
              <p:nvPr/>
            </p:nvSpPr>
            <p:spPr>
              <a:xfrm>
                <a:off x="1763640" y="4508640"/>
                <a:ext cx="95724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1763640" y="494172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1784520" y="5373720"/>
                <a:ext cx="912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797120" y="576108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700360" y="476280"/>
                <a:ext cx="3403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2" name=""/>
          <p:cNvSpPr/>
          <p:nvPr/>
        </p:nvSpPr>
        <p:spPr>
          <a:xfrm>
            <a:off x="755640" y="1413000"/>
            <a:ext cx="7488360" cy="49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6012000" y="260280"/>
                <a:ext cx="25254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5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4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8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19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92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93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93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4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8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4067280" y="2937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0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5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44364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98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98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98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8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0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0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4067280" y="2937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30920" y="3068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04000" y="3141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847520" y="3744720"/>
            <a:ext cx="770760" cy="763560"/>
            <a:chOff x="1847520" y="3744720"/>
            <a:chExt cx="770760" cy="763560"/>
          </a:xfrm>
        </p:grpSpPr>
        <p:sp>
          <p:nvSpPr>
            <p:cNvPr id="56" name=""/>
            <p:cNvSpPr/>
            <p:nvPr/>
          </p:nvSpPr>
          <p:spPr>
            <a:xfrm flipV="1">
              <a:off x="1847520" y="3847320"/>
              <a:ext cx="1584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1012400">
              <a:off x="1877400" y="37659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356000" y="2562120"/>
            <a:ext cx="752400" cy="720720"/>
            <a:chOff x="4356000" y="2562120"/>
            <a:chExt cx="752400" cy="720720"/>
          </a:xfrm>
        </p:grpSpPr>
        <p:sp>
          <p:nvSpPr>
            <p:cNvPr id="59" name=""/>
            <p:cNvSpPr/>
            <p:nvPr/>
          </p:nvSpPr>
          <p:spPr>
            <a:xfrm flipH="1">
              <a:off x="4964400" y="29487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356000" y="25621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879560" y="2467080"/>
            <a:ext cx="752400" cy="720720"/>
            <a:chOff x="1879560" y="2467080"/>
            <a:chExt cx="752400" cy="720720"/>
          </a:xfrm>
        </p:grpSpPr>
        <p:sp>
          <p:nvSpPr>
            <p:cNvPr id="62" name=""/>
            <p:cNvSpPr/>
            <p:nvPr/>
          </p:nvSpPr>
          <p:spPr>
            <a:xfrm flipH="1">
              <a:off x="2487960" y="285372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79560" y="2467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267192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16160" y="312732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0880" y="30495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4720" y="30672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619280" y="1673280"/>
                <a:ext cx="1152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500720" y="30672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992240" y="309564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000240" y="263052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329000" y="174636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356000" y="21081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365800" y="291132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904080" y="308772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512136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646280" y="202104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987640" y="302256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763640" y="4508640"/>
                <a:ext cx="95724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763640" y="494172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784520" y="5373720"/>
                <a:ext cx="912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797120" y="576108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700360" y="476280"/>
                <a:ext cx="3403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755640" y="1413000"/>
            <a:ext cx="7488360" cy="49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6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1619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1" name=""/>
          <p:cNvSpPr/>
          <p:nvPr/>
        </p:nvSpPr>
        <p:spPr>
          <a:xfrm>
            <a:off x="5003640" y="6019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003640" y="6595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50872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03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04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04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4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6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9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0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1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5315040" y="6153120"/>
                <a:ext cx="3934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3" name=""/>
          <p:cNvSpPr/>
          <p:nvPr/>
        </p:nvSpPr>
        <p:spPr>
          <a:xfrm>
            <a:off x="521964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0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1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2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3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4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2124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9" name=""/>
          <p:cNvSpPr/>
          <p:nvPr/>
        </p:nvSpPr>
        <p:spPr>
          <a:xfrm flipV="1">
            <a:off x="4500720" y="6019920"/>
            <a:ext cx="1942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4500720" y="6595560"/>
            <a:ext cx="19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932360" y="5535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09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10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10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1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9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4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1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3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4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2627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8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9" name=""/>
          <p:cNvSpPr/>
          <p:nvPr/>
        </p:nvSpPr>
        <p:spPr>
          <a:xfrm flipV="1">
            <a:off x="3851280" y="6019920"/>
            <a:ext cx="2592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3851280" y="6595560"/>
            <a:ext cx="2592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389480" y="5535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15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16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16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7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3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4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5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6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9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1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3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4232160" y="6122880"/>
                <a:ext cx="393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5" name=""/>
          <p:cNvSpPr/>
          <p:nvPr/>
        </p:nvSpPr>
        <p:spPr>
          <a:xfrm>
            <a:off x="4140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5219640" y="2637000"/>
            <a:ext cx="3672000" cy="1439640"/>
            <a:chOff x="5219640" y="2637000"/>
            <a:chExt cx="3672000" cy="1439640"/>
          </a:xfrm>
        </p:grpSpPr>
        <p:sp>
          <p:nvSpPr>
            <p:cNvPr id="1197" name=""/>
            <p:cNvSpPr/>
            <p:nvPr/>
          </p:nvSpPr>
          <p:spPr>
            <a:xfrm>
              <a:off x="5219640" y="2637000"/>
              <a:ext cx="3672000" cy="1439640"/>
            </a:xfrm>
            <a:prstGeom prst="wedgeRoundRectCallout">
              <a:avLst>
                <a:gd name="adj1" fmla="val -119564"/>
                <a:gd name="adj2" fmla="val 19347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364000" y="2781360"/>
              <a:ext cx="33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２通りの遷移の可能性があるが，ここではこちらの遷移を選ぶ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5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6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7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8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9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3132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3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4" name=""/>
          <p:cNvSpPr/>
          <p:nvPr/>
        </p:nvSpPr>
        <p:spPr>
          <a:xfrm flipV="1">
            <a:off x="3348000" y="6019920"/>
            <a:ext cx="309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3348000" y="6595560"/>
            <a:ext cx="309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819600" y="5533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1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222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4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225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228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0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4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5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7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8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9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0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1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42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3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5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6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7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8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9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0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1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2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3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4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5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6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8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4232160" y="6122880"/>
                <a:ext cx="393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0" name=""/>
          <p:cNvSpPr/>
          <p:nvPr/>
        </p:nvSpPr>
        <p:spPr>
          <a:xfrm>
            <a:off x="4140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5219640" y="3573360"/>
            <a:ext cx="3672000" cy="1440000"/>
            <a:chOff x="5219640" y="3573360"/>
            <a:chExt cx="3672000" cy="1440000"/>
          </a:xfrm>
        </p:grpSpPr>
        <p:sp>
          <p:nvSpPr>
            <p:cNvPr id="1262" name=""/>
            <p:cNvSpPr/>
            <p:nvPr/>
          </p:nvSpPr>
          <p:spPr>
            <a:xfrm>
              <a:off x="5219640" y="3573360"/>
              <a:ext cx="3672000" cy="1440000"/>
            </a:xfrm>
            <a:prstGeom prst="wedgeRoundRectCallout">
              <a:avLst>
                <a:gd name="adj1" fmla="val -100495"/>
                <a:gd name="adj2" fmla="val -82523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391000" y="3676680"/>
              <a:ext cx="33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こでも２通りの遷移の可能性があるが，今度はこちらの遷移を選ぶ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3675240" y="613584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5" name=""/>
          <p:cNvSpPr/>
          <p:nvPr/>
        </p:nvSpPr>
        <p:spPr>
          <a:xfrm>
            <a:off x="3564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2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3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4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6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3635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1" name=""/>
          <p:cNvSpPr/>
          <p:nvPr/>
        </p:nvSpPr>
        <p:spPr>
          <a:xfrm flipV="1">
            <a:off x="3851280" y="6019920"/>
            <a:ext cx="2592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3851280" y="6595560"/>
            <a:ext cx="2592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42764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28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29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29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6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8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9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0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1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2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3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4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5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6" name=""/>
              <p:cNvSpPr txBox="1"/>
              <p:nvPr/>
            </p:nvSpPr>
            <p:spPr>
              <a:xfrm>
                <a:off x="4232160" y="6122880"/>
                <a:ext cx="393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7" name=""/>
          <p:cNvSpPr/>
          <p:nvPr/>
        </p:nvSpPr>
        <p:spPr>
          <a:xfrm>
            <a:off x="4140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4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6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7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8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4140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3" name=""/>
          <p:cNvSpPr/>
          <p:nvPr/>
        </p:nvSpPr>
        <p:spPr>
          <a:xfrm flipV="1">
            <a:off x="4427640" y="6019920"/>
            <a:ext cx="201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4427640" y="6595560"/>
            <a:ext cx="201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98960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0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351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354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357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9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0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71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2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3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4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8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9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0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1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2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3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4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5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6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7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8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4643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3" name=""/>
          <p:cNvSpPr/>
          <p:nvPr/>
        </p:nvSpPr>
        <p:spPr>
          <a:xfrm flipV="1">
            <a:off x="4932360" y="6019920"/>
            <a:ext cx="1511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flipV="1">
            <a:off x="4932360" y="6595560"/>
            <a:ext cx="1511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5508720" y="555768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0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411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3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414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6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417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9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6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7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8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9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0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1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3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4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7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8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9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0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1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2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3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4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5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6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5148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0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1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084720" y="55515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46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47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47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8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1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5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6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7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8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9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0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1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2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V="1">
            <a:off x="5148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7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084720" y="55515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525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528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531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3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7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8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9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1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2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3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4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5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6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7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8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9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0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1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2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3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4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5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6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7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58" name=""/>
          <p:cNvGrpSpPr/>
          <p:nvPr/>
        </p:nvGrpSpPr>
        <p:grpSpPr>
          <a:xfrm>
            <a:off x="6227640" y="260280"/>
            <a:ext cx="2664000" cy="1584360"/>
            <a:chOff x="6227640" y="260280"/>
            <a:chExt cx="2664000" cy="1584360"/>
          </a:xfrm>
        </p:grpSpPr>
        <p:sp>
          <p:nvSpPr>
            <p:cNvPr id="1559" name=""/>
            <p:cNvSpPr/>
            <p:nvPr/>
          </p:nvSpPr>
          <p:spPr>
            <a:xfrm>
              <a:off x="6227640" y="260280"/>
              <a:ext cx="2664000" cy="1584360"/>
            </a:xfrm>
            <a:prstGeom prst="wedgeRoundRectCallout">
              <a:avLst>
                <a:gd name="adj1" fmla="val -15615"/>
                <a:gd name="adj2" fmla="val 101000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372360" y="47628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61" name=""/>
              <p:cNvSpPr txBox="1"/>
              <p:nvPr/>
            </p:nvSpPr>
            <p:spPr>
              <a:xfrm>
                <a:off x="1851120" y="5380200"/>
                <a:ext cx="40813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w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2" name=""/>
          <p:cNvSpPr/>
          <p:nvPr/>
        </p:nvSpPr>
        <p:spPr>
          <a:xfrm>
            <a:off x="755640" y="5418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227640" y="54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55640" y="692280"/>
            <a:ext cx="7416720" cy="427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802560" y="20844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6875640" y="21574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7" name=""/>
          <p:cNvGrpSpPr/>
          <p:nvPr/>
        </p:nvGrpSpPr>
        <p:grpSpPr>
          <a:xfrm>
            <a:off x="1918440" y="2760120"/>
            <a:ext cx="771840" cy="763920"/>
            <a:chOff x="1918440" y="2760120"/>
            <a:chExt cx="771840" cy="763920"/>
          </a:xfrm>
        </p:grpSpPr>
        <p:sp>
          <p:nvSpPr>
            <p:cNvPr id="1568" name=""/>
            <p:cNvSpPr/>
            <p:nvPr/>
          </p:nvSpPr>
          <p:spPr>
            <a:xfrm flipV="1">
              <a:off x="1918440" y="286308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rot="11012400">
              <a:off x="1949040" y="2781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0" name=""/>
          <p:cNvGrpSpPr/>
          <p:nvPr/>
        </p:nvGrpSpPr>
        <p:grpSpPr>
          <a:xfrm>
            <a:off x="4427640" y="1577880"/>
            <a:ext cx="751320" cy="720720"/>
            <a:chOff x="4427640" y="1577880"/>
            <a:chExt cx="751320" cy="720720"/>
          </a:xfrm>
        </p:grpSpPr>
        <p:sp>
          <p:nvSpPr>
            <p:cNvPr id="1571" name=""/>
            <p:cNvSpPr/>
            <p:nvPr/>
          </p:nvSpPr>
          <p:spPr>
            <a:xfrm flipH="1">
              <a:off x="5035320" y="196488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427640" y="157788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3" name=""/>
          <p:cNvGrpSpPr/>
          <p:nvPr/>
        </p:nvGrpSpPr>
        <p:grpSpPr>
          <a:xfrm>
            <a:off x="1951200" y="1482840"/>
            <a:ext cx="751320" cy="720720"/>
            <a:chOff x="1951200" y="1482840"/>
            <a:chExt cx="751320" cy="720720"/>
          </a:xfrm>
        </p:grpSpPr>
        <p:sp>
          <p:nvSpPr>
            <p:cNvPr id="1574" name=""/>
            <p:cNvSpPr/>
            <p:nvPr/>
          </p:nvSpPr>
          <p:spPr>
            <a:xfrm flipH="1">
              <a:off x="2558880" y="1869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951200" y="1482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6" name=""/>
          <p:cNvSpPr/>
          <p:nvPr/>
        </p:nvSpPr>
        <p:spPr>
          <a:xfrm>
            <a:off x="274320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1387440" y="214308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1892160" y="20653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356000" y="208296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0" name=""/>
              <p:cNvSpPr txBox="1"/>
              <p:nvPr/>
            </p:nvSpPr>
            <p:spPr>
              <a:xfrm>
                <a:off x="1042920" y="76356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1" name=""/>
              <p:cNvSpPr txBox="1"/>
              <p:nvPr/>
            </p:nvSpPr>
            <p:spPr>
              <a:xfrm>
                <a:off x="4572000" y="2082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2" name=""/>
              <p:cNvSpPr txBox="1"/>
              <p:nvPr/>
            </p:nvSpPr>
            <p:spPr>
              <a:xfrm>
                <a:off x="2063880" y="21114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3" name=""/>
              <p:cNvSpPr txBox="1"/>
              <p:nvPr/>
            </p:nvSpPr>
            <p:spPr>
              <a:xfrm>
                <a:off x="3060720" y="171288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4" name=""/>
              <p:cNvSpPr txBox="1"/>
              <p:nvPr/>
            </p:nvSpPr>
            <p:spPr>
              <a:xfrm>
                <a:off x="3917880" y="836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5" name=""/>
              <p:cNvSpPr txBox="1"/>
              <p:nvPr/>
            </p:nvSpPr>
            <p:spPr>
              <a:xfrm>
                <a:off x="3924360" y="1195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6" name=""/>
              <p:cNvSpPr txBox="1"/>
              <p:nvPr/>
            </p:nvSpPr>
            <p:spPr>
              <a:xfrm>
                <a:off x="5423040" y="197964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7" name=""/>
              <p:cNvSpPr txBox="1"/>
              <p:nvPr/>
            </p:nvSpPr>
            <p:spPr>
              <a:xfrm>
                <a:off x="6975360" y="210348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88" name=""/>
          <p:cNvSpPr/>
          <p:nvPr/>
        </p:nvSpPr>
        <p:spPr>
          <a:xfrm>
            <a:off x="519264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9" name=""/>
              <p:cNvSpPr txBox="1"/>
              <p:nvPr/>
            </p:nvSpPr>
            <p:spPr>
              <a:xfrm>
                <a:off x="1069920" y="112392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0" name=""/>
              <p:cNvSpPr txBox="1"/>
              <p:nvPr/>
            </p:nvSpPr>
            <p:spPr>
              <a:xfrm>
                <a:off x="3081240" y="207324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1" name=""/>
              <p:cNvSpPr txBox="1"/>
              <p:nvPr/>
            </p:nvSpPr>
            <p:spPr>
              <a:xfrm>
                <a:off x="2606760" y="324792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2606760" y="364176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3" name=""/>
              <p:cNvSpPr txBox="1"/>
              <p:nvPr/>
            </p:nvSpPr>
            <p:spPr>
              <a:xfrm>
                <a:off x="2627280" y="4021200"/>
                <a:ext cx="9129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4" name=""/>
              <p:cNvSpPr txBox="1"/>
              <p:nvPr/>
            </p:nvSpPr>
            <p:spPr>
              <a:xfrm>
                <a:off x="2639880" y="444816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372360" y="260280"/>
                <a:ext cx="25254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 flipV="1">
            <a:off x="5435640" y="6019920"/>
            <a:ext cx="100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435640" y="6595560"/>
            <a:ext cx="100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10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13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16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 flipV="1">
            <a:off x="5435640" y="6019920"/>
            <a:ext cx="100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435640" y="6595560"/>
            <a:ext cx="100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68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71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74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619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5003640" y="6019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03640" y="6595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08720" y="5589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226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229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232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124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03640" y="5589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281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284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287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 flipV="1">
            <a:off x="4572000" y="6019920"/>
            <a:ext cx="1871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572000" y="6595560"/>
            <a:ext cx="1871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627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2772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34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34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34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 flipV="1">
            <a:off x="4140360" y="6019920"/>
            <a:ext cx="2303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4140360" y="6595560"/>
            <a:ext cx="2303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3132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95640" y="55641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40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41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41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4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3564000" y="6021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3564000" y="6595560"/>
            <a:ext cx="287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8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0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3859200" y="613260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3780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3635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00860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47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47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47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8" name=""/>
          <p:cNvSpPr/>
          <p:nvPr/>
        </p:nvSpPr>
        <p:spPr>
          <a:xfrm>
            <a:off x="3564000" y="6021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564000" y="6595560"/>
            <a:ext cx="287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4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6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3859200" y="613260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"/>
          <p:cNvSpPr/>
          <p:nvPr/>
        </p:nvSpPr>
        <p:spPr>
          <a:xfrm>
            <a:off x="3780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政明</cp:lastModifiedBy>
  <dcterms:modified xsi:type="dcterms:W3CDTF">2004-10-11T14:43:30Z</dcterms:modified>
  <cp:revision>35</cp:revision>
  <dc:subject/>
  <dc:title>PowerPoint プレゼンテーション</dc:title>
</cp:coreProperties>
</file>